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BCB-A2A0-4531-A716-92CC0242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E56-0490-4A8B-BA32-3B9D4C86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8C4-FC12-49C5-A06D-F786214B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43B-80AA-4828-BAA4-031D03A1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EC0-CE20-4584-835C-F5B4434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284-E394-4A48-B0D5-FDD8391E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6F1-7046-4B3B-81AF-51560C4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7B3-33F0-4808-8674-400DC12A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46-CDA5-4635-9E7E-0E57D62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16F-0C6B-484C-8433-23D3BBD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313-E0B2-4C10-A639-4EFE0A7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78E-F588-4F37-B228-CD67CE3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313E-A234-472E-9130-81D2CABEF3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538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981440" cy="72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0" y="1538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6400800" y="762120"/>
            <a:ext cx="2333520" cy="833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2133720"/>
            <a:ext cx="9144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para la búsqueda de consen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ucigalpa, 5 y 6 de agosto de 201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6905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 Imagen" descr="LOGO.png"/>
          <p:cNvPicPr/>
          <p:nvPr/>
        </p:nvPicPr>
        <p:blipFill>
          <a:blip r:embed="rId3"/>
          <a:srcRect l="0" t="0" r="67120" b="58363"/>
          <a:stretch/>
        </p:blipFill>
        <p:spPr>
          <a:xfrm>
            <a:off x="3597120" y="571680"/>
            <a:ext cx="1551240" cy="110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bmartin\Desktop\logos_eurosocial_CMYK (nuevo).jpg"/>
          <p:cNvPicPr/>
          <p:nvPr/>
        </p:nvPicPr>
        <p:blipFill>
          <a:blip r:embed="rId4"/>
          <a:stretch/>
        </p:blipFill>
        <p:spPr>
          <a:xfrm>
            <a:off x="1128600" y="5516640"/>
            <a:ext cx="64864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8:31:32Z</dcterms:created>
  <dc:creator>ces</dc:creator>
  <dc:description/>
  <dc:language>en-US</dc:language>
  <cp:lastModifiedBy>Beatriz Martín</cp:lastModifiedBy>
  <dcterms:modified xsi:type="dcterms:W3CDTF">2014-07-25T12:32:28Z</dcterms:modified>
  <cp:revision>11</cp:revision>
  <dc:subject/>
  <dc:title>Presentación de PowerPoint</dc:title>
</cp:coreProperties>
</file>