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gif" ContentType="image/gif"/>
  <Override PartName="/ppt/media/image5.gif" ContentType="image/gif"/>
  <Override PartName="/ppt/media/image6.gif" ContentType="image/gif"/>
  <Override PartName="/ppt/media/image7.jpeg" ContentType="image/jpeg"/>
  <Override PartName="/ppt/media/image11.png" ContentType="image/png"/>
  <Override PartName="/ppt/media/image12.jpeg" ContentType="image/jpeg"/>
  <Override PartName="/ppt/media/image8.jpeg" ContentType="image/jpeg"/>
  <Override PartName="/ppt/media/image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9F8F3-3AFE-420E-A7D7-980DA3434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BD5DF-69AC-4B5F-8F3C-7416CF91D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92486-58FC-4323-908D-49FFCB3FB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39C52-8501-4E1C-B6A2-AF6699EA4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39F8F-027A-4D1E-BD33-D1B31DF6D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28D14-6E69-48BB-B0DB-DB3AC4E24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7C262-24B1-4932-93C4-72A8CC432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CD58B-3D24-48C7-B131-6D80B200C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FF46D-82F0-46BE-9B99-7584480C5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3C160-B125-45A4-925A-B334D1C5C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9C325-4F1A-4E71-9848-E3108FBA5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F70BD-E38A-40D9-BC5C-BA386D20C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D8BD-A7DD-4561-BAFD-22C154F223D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9HgfGhQ_7vUQqM&amp;tbnid=0vXfJIryL4OpoM:&amp;ved=0CAUQjRw&amp;url=http%3A%2F%2Fwww.blogdeimagenes.com%2F2009%2F03%2Fgifs-animados-dia-del-trabajador-1-de.html&amp;ei=1Ct2U6X2D-XM0AXDooHYBg&amp;psig=AFQjCNGd1Vhnbej8TRomsp9PS3WA3dkfAw&amp;ust=1400339165235541" TargetMode="External"/><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9HgfGhQ_7vUQqM&amp;tbnid=0vXfJIryL4OpoM:&amp;ved=0CAUQjRw&amp;url=http%3A%2F%2Fwww.blogdeimagenes.com%2F2009%2F03%2Fgifs-animados-dia-del-trabajador-1-de.html&amp;ei=1Ct2U6X2D-XM0AXDooHYBg&amp;psig=AFQjCNGd1Vhnbej8TRomsp9PS3WA3dkfAw&amp;ust=1400339165235541" TargetMode="External"/><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9HgfGhQ_7vUQqM&amp;tbnid=0vXfJIryL4OpoM:&amp;ved=0CAUQjRw&amp;url=http%3A%2F%2Fwww.blogdeimagenes.com%2F2009%2F03%2Fgifs-animados-dia-del-trabajador-1-de.html&amp;ei=1Ct2U6X2D-XM0AXDooHYBg&amp;psig=AFQjCNGd1Vhnbej8TRomsp9PS3WA3dkfAw&amp;ust=1400339165235541" TargetMode="External"/><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Arial"/>
              </a:rPr>
              <a:t>EL ESTATUTO DEL MEDIADOR</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usticia penal de adolesc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PROCEDIMIENTO MEDIADOR.</a:t>
            </a:r>
            <a:endParaRPr b="0" lang="en-US" sz="4400" spc="-1" strike="noStrike">
              <a:solidFill>
                <a:srgbClr val="000000"/>
              </a:solidFill>
              <a:latin typeface="Arial"/>
            </a:endParaRPr>
          </a:p>
        </p:txBody>
      </p:sp>
      <p:pic>
        <p:nvPicPr>
          <p:cNvPr id="75" name="Picture 6" descr="mediador"/>
          <p:cNvPicPr/>
          <p:nvPr/>
        </p:nvPicPr>
        <p:blipFill>
          <a:blip r:embed="rId1"/>
          <a:stretch/>
        </p:blipFill>
        <p:spPr>
          <a:xfrm>
            <a:off x="1692360" y="4076640"/>
            <a:ext cx="5397480" cy="2444760"/>
          </a:xfrm>
          <a:prstGeom prst="rect">
            <a:avLst/>
          </a:prstGeom>
          <a:ln w="0">
            <a:noFill/>
          </a:ln>
        </p:spPr>
      </p:pic>
      <p:pic>
        <p:nvPicPr>
          <p:cNvPr id="76" name="Picture 7" descr="61336-mediacion"/>
          <p:cNvPicPr/>
          <p:nvPr/>
        </p:nvPicPr>
        <p:blipFill>
          <a:blip r:embed="rId2"/>
          <a:stretch/>
        </p:blipFill>
        <p:spPr>
          <a:xfrm>
            <a:off x="3127320" y="1147680"/>
            <a:ext cx="2841840" cy="1197000"/>
          </a:xfrm>
          <a:prstGeom prst="rect">
            <a:avLst/>
          </a:prstGeom>
          <a:ln w="0">
            <a:noFill/>
          </a:ln>
        </p:spPr>
      </p:pic>
      <p:pic>
        <p:nvPicPr>
          <p:cNvPr id="77"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DIMIENTO DE MEDIACIÓN  EN LA JUSTICIA PENAL DE ADOLESCENTES</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Fase de ini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Fase de contacto con las par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ntacto con el adolesc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Contacto con la víc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Conclusiones del  mediad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 Encuentr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Sin participación directa de la víc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Con participación directa de la víc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El Acuer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 Aprobación del Juez Letrado de Adolescente.</a:t>
            </a:r>
            <a:endParaRPr b="0" lang="en-US" sz="2800" spc="-1" strike="noStrike">
              <a:solidFill>
                <a:srgbClr val="000000"/>
              </a:solidFill>
              <a:latin typeface="Arial"/>
            </a:endParaRPr>
          </a:p>
        </p:txBody>
      </p:sp>
      <p:pic>
        <p:nvPicPr>
          <p:cNvPr id="8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ALIDADES QUE DEBE TENER EN CUENTA LA MEDIACIÓN EN JUSTICIA JUVENIL</a:t>
            </a:r>
            <a:endParaRPr b="0" lang="en-US" sz="2800" spc="-1" strike="noStrike">
              <a:solidFill>
                <a:srgbClr val="000000"/>
              </a:solidFill>
              <a:latin typeface="Arial"/>
            </a:endParaRPr>
          </a:p>
        </p:txBody>
      </p:sp>
      <p:sp>
        <p:nvSpPr>
          <p:cNvPr id="82"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encialmente la justicia  restaurativa, al recomendar un sistema especializado de justicia penal qu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Los menores son responsables penalmente pero al mismo tiempo titulares de derechos y garantías procesales bási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Contempla sanciones y medidas con una finalidad educativa de reeducación y reinserción del adolesc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Incluye alternativas al juicio, en aras de un amplio desarrollo de los principios de subsidiariedad, oportunidad y principio de  intervención mínim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La  persecución penal debe ser una excepción y las medidas privativas de libertad el último recurso.</a:t>
            </a:r>
            <a:endParaRPr b="0" lang="en-US" sz="2400" spc="-1" strike="noStrike">
              <a:solidFill>
                <a:srgbClr val="000000"/>
              </a:solidFill>
              <a:latin typeface="Arial"/>
            </a:endParaRPr>
          </a:p>
        </p:txBody>
      </p:sp>
      <p:pic>
        <p:nvPicPr>
          <p:cNvPr id="8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ff0000"/>
                </a:solidFill>
                <a:latin typeface="Arial"/>
              </a:rPr>
              <a:t>ARTÍCULO 83 DEL CNA.</a:t>
            </a:r>
            <a:br>
              <a:rPr sz="4400"/>
            </a:br>
            <a:endParaRPr b="0" lang="en-US" sz="4400" spc="-1" strike="noStrike">
              <a:solidFill>
                <a:srgbClr val="000000"/>
              </a:solidFill>
              <a:latin typeface="Arial"/>
            </a:endParaRPr>
          </a:p>
        </p:txBody>
      </p:sp>
      <p:pic>
        <p:nvPicPr>
          <p:cNvPr id="85" name="Picture 8" descr="banderas"/>
          <p:cNvPicPr/>
          <p:nvPr/>
        </p:nvPicPr>
        <p:blipFill>
          <a:blip r:embed="rId1"/>
          <a:stretch/>
        </p:blipFill>
        <p:spPr>
          <a:xfrm>
            <a:off x="2556000" y="3645000"/>
            <a:ext cx="4248000" cy="1770120"/>
          </a:xfrm>
          <a:prstGeom prst="rect">
            <a:avLst/>
          </a:prstGeom>
          <a:ln w="0">
            <a:noFill/>
          </a:ln>
        </p:spPr>
      </p:pic>
      <p:pic>
        <p:nvPicPr>
          <p:cNvPr id="8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Arial"/>
              </a:rPr>
              <a:t> </a:t>
            </a:r>
            <a:r>
              <a:rPr b="0" lang="es-ES" sz="4400" spc="-1" strike="noStrike">
                <a:solidFill>
                  <a:srgbClr val="000000"/>
                </a:solidFill>
                <a:latin typeface="Arial"/>
              </a:rPr>
              <a:t>ARTÍCULO 83 DEL CNA.</a:t>
            </a:r>
            <a:br>
              <a:rPr sz="4400"/>
            </a:br>
            <a:endParaRPr b="0" lang="en-US" sz="4400" spc="-1" strike="noStrike">
              <a:solidFill>
                <a:srgbClr val="000000"/>
              </a:solidFill>
              <a:latin typeface="Arial"/>
            </a:endParaRPr>
          </a:p>
        </p:txBody>
      </p:sp>
      <p:sp>
        <p:nvSpPr>
          <p:cNvPr id="88" name=""/>
          <p:cNvSpPr txBox="1"/>
          <p:nvPr/>
        </p:nvSpPr>
        <p:spPr>
          <a:xfrm>
            <a:off x="468360" y="2205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cualquier etapa del proceso, previa conformidad del adolescente y de la víctima o a petición de parte, el Juez podrá derivar el caso a mediación, suspendiéndose las actuaciones por un plazo prudencial. Alcanzando un acuerdo, previo informe técnico y oídos la defensa y el Ministerio Público, el Juez deberá valorar razonablemente desde la perspectiva exclusiva del interés superior del adolescente, el sentido pedagógico y educativo de la reparación propuesta, disponiendo, en caso afirmativo, la clausura de las actuaciones. Tal decisión será preceptiva en caso de opinión favorable del Ministerio Público. El mismo efecto tendrán los acuerdos conciliatorios celebrados en audi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Arial"/>
              </a:rPr>
              <a:t>ARTÍCULO 83 DEL CNA.</a:t>
            </a:r>
            <a:br>
              <a:rPr sz="4400"/>
            </a:br>
            <a:endParaRPr b="0" lang="en-US" sz="4400" spc="-1" strike="noStrike">
              <a:solidFill>
                <a:srgbClr val="000000"/>
              </a:solidFill>
              <a:latin typeface="Arial"/>
            </a:endParaRPr>
          </a:p>
        </p:txBody>
      </p:sp>
      <p:sp>
        <p:nvSpPr>
          <p:cNvPr id="91" name=""/>
          <p:cNvSpPr txBox="1"/>
          <p:nvPr/>
        </p:nvSpPr>
        <p:spPr>
          <a:xfrm>
            <a:off x="468360" y="198864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ncuadrable dentro de la obligación de  reparar el daño o satisfacción de la víctima. Debe presidir todo el procedimiento.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desprende la finalidad del legislador de “derivar” el caso a mediación. La idea de derivar el asunto se encuentra íntimamente vinculada a la </a:t>
            </a:r>
            <a:r>
              <a:rPr b="0" i="1" lang="es-ES" sz="2000" spc="-1" strike="noStrike">
                <a:solidFill>
                  <a:srgbClr val="000000"/>
                </a:solidFill>
                <a:latin typeface="Arial"/>
              </a:rPr>
              <a:t>diversion </a:t>
            </a:r>
            <a:r>
              <a:rPr b="0" lang="es-ES" sz="2000" spc="-1" strike="noStrike">
                <a:solidFill>
                  <a:srgbClr val="000000"/>
                </a:solidFill>
                <a:latin typeface="Arial"/>
              </a:rPr>
              <a:t>y es consustancial al derecho penal juvenil a través del modelo de las cuatro “d”: descriminalización, desjudicialización, desinstitucionalización, y diversión, que responden al principio de intervención mínima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nalidad principal es ofrecer una verdadera alternativa tanto al proceso penal formal como a las sanciones de carácter estrictamente formal del Derecho pena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firma el legislador que tiene que  existir el previo consentimiento entre el adolescente  y la víctima siendo el Juez Letrado de Adolescente el que deriva el asunto a mediación. </a:t>
            </a:r>
            <a:endParaRPr b="0" lang="en-US" sz="2000" spc="-1" strike="noStrike">
              <a:solidFill>
                <a:srgbClr val="000000"/>
              </a:solidFill>
              <a:latin typeface="Arial"/>
            </a:endParaRPr>
          </a:p>
        </p:txBody>
      </p:sp>
      <p:pic>
        <p:nvPicPr>
          <p:cNvPr id="9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Arial"/>
              </a:rPr>
              <a:t>ARTÍCULO 83 DEL CNA. .</a:t>
            </a:r>
            <a:br>
              <a:rPr sz="4400"/>
            </a:br>
            <a:endParaRPr b="0" lang="en-US" sz="4400" spc="-1" strike="noStrike">
              <a:solidFill>
                <a:srgbClr val="000000"/>
              </a:solidFill>
              <a:latin typeface="Arial"/>
            </a:endParaRPr>
          </a:p>
        </p:txBody>
      </p:sp>
      <p:sp>
        <p:nvSpPr>
          <p:cNvPr id="94" name=""/>
          <p:cNvSpPr txBox="1"/>
          <p:nvPr/>
        </p:nvSpPr>
        <p:spPr>
          <a:xfrm>
            <a:off x="468360" y="198864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mos fundamental pedir siempre en primer lugar el consentimiento al adolescente, y solo cuando exista este iniciar el procedimiento para evitar molestias a la víctim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ello debemos de añadir que la víctima puede estar de acuerdo en someterse al proceso mediador pero no querer la confrontación con el adolescente lo que no debe impedir la obtención y homologación del acuerdo.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otra suerte pueden existir una serie de eventualidades, como que alguna de las partes se eche a tras antes de iniciar el proceso, o una vez este se haya iniciado.</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responde al Juez Letrado de Adolescente acordar la suspensión del proceso por un “tiempo prudencial”, por supuesto es una facultad discrecional del Juez y dependerá de la importancia, complejidad y alcance del asunto.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TÍCULO 83 DEL CNA.</a:t>
            </a:r>
            <a:endParaRPr b="0" lang="en-US" sz="4400" spc="-1" strike="noStrike">
              <a:solidFill>
                <a:srgbClr val="000000"/>
              </a:solidFill>
              <a:latin typeface="Arial"/>
            </a:endParaRPr>
          </a:p>
        </p:txBody>
      </p:sp>
      <p:sp>
        <p:nvSpPr>
          <p:cNvPr id="97" name=""/>
          <p:cNvSpPr txBox="1"/>
          <p:nvPr/>
        </p:nvSpPr>
        <p:spPr>
          <a:xfrm>
            <a:off x="39528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guiendo el </a:t>
            </a:r>
            <a:r>
              <a:rPr b="0" i="1" lang="es-ES" sz="2000" spc="-1" strike="noStrike">
                <a:solidFill>
                  <a:srgbClr val="000000"/>
                </a:solidFill>
                <a:latin typeface="Arial"/>
              </a:rPr>
              <a:t>usus fori</a:t>
            </a:r>
            <a:r>
              <a:rPr b="0" lang="es-ES" sz="2000" spc="-1" strike="noStrike">
                <a:solidFill>
                  <a:srgbClr val="000000"/>
                </a:solidFill>
                <a:latin typeface="Arial"/>
              </a:rPr>
              <a:t> existente en otros países entendemos que entre un mes y dos meses podría considerarse un plazo razonable salvo que la complejidad del asunto justifique un plazo may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ala el precepto que “Alcanzando un acuerdo, previo informe técnico”, entendemos que el informe al que hace referencia el precepto es el del Equipo Técnico, y no el del Centro de Mediación de una interpretación integradora del mismo, pues a ello alude el legislador cuando se refiere al “sentido pedagógico”. También oirá el Juez a  la defensa y el Ministerio Públ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todo caso resolverá atendiendo a “la perspectiva exclusiva del interés superior del adolescente”. Concepto jurídico indeterminado. Lo que dispondrá en caso afirmativo es  la clausura de las actuaciones. Ahora bien esta decisión será preceptiva en caso de opinión favorable del Ministerio Públ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TÍCULO 83 DEL CNA.</a:t>
            </a:r>
            <a:endParaRPr b="0" lang="en-US" sz="4400" spc="-1" strike="noStrike">
              <a:solidFill>
                <a:srgbClr val="000000"/>
              </a:solidFill>
              <a:latin typeface="Arial"/>
            </a:endParaRPr>
          </a:p>
        </p:txBody>
      </p:sp>
      <p:sp>
        <p:nvSpPr>
          <p:cNvPr id="100" name=""/>
          <p:cNvSpPr txBox="1"/>
          <p:nvPr/>
        </p:nvSpPr>
        <p:spPr>
          <a:xfrm>
            <a:off x="4683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taca también el legislador que: “el mismo efecto tendrán los acuerdos conciliatorios celebrados en audiencia”. En consecuencia la mediación podrá celebrarse en cualquier momento, produciendo los mismos efectos que esta los acuerdos a que se pudieran llegar en audi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contramos un precepto que regula una amplia posibilidad de mediación, sin límite en cuanto al delito, al momento procesal o al hecho de si el adolescente hubiera cometido o no hechos anteriores</a:t>
            </a:r>
            <a:endParaRPr b="0" lang="en-US" sz="2000" spc="-1" strike="noStrike">
              <a:solidFill>
                <a:srgbClr val="000000"/>
              </a:solidFill>
              <a:latin typeface="Arial"/>
            </a:endParaRPr>
          </a:p>
        </p:txBody>
      </p:sp>
      <p:pic>
        <p:nvPicPr>
          <p:cNvPr id="10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PLAN DE IMPLEMENTACIÓN DE LA MEDIACIÓN PENAL JUVENIL EN URUGAY</a:t>
            </a: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rt. 83 del CNA</a:t>
            </a:r>
            <a:r>
              <a:rPr b="0" lang="es-ES" sz="3200" spc="-1" strike="noStrike">
                <a:solidFill>
                  <a:srgbClr val="000000"/>
                </a:solidFill>
                <a:latin typeface="Arial"/>
              </a:rPr>
              <a:t>.</a:t>
            </a:r>
            <a:endParaRPr b="0" lang="en-US" sz="3200" spc="-1" strike="noStrike">
              <a:solidFill>
                <a:srgbClr val="000000"/>
              </a:solidFill>
              <a:latin typeface="Arial"/>
            </a:endParaRPr>
          </a:p>
        </p:txBody>
      </p:sp>
      <p:pic>
        <p:nvPicPr>
          <p:cNvPr id="10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alpha val="77000"/>
          </a:srgbClr>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Facultades y obligaciones del Mediador.</a:t>
            </a:r>
            <a:endParaRPr b="0" lang="en-US" sz="4400" spc="-1" strike="noStrike">
              <a:solidFill>
                <a:srgbClr val="000000"/>
              </a:solidFill>
              <a:latin typeface="Arial"/>
            </a:endParaRPr>
          </a:p>
        </p:txBody>
      </p:sp>
      <p:pic>
        <p:nvPicPr>
          <p:cNvPr id="45" name="Picture 8" descr="mediacion2"/>
          <p:cNvPicPr/>
          <p:nvPr/>
        </p:nvPicPr>
        <p:blipFill>
          <a:blip r:embed="rId1"/>
          <a:stretch/>
        </p:blipFill>
        <p:spPr>
          <a:xfrm>
            <a:off x="3059280" y="3573360"/>
            <a:ext cx="3047760" cy="2019240"/>
          </a:xfrm>
          <a:prstGeom prst="rect">
            <a:avLst/>
          </a:prstGeom>
          <a:ln w="0">
            <a:noFill/>
          </a:ln>
        </p:spPr>
      </p:pic>
      <p:pic>
        <p:nvPicPr>
          <p:cNvPr id="4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06"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través del plan de implementación se pretende intervenir en el ámbito de los adolescentes que hubieran cometido una infracción penal. Esta intervención se realiza desde la perspectiva de una justicia restaurativa, esto es, desde el punto de vista de la construcción de paz, y en el marco de los principios de intervención mínima y oportun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09" name=""/>
          <p:cNvSpPr txBox="1"/>
          <p:nvPr/>
        </p:nvSpPr>
        <p:spPr>
          <a:xfrm>
            <a:off x="46836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odelo que, sin perder el control por parte de la instancia judicial sobre los derechos y garantías de las partes, tenga la finalidad de  impulsar el diálogo y la participación del adolescente  autor de los hechos  y la víctima en la resolución del confli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12" name=""/>
          <p:cNvSpPr txBox="1"/>
          <p:nvPr/>
        </p:nvSpPr>
        <p:spPr>
          <a:xfrm>
            <a:off x="468360" y="191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sente plan de implementación no ha de partir solo  del objetivo específico de atención a la víctima, sino que, deberá abordar el objetivo responsabilizar al adolescente que ha cometido la infracció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gramas de mediación deben establecer un espacio participativo e interactivo entre el adolescente  y la víctima con el objetivo de solucionar el conflicto y la orientación de este proceso a través de un mediador, pero todo ello sin perder la perspectiva de la finalidad educativa de la mediación al ser una de las partes un adolesc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15" name=""/>
          <p:cNvSpPr txBox="1"/>
          <p:nvPr/>
        </p:nvSpPr>
        <p:spPr>
          <a:xfrm>
            <a:off x="468360" y="198864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pretende castigar o sancionar al adolescente sino por el contrario se pretende  educar, empatizar con la víctima y potenciar la voluntad y el compromiso de reparar el daño, así como también de la participación de la víctima en la solución del conflic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ta de buscar alternativas al proceso infraccional, apostando por trabajar desde la voluntariedad del adolescente. Se pretende  dar protagonismo a la víctima y el adolescente devolviéndoles el conflicto y permitiendo que sean ellos quienes lo de resuelv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18" name=""/>
          <p:cNvSpPr txBox="1"/>
          <p:nvPr/>
        </p:nvSpPr>
        <p:spPr>
          <a:xfrm>
            <a:off x="468360" y="191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sente  plan de implementación  no quiere  sustituir  los actuales procedimientos infraccionales de adolescentes en Uruguay sino por el contrario solo pretende  complementarlos dando lugar a una justicia penal de adolescentes mas efectiva y con mejor contenido educativo.  Se pretende desarrollar el artículo 83 de CNA dando respuesta a las nuevas  necesidades de la justicia restaurativa, y al desarrollo de  los principios de oportunidad e intervención mínima  propios del derecho penal juvenil. De forma acorde a los planes desarrollados en otros países en derecho comparado pertenecientes al mismo ámbito cultural y territor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Fases del plan de implementación.</a:t>
            </a:r>
            <a:endParaRPr b="0" lang="en-US" sz="4400" spc="-1" strike="noStrike">
              <a:solidFill>
                <a:srgbClr val="000000"/>
              </a:solidFill>
              <a:latin typeface="Arial"/>
            </a:endParaRPr>
          </a:p>
        </p:txBody>
      </p:sp>
      <p:pic>
        <p:nvPicPr>
          <p:cNvPr id="12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0000"/>
                </a:solidFill>
                <a:latin typeface="Arial"/>
              </a:rPr>
              <a:t>Fases del plan  de implementación de la mediación penal juvenil en Uruguay.</a:t>
            </a:r>
            <a:br>
              <a:rPr sz="3200"/>
            </a:br>
            <a:endParaRPr b="0" lang="en-US" sz="3200" spc="-1" strike="noStrike">
              <a:solidFill>
                <a:srgbClr val="000000"/>
              </a:solidFill>
              <a:latin typeface="Arial"/>
            </a:endParaRPr>
          </a:p>
        </p:txBody>
      </p:sp>
      <p:sp>
        <p:nvSpPr>
          <p:cNvPr id="123" name="PlaceHolder 2"/>
          <p:cNvSpPr>
            <a:spLocks noGrp="1"/>
          </p:cNvSpPr>
          <p:nvPr>
            <p:ph/>
          </p:nvPr>
        </p:nvSpPr>
        <p:spPr>
          <a:xfrm>
            <a:off x="468360" y="1916280"/>
            <a:ext cx="822960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lan de implementación y desarrollo de la Mediación  en el ámbito del proceso penal de adolescentes debe ser progresivo, comenzando por delitos menos graves, y a la vista de los resultados ir ampliándolo a delitos graves y a la fase de ejecució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6 Marcador de contenido" descr=""/>
          <p:cNvPicPr/>
          <p:nvPr/>
        </p:nvPicPr>
        <p:blipFill>
          <a:blip r:embed="rId1"/>
          <a:stretch/>
        </p:blipFill>
        <p:spPr>
          <a:xfrm>
            <a:off x="444600" y="3938760"/>
            <a:ext cx="8254800" cy="2187360"/>
          </a:xfrm>
          <a:prstGeom prst="rect">
            <a:avLst/>
          </a:prstGeom>
          <a:ln w="0">
            <a:noFill/>
          </a:ln>
        </p:spPr>
      </p:pic>
      <p:pic>
        <p:nvPicPr>
          <p:cNvPr id="12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99ff"/>
                </a:solidFill>
                <a:latin typeface="Arial"/>
              </a:rPr>
              <a:t>PRIMERA FASE.</a:t>
            </a:r>
            <a:endParaRPr b="0" lang="en-US" sz="4400" spc="-1" strike="noStrike">
              <a:solidFill>
                <a:srgbClr val="000000"/>
              </a:solidFill>
              <a:latin typeface="Arial"/>
            </a:endParaRPr>
          </a:p>
        </p:txBody>
      </p:sp>
      <p:sp>
        <p:nvSpPr>
          <p:cNvPr id="127"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primer momento deberá intentarse derivar a mediación los delitos menos grav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endemos por tales los no comprendidos en la  Ley Nº 19.055, de 4 de enero de 201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Homicidio intencional con agravantes especiales (artículos 311 y 312 del Código Pe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Lesiones gravísimas (artículo 318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Violación (artículo 272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Rapiña (artículo 344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Privación de libertad agravada (artículo 282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 Secuestro (artículo 346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 Extorsión (artículo 345 del Código Penal).</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99ff"/>
                </a:solidFill>
                <a:latin typeface="Arial"/>
              </a:rPr>
              <a:t>PRIMERA FASE.</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 Tráfico de estupefacientes (artículos 31 y 32 del Decreto-Ley Nº  14.294, de 31 de octubre de 1974, en la redacción dada por el artículo 3º de la Ley Nº  17.016, de 22 de octubre de 1998).</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Cualquier otra acción u omisión que el Código Penal o las leyes especiales castigan con una pena cuyo límite mínimo sea igual o superior a seis años de penitenciaría o cuyo límite máximo sea igual o superior a doce años de penitenciaría.</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 La tentativa de las infracciones señaladas en los numerales 1), 3), 4) y 6) y la complicidad en las mismas infraccion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decir se empezará por los delitos menos graves excluyendo los antes enumerados.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lo podría implicar que al menos un 10% de los delitos que cada año entran en los Juzgados Letrados de Adolescentes puedan ser derivados al Centro de Mediación</a:t>
            </a:r>
            <a:endParaRPr b="0" lang="en-US" sz="2000" spc="-1" strike="noStrike">
              <a:solidFill>
                <a:srgbClr val="000000"/>
              </a:solidFill>
              <a:latin typeface="Arial"/>
            </a:endParaRPr>
          </a:p>
        </p:txBody>
      </p:sp>
      <p:pic>
        <p:nvPicPr>
          <p:cNvPr id="13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99ff"/>
                </a:solidFill>
                <a:latin typeface="Arial"/>
              </a:rPr>
              <a:t>PRIMERA FASE.</a:t>
            </a:r>
            <a:endParaRPr b="0" lang="en-US" sz="4400" spc="-1" strike="noStrike">
              <a:solidFill>
                <a:srgbClr val="000000"/>
              </a:solidFill>
              <a:latin typeface="Arial"/>
            </a:endParaRPr>
          </a:p>
        </p:txBody>
      </p:sp>
      <p:sp>
        <p:nvSpPr>
          <p:cNvPr id="133" name=""/>
          <p:cNvSpPr txBox="1"/>
          <p:nvPr/>
        </p:nvSpPr>
        <p:spPr>
          <a:xfrm>
            <a:off x="468360" y="1988640"/>
            <a:ext cx="8229600" cy="45262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procurará en todo caso derivar los delitos en la franja de edad de 13 a 15 años y en los adolescentes que hubieran cometido su primera infracció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pecialmente indicada resulta aquí la mediación en supuestos en que entre el adolescente y la víctima existe relación de vecindad, parentesco o aquellos casos inmersos en un conflicto más amplio que la mera infracción</a:t>
            </a:r>
            <a:endParaRPr b="0" lang="en-US" sz="2400" spc="-1" strike="noStrike">
              <a:solidFill>
                <a:srgbClr val="000000"/>
              </a:solidFill>
              <a:latin typeface="Arial"/>
            </a:endParaRPr>
          </a:p>
        </p:txBody>
      </p:sp>
      <p:pic>
        <p:nvPicPr>
          <p:cNvPr id="13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MEDIADOR FACULTADES.</a:t>
            </a:r>
            <a:endParaRPr b="0" lang="en-US" sz="4400" spc="-1" strike="noStrike">
              <a:solidFill>
                <a:srgbClr val="000000"/>
              </a:solidFill>
              <a:latin typeface="Arial"/>
            </a:endParaRPr>
          </a:p>
        </p:txBody>
      </p:sp>
      <p:sp>
        <p:nvSpPr>
          <p:cNvPr id="48" name="PlaceHolder 2"/>
          <p:cNvSpPr>
            <a:spLocks noGrp="1"/>
          </p:cNvSpPr>
          <p:nvPr>
            <p:ph/>
          </p:nvPr>
        </p:nvSpPr>
        <p:spPr>
          <a:xfrm>
            <a:off x="468360" y="202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Tener en su poder copia de los documentos del proceso entregados por el Juzgado Letrado de adolescentes que sean necesarios para el desempeño de la función mediador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oder contactar con el adolescente imputado  y la víctima cuantas veces estime necesario, a partir de la comunicación que el Juzgado haya realizado a las partes y a sus abogado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Mantener cuantas  entrevistas  estime pertinentes con las partes, una vez hayan dado su conformidad para participar en la medi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A establecer la duración de las sesion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Poder paralizar la mediación en todos aquellos casos que puedan suponer un perjuicio para alguna de las partes en conflicto, en especial para el interés superior del adolescente implica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 Actuar bajo el principio de flexibilidad que debe regir esta actividad.</a:t>
            </a:r>
            <a:endParaRPr b="0" lang="en-US" sz="2000" spc="-1" strike="noStrike">
              <a:solidFill>
                <a:srgbClr val="000000"/>
              </a:solidFill>
              <a:latin typeface="Arial"/>
            </a:endParaRPr>
          </a:p>
        </p:txBody>
      </p:sp>
      <p:pic>
        <p:nvPicPr>
          <p:cNvPr id="49" name="Picture 14" descr="http://lh6.ggpht.com/_xxCk4QMvziE/Sa7nV6DM8bI/AAAAAAAARwQ/3zV5LntVQLU/%5BUNSET%5D.gif?imgmax=800">
            <a:hlinkClick r:id="rId1"/>
          </p:cNvPr>
          <p:cNvPicPr/>
          <p:nvPr/>
        </p:nvPicPr>
        <p:blipFill>
          <a:blip r:embed="rId2"/>
          <a:stretch/>
        </p:blipFill>
        <p:spPr>
          <a:xfrm>
            <a:off x="6708600" y="5565600"/>
            <a:ext cx="2184480" cy="1248120"/>
          </a:xfrm>
          <a:prstGeom prst="rect">
            <a:avLst/>
          </a:prstGeom>
          <a:ln w="0">
            <a:noFill/>
          </a:ln>
        </p:spPr>
      </p:pic>
      <p:pic>
        <p:nvPicPr>
          <p:cNvPr id="5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ff"/>
                </a:solidFill>
                <a:latin typeface="Arial"/>
              </a:rPr>
              <a:t>SEGUNDA FASE.</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Un segundo momento se producirá en cuanto se haya desarrollado la mediación y consolidado los resultados de la primera fas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n ese caso podrá irse ampliando a todos los delitos, también los recogidos en el artículo 72 del CNA. </a:t>
            </a:r>
            <a:endParaRPr b="0" lang="en-US" sz="20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ambién ampliará a la franja de 15 a 18 años. Atendiendo no solo en aquellos casos en que se traten de adolescentes que cometan un primer hecho, sino incluyendo también a los reincidentes tantos en medida judicial como aquellos que previamente ya hayan pasado por el proceso mediador</a:t>
            </a:r>
            <a:r>
              <a:rPr b="0" lang="es-E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Arial"/>
              </a:rPr>
              <a:t>TERCERA FASE.</a:t>
            </a:r>
            <a:endParaRPr b="0" lang="en-US"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último plazo, se ampliaría la mediación, a los menores que se encuentren cumpliendo medidas definitivas, incluyendo las de internación en centro. También se aconseja el uso de la mediación para resolver los incidentes y el posible régimen disciplinario dentro de los centros. Ello facilitará a los adolescentes infractores la comprensión de como las controversias pueden ser resueltas de forma pacífica y participando en el resultado de las misma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sta fase debería constar de dos periodos: uno para los delitos menos graves dentro de la lista del artículo 72 y otro para los gravísimos (Homicidio, violación, lesiones gravísimas) comprendidos en esta lista.</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rán homogeneizarse los programas y la implantación del procedimiento de mediación penal juvenil que se sigan en todo el paí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rá necesaria la dotación de medios materiales y personales mínimos necesarios para la implantación por la administración.</a:t>
            </a:r>
            <a:endParaRPr b="0" lang="en-US" sz="2000" spc="-1" strike="noStrike">
              <a:solidFill>
                <a:srgbClr val="000000"/>
              </a:solidFill>
              <a:latin typeface="Arial"/>
            </a:endParaRPr>
          </a:p>
        </p:txBody>
      </p:sp>
      <p:pic>
        <p:nvPicPr>
          <p:cNvPr id="14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ASES.</a:t>
            </a:r>
            <a:endParaRPr b="0" lang="en-US" sz="4400" spc="-1" strike="noStrike">
              <a:solidFill>
                <a:srgbClr val="000000"/>
              </a:solidFill>
              <a:latin typeface="Arial"/>
            </a:endParaRPr>
          </a:p>
        </p:txBody>
      </p:sp>
      <p:pic>
        <p:nvPicPr>
          <p:cNvPr id="142" name="3 Marcador de contenido" descr=""/>
          <p:cNvPicPr/>
          <p:nvPr/>
        </p:nvPicPr>
        <p:blipFill>
          <a:blip r:embed="rId1"/>
          <a:stretch/>
        </p:blipFill>
        <p:spPr>
          <a:xfrm>
            <a:off x="457200" y="1590840"/>
            <a:ext cx="8229600" cy="4547880"/>
          </a:xfrm>
          <a:prstGeom prst="rect">
            <a:avLst/>
          </a:prstGeom>
          <a:ln w="0">
            <a:noFill/>
          </a:ln>
        </p:spPr>
      </p:pic>
      <p:pic>
        <p:nvPicPr>
          <p:cNvPr id="14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Arial"/>
              </a:rPr>
              <a:t>CONSIDERACIONES EN TORNO AL PROCESO MEDIADOR</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ciones en torno a quien realiza las funciones de mediació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48" name=""/>
          <p:cNvSpPr txBox="1"/>
          <p:nvPr/>
        </p:nvSpPr>
        <p:spPr>
          <a:xfrm>
            <a:off x="468360" y="227664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endemos que la mediación penal de adolescentes que prevé el artículo 83 del CNA Ley No.17.823 debe ser llevada a cabo por mediadores especializados de  los Centros de Mediación dependientes del Poder Judicial. Todo ello por las siguientes razon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Si la atribución fuera de los Equipos Técnicos supondría una mayor carga competencial para los mismos, ya de por si saturado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Que de la propia redacción  literal del artículo 83 del Código se desprende que la mediación debe ser realizada por mediadores técnicos en la materia. Así el precepto utiliza la palabra “derivar”, de ella se desprende el interés del legislador a que la labor sea desempeñada fuera del ámbito de los  juzgados, en el sentido de enviar a un organismo diferente del propio órgano judicial. También se desprende de una interpretación integradora del precepto pues si hubieran sido  la intención del legislador residenciar esta labor en los propios Equipos Técnicos no  tendría sentido que alcanzado el acuerdo se requiera nuevamente previo informe del Equipo Técnico</a:t>
            </a:r>
            <a:endParaRPr b="0" lang="en-US" sz="1600" spc="-1" strike="noStrike">
              <a:solidFill>
                <a:srgbClr val="000000"/>
              </a:solidFill>
              <a:latin typeface="Arial"/>
            </a:endParaRPr>
          </a:p>
        </p:txBody>
      </p:sp>
      <p:pic>
        <p:nvPicPr>
          <p:cNvPr id="14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sideraciones en torno a quien realiza las funciones de mediación.</a:t>
            </a:r>
            <a:endParaRPr b="0" lang="en-US" sz="30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esta perspectiva se hacen necesarios Equipos de Mediación especializado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tal efecto se ha constatado y la estadísticas oficiales lo reflejan que los Centros de Mediación dependientes del poder judicial realizan una labor con magníficos resultados en la obtención de acuerdos, 9 de cada diez según estadísticas oficiales. Además las estadísticas relejan que año a año el nivel de confianza de los ciudadanos crece exponencialmente  que cuentan con mayor experiencia, conocimientos y una formación especializada en Mediación. Prueba de ello es los buenos resultados obtenidos por los Centros de Mediación existentes aunque sea en un ámbito diferent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sideraciones en torno a quien realiza las funciones de mediació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54" name=""/>
          <p:cNvSpPr txBox="1"/>
          <p:nvPr/>
        </p:nvSpPr>
        <p:spPr>
          <a:xfrm>
            <a:off x="468360" y="23256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poder desarrollar el artículo 83 del CNA Ley No.17823 se hace necesario crear  Centros de Mediación con dos mediadores. En la capital, Montevideo, sería necesario un Centro con dos mediadores inicialmente. Progresivamente podría irse aumentando cuando se consolide el numero de asuntos que lleve y se amplié su ámbito de actuació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quellas ciudades en donde existen Juzgados Letrados con competencia en Adolescentes en función de la carga competencial de estos órganos judiciales con competencia en adolescentes, se podrán crear unidades con movilidad cuando la carga competencial del órgano y el numero de asuntos de entrada no sean suficientes para crear un Centro de Mediación.  Por ello deberán tener Centros de Mediación, en su caso con unidades desplazadas. Ello requiere hacer un estudio de la población y el número de asuntos que entran en los Juzgados </a:t>
            </a:r>
            <a:endParaRPr b="0" lang="en-US" sz="1800" spc="-1" strike="noStrike">
              <a:solidFill>
                <a:srgbClr val="000000"/>
              </a:solidFill>
              <a:latin typeface="Arial"/>
            </a:endParaRPr>
          </a:p>
        </p:txBody>
      </p:sp>
      <p:pic>
        <p:nvPicPr>
          <p:cNvPr id="15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ntros de Mediación</a:t>
            </a:r>
            <a:endParaRPr b="0" lang="en-US" sz="4400" spc="-1" strike="noStrike">
              <a:solidFill>
                <a:srgbClr val="000000"/>
              </a:solidFill>
              <a:latin typeface="Arial"/>
            </a:endParaRPr>
          </a:p>
        </p:txBody>
      </p:sp>
      <p:sp>
        <p:nvSpPr>
          <p:cNvPr id="157"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todo caso los Centros de Mediación deberán estar ubicados fuera de las dependencias de los Juzgados Letrados de Adolescencia a fin de que el proceso de mediación pueda desarrollarse con la tranquilidad y confidencialidad que precis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obstante aunque se sitúen fuera de los Juzgados Letrados de Adolescentes, deberán estar próximos a los mismos a fin de evitar desplazamientos e incomodidades a las partes que han optado por la medición.</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en torno al adolescente.</a:t>
            </a:r>
            <a:endParaRPr b="0" lang="en-US" sz="4400" spc="-1" strike="noStrike">
              <a:solidFill>
                <a:srgbClr val="000000"/>
              </a:solidFill>
              <a:latin typeface="Arial"/>
            </a:endParaRPr>
          </a:p>
        </p:txBody>
      </p:sp>
      <p:sp>
        <p:nvSpPr>
          <p:cNvPr id="160" name=""/>
          <p:cNvSpPr txBox="1"/>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que el adolescente y la víctima puedan acogerse a ella es imprescindible un conocimiento exacto del contenido y alcance de la mediación. También del desarrollo del procedimiento mediador. El adolescente debe ser informado en lenguaje comprensible para el mismo y en atención a su edad.</a:t>
            </a:r>
            <a:endParaRPr b="0" lang="en-US" sz="3200" spc="-1" strike="noStrike">
              <a:solidFill>
                <a:srgbClr val="000000"/>
              </a:solidFill>
              <a:latin typeface="Arial"/>
            </a:endParaRPr>
          </a:p>
        </p:txBody>
      </p:sp>
      <p:pic>
        <p:nvPicPr>
          <p:cNvPr id="16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en torno a la reparación del daño.</a:t>
            </a:r>
            <a:endParaRPr b="0" lang="en-US" sz="4400" spc="-1" strike="noStrike">
              <a:solidFill>
                <a:srgbClr val="000000"/>
              </a:solidFill>
              <a:latin typeface="Arial"/>
            </a:endParaRPr>
          </a:p>
        </p:txBody>
      </p:sp>
      <p:sp>
        <p:nvSpPr>
          <p:cNvPr id="163" name=""/>
          <p:cNvSpPr txBox="1"/>
          <p:nvPr/>
        </p:nvSpPr>
        <p:spPr>
          <a:xfrm>
            <a:off x="468360" y="206064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 la eventual imposibilidad de que el adolescente pueda indemnizar el daño sufrido a la víctima, por carecer de recursos, deben buscarse y exponerse otros mecanismos para que aquella se sienta resarcida del perjuicio. Se debe exponer de forma clara y detallada a las víctima las distintas vicisitudes que supone pasar por un proceso infraccionales de adolescentes, el tiempo que durará el trámite, las ocasiones en que será llamada para ir a declarar, la posibilidad de confrontación con el adolescente, la posibilidad de que se dicte una sentencia adversa a sus intereses, de que no se obtenga un resarcimiento de los daños y todas aquellas actuaciones de las que se puede derivar una victimización secundaria. También se debe indicar a la víctima como en la Mediación va a poder ser escuchada, como el adolescente le pedirá disculpas, en su caso procederá a reparar el daño y como la infracción va a ser abordada de una forma global como conflicto, evitando en su caso la posibilidad de conflictos futuros. También se le informara de los beneficios que tiene para el adolescente especialmente cuando se trata de adolescentes primarios. Evitando dilaciones y trámites innecesari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MEDIADOR FACULTADES</a:t>
            </a:r>
            <a:endParaRPr b="0" lang="en-US" sz="4400" spc="-1" strike="noStrike">
              <a:solidFill>
                <a:srgbClr val="000000"/>
              </a:solidFill>
              <a:latin typeface="Arial"/>
            </a:endParaRPr>
          </a:p>
        </p:txBody>
      </p:sp>
      <p:sp>
        <p:nvSpPr>
          <p:cNvPr id="52" name="PlaceHolder 2"/>
          <p:cNvSpPr>
            <a:spLocks noGrp="1"/>
          </p:cNvSpPr>
          <p:nvPr>
            <p:ph/>
          </p:nvPr>
        </p:nvSpPr>
        <p:spPr>
          <a:xfrm>
            <a:off x="457200" y="177336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 Tanto exista  acuerdo como si no se hubiera obtenido, deben elaborar un acta donde conste  las actuaciones y en su caso el acuerdo y sus especificaciones, acta que habrán de firmar las partes y el mediador correspondi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 En ningún caso podrán  recibir remuneración, prestación o servicio de ninguna de las partes. Ni siquiera liberalidades de us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 Deberán velar para que las partes tomen sus propias decisiones y dispongan de la información y asesoramiento suficientes durante todo el proceso mediador, en especial de tipo jurídico, para lograr los acuerdos de manera libre, voluntaria y exenta de coaccion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14" descr="http://lh6.ggpht.com/_xxCk4QMvziE/Sa7nV6DM8bI/AAAAAAAARwQ/3zV5LntVQLU/%5BUNSET%5D.gif?imgmax=800">
            <a:hlinkClick r:id="rId1"/>
          </p:cNvPr>
          <p:cNvPicPr/>
          <p:nvPr/>
        </p:nvPicPr>
        <p:blipFill>
          <a:blip r:embed="rId2"/>
          <a:stretch/>
        </p:blipFill>
        <p:spPr>
          <a:xfrm>
            <a:off x="6012000" y="5950080"/>
            <a:ext cx="2832120" cy="907920"/>
          </a:xfrm>
          <a:prstGeom prst="rect">
            <a:avLst/>
          </a:prstGeom>
          <a:ln w="0">
            <a:noFill/>
          </a:ln>
        </p:spPr>
      </p:pic>
      <p:pic>
        <p:nvPicPr>
          <p:cNvPr id="5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ormación y sensibilización.</a:t>
            </a:r>
            <a:endParaRPr b="0" lang="en-US" sz="4400" spc="-1" strike="noStrike">
              <a:solidFill>
                <a:srgbClr val="000000"/>
              </a:solidFill>
              <a:latin typeface="Arial"/>
            </a:endParaRPr>
          </a:p>
        </p:txBody>
      </p:sp>
      <p:sp>
        <p:nvSpPr>
          <p:cNvPr id="166"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 de especial trascendencia  la formación y sensibilización  inicial de los intervinientes en el proceso penal de adolescentes. Especialmente el Juez Letrado de Adolescentes quien, conforme al artículo 83 CNA, es el encargado de acordar la suspensión del procedimiento por tiempo prudencial y aprobar el acuerdo. El Ministerio Público con cuyo informe favorable el Juez Letrado de adolescentes debe aprobar el acuerdo. Pero también los Letrados de la Defensa, los Equipos Técnicos y el Instituto Nacional del Adolescente. Todos ellos deben informar a los adolescentes de la posibilidad de llegar a una Mediación con la víctima. Por ello todos ellos deben de recibir una especial formación en materia penal juvenil. Para ello deberá de establecerse una formación inicial y una formación continua de los intervinientes en el proceso penal de adolescentes.</a:t>
            </a:r>
            <a:endParaRPr b="0" lang="en-US" sz="2000" spc="-1" strike="noStrike">
              <a:solidFill>
                <a:srgbClr val="000000"/>
              </a:solidFill>
              <a:latin typeface="Arial"/>
            </a:endParaRPr>
          </a:p>
        </p:txBody>
      </p:sp>
      <p:pic>
        <p:nvPicPr>
          <p:cNvPr id="16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ORMACIÓN DE LOS MEDIDIADORES.</a:t>
            </a:r>
            <a:endParaRPr b="0" lang="en-US" sz="4400" spc="-1" strike="noStrike">
              <a:solidFill>
                <a:srgbClr val="000000"/>
              </a:solidFill>
              <a:latin typeface="Arial"/>
            </a:endParaRPr>
          </a:p>
        </p:txBody>
      </p:sp>
      <p:sp>
        <p:nvSpPr>
          <p:cNvPr id="169" name=""/>
          <p:cNvSpPr txBox="1"/>
          <p:nvPr/>
        </p:nvSpPr>
        <p:spPr>
          <a:xfrm>
            <a:off x="468360" y="2060280"/>
            <a:ext cx="8229600" cy="460836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nemos que distinguir entre una formación inicial y una formación continua.</a:t>
            </a:r>
            <a:endParaRPr b="0" lang="en-US" sz="1600" spc="-1" strike="noStrike">
              <a:solidFill>
                <a:srgbClr val="000000"/>
              </a:solidFill>
              <a:latin typeface="Arial"/>
            </a:endParaRPr>
          </a:p>
          <a:p>
            <a:pPr marL="339480" indent="-33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ción inicial deberá de ir encaminada a los nuevos profesionales que se incorporen a los Centros de Medición con competencia en adolescentes. Esta formación deberá de estar encaminada no solo a su función como mediadores sino especialmente en la mediación penal juvenil con todas las peculiaridades que la presencia de un adolescente en el proceso de mediación requiere. Especialmente inspirada en los principios que rigen la justicia restaurativa y los modelos derivados de la Convención de derechos del Niño de 20 de noviembre de 1989.</a:t>
            </a:r>
            <a:endParaRPr b="0" lang="en-US" sz="1600" spc="-1" strike="noStrike">
              <a:solidFill>
                <a:srgbClr val="000000"/>
              </a:solidFill>
              <a:latin typeface="Arial"/>
            </a:endParaRPr>
          </a:p>
          <a:p>
            <a:pPr marL="339480" indent="-33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ción continua ira encaminada a los mediadores miembros de los Centros de Mediación a fin de unificar criterios, corregir algunas prácticas e incorporar nuevos modelos en la mediación. Pero no sólo a estos, sino al resto de los intervinientes en el proceso penal de adolescentes especialmente encaminado a sensibilizar de la importancia de la mediación en este ámbito de la justicia. Deberá de cuidarse expresamente la sensibilización de los Jueces Letrados de Adolescentes pues a ellos compete la homologación del acuerdo lo que exige un conocimiento exacto de los acuerdos adoptados y el grado de cumplimiento de los mismo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rá necesaria  la homologación  de títulos de Mediadores y un Registro Público de Mediadores a nivel estatal, así como la  regulación de su Estatuto.</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0000"/>
                </a:solidFill>
                <a:latin typeface="Arial"/>
              </a:rPr>
              <a:t>Información, divulgación y fomento de la mediación.</a:t>
            </a:r>
            <a:br>
              <a:rPr sz="3200"/>
            </a:br>
            <a:endParaRPr b="0" lang="en-US" sz="3200" spc="-1" strike="noStrike">
              <a:solidFill>
                <a:srgbClr val="000000"/>
              </a:solidFill>
              <a:latin typeface="Arial"/>
            </a:endParaRPr>
          </a:p>
        </p:txBody>
      </p:sp>
      <p:sp>
        <p:nvSpPr>
          <p:cNvPr id="172" name=""/>
          <p:cNvSpPr txBox="1"/>
          <p:nvPr/>
        </p:nvSpPr>
        <p:spPr>
          <a:xfrm>
            <a:off x="4557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condición imprescindible para desarrollar un plan de implementación de la  mediación en justicia penal de adolescentes es la concienciación de todos los intervinientes en el proceso penal juvenil. Se pretende trasmitir  la necesidad de desarrollar el proceso previsto en el artículo 83 del CNA Ley 17.823 como medio complementario a la justicia penal de adolescente a fin de dar cumplimiento a los principios de intervención mínima y oportunidad. Es importante entender que la mediación en el ámbito penal de adolescentes  responde a algo más amplio que la propia infracción de la Ley. La Mediación penal Juvenil pretende abarcar  el conflicto y cumplir una finalidad educativa con el adolescente la de resolver los conflictos de forma pacíf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175" name=""/>
          <p:cNvSpPr txBox="1"/>
          <p:nvPr/>
        </p:nvSpPr>
        <p:spPr>
          <a:xfrm>
            <a:off x="468360" y="2060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rá trasmitirse que con la mediación se obtiene una  justicia responsabilizadora, dialogante, reparadora y compensadora. Que es una  herramienta esencial por favorecer la participación activa del adolescente y de la víctim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mejor mecanismo de  resolución constructiva del conflicto. Que de forma rápida, gratuita y participativa permite a la víctima: la reparación o resarcimiento del daño, la recuperación del sentimiento de seguridad, y evitar los problemas asociados a la victimización secundaria derivados de la reiterada llamada al proceso en su condición de testig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X:\OFICINA REGIONAL COMJIB\COMJIB\MASC para ARG\VISIBILIDAD\Presentaciones\imagenes para PPT\fondo_bandera_final.jpg"/>
          <p:cNvPicPr/>
          <p:nvPr/>
        </p:nvPicPr>
        <p:blipFill>
          <a:blip r:embed="rId1"/>
          <a:stretch/>
        </p:blipFill>
        <p:spPr>
          <a:xfrm>
            <a:off x="0" y="1714680"/>
            <a:ext cx="9144000" cy="3429000"/>
          </a:xfrm>
          <a:prstGeom prst="rect">
            <a:avLst/>
          </a:prstGeom>
          <a:ln w="0">
            <a:noFill/>
          </a:ln>
        </p:spPr>
      </p:pic>
      <p:sp>
        <p:nvSpPr>
          <p:cNvPr id="178" name="PlaceHolder 1"/>
          <p:cNvSpPr>
            <a:spLocks noGrp="1"/>
          </p:cNvSpPr>
          <p:nvPr>
            <p:ph type="title"/>
          </p:nvPr>
        </p:nvSpPr>
        <p:spPr>
          <a:xfrm>
            <a:off x="46836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UCHAS GRACIAS POR LA ATENCIÓN</a:t>
            </a:r>
            <a:endParaRPr b="0" lang="en-US" sz="4400" spc="-1" strike="noStrike">
              <a:solidFill>
                <a:srgbClr val="000000"/>
              </a:solidFill>
              <a:latin typeface="Arial"/>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2 Rectángulo"/>
          <p:cNvSpPr/>
          <p:nvPr/>
        </p:nvSpPr>
        <p:spPr>
          <a:xfrm>
            <a:off x="2574360" y="5445000"/>
            <a:ext cx="3844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cion.rodriguezg@madri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bligaciones del Mediador: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Ejercer con toda profesionalidad su tarea mediado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Respetar los principios de confidencialidad y reserva.  El deber de confidencialidad absoluta de todos  los datos contenidos en el proceso, en especial todos los relativos al adolescente imputad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Sus actuaciones deben estar presididas  bajo los principios de: imparcialidad, neutralidad y objetivid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Solo comenzaran o mantendrán  el proceso cuando las partes consientan en la mediación voluntariamen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  Solo se entrevistaran  con  niños o  personas incapacitadas en la presencia de  sus representantes legales. </a:t>
            </a:r>
            <a:endParaRPr b="0" lang="en-US" sz="2400" spc="-1" strike="noStrike">
              <a:solidFill>
                <a:srgbClr val="000000"/>
              </a:solidFill>
              <a:latin typeface="Arial"/>
            </a:endParaRPr>
          </a:p>
        </p:txBody>
      </p:sp>
      <p:pic>
        <p:nvPicPr>
          <p:cNvPr id="57" name="Picture 14" descr="http://lh6.ggpht.com/_xxCk4QMvziE/Sa7nV6DM8bI/AAAAAAAARwQ/3zV5LntVQLU/%5BUNSET%5D.gif?imgmax=800">
            <a:hlinkClick r:id="rId1"/>
          </p:cNvPr>
          <p:cNvPicPr/>
          <p:nvPr/>
        </p:nvPicPr>
        <p:blipFill>
          <a:blip r:embed="rId2"/>
          <a:stretch/>
        </p:blipFill>
        <p:spPr>
          <a:xfrm>
            <a:off x="5219640" y="5583240"/>
            <a:ext cx="2832120" cy="1158840"/>
          </a:xfrm>
          <a:prstGeom prst="rect">
            <a:avLst/>
          </a:prstGeom>
          <a:ln w="0">
            <a:noFill/>
          </a:ln>
        </p:spPr>
      </p:pic>
      <p:pic>
        <p:nvPicPr>
          <p:cNvPr id="5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bligaciones del Mediador:</a:t>
            </a:r>
            <a:endParaRPr b="0" lang="en-US" sz="4400" spc="-1" strike="noStrike">
              <a:solidFill>
                <a:srgbClr val="000000"/>
              </a:solidFill>
              <a:latin typeface="Arial"/>
            </a:endParaRPr>
          </a:p>
        </p:txBody>
      </p:sp>
      <p:sp>
        <p:nvSpPr>
          <p:cNvPr id="6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 Promover un acuerdo voluntario y equitativo entre las partes, pero recordando que son las partes las que llegan al acuerdo el mediador no impone na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 Finalizaran el proceso de mediación dentro de los plazos previstos y sin dilaciones indebida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Presentar al Juzgado Letrado de Adolescente, una vez haya finalizado la mediación, un informe de su desarrollo junto con el acta de medi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 Abstenerse en todo caso  de obtener ventajas profesionales que provengan de  las partes intervinientes en la medi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k. Respetar las normas deontológicas profesionales. Bajo las responsabilidades en que puedan incurrir por su incumplimien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 Mantener informadas a las partes a lo largo del proceso de mediación. En especial asegurarse que todo el proceso se desarrolla en lenguaje comprensible para el adolescente y es entendido e interiorizado por 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14" descr="http://lh6.ggpht.com/_xxCk4QMvziE/Sa7nV6DM8bI/AAAAAAAARwQ/3zV5LntVQLU/%5BUNSET%5D.gif?imgmax=800"/>
          <p:cNvPicPr/>
          <p:nvPr/>
        </p:nvPicPr>
        <p:blipFill>
          <a:blip r:embed="rId1"/>
          <a:stretch/>
        </p:blipFill>
        <p:spPr>
          <a:xfrm>
            <a:off x="7326360" y="5592600"/>
            <a:ext cx="1824120" cy="1238400"/>
          </a:xfrm>
          <a:prstGeom prst="rect">
            <a:avLst/>
          </a:prstGeom>
          <a:ln w="0">
            <a:noFill/>
          </a:ln>
        </p:spPr>
      </p:pic>
      <p:pic>
        <p:nvPicPr>
          <p:cNvPr id="62"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LACIÓN DE  INCOMPATIBILIDADES DE LAS PERSONAS QUE INTERVENGAN EN LA MEDIACIÓN</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57200" y="20606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e podrá intervenir como mediador cuando  su imparcialidad pueda quedar en  entredicho por existir  vínculos con alguna de las partes, amistad, enemistad, parentesco, relación laboral, interés directo o indirecto en relación con el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poco cuando exista interés directo o indirecto en el conflicto o cuando conozca  haya conozca del  concreto conflicto como consecuencia del ejercicio de su profesión u oficio.  También cuando pueda existir un conflicto de intereses con otros asuntos en  los que esté intervinien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mismo modo, una vez finalizada la mediación, la persona mediadora no podrá atender a las partes en una actuación profesional diferente a la de mediación para tratar el mismo asunto.</a:t>
            </a:r>
            <a:endParaRPr b="0" lang="en-US" sz="2000" spc="-1" strike="noStrike">
              <a:solidFill>
                <a:srgbClr val="000000"/>
              </a:solidFill>
              <a:latin typeface="Arial"/>
            </a:endParaRPr>
          </a:p>
        </p:txBody>
      </p:sp>
      <p:pic>
        <p:nvPicPr>
          <p:cNvPr id="65" name="Picture 14" descr="http://lh6.ggpht.com/_xxCk4QMvziE/Sa7nV6DM8bI/AAAAAAAARwQ/3zV5LntVQLU/%5BUNSET%5D.gif?imgmax=800"/>
          <p:cNvPicPr/>
          <p:nvPr/>
        </p:nvPicPr>
        <p:blipFill>
          <a:blip r:embed="rId1"/>
          <a:stretch/>
        </p:blipFill>
        <p:spPr>
          <a:xfrm>
            <a:off x="3276720" y="5256360"/>
            <a:ext cx="3000240" cy="1584000"/>
          </a:xfrm>
          <a:prstGeom prst="rect">
            <a:avLst/>
          </a:prstGeom>
          <a:ln w="0">
            <a:noFill/>
          </a:ln>
        </p:spPr>
      </p:pic>
      <p:pic>
        <p:nvPicPr>
          <p:cNvPr id="6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512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UGAR Y TIEMPO DE LA MEDIACIÓN. </a:t>
            </a:r>
            <a:endParaRPr b="0" lang="en-US" sz="4000" spc="-1" strike="noStrike">
              <a:solidFill>
                <a:srgbClr val="000000"/>
              </a:solidFill>
              <a:latin typeface="Arial"/>
            </a:endParaRPr>
          </a:p>
        </p:txBody>
      </p:sp>
      <p:sp>
        <p:nvSpPr>
          <p:cNvPr id="68"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diación es un procedimiento que se centra en el futuro, no en el pasado, ni en la búsqueda de culpables. El objetivo se centra en que las personas en situación de conflicto puedan encontrar una fórmula de convivencia realista y adecuada para amb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odo ello exige un espacio protegido, confidencial y no hostil donde pueda desarrollarse la medi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servicios de Mediación dispondrán de oficinas, en la medida de lo posible cercanas  a los Juzgado Letrados de Adolescentes, con el fin de poder atender las partes en el mismo horario que aquellos. Las sesiones de mediación son privadas. Por lo tanto, no podrá participar ninguna persona que no sean las partes y el medi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horario del servicio será de mañana y tarde, adaptando su funcionamiento a las necesidades de las personas intervinientes en la mediación. En todo caso e l local debe garantizar la seguridad del mediador y de las partes, así como la confidencialidad.</a:t>
            </a:r>
            <a:endParaRPr b="0" lang="en-US" sz="2000" spc="-1" strike="noStrike">
              <a:solidFill>
                <a:srgbClr val="000000"/>
              </a:solidFill>
              <a:latin typeface="Arial"/>
            </a:endParaRPr>
          </a:p>
        </p:txBody>
      </p:sp>
      <p:pic>
        <p:nvPicPr>
          <p:cNvPr id="69" name="Picture 2" descr="http://www.gifmania.com/Gif-Animados-Tecnologia/Imagenes-Relojes/Relojes-Arena/Reloj-Arena-3d-54551.gif"/>
          <p:cNvPicPr/>
          <p:nvPr/>
        </p:nvPicPr>
        <p:blipFill>
          <a:blip r:embed="rId1"/>
          <a:stretch/>
        </p:blipFill>
        <p:spPr>
          <a:xfrm>
            <a:off x="468360" y="736560"/>
            <a:ext cx="952560" cy="952560"/>
          </a:xfrm>
          <a:prstGeom prst="rect">
            <a:avLst/>
          </a:prstGeom>
          <a:ln w="0">
            <a:noFill/>
          </a:ln>
        </p:spPr>
      </p:pic>
      <p:pic>
        <p:nvPicPr>
          <p:cNvPr id="70"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ORMACIÓN ESPECIALIZADA.</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 adecuado desarrollo del programa de mediación es recomendable  en primer lugar la formación y sensibilización de los intervinientes en el proceso penal de adolescente tanto Ministerio Público, Jueces Letrados de Adolescentes, como los Equipos Técnicos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se exigirá que los mediadores no solo tengan conocimientos y experiencia en el proceso de mediación sino que se encuentren especializado en justicia restaurativa  penal para adolescentes.</a:t>
            </a:r>
            <a:endParaRPr b="0" lang="en-US" sz="2800" spc="-1" strike="noStrike">
              <a:solidFill>
                <a:srgbClr val="000000"/>
              </a:solidFill>
              <a:latin typeface="Arial"/>
            </a:endParaRPr>
          </a:p>
        </p:txBody>
      </p:sp>
      <p:pic>
        <p:nvPicPr>
          <p:cNvPr id="73" name="Picture 12" descr="http://educacion.unmsm.edu.pe/gif_animados/viejo.gif;wa40b1b0006891ed43"/>
          <p:cNvPicPr/>
          <p:nvPr/>
        </p:nvPicPr>
        <p:blipFill>
          <a:blip r:embed="rId1"/>
          <a:stretch/>
        </p:blipFill>
        <p:spPr>
          <a:xfrm>
            <a:off x="7164360" y="5680080"/>
            <a:ext cx="1797120" cy="116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5T22:06:10Z</dcterms:created>
  <dc:creator>Juan Ignacio</dc:creator>
  <dc:description/>
  <dc:language>en-US</dc:language>
  <cp:lastModifiedBy>Adriana Alfonso</cp:lastModifiedBy>
  <dcterms:modified xsi:type="dcterms:W3CDTF">2014-05-21T16:26:38Z</dcterms:modified>
  <cp:revision>232</cp:revision>
  <dc:subject/>
  <dc:title>Diapositiva 1</dc:title>
</cp:coreProperties>
</file>