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75E9C-95E7-4AFE-B157-5B362F2120B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749EE-5501-403A-9E67-C48EFCD1844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57320" y="803160"/>
            <a:ext cx="5445000" cy="400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F0BF9-3CA1-4A9C-B410-9E2C63437D3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13B81-3212-4C4D-8371-0456D2575C3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2037B-F3F3-4153-95DF-393A4EF3969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DF3AF-CBAD-4B13-AF37-1ACF77095D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8F55-F47D-4378-82CB-63E1DD1E6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F78F-87BB-4758-B23C-C8EF645F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AB77-11DC-4EF1-8706-2FADBF0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7994-6290-4A3B-8B2F-D270F0547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38CA1-ADFB-4B00-BE93-5AE8BE8A36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6F0E6-1D32-4D66-9994-9B7CAF2B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66FF2-C01C-44DC-A127-8E5F7D8F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09A8B-F9E3-4B9E-8031-268663B4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C7711-5093-45BB-85B2-C0B677E0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4CE20-1651-4635-A5B5-48C8A284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4EE3C-CCF1-402E-B959-3EE40581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CC41-991A-48B5-8AF9-06BB39AF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8676A-A73D-4EFA-B258-520CA90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E7495-6714-43B5-86B0-DE0CD49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42FF5-2B6B-4742-BB77-C47C0A27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4F7C3-A656-439A-91D3-BECA652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D8393-9245-48BE-9730-B146688AB3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4566-C112-403F-A79A-B642DF4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D0C5-0F55-4668-8B3D-DA5672E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A5CB-FE43-439B-947D-EB66D85F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1D66-2338-4C87-B1D2-648DB7BC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2109-0B34-4C97-9A09-388977E3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B08F-345B-4CB5-AA1B-A15F400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842E-7D23-4B6A-843D-A3519608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0/07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659ED7-C1A2-44F0-A698-6F6EE2C28F1C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93DE2F-7AD0-4936-8AFF-F574FEC945D8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ndicadores%20(1).xls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858000" y="3857760"/>
            <a:ext cx="2286000" cy="1274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0" y="0"/>
            <a:ext cx="678168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458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NITOREO DE LA EQUIDAD EN SALUD EN URUGUA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15880" y="4191120"/>
            <a:ext cx="5853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Arial"/>
              </a:rPr>
              <a:t>Lima, 24- 25 de julio de 20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7000920" y="2286000"/>
            <a:ext cx="1919160" cy="127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6858000" y="357120"/>
            <a:ext cx="228600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SVES: Líne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96640"/>
            <a:ext cx="8226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Primer paso en la construcción del SVES: matriz de indicado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Fuentes de información: ECH, ELPS, ENS, ENFR, SINA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Indicadores (1).x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285920" y="2428920"/>
            <a:ext cx="615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) ESTADO DE SALUD DE LA POB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) DETERMINANTES SOCIALES DE LA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I) DETERMINANTES DEL SISTEMA DE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85768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ÉTNIA-RAZ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157176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GÉN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28616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OSICIÓN SOCIO-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85920" y="41432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SEX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428920" y="4143240"/>
            <a:ext cx="13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ASCENDENCIA ÈT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071960" y="414324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INGRESOS, AÑOS DE ESTUDIO, OCUP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Perspectiva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28480"/>
            <a:ext cx="822636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El país tiene una política de estado en agenda digital. Por tanto, los diferentes sectores de política pública están trabajando con identificador único, datos interoperables, y consolidación de información de registros administrativos digitales. (educación, protección social, registro civil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Se encuentra elaborando un plan nacional de gobierno abierto, lo que facilitará la posibilidad de compartir da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También se encuentra en desarrollo el proyecto Salud Uy que tiene entre sus objetivos el fortalecimiento del sistema de información en salud y la historia clínica electrónica nacional. Ambos estarán operativos en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92008-7363-4286-987E-CD7238A64453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Perspectiva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Diagnóstico de  las fuentes de información disponibles, ha evidenciado que la función de monitoreo es más difícil de viabilizar; la mayoría de las fuentes que pueden proporcionar la información de manera sistemática y con un frecuencia menor a un año, no incluyen las variables necesarias para visualizar inequidades so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En este sentido, se ha iniciado una línea de trabajo de mediano y largo plazo con AGESIC orientada a integrar información proveniente de distintas fuentes, principalmente registros administrativos. Para una primera etapa, se ha priorizado la integración del Certificado de Defunción con otras fuentes que proporcionen las variables estratificador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39E15-ADD2-4861-AB43-F8DE94C148DA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458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4586"/>
                </a:solidFill>
                <a:latin typeface="Calibri"/>
              </a:rPr>
              <a:t>COMENTARIOS AL DOCUMENTO DE EURO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á en sintonía con las definiciones y el desarrollo de la experiencia 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Aspectos teóricos: incorporar algunas conceptualizaciones que se han realizado desde latinoamérica. Mayor énfasis en los aspectos estrucurales del proceso social-colectivo de la salu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pectos metodológicos: incorporar dimensiones que consideren otras unidades de observación que no sean individu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D18D6-5DB1-4E9B-863E-C41C7A401A97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3800" spc="-1" strike="noStrike">
                <a:solidFill>
                  <a:srgbClr val="004586"/>
                </a:solidFill>
                <a:latin typeface="Calibri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orell, Carme et al. (1999) LA MEDICIÓN DE LAS DESIGUALDADES EN SALUD. Gaceta Sanitaria, Españ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ndmann Szwarcwald, Celia (2000) MEDIDAS DE DESIGUALDAD EN SALUD: LA DISCUSIÓN DE ALGUNOS ASPECTOS METODOLÓGICOS CON UNA APLICACIÓN PARA LA MORTALIDAD NEONATAL EN EL MUNICIPIO DE RÌO DE JANEIRO. Caderno de Saúde Pública, FIOCRUZ. RJ-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chneider, Cristina (2002) METODOS DE MEDICIÓN DE LAS DESIGUALDADES DE SALUD. Revista Panamericana de Salud Pública. 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CONTENIDO DE LA PRESEN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907920"/>
            <a:ext cx="82263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arco legal relativo a las inequidades en salud y su medi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Sistema de Vigilancia de la Equidad en Salud (SVES). Línea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mentarios al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ocumento de EUROsociAL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“Metodología para la construcción de sistemas de monitoreo de las desigualdades sociales en salud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todas las personas, según cual sea su clase, género, etnia, situación migratoria o edad, tienen las mismas posibilidades de escoger conductas san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inequidades en salud, implican inequidades en los desempeños potenciales de las personas y esto es un elemento que tiende a cristalizar las desigualdades preexist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25360"/>
            <a:ext cx="8226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y 18.211 de Creación del Sistema Nacional Integrado de Salud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l derecho a la protección de la salud que tienen todos los habitantes residentes en el paí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 Ubica entre las competencias del MSP el aseguramiento del “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so a servicios integrales de salud a todos los habitantes residentes en el paí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  A su vez, reconoce la equidad entre los principios rect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lución de la Asamblea General de la OMS (WHA62.14): “Medir la magnitud del problema, analizarlo y evaluar los efectos de las intervenciones”. Comisión de Determinantes Sociales de la Sal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071360"/>
            <a:ext cx="822636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4 Ley 18.211: Alcanzar el más alto nivel posible de salud de la población, mediante el desarrollo integrado de actividades dirigidas a las personas y al medio ambiente que promuevan hábitos saludables de vida y la participación en todas aquellas que contribuyan al mejoramiento de la calidad de vida de la pob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341360"/>
            <a:ext cx="8226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claración Política de Río en ocasión de la Conferencia Mundial sobre Determinantes Sociales de la Salud, que subraya la necesidad de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“vigilar los progresos y reforzar la rendición de cuentas”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partir de la medición de las desigualdades en salud y sus determinantes so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e marco, el Sistema de Vigilancia de la Equidad en Salud (SVES) aspira a ser una herramienta que aporte información para la toma de decision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17504-237B-4832-8FC6-168FF0EEB692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8640" y="13701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de indicadores y medidas que permita identificar las inequidades en salud de la población uruguaya y sus factores determin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  <a:ea typeface="Calibri"/>
              </a:rPr>
              <a:t>Dos funciones principales: una de evaluación (1) y otra de monitoreo (2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1) M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ediciones orientadas a conocer </a:t>
            </a:r>
            <a:r>
              <a:rPr b="0" i="1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en qué grado las inequidades en salud y sus determinantes sociales están siendo transformadas (reduciéndose o aumentando) a partir de las políticas públicas en general y de salud pública en particula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Metodología: Línea de base y estud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(2) Seguimiento de la evolución de las inequidades en función de las variables más sensibles, seleccionadas a partir de la línea de 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0920" y="1341360"/>
            <a:ext cx="82263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Fuentes de informac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Person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Continua de Hogares (E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Nacional de Sal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Longitudinal de Protección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de Factores de Ries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Certificado de Mort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stema de Información Perinat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Otras unidades de anális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stema Nacional de Información (SINADI-Asisten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gresos hospital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Fuente auxiliar: 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I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edidas estándar sugeridas por la literatur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Cocientes y diferencias (Odds ratios, R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Medidas basadas en la curva de Lorenz (Índice de concentración, Índice de inequidad horizontal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Medidas basadas en regresi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bricio Mendez</dc:creator>
  <dc:description/>
  <dc:language>en-US</dc:language>
  <cp:lastModifiedBy>Seven</cp:lastModifiedBy>
  <dcterms:modified xsi:type="dcterms:W3CDTF">2014-07-24T21:46:39Z</dcterms:modified>
  <cp:revision>69</cp:revision>
  <dc:subject/>
  <dc:title>Lima, 24-25 de julio de 2014</dc:title>
</cp:coreProperties>
</file>