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586-1C06-461C-8C76-49D6E4AE5793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3E82-0CEF-4F0D-BD09-6128429B615B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A05-5AB8-4298-9A0A-006A82450FB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119A-E806-447B-86B4-E908A594264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6E1-6A31-41ED-B5C3-40D640155097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C84-7A74-4369-A0F0-397B592B1D1F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1F6C-62FD-4ACC-9F35-F85BA6D2795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CC40-AFAB-4EBF-A296-FC9482170B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1356-13DE-4A18-99D3-C7B68844C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6F19-BD4A-46DD-A3E0-C5235AC24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D505-7657-43A3-9CB0-1ACD9EEEC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68DF-3FCC-42DD-BB52-17BE34E942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1390-0AE0-4319-95D5-A19F5D7DA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0A90-57B0-480D-90F2-5F2321D5B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97D8-3066-427C-9912-CF63B6D66C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BE33-E021-400A-BD80-B2FFEE0043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46C2-4D22-445D-AF33-82231764E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2C52-A811-4D7C-AD15-767C8F7FDD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91F5-0518-48F8-AE17-D1DD1FB4BC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11BB-70CF-4320-BCFF-E2D16AED8D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4090-8FE9-4ED3-8CCC-5A76CF1426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59B9-AEF5-4D84-9F5A-878F6BE479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8EA6-7A05-469F-B15A-30BF9316AE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1410-156E-4857-9007-D071EDAAF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B782-5AAC-49C1-B427-F5B9CF5C72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BA10-F4A9-4C83-AD1C-776879C2EA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A3B6-1CB8-4043-A7DC-DB219CEEB5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00B2-7FE6-46AB-BD23-D83CD284EB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4DAD-7F57-455B-A469-9CE1DBB235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47D9-CC46-46A2-94CC-F96BFF4348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8BDF-1EFB-4736-8296-A087E6EB6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D88C-23BD-4DAB-B8FC-EF5FEB8C552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0 Imagen" descr="logo_eurosocial_rgb.jpg"/>
          <p:cNvPicPr/>
          <p:nvPr/>
        </p:nvPicPr>
        <p:blipFill>
          <a:blip r:embed="rId4"/>
          <a:stretch/>
        </p:blipFill>
        <p:spPr>
          <a:xfrm>
            <a:off x="4518000" y="392040"/>
            <a:ext cx="413712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E9E-9D6F-484E-9901-09E00064EBF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"/>
              </a:rPr>
              <a:t>REUNION DE TRABAJO </a:t>
            </a:r>
            <a:br>
              <a:rPr sz="2800"/>
            </a:br>
            <a:br>
              <a:rPr sz="3600"/>
            </a:br>
            <a:r>
              <a:rPr b="1" lang="es-ES" sz="4000" spc="-1" strike="noStrike">
                <a:solidFill>
                  <a:srgbClr val="ffc000"/>
                </a:solidFill>
                <a:latin typeface="Gill Sans MT"/>
              </a:rPr>
              <a:t>MONITOREO DE LA EQUIDAD EN SALUD </a:t>
            </a:r>
            <a:br>
              <a:rPr sz="2800"/>
            </a:br>
            <a:br>
              <a:rPr sz="2800"/>
            </a:br>
            <a:r>
              <a:rPr b="0" lang="es-ES" sz="4000" spc="-1" strike="noStrike">
                <a:solidFill>
                  <a:srgbClr val="ffffff"/>
                </a:solidFill>
                <a:latin typeface="Gill Sans MT"/>
              </a:rPr>
              <a:t>Como afinar nuestras actividades</a:t>
            </a:r>
            <a:br>
              <a:rPr sz="40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Gill Sans MT"/>
              </a:rPr>
              <a:t>Lima, 25 de Julio de 201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4939-2521-45E5-B18B-BFF0520ACF6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20943" t="29757" r="20977" b="15370"/>
          <a:stretch/>
        </p:blipFill>
        <p:spPr>
          <a:xfrm>
            <a:off x="450720" y="2598840"/>
            <a:ext cx="12193560" cy="648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35040" y="1934640"/>
            <a:ext cx="11912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TEORICO DE EQUIDAD EN SALU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Content Placeholder 6"/>
          <p:cNvSpPr/>
          <p:nvPr/>
        </p:nvSpPr>
        <p:spPr>
          <a:xfrm>
            <a:off x="8875800" y="8945640"/>
            <a:ext cx="3703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C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26B-CEBD-4170-A0B4-09661901CD7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20943" t="15580" r="42912" b="15122"/>
          <a:stretch/>
        </p:blipFill>
        <p:spPr>
          <a:xfrm>
            <a:off x="954000" y="2160720"/>
            <a:ext cx="6624720" cy="714528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6"/>
          <p:cNvSpPr/>
          <p:nvPr/>
        </p:nvSpPr>
        <p:spPr>
          <a:xfrm>
            <a:off x="635040" y="1859040"/>
            <a:ext cx="11912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PARA ACTUAR SOBRE LOS 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8155080" y="68961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5385a"/>
                </a:solidFill>
                <a:latin typeface="Gill Sans"/>
              </a:rPr>
              <a:t>Disponer de sistemas de seguimiento sistemático de la equidad sanitaria y los DSS a nivel local, nacional e inter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Ovale 7"/>
          <p:cNvSpPr/>
          <p:nvPr/>
        </p:nvSpPr>
        <p:spPr>
          <a:xfrm>
            <a:off x="7939080" y="6264360"/>
            <a:ext cx="4772160" cy="2952720"/>
          </a:xfrm>
          <a:prstGeom prst="ellipse">
            <a:avLst/>
          </a:prstGeom>
          <a:noFill/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E151-79AD-4B9A-A7E8-73A81C807E1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239364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COMO ACTUAR  SOBRE DSS (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Solar O, Irwin A. 2010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ttangolo 6"/>
          <p:cNvSpPr/>
          <p:nvPr/>
        </p:nvSpPr>
        <p:spPr>
          <a:xfrm>
            <a:off x="1546200" y="3755880"/>
            <a:ext cx="998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Estrategias concernientes el contexto socio-economicos y politicos dirigidas a los determinantes estructurales e intermedio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Accion intersectori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Participacion social y 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"/>
              </a:rPr>
              <a:t>empower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5AA-2FF5-4CF0-8701-BB2C9631020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19159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Y AHORA????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Rettangolo 6"/>
          <p:cNvSpPr/>
          <p:nvPr/>
        </p:nvSpPr>
        <p:spPr>
          <a:xfrm>
            <a:off x="1546200" y="2906640"/>
            <a:ext cx="106408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ac:uerdo a los </a:t>
            </a:r>
            <a:r>
              <a:rPr b="1" lang="es-ES_tradnl" sz="2800" spc="-1" strike="noStrike">
                <a:solidFill>
                  <a:srgbClr val="b54639"/>
                </a:solidFill>
                <a:latin typeface="Gill Sans"/>
              </a:rPr>
              <a:t>insumo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recibidos en estos dias y, tomando en cuenta las actividades que EUROsociAL puede apoyar en sus Paì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elencar los componentes de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GOBERNANZA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del monitoreo de la equidad en salud que necesitan de especial atenciòn en su Paìs para la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considerando </a:t>
            </a:r>
            <a:r>
              <a:rPr b="1" i="1" lang="es-ES_tradnl" sz="2800" spc="-1" strike="noStrike">
                <a:solidFill>
                  <a:srgbClr val="000000"/>
                </a:solidFill>
                <a:latin typeface="Gill Sans"/>
              </a:rPr>
              <a:t>puntos de fuerza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su Paìs y “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debilidade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“/ aspectos que pueden perjudicar el éxito de las iniciativ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52:48Z</dcterms:created>
  <dc:creator>Iván</dc:creator>
  <dc:description/>
  <dc:language>en-US</dc:language>
  <cp:lastModifiedBy>Rita</cp:lastModifiedBy>
  <cp:lastPrinted>2014-07-21T14:30:17Z</cp:lastPrinted>
  <dcterms:modified xsi:type="dcterms:W3CDTF">2014-07-25T18:25:35Z</dcterms:modified>
  <cp:revision>403</cp:revision>
  <dc:subject/>
  <dc:title>Titulo de la presentación -Subtítulo de la presentación-</dc:title>
</cp:coreProperties>
</file>