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D0F-3F3C-4C01-8486-AEC77107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7AE-EFDE-4BF9-8C1C-C366B4C6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FCF-3B70-42DF-AB5B-6E784A42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598-77C4-48F1-BA05-22248BD9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200F-DA5F-4022-9608-A9D10FCC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FF05-8C03-44C9-9B61-C57BAB1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2B49-41B7-4775-A5DD-04B268C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3E29-B470-4BE8-A7CB-EB2F316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6215-704B-43E2-8F26-BD99E39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F7FA-0AF5-4517-A7E2-51DCCC3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9563-E208-4220-BAE9-22F1FA9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797-64D9-471B-A4E3-3DF90FE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C11-BC96-4704-87C0-740441A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D85B-A23A-441B-A1D8-EEFCB6B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86C-3CEB-4D01-B770-2DAE6D5F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A01-C43A-42AF-8978-DB179CF8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476F-F16F-4E63-A1D8-55425EB1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7367-DE15-46DB-816F-A47AF8F4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C83E-E23F-4F50-B526-C831865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E0B9-87CA-41BE-A036-40EE65E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7D9D-9E67-4F0B-8FC4-429F0EC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2C6B-119E-47DB-B800-15712B1F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13B-EEF7-4C46-9FF0-8752E2C3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5441-1258-449C-A40C-24FA06A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FDD1-4A22-4DFD-A597-A6FEC49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BB21-82AC-44FA-80FE-64306E9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B78C-A8C1-4B06-A713-A1786649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69E1-E7C3-4768-AD0C-7D16CF7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C8F4-AE3A-4ED3-9E28-0E82C01E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9A12-2155-4827-A4BD-084B3046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3647-B7F7-4DD3-8D11-ADDCF3DB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37A9-C4FE-442B-919E-251FEDF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66EA-4EC2-4A4B-A138-1D497FE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342-34BA-48AB-9396-715590A9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266E-C858-4CE8-85A6-9D88E5A3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27A7-0E35-4AA3-9130-7075A89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DE79-A3C3-45F2-BA39-CB7133C7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8B6C-43CB-4B74-9547-CC610B9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BDB7-FD47-426F-9989-156E7F6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61C7-0F5A-45A4-A23B-360C3031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29A7-AF98-4041-8EAA-F31F368F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C165-8FF0-4FA1-87FA-2F6E87B9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4EED-C80B-4837-8492-8611A973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8E9-C314-40B2-978C-DA28D9CC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BA7-8F31-43EC-9D3F-1D267B83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144-5EEA-493B-B469-2D1B33B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73C-35B8-4C7E-BEB7-0DC33B8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7EB-4749-4531-9342-595893E5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26AA7-A19D-4A26-B2D6-C223A23B68FA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686C5-34AB-4327-8035-7BAC34BD7BA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93ACA-7525-4F96-8C31-8CBEF529A5D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A1812-6EA6-4ED1-A6E5-C5073163C488}" type="slidenum">
              <a:rPr b="0" lang="es-E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76200" y="266760"/>
            <a:ext cx="8915400" cy="29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300" spc="-1" strike="noStrike">
                <a:solidFill>
                  <a:srgbClr val="262626"/>
                </a:solidFill>
                <a:latin typeface="Century Gothic"/>
              </a:rPr>
              <a:t>Monitoreo y evaluación de la determinación social de la salud: papel de los INS</a:t>
            </a:r>
            <a:br>
              <a:rPr sz="4300"/>
            </a:b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733480" y="4175280"/>
            <a:ext cx="8915400" cy="112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595959"/>
                </a:solidFill>
                <a:latin typeface="Century Gothic"/>
              </a:rPr>
              <a:t>Lima, Perú</a:t>
            </a:r>
            <a:br>
              <a:rPr sz="2400"/>
            </a:br>
            <a:r>
              <a:rPr b="0" i="1" lang="es-ES" sz="2400" spc="-1" strike="noStrike">
                <a:solidFill>
                  <a:srgbClr val="595959"/>
                </a:solidFill>
                <a:latin typeface="Century Gothic"/>
              </a:rPr>
              <a:t>24-25 de julio de 2014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595959"/>
                </a:solidFill>
                <a:latin typeface="Century Gothic"/>
              </a:rPr>
              <a:t>Felix J. Rosenberg, Fiocruz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7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95640" y="321840"/>
            <a:ext cx="8935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Territorio y Salud:</a:t>
            </a:r>
            <a:r>
              <a:rPr b="1" lang="es-UY" sz="32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LA DIVISIÓN SOCIAL DEL TERRITORIO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206800" y="1576440"/>
            <a:ext cx="87055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Nidalidad Natural de Enfermedades Transmisibles (E.Pavlovsky, 19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amuel Pessoa (Estudos Médico-Sociais) y Josué de Castro (Geografia da F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Breilh y Granda; Samaja; Castellan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Paulo Sabroza (Geografia das endem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ilton Santos: El padre de la Geografí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2320" y="347400"/>
            <a:ext cx="8912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CONFIGURACIÓN TERRITORIAL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552680" y="1222200"/>
            <a:ext cx="97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¿Cómo se construye la escala en la vida cotidiana; cómo se conectan las diferentes escalas; qué diferentes papeles juegan cuestiones de clase, género y raza en la construcción de las diferentes escalas; y cómo estos problemas se conectan a cuestiones de determinación económica, política y social de la esca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574640" y="3849840"/>
            <a:ext cx="95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La meta de una política espacializada es superar la dominación social ejercida a través de la construcción autoritaria de la escala reconstruyendola como actividad social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Jan Bitoun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m 2" descr=""/>
          <p:cNvPicPr/>
          <p:nvPr/>
        </p:nvPicPr>
        <p:blipFill>
          <a:blip r:embed="rId2"/>
          <a:stretch/>
        </p:blipFill>
        <p:spPr>
          <a:xfrm>
            <a:off x="2538360" y="196920"/>
            <a:ext cx="96537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agem 3" descr=""/>
          <p:cNvPicPr/>
          <p:nvPr/>
        </p:nvPicPr>
        <p:blipFill>
          <a:blip r:embed="rId2"/>
          <a:stretch/>
        </p:blipFill>
        <p:spPr>
          <a:xfrm>
            <a:off x="3019320" y="196920"/>
            <a:ext cx="91728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600" spc="-1" strike="noStrike">
                <a:solidFill>
                  <a:srgbClr val="262626"/>
                </a:solidFill>
                <a:latin typeface="Century Gothic"/>
              </a:rPr>
              <a:t>DIVISÓN SOCIAL DEL ESPACIO O </a:t>
            </a:r>
            <a:r>
              <a:rPr b="1" i="1" lang="es-UY" sz="3200" spc="-1" strike="noStrike">
                <a:solidFill>
                  <a:srgbClr val="262626"/>
                </a:solidFill>
                <a:latin typeface="Calibri"/>
              </a:rPr>
              <a:t>el desafío d</a:t>
            </a:r>
            <a:r>
              <a:rPr b="1" i="1" lang="pt-BR" sz="3200" spc="-1" strike="noStrike">
                <a:solidFill>
                  <a:srgbClr val="262626"/>
                </a:solidFill>
                <a:latin typeface="Calibri"/>
              </a:rPr>
              <a:t>e c</a:t>
            </a:r>
            <a:r>
              <a:rPr b="1" i="1" lang="es-UY" sz="3200" spc="-1" strike="noStrike">
                <a:solidFill>
                  <a:srgbClr val="262626"/>
                </a:solidFill>
                <a:latin typeface="Calibri"/>
              </a:rPr>
              <a:t>omo superar de los promedi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ff0000"/>
                </a:solidFill>
                <a:latin typeface="Comic Sans MS"/>
              </a:rPr>
              <a:t>El desafio es construir una cartografia en escala tal que permita dermarcar espacios relativamente homogeneos cuanto a su producción y reproducción social</a:t>
            </a:r>
            <a:r>
              <a:rPr b="0" lang="es-UY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404040"/>
                </a:solidFill>
                <a:latin typeface="Comic Sans MS"/>
              </a:rPr>
              <a:t>Esa construcción, idealmente, es alcanzada mediante la participación de la comunidad involucrada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8720" y="62496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3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249640" y="282744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800" spc="-1" strike="noStrike">
                <a:solidFill>
                  <a:srgbClr val="2a5631"/>
                </a:solidFill>
                <a:latin typeface="Century Gothic"/>
              </a:rPr>
              <a:t>Como construir indicadores de salud que reflejen la determinación social sobre un espacio definido socialmente</a:t>
            </a:r>
            <a:r>
              <a:rPr b="0" i="1" lang="es-UY" sz="2400" spc="-1" strike="noStrike">
                <a:solidFill>
                  <a:srgbClr val="2a5631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5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EXPOSICIÓN O RIESGO: </a:t>
            </a:r>
            <a:r>
              <a:rPr b="0" i="1" lang="es-UY" sz="3200" spc="-1" strike="noStrike">
                <a:solidFill>
                  <a:srgbClr val="262626"/>
                </a:solidFill>
                <a:latin typeface="Calibri"/>
              </a:rPr>
              <a:t>EJEMPLOS URBAN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Espacio Dividido”: Los dos circuitos de la economia urbana (Milton Santos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a especulación inmobiliaria y las areas de riesgo de catastrofes climátic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acceso a los equipos sociales, servicios (salud, educación) empleo, transporte, deporte, cultura, el oc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8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61720" y="380520"/>
            <a:ext cx="931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EXPOSICIÓN O RIESGO: </a:t>
            </a:r>
            <a:r>
              <a:rPr b="0" i="1" lang="es-UY" sz="3200" spc="-1" strike="noStrike">
                <a:solidFill>
                  <a:srgbClr val="262626"/>
                </a:solidFill>
                <a:latin typeface="Calibri"/>
              </a:rPr>
              <a:t>EJEMPLOS RURALE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8880" y="2403360"/>
            <a:ext cx="88866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os circuitos internos y externos de la economía rural: Agronegocios, Agricultura familiar, Agricultura de subsistenci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conomía extractiva (Impactos de la minería legal e ilegal sobre las poblaciones locales y los migrantes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1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262626"/>
                </a:solidFill>
                <a:latin typeface="Calibri"/>
              </a:rPr>
              <a:t>CONSTRUYENDO INDICADORES DE SALUD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71720" y="1800360"/>
            <a:ext cx="95328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Asi como la configuración de las escalas territoriales, la construcción de indicadores de salud también representa y responde a intereses hegemónicos (dominantes) (Por ejemplo, el complejo productivo de la salud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gran desafio consiste en construir indicadores participativamente, que incluyan indicadores globales de salud que permitan comparaciones, en territorios socialmente construidos e incluyendo indicadores que reflejen las pautas inter-culturales del buen vivir</a:t>
            </a:r>
            <a:r>
              <a:rPr b="0" lang="es-UY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4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80680" y="590040"/>
            <a:ext cx="85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4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803680" y="264636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Como obtener informaciones que permitam el m</a:t>
            </a:r>
            <a:r>
              <a:rPr b="1" i="1" lang="pt-BR" sz="2400" spc="-1" strike="noStrike">
                <a:solidFill>
                  <a:srgbClr val="404040"/>
                </a:solidFill>
                <a:latin typeface="Century Gothic"/>
              </a:rPr>
              <a:t>onitoreo y la evaluación de las</a:t>
            </a: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 inequidades en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1240" y="382320"/>
            <a:ext cx="27651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262626"/>
                </a:solidFill>
                <a:latin typeface="Century Gothic"/>
              </a:rPr>
              <a:t>AGEND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19320" y="1074240"/>
            <a:ext cx="93852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entury Gothic"/>
              </a:rPr>
              <a:t>1. LOS CUATRO DESAFIOS PARA</a:t>
            </a:r>
            <a:r>
              <a:rPr b="1" lang="pt-BR" sz="2400" spc="-1" strike="noStrike">
                <a:solidFill>
                  <a:srgbClr val="404040"/>
                </a:solidFill>
                <a:latin typeface="Century Gothic"/>
              </a:rPr>
              <a:t> EL MONITOREO Y LA EVALUACIÓN DE LA DETERMINACIÓN SOCIAL DE LA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1: Como construir una categoria operacional de Clase Soci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2: Como definir operacionalmente un territorio como espacio de producción y reproducción de uma clase social definid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3: Como construir indicadores de salud que reflejen la determinación social sobre un espacio definido socialmente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4: Como obtener informaciones que permitan el monitoreo  de las inequidades en salu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entury Gothic"/>
              </a:rPr>
              <a:t>2. PAPEL DE LOS I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entury Gothic"/>
              </a:rPr>
              <a:t>3. ?POLÍTICAS BASADAS EN EVIDENCIAS 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29000" y="445680"/>
            <a:ext cx="89121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SISTEMAS DE INFORMACIÓN PARA LA SALUD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1650960"/>
            <a:ext cx="891540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cluir indicadores que reflejen la determinación social de la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tegrar datos de sistemas correspondientes a diversas escalas territoriales: censos nacionales; encuestas domiciliares por muestreo; sistemas locales de salud, empleo, educación, et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cluir datos de sistemas correspondientes a otros sectores de Gobierno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ES FUNDAMENTAL EL DIALOGO / LA INTEGRACI</a:t>
            </a:r>
            <a:r>
              <a:rPr b="1" i="1" lang="pt-BR" sz="2400" spc="-1" strike="noStrike">
                <a:solidFill>
                  <a:srgbClr val="404040"/>
                </a:solidFill>
                <a:latin typeface="Calibri"/>
              </a:rPr>
              <a:t>ÓN ENTRE ÓRGANISMOS DE SALUD E INSTITUTOS NACIONALES DE ESTADÍSTIC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0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0760" y="409680"/>
            <a:ext cx="9653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PAPEL DE LOS INS: </a:t>
            </a: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Fortalecimiento de los Observatorios Nacionales de Salud con foco en la DSS-IS</a:t>
            </a:r>
            <a:br>
              <a:rPr sz="2800"/>
            </a:br>
            <a:r>
              <a:rPr b="0" lang="es-AR" sz="2400" spc="-1" strike="noStrike">
                <a:solidFill>
                  <a:srgbClr val="262626"/>
                </a:solidFill>
                <a:latin typeface="Century Gothic"/>
              </a:rPr>
              <a:t>Conclusiones del Seminario Conjunto RINS-UNASUR / RINSP-CPLP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9524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Incorporación de los DSS-IS en el monitoreo y la evaluación de la salud en los respectivos país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Los INS deben involucrarse en el monitoreo y la evaluación sistemática de los DSS-I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Identificar las fuentes disponibles de datos e informacion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onstruir indicadores que integren y articulen los ODM con otras variabl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sitio Web de la RINS podría constituirse en un poderoso instrumento de “clearinghouse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3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50760" y="409680"/>
            <a:ext cx="9653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PAPEL DE LOS INS: </a:t>
            </a:r>
            <a:r>
              <a:rPr b="1" lang="es-AR" sz="2400" spc="-1" strike="noStrike">
                <a:solidFill>
                  <a:srgbClr val="262626"/>
                </a:solidFill>
                <a:latin typeface="Century Gothic"/>
              </a:rPr>
              <a:t>Fortalecimiento de la Investigación de Campo sobre os DSS-IS</a:t>
            </a:r>
            <a:br>
              <a:rPr sz="2400"/>
            </a:br>
            <a:r>
              <a:rPr b="0" lang="es-AR" sz="2400" spc="-1" strike="noStrike">
                <a:solidFill>
                  <a:srgbClr val="262626"/>
                </a:solidFill>
                <a:latin typeface="Century Gothic"/>
              </a:rPr>
              <a:t>Conclusiones del Seminario Conjunto RINS-UNASUR / RINSP-CPLP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9524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Realizar un mapeo de todos los actores involucrados en las investigaciones de DSS-IS en el ámbito de los I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Validar un modelo de DSS que utilice como categoría la relación dialéctica existente entre clases sociales y territorios: Territorios “Paradigmáticos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Proyecto multicéntrico que integre experiencias locales concret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Que los INS encuentren medios para orientar los tomadores de decisión sobre políticas de salud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6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262626"/>
                </a:solidFill>
                <a:latin typeface="Calibri"/>
              </a:rPr>
              <a:t>TERRITORIOS PARADIGMÁTICOS: Ejempl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1738080"/>
            <a:ext cx="8915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Impacto sobre la salud de la transformación de la Agricultura Familiar en Cultivo Intensivo de Soja – Agronegocios, en la Frontera Argentino – Brasileña (INMET - 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Salud en territorios de poblaciones de trabajadores y ex-trabajadores mineros en la frontera entre Africa del Sur y Mozambique (INS/Mozambique – NIOH/Africa del Sur – 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Cuotas Verticales y Salud en Comunidades de la Estrada da Saudade- Petrópolis (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Epidemiología de la Basura en Quito (UASB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Century Gothic"/>
              </a:rPr>
              <a:t>?POLÍTICAS BASADAS EN EVIDENCIAS ?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s Definiciones políticas son basadas en ideologías. Las evidencias sirven apenas para establecer mejores estrategias y tácticas, inclusive para orientar la demostración de nuevas evidencias que refuercen las ideologías del poder decisori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Un ejemplo: El Grupo de Alto Nivel para el establecimiento de la propuesta de OBJETIVOS PARA EL DESARROLLO POST – 2015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12ª Sesión del OPEN WORKING GROUP – OWG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nálisis Costo – Beneficio de la propuesta del OWG (Copenhaguen Consensus Center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1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88760" y="495000"/>
            <a:ext cx="8915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262626"/>
                </a:solidFill>
                <a:latin typeface="Calibri"/>
              </a:rPr>
              <a:t>OBJETIVO 3: Alcanzar vida saludable para todos en todas las edad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871640" y="1366560"/>
            <a:ext cx="96328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 2030, reducir la Mortalidad Materna a menos de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x 100.000 nacidos vivos.</a:t>
            </a: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40: POBRE; 94 es REGULAR. Dinamarca= 5; Chile = 22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2030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ACABAR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on muertes prevenibles en recién nacidos y menores de 5 año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(Propuesta: Reducir a 20 per 1,000 en &lt; 5 años. Dinamarca = 0; Chile = 2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n Cooperación con las compañías farmacéuticas, proveer acceso a medicamentos esenciales de bajo costo en países en desarrollo y apoyar a esos países en el uso de las flexibilidades de TRIP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iderado “POBRE”: Se aduce Falta de Colaboración por parte de la Industr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odas las metas que implican en subsidios públicos para la intervención del Mercado (Ej. Medicamentos; investigación; seguros médicos) son considerados “Buenos” o “Fenomenales”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4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57080" y="301320"/>
            <a:ext cx="984708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Objetivo 4:  Proveer oportunidades de educación de calidad, equitativa e inclusiva y oportunidades de aprendizaje durante toda la vida para todo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871640" y="1699920"/>
            <a:ext cx="9632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 2030 asegurar que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TODA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las niñas y niños completen educación primaria y secundaria completa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gratis, equitativa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y de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calidad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….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gumentos:  Gratis para todos no es costo-eficaz: apenas para los pobres. S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e priorizar las niñas. Equitativo es un término poco definido. Cuanto a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“Calidad” se cita un estudio que dice “un resultado típico es que un aumento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 1 desvío standard en scores de testes cuesta 100 $”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 sugiere substituir por: “Aumentar el acceso de niñas a la educación primaria”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ic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De NUEVE metas de educación, 4 son consideradas “POBRES” y 2 “REGULARES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76040" y="94464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4000" spc="-1" strike="noStrike">
                <a:solidFill>
                  <a:srgbClr val="262626"/>
                </a:solidFill>
                <a:latin typeface="Calibri"/>
              </a:rPr>
              <a:t>La sugerencia de políticas diferenciales para pobres en lugar de políticas universales es exclusivamente ideológica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437920" y="406692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omic Sans MS"/>
              </a:rPr>
              <a:t>Pueden buscarse evidencias para una o para otra opción dependiendo de la política pre-determinada. Pensar lo opuesto es, por lo menos, ingenuidad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0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600" spc="-1" strike="noStrike">
                <a:solidFill>
                  <a:srgbClr val="262626"/>
                </a:solidFill>
                <a:latin typeface="Century Gothic"/>
              </a:rPr>
              <a:t>DESAFIO 1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828440" y="41148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cc3300"/>
                </a:solidFill>
                <a:latin typeface="Century Gothic"/>
              </a:rPr>
              <a:t>Como construir una categoría operacional de Clase Social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262626"/>
                </a:solidFill>
                <a:latin typeface="Century Gothic"/>
              </a:rPr>
              <a:t>DETERMINANTES Y DETERMINACIÓN: Relaciones y Diferenci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2360" y="1905120"/>
            <a:ext cx="761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Los Determinantes Sociales y Económicos de la Salud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se fundamentan en la multifactorialidad de elementos que determinan los factores de riesgo para la salud, dependientes de las </a:t>
            </a: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condiciones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ambientales, sociales y económicas del individuo (Determinantes estructurales e Intermedios)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a </a:t>
            </a:r>
            <a:r>
              <a:rPr b="1" lang="es-UY" sz="2400" spc="-1" strike="noStrike">
                <a:solidFill>
                  <a:srgbClr val="404040"/>
                </a:solidFill>
                <a:latin typeface="Calibri"/>
              </a:rPr>
              <a:t>Determinación Social de la Salud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es una construcción teórica que parte de la </a:t>
            </a: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inserción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históricamente determinada del individuo y su familia en la estructura de producción</a:t>
            </a:r>
            <a:r>
              <a:rPr b="0" lang="es-UY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(Categoría Síntesis Central - Singular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5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9"/>
          <p:cNvGraphicFramePr/>
          <p:nvPr/>
        </p:nvGraphicFramePr>
        <p:xfrm>
          <a:off x="1919160" y="593640"/>
          <a:ext cx="8350200" cy="6264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8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9160" y="593640"/>
                    <a:ext cx="83502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-2629080" y="188640"/>
            <a:ext cx="4152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703520" y="214200"/>
            <a:ext cx="8821440" cy="6127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Para un análisis de las determinación social de la Calidad de Vida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 (Armando de Negri)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CLASES SOCIALES O CLASES ECONÓMICA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90920" y="1219320"/>
            <a:ext cx="847224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La mayoría de las investigaciones utilizan los conceptos oficiales de Clases Económicas, equivalentes a un gradiente de renta: Clases A a 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Estas “Clases” según renta están basadas en la capacidad de consumo</a:t>
            </a:r>
            <a:r>
              <a:rPr b="0" lang="es-AR" sz="2400" spc="-1" strike="noStrike">
                <a:solidFill>
                  <a:srgbClr val="404040"/>
                </a:solidFill>
                <a:latin typeface="Calibri"/>
                <a:ea typeface="DejaVu San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Diversos estudios demuestran una correlación entre el gradiente de renta e indicadores de salud-enfermeda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Reciente estudio de José Alcides Figueiredo demuestra que la renta o la educación responden por menos del 80% de la autoevaluación de “no salud” en Brasil. Tambien M. Marmot demuestra que </a:t>
            </a:r>
            <a:r>
              <a:rPr b="1" i="1" lang="es-AR" sz="2400" spc="-1" strike="noStrike">
                <a:solidFill>
                  <a:srgbClr val="404040"/>
                </a:solidFill>
                <a:latin typeface="Calibri"/>
              </a:rPr>
              <a:t>la posición ocupacional</a:t>
            </a: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 es una categoría mas explicativa de indicadores de salud que la </a:t>
            </a:r>
            <a:r>
              <a:rPr b="1" i="1" lang="es-AR" sz="2400" spc="-1" strike="noStrike">
                <a:solidFill>
                  <a:srgbClr val="404040"/>
                </a:solidFill>
                <a:latin typeface="Calibri"/>
              </a:rPr>
              <a:t>renta o la educ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Century Gothic"/>
              </a:rPr>
              <a:t>LA POSICIÓN OCUPACIONAL COMO PROXI DE CLASE SOCIA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La posición ocupacional / empleo sintetiza los principales factores que definen las clases sociales en el capitalismo contemporaneo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l dominio de activ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La posición de Poder Social Relativ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l dominio del conocimiento  / inform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22480" y="1471680"/>
          <a:ext cx="7948800" cy="5067360"/>
        </p:xfrm>
        <a:graphic>
          <a:graphicData uri="http://schemas.openxmlformats.org/drawingml/2006/table">
            <a:tbl>
              <a:tblPr/>
              <a:tblGrid>
                <a:gridCol w="1855800"/>
                <a:gridCol w="2379600"/>
                <a:gridCol w="1857600"/>
                <a:gridCol w="1855800"/>
              </a:tblGrid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ciones de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rupaciones de 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marL="18252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822320"/>
                          <a:tab algn="ctr" pos="2679840"/>
                          <a:tab algn="r" pos="5423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marL="18252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822320"/>
                          <a:tab algn="ctr" pos="2679840"/>
                          <a:tab algn="r" pos="5423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nta Total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08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pit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5">
                  <a:txBody>
                    <a:bodyPr lIns="72360" rIns="7236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ciones Privilegiad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10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erto autóno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793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erto emple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or pequ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con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 Menor Valor (9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189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agríc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o cal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3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se Trabaj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tituida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41,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per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492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p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e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6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tituidos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793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a domé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rícola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5108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de sub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ce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32240" y="3711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88604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ipolog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 de Clases. Brasil, 2011 (J.A.Figueiredo)</a:t>
            </a:r>
            <a:br>
              <a:rPr sz="24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uente: Estimaciones del autor basadas en los Microdatos de l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vestigac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 Nacional por Muestreo de Hogares (PNAD), IBGE, Brasil, 2011”.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80680" y="590040"/>
            <a:ext cx="85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2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803680" y="264636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Como definir operacionalmente un territorio como espacio de producción y reproducción de una clase social definid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9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7:26:25Z</dcterms:created>
  <dc:creator>user</dc:creator>
  <dc:description/>
  <dc:language>en-US</dc:language>
  <cp:lastModifiedBy>Felix Rosenberg</cp:lastModifiedBy>
  <dcterms:modified xsi:type="dcterms:W3CDTF">2014-07-24T23:46:22Z</dcterms:modified>
  <cp:revision>38</cp:revision>
  <dc:subject/>
  <dc:title>Iº seminario para a ELABORAÇÃO DE um plano ESTRATÉGICO DE cooperação em ciência e tecnologia em saúde na área de FRONTEIRA ARGENTINA e Brasil</dc:title>
</cp:coreProperties>
</file>