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E62A-D5C5-4BA8-8E55-B8D610E6E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6C83-37E3-4F77-9767-1FE0255A6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8D3C-1571-4566-A023-6C9FF4A6B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060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6696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1424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060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6696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A605-B7BE-4A59-AB98-80ACA6B63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E999-33F0-4B5D-AAD4-9DA9B97AB1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5A8E-2FCB-4700-B47B-A0E111BFEB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7C97-C5B6-4E4D-AB98-8BA653F302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778C-02B3-4BAA-8553-DE6221957A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E27C3-105B-4E47-8DFB-F184941651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13920" y="70920"/>
            <a:ext cx="7821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13BF5-6D19-4920-8DB8-13EFD09891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722BD-4699-49CC-B74D-75FB659313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57B1-6BC2-4899-9A61-EB3D298F7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BD33-78FC-4FBD-8D21-66A3C21344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DD8B-3A5C-4853-9DD5-FA34C6310F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3E70-051D-43A7-B55D-A161A36003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BC412-BA85-4C1C-9519-0DD938EDC1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060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6696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1424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060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6696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C65F4-0573-431F-9F4E-60A2D4506C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05CC-DDE4-4861-85CE-9747D77DBE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213920" y="70920"/>
            <a:ext cx="7821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060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6696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71424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060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36696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01253-A481-445A-832E-1FB2B50A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2D5D9-51FA-4038-89E6-40988142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158DC-49E6-4664-84C7-AC44A48F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2B95-6044-46D5-9DA1-B510237F31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66ACA-58CB-441D-BDE4-33EFEF8B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43022-DB46-4E8A-B9F8-D9414AE8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13920" y="70920"/>
            <a:ext cx="7821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0E6E5-95B2-4289-8101-90494F1B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7CFDD-11C6-4B6E-AAB8-2BA24C0A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64C8C-744B-4981-8610-5CBED605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1DDB6-6B2A-4FA4-9764-D4C5D5FE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02605-1EA3-4D40-88E4-91FB850C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BFA50-CF2A-4A70-B2AF-B25D8A81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4060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6696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71424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4060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6696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0F990-2887-4B96-B555-81B893E7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27911-1679-4B34-B2CD-F28DCBB6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91F7-A65F-4E66-8852-B49580DF2F5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A024F-1DD4-412F-BEAE-18B47B36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78320-CEF0-45D3-86D9-8674DA5B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71B7C-C084-4469-B4A2-1DFADD71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33DA7-8BE1-4326-9E3E-42650137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213920" y="70920"/>
            <a:ext cx="7821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4233B-47ED-4ABA-8A38-38A40681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39484-AFAA-440D-9A94-9E9235CA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FE524-7130-475F-AED9-E83E8013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E1338-99D5-4C41-8D21-E4F7114A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78745-DEF1-4A90-AD5C-BDD1471C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D967F-38A9-40E5-9A43-22ADA541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3920" y="70920"/>
            <a:ext cx="7821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5A76-F944-45A5-B4A7-1FA91ACD68A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4060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36696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424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54060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36696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4BE30-818E-4B3C-9163-26B67DF5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8B4B-6F0C-49E0-AC13-3B8ECFD6F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F792-3593-4850-ABEC-6450C3001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ECFD-121D-436E-AF6B-FAB64313B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10"/>
          <p:cNvSpPr/>
          <p:nvPr/>
        </p:nvSpPr>
        <p:spPr>
          <a:xfrm>
            <a:off x="642960" y="1214280"/>
            <a:ext cx="850104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ângulo 8"/>
          <p:cNvSpPr/>
          <p:nvPr/>
        </p:nvSpPr>
        <p:spPr>
          <a:xfrm>
            <a:off x="0" y="1214280"/>
            <a:ext cx="642960" cy="56437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solidFill>
            <a:srgbClr val="ffd7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1b5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64d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00880"/>
            <a:ext cx="490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79D3-4922-46A6-9CD0-5DDD0DF7FAF2}" type="slidenum">
              <a:rPr b="0" lang="pt-B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agem 9" descr="Encat HQ mapa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233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539640" y="5732640"/>
            <a:ext cx="8209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187280" y="580536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64d80"/>
                </a:solidFill>
                <a:latin typeface="Arial"/>
              </a:rPr>
              <a:t>Presentación  SAT Guatemala julio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Imagem 11" descr=""/>
          <p:cNvPicPr/>
          <p:nvPr/>
        </p:nvPicPr>
        <p:blipFill>
          <a:blip r:embed="rId3"/>
          <a:stretch/>
        </p:blipFill>
        <p:spPr>
          <a:xfrm>
            <a:off x="-36360" y="6086520"/>
            <a:ext cx="912600" cy="7984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/>
          <p:cNvPicPr/>
          <p:nvPr/>
        </p:nvPicPr>
        <p:blipFill>
          <a:blip r:embed="rId4"/>
          <a:stretch/>
        </p:blipFill>
        <p:spPr>
          <a:xfrm>
            <a:off x="7151760" y="6248520"/>
            <a:ext cx="19429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tângulo 10"/>
          <p:cNvSpPr/>
          <p:nvPr/>
        </p:nvSpPr>
        <p:spPr>
          <a:xfrm>
            <a:off x="642960" y="1214280"/>
            <a:ext cx="850104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ângulo 8"/>
          <p:cNvSpPr/>
          <p:nvPr/>
        </p:nvSpPr>
        <p:spPr>
          <a:xfrm>
            <a:off x="0" y="1214280"/>
            <a:ext cx="642960" cy="56437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m 9" descr="Encat HQ mapa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23336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3"/>
          <p:cNvSpPr/>
          <p:nvPr/>
        </p:nvSpPr>
        <p:spPr>
          <a:xfrm>
            <a:off x="1071720" y="1214280"/>
            <a:ext cx="8072280" cy="785880"/>
          </a:xfrm>
          <a:prstGeom prst="rect">
            <a:avLst/>
          </a:prstGeom>
          <a:solidFill>
            <a:srgbClr val="e8e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4"/>
          <p:cNvSpPr/>
          <p:nvPr/>
        </p:nvSpPr>
        <p:spPr>
          <a:xfrm>
            <a:off x="0" y="1714680"/>
            <a:ext cx="1143000" cy="51433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m 13" descr="Encat HQ 2.jpg"/>
          <p:cNvPicPr/>
          <p:nvPr/>
        </p:nvPicPr>
        <p:blipFill>
          <a:blip r:embed="rId3"/>
          <a:stretch/>
        </p:blipFill>
        <p:spPr>
          <a:xfrm>
            <a:off x="0" y="0"/>
            <a:ext cx="5643720" cy="2000160"/>
          </a:xfrm>
          <a:prstGeom prst="rect">
            <a:avLst/>
          </a:prstGeom>
          <a:ln w="0">
            <a:noFill/>
          </a:ln>
        </p:spPr>
      </p:pic>
      <p:sp>
        <p:nvSpPr>
          <p:cNvPr id="52" name="Retângulo 6"/>
          <p:cNvSpPr/>
          <p:nvPr/>
        </p:nvSpPr>
        <p:spPr>
          <a:xfrm>
            <a:off x="7572240" y="0"/>
            <a:ext cx="1571760" cy="1285920"/>
          </a:xfrm>
          <a:prstGeom prst="rect">
            <a:avLst/>
          </a:prstGeom>
          <a:solidFill>
            <a:srgbClr val="e8e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187280" y="616572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present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m 21" descr=""/>
          <p:cNvPicPr/>
          <p:nvPr/>
        </p:nvPicPr>
        <p:blipFill>
          <a:blip r:embed="rId4"/>
          <a:stretch/>
        </p:blipFill>
        <p:spPr>
          <a:xfrm>
            <a:off x="34920" y="6086520"/>
            <a:ext cx="912960" cy="798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5"/>
          <a:stretch/>
        </p:blipFill>
        <p:spPr>
          <a:xfrm>
            <a:off x="7151760" y="6248520"/>
            <a:ext cx="1942920" cy="609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solidFill>
            <a:srgbClr val="ffd7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1b5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64d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-360" y="6500880"/>
            <a:ext cx="490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53F7-27CC-4B7D-AFC6-FC05EE5554E2}" type="slidenum">
              <a:rPr b="0" lang="pt-B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tângulo 10"/>
          <p:cNvSpPr/>
          <p:nvPr/>
        </p:nvSpPr>
        <p:spPr>
          <a:xfrm>
            <a:off x="642960" y="1214280"/>
            <a:ext cx="850104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ângulo 8"/>
          <p:cNvSpPr/>
          <p:nvPr/>
        </p:nvSpPr>
        <p:spPr>
          <a:xfrm>
            <a:off x="0" y="1214280"/>
            <a:ext cx="642960" cy="56437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m 9" descr="Encat HQ mapa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23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539640" y="5732640"/>
            <a:ext cx="8209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187280" y="580536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64d80"/>
                </a:solidFill>
                <a:latin typeface="Arial"/>
              </a:rPr>
              <a:t>Presentación  SAT Guatemala julio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Imagem 11" descr=""/>
          <p:cNvPicPr/>
          <p:nvPr/>
        </p:nvPicPr>
        <p:blipFill>
          <a:blip r:embed="rId3"/>
          <a:stretch/>
        </p:blipFill>
        <p:spPr>
          <a:xfrm>
            <a:off x="-36360" y="6086520"/>
            <a:ext cx="912600" cy="798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4"/>
          <a:stretch/>
        </p:blipFill>
        <p:spPr>
          <a:xfrm>
            <a:off x="7151760" y="6248520"/>
            <a:ext cx="1942920" cy="609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solidFill>
            <a:srgbClr val="ffd7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1b5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64d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tângulo 10"/>
          <p:cNvSpPr/>
          <p:nvPr/>
        </p:nvSpPr>
        <p:spPr>
          <a:xfrm>
            <a:off x="642960" y="1214280"/>
            <a:ext cx="850104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ângulo 8"/>
          <p:cNvSpPr/>
          <p:nvPr/>
        </p:nvSpPr>
        <p:spPr>
          <a:xfrm>
            <a:off x="0" y="1214280"/>
            <a:ext cx="642960" cy="56437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m 9" descr="Encat HQ mapa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233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539640" y="5732640"/>
            <a:ext cx="8209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187280" y="580536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64d80"/>
                </a:solidFill>
                <a:latin typeface="Arial"/>
              </a:rPr>
              <a:t>Presentación  SAT Guatemala julio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Imagem 11" descr=""/>
          <p:cNvPicPr/>
          <p:nvPr/>
        </p:nvPicPr>
        <p:blipFill>
          <a:blip r:embed="rId3"/>
          <a:stretch/>
        </p:blipFill>
        <p:spPr>
          <a:xfrm>
            <a:off x="-36360" y="6086520"/>
            <a:ext cx="912600" cy="798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4"/>
          <a:stretch/>
        </p:blipFill>
        <p:spPr>
          <a:xfrm>
            <a:off x="7151760" y="6248520"/>
            <a:ext cx="1942920" cy="6094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solidFill>
            <a:srgbClr val="ffd7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1b5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64d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4"/>
          </p:nvPr>
        </p:nvSpPr>
        <p:spPr>
          <a:xfrm>
            <a:off x="3123720" y="6244920"/>
            <a:ext cx="580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5"/>
          </p:nvPr>
        </p:nvSpPr>
        <p:spPr>
          <a:xfrm>
            <a:off x="-360" y="6500880"/>
            <a:ext cx="490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6887-560B-4051-803E-3B7C8EBEC758}" type="slidenum">
              <a:rPr b="0" lang="pt-B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tângulo 10"/>
          <p:cNvSpPr/>
          <p:nvPr/>
        </p:nvSpPr>
        <p:spPr>
          <a:xfrm>
            <a:off x="642960" y="1214280"/>
            <a:ext cx="850104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tângulo 8"/>
          <p:cNvSpPr/>
          <p:nvPr/>
        </p:nvSpPr>
        <p:spPr>
          <a:xfrm>
            <a:off x="0" y="1214280"/>
            <a:ext cx="642960" cy="56437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Imagem 9" descr="Encat HQ mapa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2333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7"/>
          <p:cNvSpPr/>
          <p:nvPr/>
        </p:nvSpPr>
        <p:spPr>
          <a:xfrm>
            <a:off x="539640" y="5732640"/>
            <a:ext cx="8209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187280" y="580536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64d80"/>
                </a:solidFill>
                <a:latin typeface="Arial"/>
              </a:rPr>
              <a:t>Presentación  SAT Guatemala julio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Imagem 11" descr=""/>
          <p:cNvPicPr/>
          <p:nvPr/>
        </p:nvPicPr>
        <p:blipFill>
          <a:blip r:embed="rId3"/>
          <a:stretch/>
        </p:blipFill>
        <p:spPr>
          <a:xfrm>
            <a:off x="-36360" y="6086520"/>
            <a:ext cx="912600" cy="798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"/>
          <p:cNvPicPr/>
          <p:nvPr/>
        </p:nvPicPr>
        <p:blipFill>
          <a:blip r:embed="rId4"/>
          <a:stretch/>
        </p:blipFill>
        <p:spPr>
          <a:xfrm>
            <a:off x="7151760" y="6248520"/>
            <a:ext cx="1942920" cy="6094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solidFill>
            <a:srgbClr val="ffd7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1b5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64d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8"/>
          </p:nvPr>
        </p:nvSpPr>
        <p:spPr>
          <a:xfrm>
            <a:off x="-360" y="6500880"/>
            <a:ext cx="490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94E1-6310-473B-A12F-4E256DCDAE02}" type="slidenum">
              <a:rPr b="0" lang="pt-B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7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108000" y="4940280"/>
            <a:ext cx="597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Newton 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Líder Nacional Proyecto NFC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Newton.oller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1141560" cy="11671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"/>
          <p:cNvSpPr/>
          <p:nvPr/>
        </p:nvSpPr>
        <p:spPr>
          <a:xfrm>
            <a:off x="1187280" y="1989000"/>
            <a:ext cx="77774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 Black"/>
                <a:ea typeface="MS Gothic"/>
              </a:rPr>
              <a:t> </a:t>
            </a:r>
            <a:r>
              <a:rPr b="0" lang="pt-BR" sz="1800" spc="-1" strike="noStrike">
                <a:solidFill>
                  <a:srgbClr val="10253f"/>
                </a:solidFill>
                <a:latin typeface="Arial Black"/>
                <a:ea typeface="MS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E" sz="1800" spc="-1" strike="noStrike">
                <a:solidFill>
                  <a:srgbClr val="10253f"/>
                </a:solidFill>
                <a:latin typeface="Arial Black"/>
                <a:ea typeface="MS Gothic"/>
              </a:rPr>
              <a:t>ASESORIA ESPECIALIZADA: A LA SUPERINTENDENCIA DE ADMINISTRACIÓN TRIBUTARIA DE GUATEMALA PARA LA IMPLEMENTACIÓN DE LA FACTURA ELECTRÓNICA EN EL PAÍ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1403280" y="6019920"/>
            <a:ext cx="554508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 Black"/>
                <a:ea typeface="MS Gothic"/>
              </a:rPr>
              <a:t> </a:t>
            </a:r>
            <a:r>
              <a:rPr b="0" lang="pt-BR" sz="2400" spc="-1" strike="noStrike">
                <a:solidFill>
                  <a:srgbClr val="1d1d59"/>
                </a:solidFill>
                <a:latin typeface="Arial Black"/>
                <a:ea typeface="MS Gothic"/>
              </a:rPr>
              <a:t>Guatemala – Julio/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219640" y="4951440"/>
            <a:ext cx="3745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Eudaldo Alme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Coordinador General del EN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Eudaldoaj@yahoo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E:\home\almerindo\Downloads\IMG-20140430-WA0003.jpg"/>
          <p:cNvPicPr/>
          <p:nvPr/>
        </p:nvPicPr>
        <p:blipFill>
          <a:blip r:embed="rId2"/>
          <a:stretch/>
        </p:blipFill>
        <p:spPr>
          <a:xfrm>
            <a:off x="6156360" y="3314880"/>
            <a:ext cx="1584360" cy="15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Desde diciembre de 2010 es Obligatoria la FE para cualquier industria, mayorista, operación de comercio exterior, venta al gobierno y operaciones entre Estados 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9,5 mil millones de FE autorizadas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1 millón de empresas emisoras de F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Desde diciembre de 2013 es Obligatorio el CT-e para todos los transportistas de carga entre Estados y entre Municipalidades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680 millones de CT-e autorizados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70 mil transportistas emisores de CT-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ituación Actual de la FE en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09840" indent="-43416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Empezo con normativa en 2007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Archivo Electrónico no tiene Firma Digital del Emisor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SAT no recibe los archivos electrónicos de las FE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No tiene clave de identificación de la FE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La representación impresa no tiene código de barras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ituación Actual de la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En 2011 se estableció la obligación de FE para los 3118 contribuyentes más grandes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80% de los contribuyentes obligados optaron por utilizar la factura copia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20% de omisión de obligados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No hay sanciones relativas a FE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No tiene reglas de validación de los archivos electrónicos por los GFACE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Propuesta de ampliación de más 19 mil obligados 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ituación Actual de la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ituación Actual de la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19280" y="1916280"/>
            <a:ext cx="8237520" cy="28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ituación Actual de la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314360" y="928800"/>
            <a:ext cx="651528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Proyecto de FE no es conocido por la mayoria de SAT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No hay una equipo de Proyecto con personas de todas áreas interesadas (Recaudación, Fiscalización, Planificación, Gestión, Tecnologia de Información)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Liderazco del Proyecto debe garantizar la motivación y integración del Equipo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SAT no recibe información de la FE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Modelo de FE no tiene Firma Digital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untos de Atención en el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Factura copia dificulta la masificación de la FE y  no garantiza la calidad de la información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FE no tiene reglas de validación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No hay legislación que establezca sanciones relacionadas con FE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No existen herramientas para acceder a la información de FE en SAT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La extensión de la obligatoriedad FE sin resolver las debilidades existentes en el modelo, puede complicar aún más la masificación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Haber disponibilidad de infraestructura, bases de datos y servidores en SAT para recibir FE y hacer uso de los datos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untos de Atención en el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534960" indent="-3808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Patrocinio y Prioridad del proyecto por la alta dirección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Establecimiento de un equipo de proyecto con participantes de todas las áreas afectadas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Participantes del equipo de proyecto de FE con dedicación a tiempo completo y que trabajan ubicados en un mismo lugar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Escoger los mejores representantes para el equipo del proyecto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Jefe de Proyecto con el siguiente perfil: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879120" indent="-3805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333399"/>
                </a:solidFill>
                <a:latin typeface="Tahoma"/>
              </a:rPr>
              <a:t>Apasionado por el proyecto</a:t>
            </a:r>
            <a:endParaRPr b="0" lang="en-US" sz="1600" spc="-1" strike="noStrike">
              <a:solidFill>
                <a:srgbClr val="464d80"/>
              </a:solidFill>
              <a:latin typeface="Calibri"/>
            </a:endParaRPr>
          </a:p>
          <a:p>
            <a:pPr lvl="2" marL="879120" indent="-3805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333399"/>
                </a:solidFill>
                <a:latin typeface="Tahoma"/>
              </a:rPr>
              <a:t>Gran capacidad de liderazco</a:t>
            </a:r>
            <a:endParaRPr b="0" lang="en-US" sz="1600" spc="-1" strike="noStrike">
              <a:solidFill>
                <a:srgbClr val="464d80"/>
              </a:solidFill>
              <a:latin typeface="Calibri"/>
            </a:endParaRPr>
          </a:p>
          <a:p>
            <a:pPr lvl="2" marL="879120" indent="-3805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333399"/>
                </a:solidFill>
                <a:latin typeface="Tahoma"/>
              </a:rPr>
              <a:t>Fuerte conocimiento de SAT y de las áreas de negocios</a:t>
            </a:r>
            <a:endParaRPr b="0" lang="en-US" sz="1600" spc="-1" strike="noStrike">
              <a:solidFill>
                <a:srgbClr val="464d80"/>
              </a:solidFill>
              <a:latin typeface="Calibri"/>
            </a:endParaRPr>
          </a:p>
          <a:p>
            <a:pPr lvl="2" marL="879120" indent="-3805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333399"/>
                </a:solidFill>
                <a:latin typeface="Tahoma"/>
              </a:rPr>
              <a:t>Capacidad de comunicación y integración del equipo</a:t>
            </a:r>
            <a:endParaRPr b="0" lang="en-US" sz="1600" spc="-1" strike="noStrike">
              <a:solidFill>
                <a:srgbClr val="464d80"/>
              </a:solidFill>
              <a:latin typeface="Calibri"/>
            </a:endParaRPr>
          </a:p>
          <a:p>
            <a:pPr lvl="2" marL="879120" indent="-3805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333399"/>
                </a:solidFill>
                <a:latin typeface="Tahoma"/>
              </a:rPr>
              <a:t>Algun conocimiento de informática</a:t>
            </a:r>
            <a:endParaRPr b="0" lang="en-US" sz="16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ugerencias Generales para Mejoría del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Diagnóstico, posible revisión y ajustes del modelo antes de la expansión de la obligatoriedad de F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Establecer cronograma de actividades con metas y hacer el seguimiento periódico de los avances del proyecto por la alta dirección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Involucrar a las empresas y GFACEs en el proyecto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Establecer sanciones relacionadas con FE en la legislación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Incorporar, en el modelo de FE, la firma digital del Emisor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ugerencias Generales para Mejoría del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Establecer estrategia para quitar, en corto o mediano plazo, lo modelo de factura copia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Contar con el apoyo de consultores externos especializados en FE para desarrollar el proyecto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En paralelo con el proyecto FE, también desarrollar herramientas para acceder y utilizar la información 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Tener una estrategia de difusión positiva de la imagen del proyecto F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Capacitación del personal de SAT en F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ugerencias Generales para Mejoría del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La Importancia de la Factura Electrónica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Evolución FE en America Latina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Resumen del Modelo de FE de Brasil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Situación Actual de la FE en Brasil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Situación Actual de la FE en Guatemala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Puntos de Atención en el Proyecto de FE en Guatemala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Sugerencias Generales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ropuesta de Equipo de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835200" y="1204920"/>
            <a:ext cx="7941960" cy="5032440"/>
          </a:xfrm>
          <a:prstGeom prst="rect">
            <a:avLst/>
          </a:prstGeom>
          <a:ln w="0">
            <a:noFill/>
          </a:ln>
        </p:spPr>
      </p:pic>
      <p:grpSp>
        <p:nvGrpSpPr>
          <p:cNvPr id="301" name="Grupo 1"/>
          <p:cNvGrpSpPr/>
          <p:nvPr/>
        </p:nvGrpSpPr>
        <p:grpSpPr>
          <a:xfrm>
            <a:off x="835200" y="3532320"/>
            <a:ext cx="6329160" cy="2282760"/>
            <a:chOff x="835200" y="3532320"/>
            <a:chExt cx="6329160" cy="2282760"/>
          </a:xfrm>
        </p:grpSpPr>
        <p:pic>
          <p:nvPicPr>
            <p:cNvPr id="302" name="Picture 3" descr=""/>
            <p:cNvPicPr/>
            <p:nvPr/>
          </p:nvPicPr>
          <p:blipFill>
            <a:blip r:embed="rId2"/>
            <a:stretch/>
          </p:blipFill>
          <p:spPr>
            <a:xfrm>
              <a:off x="4644360" y="358488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3" descr=""/>
            <p:cNvPicPr/>
            <p:nvPr/>
          </p:nvPicPr>
          <p:blipFill>
            <a:blip r:embed="rId3"/>
            <a:stretch/>
          </p:blipFill>
          <p:spPr>
            <a:xfrm>
              <a:off x="3493440" y="353232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" descr=""/>
            <p:cNvPicPr/>
            <p:nvPr/>
          </p:nvPicPr>
          <p:blipFill>
            <a:blip r:embed="rId4"/>
            <a:stretch/>
          </p:blipFill>
          <p:spPr>
            <a:xfrm>
              <a:off x="5928480" y="358488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3" descr=""/>
            <p:cNvPicPr/>
            <p:nvPr/>
          </p:nvPicPr>
          <p:blipFill>
            <a:blip r:embed="rId5"/>
            <a:stretch/>
          </p:blipFill>
          <p:spPr>
            <a:xfrm>
              <a:off x="6936480" y="357228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3" descr=""/>
            <p:cNvPicPr/>
            <p:nvPr/>
          </p:nvPicPr>
          <p:blipFill>
            <a:blip r:embed="rId6"/>
            <a:stretch/>
          </p:blipFill>
          <p:spPr>
            <a:xfrm>
              <a:off x="2124000" y="530100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3" descr=""/>
            <p:cNvPicPr/>
            <p:nvPr/>
          </p:nvPicPr>
          <p:blipFill>
            <a:blip r:embed="rId7"/>
            <a:stretch/>
          </p:blipFill>
          <p:spPr>
            <a:xfrm>
              <a:off x="835200" y="423324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3" descr=""/>
            <p:cNvPicPr/>
            <p:nvPr/>
          </p:nvPicPr>
          <p:blipFill>
            <a:blip r:embed="rId8"/>
            <a:stretch/>
          </p:blipFill>
          <p:spPr>
            <a:xfrm>
              <a:off x="835200" y="480492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3" descr=""/>
            <p:cNvPicPr/>
            <p:nvPr/>
          </p:nvPicPr>
          <p:blipFill>
            <a:blip r:embed="rId9"/>
            <a:stretch/>
          </p:blipFill>
          <p:spPr>
            <a:xfrm>
              <a:off x="5928480" y="530100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3" descr=""/>
            <p:cNvPicPr/>
            <p:nvPr/>
          </p:nvPicPr>
          <p:blipFill>
            <a:blip r:embed="rId10"/>
            <a:stretch/>
          </p:blipFill>
          <p:spPr>
            <a:xfrm>
              <a:off x="3251520" y="5319360"/>
              <a:ext cx="227880" cy="49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1" name="Picture 6" descr=""/>
          <p:cNvPicPr/>
          <p:nvPr/>
        </p:nvPicPr>
        <p:blipFill>
          <a:blip r:embed="rId11"/>
          <a:stretch/>
        </p:blipFill>
        <p:spPr>
          <a:xfrm>
            <a:off x="8244000" y="2637000"/>
            <a:ext cx="357120" cy="507960"/>
          </a:xfrm>
          <a:prstGeom prst="rect">
            <a:avLst/>
          </a:prstGeom>
          <a:ln w="0">
            <a:noFill/>
          </a:ln>
        </p:spPr>
      </p:pic>
      <p:grpSp>
        <p:nvGrpSpPr>
          <p:cNvPr id="312" name="Grupo 5"/>
          <p:cNvGrpSpPr/>
          <p:nvPr/>
        </p:nvGrpSpPr>
        <p:grpSpPr>
          <a:xfrm>
            <a:off x="826920" y="2276640"/>
            <a:ext cx="2111400" cy="1363320"/>
            <a:chOff x="826920" y="2276640"/>
            <a:chExt cx="2111400" cy="1363320"/>
          </a:xfrm>
        </p:grpSpPr>
        <p:grpSp>
          <p:nvGrpSpPr>
            <p:cNvPr id="313" name="Grupo 3"/>
            <p:cNvGrpSpPr/>
            <p:nvPr/>
          </p:nvGrpSpPr>
          <p:grpSpPr>
            <a:xfrm>
              <a:off x="899280" y="2276640"/>
              <a:ext cx="1895760" cy="720000"/>
              <a:chOff x="899280" y="2276640"/>
              <a:chExt cx="1895760" cy="720000"/>
            </a:xfrm>
          </p:grpSpPr>
          <p:pic>
            <p:nvPicPr>
              <p:cNvPr id="314" name="Picture 4" descr=""/>
              <p:cNvPicPr/>
              <p:nvPr/>
            </p:nvPicPr>
            <p:blipFill>
              <a:blip r:embed="rId12"/>
              <a:stretch/>
            </p:blipFill>
            <p:spPr>
              <a:xfrm>
                <a:off x="971280" y="2348280"/>
                <a:ext cx="252360" cy="54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45600" y="2348280"/>
                <a:ext cx="252360" cy="54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4" descr=""/>
              <p:cNvPicPr/>
              <p:nvPr/>
            </p:nvPicPr>
            <p:blipFill>
              <a:blip r:embed="rId14"/>
              <a:stretch/>
            </p:blipFill>
            <p:spPr>
              <a:xfrm>
                <a:off x="1533600" y="2348280"/>
                <a:ext cx="252360" cy="54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Picture 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821960" y="2348280"/>
                <a:ext cx="252360" cy="54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Picture 4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74320" y="2348280"/>
                <a:ext cx="252360" cy="54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Picture 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326680" y="2348280"/>
                <a:ext cx="356760" cy="50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Retângulo 2"/>
              <p:cNvSpPr/>
              <p:nvPr/>
            </p:nvSpPr>
            <p:spPr>
              <a:xfrm>
                <a:off x="899280" y="2276640"/>
                <a:ext cx="1895760" cy="7200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CaixaDeTexto 4"/>
            <p:cNvSpPr/>
            <p:nvPr/>
          </p:nvSpPr>
          <p:spPr>
            <a:xfrm>
              <a:off x="826920" y="2997360"/>
              <a:ext cx="21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Equipo Proyecto 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2" name="Conector de seta reta 15"/>
          <p:cNvCxnSpPr>
            <a:stCxn id="320" idx="3"/>
          </p:cNvCxnSpPr>
          <p:nvPr/>
        </p:nvCxnSpPr>
        <p:spPr>
          <a:xfrm>
            <a:off x="2795400" y="2636640"/>
            <a:ext cx="2353320" cy="1080"/>
          </a:xfrm>
          <a:prstGeom prst="straightConnector1">
            <a:avLst/>
          </a:prstGeom>
          <a:ln w="50760">
            <a:solidFill>
              <a:srgbClr val="1f497d"/>
            </a:solidFill>
            <a:miter/>
            <a:tailEnd len="med" type="arrow" w="med"/>
          </a:ln>
        </p:spPr>
      </p:cxn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ropuesta de Macro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116000" y="1192320"/>
          <a:ext cx="6892920" cy="5261040"/>
        </p:xfrm>
        <a:graphic>
          <a:graphicData uri="http://schemas.openxmlformats.org/drawingml/2006/table">
            <a:tbl>
              <a:tblPr/>
              <a:tblGrid>
                <a:gridCol w="4648320"/>
                <a:gridCol w="224460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Definición Equipo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dí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Revisión del Mode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Aprobación de Legis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– 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Desarrollo de Siste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- 8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Modernización de la Infraestruc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- 18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Obligatoriedad de 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- 12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Capacitación de Empleados 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Difusión FE Publico Ex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Otras Activ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PLAZ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108000" y="4940280"/>
            <a:ext cx="597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Newton 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Líder Nacional Proyecto NFC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Newton.oller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1141560" cy="11671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"/>
          <p:cNvSpPr/>
          <p:nvPr/>
        </p:nvSpPr>
        <p:spPr>
          <a:xfrm>
            <a:off x="1403280" y="6019920"/>
            <a:ext cx="554508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 Black"/>
                <a:ea typeface="MS Gothic"/>
              </a:rPr>
              <a:t> </a:t>
            </a:r>
            <a:r>
              <a:rPr b="0" lang="pt-BR" sz="2400" spc="-1" strike="noStrike">
                <a:solidFill>
                  <a:srgbClr val="1d1d59"/>
                </a:solidFill>
                <a:latin typeface="Arial Black"/>
                <a:ea typeface="MS Gothic"/>
              </a:rPr>
              <a:t>Guatemala – Julio/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5219640" y="4951440"/>
            <a:ext cx="3745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Eudaldo Alme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Coordinador General del EN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Eudaldoaj@yahoo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E:\home\almerindo\Downloads\IMG-20140430-WA0003.jpg"/>
          <p:cNvPicPr/>
          <p:nvPr/>
        </p:nvPicPr>
        <p:blipFill>
          <a:blip r:embed="rId2"/>
          <a:stretch/>
        </p:blipFill>
        <p:spPr>
          <a:xfrm>
            <a:off x="6156360" y="3314880"/>
            <a:ext cx="1584360" cy="15858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"/>
          <p:cNvSpPr/>
          <p:nvPr/>
        </p:nvSpPr>
        <p:spPr>
          <a:xfrm>
            <a:off x="1187280" y="2133720"/>
            <a:ext cx="7777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E" sz="3200" spc="-1" strike="noStrike">
                <a:solidFill>
                  <a:srgbClr val="10253f"/>
                </a:solidFill>
                <a:latin typeface="Arial Black"/>
                <a:ea typeface="MS Gothic"/>
              </a:rPr>
              <a:t>DUDA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E" sz="3200" spc="-1" strike="noStrike">
                <a:solidFill>
                  <a:srgbClr val="10253f"/>
                </a:solidFill>
                <a:latin typeface="Arial Black"/>
                <a:ea typeface="MS Gothic"/>
              </a:rPr>
              <a:t> </a:t>
            </a:r>
            <a:r>
              <a:rPr b="0" lang="es-PE" sz="3200" spc="-1" strike="noStrike">
                <a:solidFill>
                  <a:srgbClr val="10253f"/>
                </a:solidFill>
                <a:latin typeface="Arial Black"/>
                <a:ea typeface="MS Gothic"/>
              </a:rPr>
              <a:t>GRACIAS POR SU A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La administración Tributaria - Antes y Después de la FE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Base Central de Informaciones para los Sistemas Tributarios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Base Central de Informaciones para Decisiones de Gobierno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Aumento de la Productividad y Eficiencia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Reducción de los Costos para Cumplimiento Tributario del Contribuyente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Mayor Capacidad de Control Fiscal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Cambio de la Forma de Trabajo y Perfil del Auditor Fiscal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La Importancia de la Factura Electrónica para la Administración Tribu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eta para a direita 1"/>
          <p:cNvSpPr/>
          <p:nvPr/>
        </p:nvSpPr>
        <p:spPr>
          <a:xfrm>
            <a:off x="1258920" y="5484960"/>
            <a:ext cx="1728720" cy="7920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aixaDeTexto 2"/>
          <p:cNvSpPr/>
          <p:nvPr/>
        </p:nvSpPr>
        <p:spPr>
          <a:xfrm>
            <a:off x="3016440" y="5445000"/>
            <a:ext cx="56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royecto Estratégico y Estructur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 la Administración Tribut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volución FE en Ame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Fig Evolução FE na AL"/>
          <p:cNvPicPr/>
          <p:nvPr/>
        </p:nvPicPr>
        <p:blipFill>
          <a:blip r:embed="rId1"/>
          <a:stretch/>
        </p:blipFill>
        <p:spPr>
          <a:xfrm>
            <a:off x="1338120" y="1268280"/>
            <a:ext cx="56102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volución FE en Ame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Fig Fase Projetos FE AL"/>
          <p:cNvPicPr/>
          <p:nvPr/>
        </p:nvPicPr>
        <p:blipFill>
          <a:blip r:embed="rId1"/>
          <a:stretch/>
        </p:blipFill>
        <p:spPr>
          <a:xfrm>
            <a:off x="1679400" y="1268280"/>
            <a:ext cx="4389480" cy="52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Resumen del Modelo de FE de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879480" y="1341360"/>
            <a:ext cx="7508880" cy="47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Resumen del Modelo de FE de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Fig2"/>
          <p:cNvPicPr/>
          <p:nvPr/>
        </p:nvPicPr>
        <p:blipFill>
          <a:blip r:embed="rId1"/>
          <a:stretch/>
        </p:blipFill>
        <p:spPr>
          <a:xfrm>
            <a:off x="1068480" y="1211400"/>
            <a:ext cx="7454880" cy="49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97240" indent="-425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utorización previa a la circulación de la mercancia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97240" indent="-425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rchivo Electrónico com Firma Digital del Emisor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2" marL="981360" indent="-42480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Garantiza quien es el emisor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981360" indent="-42480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Validez del Archivo Electrónico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597240" indent="-425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Representación Impresa para facilitar la consulta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97240" indent="-425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lave de Aceso para identificación univoca de la F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97240" indent="-425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ódigos de barras unidimensional para facilitar la consulta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97240" indent="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rincipales Característica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la FE en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5000" indent="-416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Más de 400 reglas de validación on line del archivo electrónico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85000" indent="-416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Tiempo de Autorización Promédio de Millisegundos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85000" indent="-416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strategia de implementación: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2" marL="960840" indent="-416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participación de las empresas em el proyecto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960840" indent="-416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fases: proyecto piloto, voluntariedad y obligatoriedad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960840" indent="-416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Obligatoriedad por sectores economicos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960840" indent="-416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Plazo minimo de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8 meses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para la obligatoriedad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960840" indent="-416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Masificación tardó 5 años 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rincipales Característica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la FE en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7:41:00Z</dcterms:created>
  <dc:creator>RaulZambrano</dc:creator>
  <dc:description/>
  <dc:language>en-US</dc:language>
  <cp:lastModifiedBy>Newton Oller de Mello</cp:lastModifiedBy>
  <dcterms:modified xsi:type="dcterms:W3CDTF">2014-07-04T14:10:11Z</dcterms:modified>
  <cp:revision>257</cp:revision>
  <dc:subject/>
  <dc:title>Facturación Electrónica</dc:title>
</cp:coreProperties>
</file>