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A4BC-0C2F-4B77-A6E0-BE2976A4D42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G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1801-0398-4308-8FF7-98B47016B165}" type="slidenum">
              <a:rPr b="0" lang="es-G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639A-8C40-40BF-A199-C9B46BB7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18E7-B4CC-49E4-BE8A-7F81CCA2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9422-A9C5-4B33-80B0-FA098EDE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EE5A-6154-4606-A1A7-FDC59146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79B-33E2-4CFC-AEA0-6CFDFF69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8D93-7D6B-4663-918D-2D41D18E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C3F5-4AD5-4786-A776-1DDEC20A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702C-6969-446C-B908-20F6BD70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8D37-B60D-4698-8B3F-8B39C3D8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CDB9-46A1-44A8-967C-B8C3F694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FD09-ECB6-4A4A-BB9E-E7422582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1CF4-D9D3-4C69-B7F6-1CECC6E6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7106-D87B-432A-A6DD-47FCB6DB551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G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2 Imagen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0" name="2 Subtítulo"/>
          <p:cNvSpPr/>
          <p:nvPr/>
        </p:nvSpPr>
        <p:spPr>
          <a:xfrm>
            <a:off x="755640" y="4221000"/>
            <a:ext cx="7358040" cy="16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200" spc="-1" strike="noStrike">
                <a:solidFill>
                  <a:srgbClr val="1f497d"/>
                </a:solidFill>
                <a:latin typeface="Arial"/>
              </a:rPr>
              <a:t>MINISTERIO DE DESARROLLO SOCI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1f497d"/>
                </a:solidFill>
                <a:latin typeface="Arial"/>
              </a:rPr>
              <a:t>Gobierno de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CuadroTexto"/>
          <p:cNvSpPr/>
          <p:nvPr/>
        </p:nvSpPr>
        <p:spPr>
          <a:xfrm>
            <a:off x="714240" y="357120"/>
            <a:ext cx="8143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a Visión Estratégica de la Protección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 concepto de Socie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 Concepto de Es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 Concepto de Gobi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CuadroTexto"/>
          <p:cNvSpPr/>
          <p:nvPr/>
        </p:nvSpPr>
        <p:spPr>
          <a:xfrm>
            <a:off x="214200" y="500040"/>
            <a:ext cx="8715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strategia de Gob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Agenda d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ctos de Gob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1 Resultados Estratégicos de Gob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mplementación de la Gestión Por Resultados (Con enfoque en la Ciudadan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) Ministerio de Desarrollo Social, como Ente Rector de la Política Social de Gob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1 CuadroTexto"/>
          <p:cNvSpPr/>
          <p:nvPr/>
        </p:nvSpPr>
        <p:spPr>
          <a:xfrm>
            <a:off x="0" y="642960"/>
            <a:ext cx="900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ogramas Sociales del Ministerio de Desarrollo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Calibri"/>
              </a:rPr>
              <a:t>1) Generando capacidades human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2) La reducción de la vulnerabilidad (hogares con ingresos baj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Calibri"/>
              </a:rPr>
              <a:t>3) La concurrencia de tres requisitos básic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GT" sz="2400" spc="-1" strike="noStrike">
                <a:solidFill>
                  <a:srgbClr val="000000"/>
                </a:solidFill>
                <a:latin typeface="Calibri"/>
              </a:rPr>
              <a:t>a) Mejorar la oferta de 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GT" sz="2400" spc="-1" strike="noStrike">
                <a:solidFill>
                  <a:srgbClr val="000000"/>
                </a:solidFill>
                <a:latin typeface="Calibri"/>
              </a:rPr>
              <a:t>b) Coordinación interinstitucion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GT" sz="2400" spc="-1" strike="noStrike">
                <a:solidFill>
                  <a:srgbClr val="000000"/>
                </a:solidFill>
                <a:latin typeface="Calibri"/>
              </a:rPr>
              <a:t>c) La articulación de las políticas so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CuadroTexto"/>
          <p:cNvSpPr/>
          <p:nvPr/>
        </p:nvSpPr>
        <p:spPr>
          <a:xfrm>
            <a:off x="214200" y="1000080"/>
            <a:ext cx="8715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implementación de los programas sociales se fundamenta 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) El enfoque de derech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) En el principio de inclusión con equidad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 género y étnico cultu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3T17:21:50Z</dcterms:created>
  <dc:creator>Elmer Alvarado</dc:creator>
  <dc:description/>
  <dc:language>en-US</dc:language>
  <cp:lastModifiedBy>lcaxaj</cp:lastModifiedBy>
  <dcterms:modified xsi:type="dcterms:W3CDTF">2014-03-24T14:21:36Z</dcterms:modified>
  <cp:revision>7</cp:revision>
  <dc:subject/>
  <dc:title>Diapositiva 1</dc:title>
</cp:coreProperties>
</file>