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bde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eaebde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B6AA1-8265-43C3-99D1-2248F835E8D4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7898F-1554-4756-84FA-9F66AD300A66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E5A0-56BA-43E3-B36A-55AFA09A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84A-62AD-4238-9365-AF3D2092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5F8EC-48E0-492B-AE74-21F09573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FD639-F47C-41B4-B070-60924371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34B4D-E34B-487A-80B8-B787CC52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D2DC9-4B98-4046-878C-06982D9B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BF40C-1263-412F-BE34-B33A384D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0724B-5701-4DF2-AEFA-3FDEE009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280FC-955E-4CC1-98E8-8F1B93EB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1A984-05A3-4CC5-B2E1-E99C184C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27A5B-8EA9-45EB-B92F-6C954DF7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1C64-A32D-4038-9A9C-C835C7F4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0D7E-771A-4069-A395-333CF04D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A831-66EB-468E-B531-DFD6136C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37DD-777F-427B-A43C-63A29B73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BBBE-C8CE-40D7-8654-2809B918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8EE9-7D3C-4E46-8785-7FE0B56C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90D4-D8BD-4227-A3BF-90EE4717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524E-85DB-4242-A6C6-1B502000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9222-35EC-48D1-AD69-7DFEE0DE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46F7-0BEA-4625-AA48-77832657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BB7E-FEBF-4B66-B206-5613DA69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7178-C1D9-4EA7-BF7D-D7DE76FB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02FE-5C04-46B7-B74B-400D8AA6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94DA-DF17-4F1A-A295-EADC2D19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080C-B394-4E02-83BB-73A4C744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67E94-41D6-4930-8CCC-9D6857A8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BA8FE-E31D-4B68-B2A5-6E96AF32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FA2E1-DCD4-4122-BF08-BFDE0533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6126B-F707-4FC0-83A7-618ECF9B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4474E-4BC8-4B05-85F7-F4FBB89E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6BD8-096D-48A5-A106-B19CE39A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EE01A-C86F-46AD-BD9B-8BD2F4F6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1EFCE-6DE8-4AA9-88EB-9D4A6EA8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B6213-A354-465C-8BD4-CE2A4A5D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6E597-5AA7-4E82-8466-6139D792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188BD-3776-4F3A-9430-DFCA4402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F4E28-C5D2-4FF7-805F-22B7AA7C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64DD5-4D66-49B4-82F7-1F5305AE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007FB-4527-4222-8AF7-5D6F49B3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3887E-3417-4BE1-8954-6E6DF3C4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6910B-2AAE-4494-94F8-1C7C424C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9D51-FB90-4F3A-B865-D887B66C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9C549-4719-4FCE-B323-0BA9A4AB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16E6E-2025-4246-A8FE-1FE9184F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0EA7B-E3E0-4F6A-A36A-F931ACF6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581B8-19C6-46A6-8597-C39A4A5F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1B931-CCFB-4AEA-9C6D-72B5F735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B3117-F644-4C44-BC04-9BAE95D7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C8930-19AE-4078-A5CB-DD789F2D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5B346-AEDF-4A54-972E-9AB29A22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8B485-CD6E-405F-9F20-2F369C77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296A9-8156-4DD8-9F56-D9245F55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721D-726B-49DF-9C33-A6AA5107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7733C-80EA-4E10-B0D0-50718B9E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7C4B6-70B1-4D4F-B5FF-D7337109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F405A-5915-447D-8FBA-C0E4177C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D0BA5-FF08-4FC0-852E-161571D4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6C32F-B726-4FA3-99F1-A615ED4A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D4F42-CB9B-4995-92FD-3ACDBB34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09B81-F835-4446-8356-290029E1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2A6AF-7B9E-4DDD-80D0-B0DE552C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5EA17-624B-4BE4-9077-E61A1EAE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0110E-B6FF-4D08-8652-710F5DAC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F3AC-DDB4-46B8-9335-D202C385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B999E-061F-4E85-9A33-59DCBA74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F4F7B-0112-4C9E-9C45-39FB2F4C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E8B9C-CDD8-4527-8E00-BAD8B811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ACC92-0D24-43E2-973A-B87B8794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F2A5D-C498-40D7-909B-62556633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D392B-B973-4BF4-9E47-161DCA05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E499A-2975-42E0-8501-9396442B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CBE11-06F1-47DE-84C0-A641E509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4F24C-DCC1-4F2F-A422-890DC815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22CFE-7EA2-4286-BB65-F2A7EC46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2DD7-4F69-4525-8579-C9D200B6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71960-EE90-4C02-9DBE-521D6C11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888F1-FBD9-4AA0-BC4E-A750291E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CED6D-869A-47B6-9DE2-3C06DC50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AA658-33BA-4397-A5AD-DD5BF475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93D13-CF02-42BA-ADFA-CCB9C784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70361-A13D-4CCA-8AA9-D6642E95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C65FE-6BE4-4C82-A411-17BBC342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738F3-6D3F-4E20-8686-F3185208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DD93C-DCF1-4D75-9813-F08AD29D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F83F1-0531-4BC7-8AC7-5104ECE2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971-2C9C-405E-9DFD-3B01DF4C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974CC-E60C-4B5F-A97B-2C6FB628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20DD1-DE88-4059-89F1-026AEBC0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E7934-8DBD-4F8C-8E86-784B6783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4F849-E4FF-4224-8406-7F216046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24768-17CB-4575-99D3-E7634FD7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5A46F-C025-4386-A605-988C41AD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6C986-0129-4844-86DA-9D235804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3971E-E5B1-493A-ABDF-4F2FE747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8E6CB-5E6F-4EDB-B841-08C01FFF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39A97-5296-4AB4-AD4E-C6B3BCAF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346D-649C-4544-BD6B-074E94A1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8676E-4AAC-4AFC-9C9C-C0EF8D57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6F0B1-9BE1-416C-8B1B-23E93FBA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FBCD8-2D86-477B-8E03-E5D25772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B93A3-9587-4922-B374-DA3E766E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C99DE-71EC-48F5-BD69-95451EEE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0AB75-2F42-47BE-B868-3361DD06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26E21-4041-4335-AB85-5A9802FF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D2CC3-5266-46F3-B967-B89B5EC3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DA120-1101-4356-AB77-82EAD6CE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7BB24-225E-4470-8CF8-11B010B5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a37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2F91-323A-44ED-9565-243865351A17}" type="slidenum"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grpSp>
        <p:nvGrpSpPr>
          <p:cNvPr id="8" name="8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11 Conector recto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12 Conector recto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a37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BBD7-2B17-4A03-B19B-54B3E8C50B70}" type="slidenum"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6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8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11 Conector recto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a37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2184-AE83-4547-912E-3424F50C1BCB}" type="slidenum"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12 Conector recto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eaebde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eaebde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eaebde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eaebde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a37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eaebde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eaebde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eaebde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bde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eaebde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A443-20E5-4397-B95C-CFEA9BBC24AE}" type="slidenum"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12 Conector recto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a37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A483-ADFB-46AA-95DE-C1D83B682C11}" type="slidenum"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a37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85FD-AB3C-4C40-8679-11F294BF76A0}" type="slidenum"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12 Conector recto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a37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011D-05BF-49FA-8B9B-DEB51A14D22E}" type="slidenum"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a37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071D-4A68-40A7-A841-B1063F6608BA}" type="slidenum"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a37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9E9E-091C-41AD-9AE1-C050DD565423}" type="slidenum"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4"/>
          <p:cNvSpPr/>
          <p:nvPr/>
        </p:nvSpPr>
        <p:spPr>
          <a:xfrm>
            <a:off x="5940360" y="465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aebde"/>
                </a:solidFill>
                <a:latin typeface="Arial"/>
                <a:ea typeface="Arial"/>
              </a:rPr>
              <a:t>Lic. Daniel Arro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2 Título" descr=""/>
          <p:cNvPicPr/>
          <p:nvPr/>
        </p:nvPicPr>
        <p:blipFill>
          <a:blip r:embed="rId1"/>
          <a:stretch/>
        </p:blipFill>
        <p:spPr>
          <a:xfrm>
            <a:off x="182520" y="2871720"/>
            <a:ext cx="8948880" cy="135900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cecfc3"/>
                </a:solidFill>
                <a:latin typeface="Franklin Gothic Book"/>
              </a:rPr>
              <a:t>Seminario III ciclo MIDES  - GUATEMALA</a:t>
            </a:r>
            <a:endParaRPr b="0" lang="en-US" sz="2800" spc="-1" strike="noStrike">
              <a:solidFill>
                <a:srgbClr val="eaebd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76a55"/>
                </a:solidFill>
                <a:latin typeface="Franklin Gothic Book"/>
              </a:rPr>
              <a:t>            </a:t>
            </a:r>
            <a:r>
              <a:rPr b="0" lang="es-AR" sz="2800" spc="-1" strike="noStrike">
                <a:solidFill>
                  <a:srgbClr val="676a55"/>
                </a:solidFill>
                <a:latin typeface="Franklin Gothic Book"/>
              </a:rPr>
              <a:t>Eje sectorial                        Tipo de Programa</a:t>
            </a:r>
            <a:endParaRPr b="0" lang="en-US" sz="2800" spc="-1" strike="noStrike">
              <a:solidFill>
                <a:srgbClr val="676a55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52" name="Line 5"/>
          <p:cNvSpPr/>
          <p:nvPr/>
        </p:nvSpPr>
        <p:spPr>
          <a:xfrm>
            <a:off x="900000" y="2492280"/>
            <a:ext cx="741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966600" y="3213000"/>
            <a:ext cx="2408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Prote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de las famil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4425120" y="3141720"/>
            <a:ext cx="48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Asistencia</a:t>
            </a: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directa a las famil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1547640" y="3933720"/>
            <a:ext cx="3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0"/>
          <p:cNvSpPr/>
          <p:nvPr/>
        </p:nvSpPr>
        <p:spPr>
          <a:xfrm>
            <a:off x="4716360" y="4005360"/>
            <a:ext cx="42483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676a55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Sistema de prot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de los derechos de niñ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y adolesc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1476360" y="333360"/>
            <a:ext cx="698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PROTECCIÓN DE LAS FAMIL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25092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76a55"/>
                </a:solidFill>
                <a:latin typeface="Franklin Gothic Book"/>
              </a:rPr>
              <a:t>          </a:t>
            </a:r>
            <a:r>
              <a:rPr b="0" lang="es-AR" sz="2800" spc="-1" strike="noStrike">
                <a:solidFill>
                  <a:srgbClr val="676a55"/>
                </a:solidFill>
                <a:latin typeface="Franklin Gothic Book"/>
              </a:rPr>
              <a:t>Eje sectorial                        Tipo de Programa</a:t>
            </a:r>
            <a:endParaRPr b="0" lang="en-US" sz="28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59" name="Line 5"/>
          <p:cNvSpPr/>
          <p:nvPr/>
        </p:nvSpPr>
        <p:spPr>
          <a:xfrm>
            <a:off x="1116000" y="2565360"/>
            <a:ext cx="68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1332000" y="306864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Inclusión laboral y Economí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4683600" y="3165480"/>
            <a:ext cx="32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Capacitación</a:t>
            </a: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labo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4816080" y="3860640"/>
            <a:ext cx="21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Autoempl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4806000" y="4581360"/>
            <a:ext cx="22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Micro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3"/>
          <p:cNvSpPr/>
          <p:nvPr/>
        </p:nvSpPr>
        <p:spPr>
          <a:xfrm>
            <a:off x="4709520" y="5445000"/>
            <a:ext cx="37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Cooperativas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1"/>
          <p:cNvSpPr/>
          <p:nvPr/>
        </p:nvSpPr>
        <p:spPr>
          <a:xfrm>
            <a:off x="900000" y="404640"/>
            <a:ext cx="755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INCLUSIÓN LABORAL Y ECONOMIA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25092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76a55"/>
                </a:solidFill>
                <a:latin typeface="Franklin Gothic Book"/>
              </a:rPr>
              <a:t>         </a:t>
            </a:r>
            <a:r>
              <a:rPr b="0" lang="es-AR" sz="2800" spc="-1" strike="noStrike">
                <a:solidFill>
                  <a:srgbClr val="676a55"/>
                </a:solidFill>
                <a:latin typeface="Franklin Gothic Book"/>
              </a:rPr>
              <a:t>Eje sectorial                        Tipo de Programa</a:t>
            </a:r>
            <a:r>
              <a:rPr b="0" lang="es-AR" sz="3200" spc="-1" strike="noStrike">
                <a:solidFill>
                  <a:srgbClr val="676a55"/>
                </a:solidFill>
                <a:latin typeface="Franklin Gothic Book"/>
              </a:rPr>
              <a:t>        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67" name="Line 5"/>
          <p:cNvSpPr/>
          <p:nvPr/>
        </p:nvSpPr>
        <p:spPr>
          <a:xfrm>
            <a:off x="900000" y="256536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1200600" y="3141720"/>
            <a:ext cx="194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Progra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foca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4044240" y="309420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676a5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Adultos may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4155480" y="3908520"/>
            <a:ext cx="22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676a5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Discapa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4097880" y="4843440"/>
            <a:ext cx="32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676a5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Violencia de gé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2484360" y="404640"/>
            <a:ext cx="4751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PROGRAMAS FOCALIZ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45720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76a55"/>
                </a:solidFill>
                <a:latin typeface="Franklin Gothic Book"/>
              </a:rPr>
              <a:t>         </a:t>
            </a:r>
            <a:r>
              <a:rPr b="0" lang="es-AR" sz="2800" spc="-1" strike="noStrike">
                <a:solidFill>
                  <a:srgbClr val="676a55"/>
                </a:solidFill>
                <a:latin typeface="Franklin Gothic Book"/>
              </a:rPr>
              <a:t>Eje sectorial                        Tipo de Programa</a:t>
            </a:r>
            <a:r>
              <a:rPr b="0" lang="es-AR" sz="3200" spc="-1" strike="noStrike">
                <a:solidFill>
                  <a:srgbClr val="676a55"/>
                </a:solidFill>
                <a:latin typeface="Franklin Gothic Book"/>
              </a:rPr>
              <a:t>        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1042920" y="2492280"/>
            <a:ext cx="720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1187280" y="2708280"/>
            <a:ext cx="266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Transferencia          de Ingresos condicio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4932360" y="278136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Asignación Universal por hi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5003640" y="371628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Co-responsabilidad en salud y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5003640" y="4941720"/>
            <a:ext cx="27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5003640" y="479736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Acompañamiento           a las famil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1"/>
          <p:cNvSpPr/>
          <p:nvPr/>
        </p:nvSpPr>
        <p:spPr>
          <a:xfrm>
            <a:off x="611280" y="260280"/>
            <a:ext cx="83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TRANSFERENCIA DE INGRESOS CONDICION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676a55"/>
                </a:solidFill>
                <a:latin typeface="Franklin Gothic Medium"/>
              </a:rPr>
              <a:t>Responsabilidad Social Empresaria</a:t>
            </a: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53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76a55"/>
                </a:solidFill>
                <a:latin typeface="Constantia"/>
              </a:rPr>
              <a:t>Primera etapa</a:t>
            </a:r>
            <a:endParaRPr b="0" lang="en-US" sz="28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3132000" y="2060640"/>
            <a:ext cx="1800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76a55"/>
                </a:solidFill>
                <a:latin typeface="Constantia"/>
                <a:ea typeface="Arial"/>
              </a:rPr>
              <a:t>Segunda et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5940360" y="2060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76a55"/>
                </a:solidFill>
                <a:latin typeface="Constantia"/>
                <a:ea typeface="Arial"/>
              </a:rPr>
              <a:t>Tercera et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6"/>
          <p:cNvSpPr/>
          <p:nvPr/>
        </p:nvSpPr>
        <p:spPr>
          <a:xfrm>
            <a:off x="611280" y="3284640"/>
            <a:ext cx="1296720" cy="360360"/>
          </a:xfrm>
          <a:prstGeom prst="rightArrow">
            <a:avLst>
              <a:gd name="adj1" fmla="val 50000"/>
              <a:gd name="adj2" fmla="val 89960"/>
            </a:avLst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7"/>
          <p:cNvSpPr/>
          <p:nvPr/>
        </p:nvSpPr>
        <p:spPr>
          <a:xfrm>
            <a:off x="3492360" y="3284640"/>
            <a:ext cx="1297080" cy="360360"/>
          </a:xfrm>
          <a:prstGeom prst="rightArrow">
            <a:avLst>
              <a:gd name="adj1" fmla="val 50000"/>
              <a:gd name="adj2" fmla="val 89985"/>
            </a:avLst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8"/>
          <p:cNvSpPr/>
          <p:nvPr/>
        </p:nvSpPr>
        <p:spPr>
          <a:xfrm>
            <a:off x="6516720" y="3284640"/>
            <a:ext cx="1297080" cy="360360"/>
          </a:xfrm>
          <a:prstGeom prst="rightArrow">
            <a:avLst>
              <a:gd name="adj1" fmla="val 50000"/>
              <a:gd name="adj2" fmla="val 89985"/>
            </a:avLst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250920" y="4221000"/>
            <a:ext cx="2016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676a55"/>
                </a:solidFill>
                <a:latin typeface="Constantia"/>
                <a:ea typeface="Arial"/>
              </a:rPr>
              <a:t>Acciones de bajo imp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3132000" y="4221000"/>
            <a:ext cx="20163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676a55"/>
                </a:solidFill>
                <a:latin typeface="Constantia"/>
                <a:ea typeface="Arial"/>
              </a:rPr>
              <a:t>Programas            de asis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2"/>
          <p:cNvSpPr/>
          <p:nvPr/>
        </p:nvSpPr>
        <p:spPr>
          <a:xfrm>
            <a:off x="6084720" y="4165560"/>
            <a:ext cx="2737080" cy="202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Constantia"/>
                <a:ea typeface="Arial"/>
              </a:rPr>
              <a:t>Programas educ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Constantia"/>
                <a:ea typeface="Arial"/>
              </a:rPr>
              <a:t>Capacitación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Constantia"/>
                <a:ea typeface="Arial"/>
              </a:rPr>
              <a:t>Apoyo  a emprendimientos produ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1 Título" descr=""/>
          <p:cNvPicPr/>
          <p:nvPr/>
        </p:nvPicPr>
        <p:blipFill>
          <a:blip r:embed="rId1"/>
          <a:stretch/>
        </p:blipFill>
        <p:spPr>
          <a:xfrm>
            <a:off x="469800" y="401760"/>
            <a:ext cx="8229600" cy="10126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72a37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676a55"/>
                </a:solidFill>
                <a:latin typeface="Franklin Gothic Book"/>
              </a:rPr>
              <a:t>Políticas sociales de segunda generación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72a37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676a55"/>
                </a:solidFill>
                <a:latin typeface="Franklin Gothic Book"/>
              </a:rPr>
              <a:t>Masividad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72a37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676a55"/>
                </a:solidFill>
                <a:latin typeface="Franklin Gothic Book"/>
              </a:rPr>
              <a:t>Cambio de paradigma / Enfoque de derechos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72a37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676a55"/>
                </a:solidFill>
                <a:latin typeface="Franklin Gothic Book"/>
              </a:rPr>
              <a:t>Articulación público-privada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72a37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4 CuadroTexto"/>
          <p:cNvSpPr/>
          <p:nvPr/>
        </p:nvSpPr>
        <p:spPr>
          <a:xfrm>
            <a:off x="611280" y="836640"/>
            <a:ext cx="828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PRINCIPALES PROBLEMAS SO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2 CuadroTexto"/>
          <p:cNvSpPr/>
          <p:nvPr/>
        </p:nvSpPr>
        <p:spPr>
          <a:xfrm>
            <a:off x="826920" y="1916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1. Pobreza estruc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3 CuadroTexto"/>
          <p:cNvSpPr/>
          <p:nvPr/>
        </p:nvSpPr>
        <p:spPr>
          <a:xfrm>
            <a:off x="900000" y="2565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2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Informalidad 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4 CuadroTexto"/>
          <p:cNvSpPr/>
          <p:nvPr/>
        </p:nvSpPr>
        <p:spPr>
          <a:xfrm>
            <a:off x="826920" y="3284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3. Desigual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5 CuadroTexto"/>
          <p:cNvSpPr/>
          <p:nvPr/>
        </p:nvSpPr>
        <p:spPr>
          <a:xfrm>
            <a:off x="684360" y="393372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  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4. Jóvenes de 16 a 24 años que ni estudian ni traba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6 CuadroTexto"/>
          <p:cNvSpPr/>
          <p:nvPr/>
        </p:nvSpPr>
        <p:spPr>
          <a:xfrm>
            <a:off x="826920" y="4724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5.  Violencia en el ho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4 CuadroTexto"/>
          <p:cNvSpPr/>
          <p:nvPr/>
        </p:nvSpPr>
        <p:spPr>
          <a:xfrm>
            <a:off x="611280" y="836640"/>
            <a:ext cx="828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PRINCIPALES PROBLEMAS SO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2 CuadroTexto"/>
          <p:cNvSpPr/>
          <p:nvPr/>
        </p:nvSpPr>
        <p:spPr>
          <a:xfrm>
            <a:off x="900000" y="1916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6. Hacinamiento / Adicciones / Endeud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3 CuadroTexto"/>
          <p:cNvSpPr/>
          <p:nvPr/>
        </p:nvSpPr>
        <p:spPr>
          <a:xfrm>
            <a:off x="900000" y="2565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7. Acceso a la tierra / Viv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4 CuadroTexto"/>
          <p:cNvSpPr/>
          <p:nvPr/>
        </p:nvSpPr>
        <p:spPr>
          <a:xfrm>
            <a:off x="826920" y="3284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8. Escuela secund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5 CuadroTexto"/>
          <p:cNvSpPr/>
          <p:nvPr/>
        </p:nvSpPr>
        <p:spPr>
          <a:xfrm>
            <a:off x="684360" y="393372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  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9. Atención primaria de la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6 CuadroTexto"/>
          <p:cNvSpPr/>
          <p:nvPr/>
        </p:nvSpPr>
        <p:spPr>
          <a:xfrm>
            <a:off x="826920" y="4724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10. Organización de la sociedad c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1547640" y="2852640"/>
          <a:ext cx="5977080" cy="533520"/>
        </p:xfrm>
        <a:graphic>
          <a:graphicData uri="http://schemas.openxmlformats.org/drawingml/2006/table">
            <a:tbl>
              <a:tblPr/>
              <a:tblGrid>
                <a:gridCol w="5977080"/>
              </a:tblGrid>
              <a:tr h="533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LASE 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c09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1547640" y="2205000"/>
          <a:ext cx="5977080" cy="507960"/>
        </p:xfrm>
        <a:graphic>
          <a:graphicData uri="http://schemas.openxmlformats.org/drawingml/2006/table">
            <a:tbl>
              <a:tblPr/>
              <a:tblGrid>
                <a:gridCol w="5977080"/>
              </a:tblGrid>
              <a:tr h="50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LASE A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ccb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1547640" y="3573360"/>
          <a:ext cx="5977080" cy="470160"/>
        </p:xfrm>
        <a:graphic>
          <a:graphicData uri="http://schemas.openxmlformats.org/drawingml/2006/table">
            <a:tbl>
              <a:tblPr/>
              <a:tblGrid>
                <a:gridCol w="5977080"/>
              </a:tblGrid>
              <a:tr h="470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ECTORES VULN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de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1547640" y="4221000"/>
          <a:ext cx="5986800" cy="522360"/>
        </p:xfrm>
        <a:graphic>
          <a:graphicData uri="http://schemas.openxmlformats.org/drawingml/2006/table">
            <a:tbl>
              <a:tblPr/>
              <a:tblGrid>
                <a:gridCol w="5986800"/>
              </a:tblGrid>
              <a:tr h="52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OBRES ESTRUC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5ef"/>
                    </a:solidFill>
                  </a:tcPr>
                </a:tc>
              </a:tr>
            </a:tbl>
          </a:graphicData>
        </a:graphic>
      </p:graphicFrame>
      <p:sp>
        <p:nvSpPr>
          <p:cNvPr id="425" name="7 CuadroTexto"/>
          <p:cNvSpPr/>
          <p:nvPr/>
        </p:nvSpPr>
        <p:spPr>
          <a:xfrm>
            <a:off x="1476360" y="981000"/>
            <a:ext cx="604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ESTRUCTURA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4 CuadroTexto"/>
          <p:cNvSpPr/>
          <p:nvPr/>
        </p:nvSpPr>
        <p:spPr>
          <a:xfrm>
            <a:off x="395280" y="907920"/>
            <a:ext cx="828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FORMAS DE ORGANIZACIÓN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1042920" y="1628640"/>
          <a:ext cx="3384720" cy="417060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err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59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rganizaciones de 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ntidades intermed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rganizaciones de apoy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4427640" y="1628640"/>
          <a:ext cx="3384360" cy="417672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60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em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5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vimientos “flash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vimientos reivindicativos 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erech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 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vimientos de calidad de v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971640" y="1413000"/>
          <a:ext cx="3456000" cy="50472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ivel Terr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c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4427640" y="1413000"/>
          <a:ext cx="3456000" cy="50472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ivel tem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c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987480" y="1916280"/>
          <a:ext cx="3441600" cy="3423960"/>
        </p:xfrm>
        <a:graphic>
          <a:graphicData uri="http://schemas.openxmlformats.org/drawingml/2006/table">
            <a:tbl>
              <a:tblPr/>
              <a:tblGrid>
                <a:gridCol w="3441600"/>
              </a:tblGrid>
              <a:tr h="3423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rganización de 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ntidades Intermed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rganizaciones de Apoy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c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4427640" y="1916280"/>
          <a:ext cx="3456000" cy="342396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3423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vimientos “flash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vimientos reivindicativos de derech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vimientos de calidad de v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c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987480" y="5300640"/>
          <a:ext cx="6908760" cy="1100160"/>
        </p:xfrm>
        <a:graphic>
          <a:graphicData uri="http://schemas.openxmlformats.org/drawingml/2006/table">
            <a:tbl>
              <a:tblPr/>
              <a:tblGrid>
                <a:gridCol w="6908760"/>
              </a:tblGrid>
              <a:tr h="1100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vimientos de desocup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indica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-Religios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c8"/>
                    </a:solidFill>
                  </a:tcPr>
                </a:tc>
              </a:tr>
            </a:tbl>
          </a:graphicData>
        </a:graphic>
      </p:graphicFrame>
      <p:sp>
        <p:nvSpPr>
          <p:cNvPr id="434" name="4 CuadroTexto"/>
          <p:cNvSpPr/>
          <p:nvPr/>
        </p:nvSpPr>
        <p:spPr>
          <a:xfrm>
            <a:off x="395280" y="620640"/>
            <a:ext cx="828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FORMAS DE ORGANIZACIÓN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4 CuadroTexto"/>
          <p:cNvSpPr/>
          <p:nvPr/>
        </p:nvSpPr>
        <p:spPr>
          <a:xfrm>
            <a:off x="611280" y="836640"/>
            <a:ext cx="828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PRINCIPALES CONCEP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2 CuadroTexto"/>
          <p:cNvSpPr/>
          <p:nvPr/>
        </p:nvSpPr>
        <p:spPr>
          <a:xfrm>
            <a:off x="826920" y="1916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1. ASISTENCIA / PROMO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3 CuadroTexto"/>
          <p:cNvSpPr/>
          <p:nvPr/>
        </p:nvSpPr>
        <p:spPr>
          <a:xfrm>
            <a:off x="900000" y="2565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2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DESARROLLO SO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4 CuadroTexto"/>
          <p:cNvSpPr/>
          <p:nvPr/>
        </p:nvSpPr>
        <p:spPr>
          <a:xfrm>
            <a:off x="826920" y="328464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3. POLÍTICA UNIVERSAL / POLÍTICA FOC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5 CuadroTexto"/>
          <p:cNvSpPr/>
          <p:nvPr/>
        </p:nvSpPr>
        <p:spPr>
          <a:xfrm>
            <a:off x="684360" y="393372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  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4. SISTEMA DE PROTEC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6 CuadroTexto"/>
          <p:cNvSpPr/>
          <p:nvPr/>
        </p:nvSpPr>
        <p:spPr>
          <a:xfrm>
            <a:off x="826920" y="4724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5.  ENFOQUE DE DERECHOS EN POLÍTICA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179280" y="2060640"/>
          <a:ext cx="8748720" cy="1944720"/>
        </p:xfrm>
        <a:graphic>
          <a:graphicData uri="http://schemas.openxmlformats.org/drawingml/2006/table">
            <a:tbl>
              <a:tblPr/>
              <a:tblGrid>
                <a:gridCol w="1871640"/>
                <a:gridCol w="1576440"/>
                <a:gridCol w="1722600"/>
                <a:gridCol w="1724040"/>
                <a:gridCol w="1854000"/>
              </a:tblGrid>
              <a:tr h="21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limentación y Nutri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tección de las Famili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clusión laboral 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onomía Soci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gramas focalizad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ransferencia de Ingresos condiciona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18"/>
          <p:cNvSpPr/>
          <p:nvPr/>
        </p:nvSpPr>
        <p:spPr>
          <a:xfrm>
            <a:off x="971640" y="404640"/>
            <a:ext cx="720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TIPOS DE POLÍTICAS SO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76a55"/>
                </a:solidFill>
                <a:latin typeface="Franklin Gothic Book"/>
              </a:rPr>
              <a:t>        </a:t>
            </a:r>
            <a:r>
              <a:rPr b="0" lang="es-AR" sz="2800" spc="-1" strike="noStrike">
                <a:solidFill>
                  <a:srgbClr val="676a55"/>
                </a:solidFill>
                <a:latin typeface="Franklin Gothic Book"/>
              </a:rPr>
              <a:t>Eje sectorial                        Tipo de Programa</a:t>
            </a:r>
            <a:endParaRPr b="0" lang="en-US" sz="28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44" name="Line 5"/>
          <p:cNvSpPr/>
          <p:nvPr/>
        </p:nvSpPr>
        <p:spPr>
          <a:xfrm>
            <a:off x="826920" y="2492280"/>
            <a:ext cx="777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772200" y="3068640"/>
            <a:ext cx="2343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Aliment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y nutr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4444560" y="3094200"/>
            <a:ext cx="34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676a5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Asistencia</a:t>
            </a: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aliment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4516200" y="3860640"/>
            <a:ext cx="25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676a5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Tarjetas/ti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4419000" y="4581360"/>
            <a:ext cx="44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676a5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Autoproducción</a:t>
            </a: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de alim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4572000" y="5373720"/>
            <a:ext cx="4321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676a5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Comedores comunitarios              y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esco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826920" y="333360"/>
            <a:ext cx="756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ALIMENTACIÓN Y NUTRI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7:05:18Z</dcterms:created>
  <dc:creator>User</dc:creator>
  <dc:description/>
  <dc:language>en-US</dc:language>
  <cp:lastModifiedBy>Usuario</cp:lastModifiedBy>
  <dcterms:modified xsi:type="dcterms:W3CDTF">2014-03-22T20:25:46Z</dcterms:modified>
  <cp:revision>136</cp:revision>
  <dc:subject/>
  <dc:title>Diapositiva 1</dc:title>
</cp:coreProperties>
</file>