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658EE-9CCA-4DFF-ADE2-36FE9E18A77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B8B04-7417-46F9-B2B9-7B0F1E784E7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46577-9525-49BE-A096-7142249174A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C6EC6-E28A-4C04-A5E2-8B9ADDA1E7C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7E5D5-C9FF-4AF1-89FA-C580BCBF4AB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FBF6-EE7B-408E-A7E7-E943C82FD32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C68A2-4964-4941-8CEA-B5B9EDFB123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F3050-20BB-4F86-9B1A-DFADC8612F6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0EEE1-128B-4851-8774-7BFD8711A1F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B2DC5-8EA4-4D7B-9F3F-B8A4344430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99EEC-36E4-4B77-A5B8-AA32AAC9913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4D8-6413-481F-B0B9-C0965D9A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AA5-B0D7-4289-98D0-90EE266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2A4-5B7C-4AD3-A699-DAC0963F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5F0-3419-48CF-BC14-26618C9E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7F8-8309-4F36-B487-3C7948DD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C1E-8C3D-4D0D-A75B-A859DE81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344-595E-42C5-B818-DC1D6FEF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351-0E30-4CD1-8DDB-F8924531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7B4-01F1-49CA-B019-7F2AD2E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F93-569A-4DCF-BE82-C96907E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F9E-EADC-4241-82AC-0DF84CB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AD3-8D78-41BF-905E-5E60138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BDE5DD-BFBC-4DA3-B904-03484583AD8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CION DE LA UE, 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NCLUSIÓN 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 LAS PERSONAS EXCLU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L MERCADO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6) Mejorar el sistema de información y evaluación y garantizar la coherencia con la política de cohesión de la UE (Estrategia de Lisbo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ara que los Estados miembros se comprometan 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- implementar estrategias de inclusión activa de las personas excluidas del mercado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- asegurar el derecho a una ayuda social y de vivienda para garantizar una existencia digna a todos aquellos que no dispongan de recursos sufic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clu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4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Entre los objetivos de la UE se encuentra la inclusión social activa de todos a través de la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en el mercado laboral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la lucha contra la pobrez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. Se necesitan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soluciones políticas globales e integradas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, las que combinen un apoyo a la renta con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vínculo al mercado de trabajo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y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acceso a servicios de calidad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en una estrategia de inclusión ac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clu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De conformidad con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principio de subsidiariedad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, los Estados miembros son responsables de definir nivel de apoyo a la renta y una adecuada combinación de estrategias a la luz de las distintas situaciones y necesidades a escala local, intermedia y nac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1) implementar una estrategia global integrada para la inclusión a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88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2) Asegurar la eficacia de las políticas combinando acceso al empleo, recursos para una vida digna, ayuda a la participación social. Las políticas tienen que facilitar la participación de todos los actores, y deben coordinarse horizontal y verticalmente (múltiples causas de la pobreza, distintos niveles de la administr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7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3) Velar porque las políticas de inclusión activa apoyen la aplicación de derechos fundamentales, consideren la complejidad de las situaciones, tomen en cuenta las circunstancias del territorio, interrumpan la transmisión inter-generacional de la pobr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4) Respetar los siguientes princip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a)  Apoyo a la renta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recho fundamental del individuo a una vida digna, combatir la 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)  Mercados de trabajo inclus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arantizar que las personas aptas reciban ayuda para conseguir el empl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)  Acceso a servicio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5) Poner a disposición recursos y beneficios pertinentes, utilizando también los Fondos Europe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2:20:31Z</dcterms:created>
  <dc:creator/>
  <dc:description/>
  <dc:language>en-US</dc:language>
  <cp:lastModifiedBy>Valued Acer Customer</cp:lastModifiedBy>
  <dcterms:modified xsi:type="dcterms:W3CDTF">2014-03-28T15:24:29Z</dcterms:modified>
  <cp:revision>2</cp:revision>
  <dc:subject/>
  <dc:title>RECOMENDACION DE LA UE, octubre 2008</dc:title>
</cp:coreProperties>
</file>