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5.png" ContentType="image/png"/>
  <Override PartName="/ppt/media/image10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1.jpeg" ContentType="image/jpeg"/>
  <Override PartName="/ppt/media/image15.wmf" ContentType="image/x-wmf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Text Box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dt" idx="3"/>
          </p:nvPr>
        </p:nvSpPr>
        <p:spPr>
          <a:xfrm>
            <a:off x="3884400" y="-360"/>
            <a:ext cx="296676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Img"/>
          </p:nvPr>
        </p:nvSpPr>
        <p:spPr>
          <a:xfrm>
            <a:off x="1142640" y="685800"/>
            <a:ext cx="4567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8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3EBC60-A8F8-4EFA-9B0B-4A4221D6D4B3}" type="slidenum">
              <a:rPr b="0" lang="it-IT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558EC3-E787-4579-ACE8-95CD4B171DDC}" type="slidenum">
              <a:rPr b="0" lang="it-IT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BBCD78-1FCD-47FA-A2EF-5560D29C6A5B}" type="slidenum">
              <a:rPr b="0" lang="it-IT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35D598-1CBB-45E5-B6A9-EB8D840AB053}" type="slidenum">
              <a:rPr b="0" lang="it-IT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1C9F06-F840-4FCF-84F4-3D7E48A142A0}" type="slidenum">
              <a:rPr b="0" lang="it-IT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5C46DC-5AFD-480E-8A63-425E53F3BD48}" type="slidenum">
              <a:rPr b="0" lang="it-IT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659CD4-0C0A-4DDD-85D5-F3BB79ED849D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7FD168-4C58-46FB-BEFB-B8EED17B3BEA}" type="slidenum">
              <a:rPr b="0" lang="it-IT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0EE6D0-C52D-4829-83A3-3F2625311E56}" type="slidenum">
              <a:rPr b="0" lang="it-IT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127480-9CD0-4569-8F99-DD266FD360B4}" type="slidenum">
              <a:rPr b="0" lang="it-IT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CE5097-2FC3-4387-8262-1D22EA362C20}" type="slidenum">
              <a:rPr b="0" lang="it-IT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9C98F8-9E9F-43F3-B5DB-BD23E1A3D1A4}" type="slidenum">
              <a:rPr b="0" lang="it-IT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2D366E-60CE-4980-9736-D8D2C7806B22}" type="slidenum">
              <a:rPr b="0" lang="it-IT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C2EF22-ACB7-4B43-8941-C03ADE80B7F8}" type="slidenum">
              <a:rPr b="0" lang="it-IT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04E6D1-E2F8-4593-BD21-FA36F6B89E55}" type="slidenum">
              <a:rPr b="0" lang="it-IT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5328E7-D38B-45DA-B64C-93C52E81305B}" type="slidenum">
              <a:rPr b="0" lang="it-IT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BE137D-C1DB-4CBB-A323-AD4BA49C9D7C}" type="slidenum">
              <a:rPr b="0" lang="it-IT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7AA2F0-33C7-42CF-83ED-020EB3C5E061}" type="slidenum">
              <a:rPr b="0" lang="it-IT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2BEBB1-90A4-485B-BCA6-0C692A6190B5}" type="slidenum">
              <a:rPr b="0" lang="it-IT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E693BA-C8E1-4F64-A734-BFED83347BCA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6BDDEB-724D-48F8-8DB6-0CF0D120AAAF}" type="slidenum">
              <a:rPr b="0" lang="it-IT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C02D30-6CF6-4A76-A2E6-6668EE55FBFA}" type="slidenum">
              <a:rPr b="0" lang="it-IT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2FCFF2-DFC7-4ED7-947B-46C2D9553804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9955CC-1313-43BA-AC5F-9B9B8284AE3D}" type="slidenum">
              <a:rPr b="0" lang="it-IT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C5D187-2971-4D17-B83B-CD43263AE46C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67320" cy="342432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Segnaposto numero diapositiva 3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01B057-A818-45A0-9270-0F5B422706E9}" type="slidenum">
              <a:rPr b="0" lang="it-IT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102E7C-D82D-4213-ABE5-9D25E625B536}" type="slidenum">
              <a:rPr b="0" lang="it-IT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42DEF2-31C1-4E72-80DA-43CAE5E20EBC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67320" cy="342432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Segnaposto numero diapositiva 3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EA56E4-1286-405E-9C4D-E27A63A03512}" type="slidenum">
              <a:rPr b="0" lang="it-IT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FDD7D7-E512-4CF8-8C06-87928470C2A1}" type="slidenum">
              <a:rPr b="0" lang="it-IT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BE12BC-90E8-4A51-8A8C-849290A295A8}" type="slidenum">
              <a:rPr b="0" lang="it-IT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2DCB90-90A9-45BE-8708-CB9427FF7D5E}" type="slidenum">
              <a:rPr b="0" lang="it-IT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2AAE60-49A3-42E1-B67D-3E22A7EBF52E}" type="slidenum">
              <a:rPr b="0" lang="it-IT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Datos preliminares del monitoreo  2013 de los planes sociales territoriales realizado por ISFOL, Ministero del Lavoro e Politiche Sociali – Direzione Generale per il Terzo settore e le formazioni sociali, Fondo Sociale Europeo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F8EF95-8AD9-4698-8AC2-CC9456413A4F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2A0915-9A40-4ABF-BB3E-DB4CEB39BEE0}" type="slidenum">
              <a:rPr b="0" lang="it-IT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1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Calibri"/>
              </a:rPr>
              <a:t>Ranci Ortigosa, Emanuele, 2013, “</a:t>
            </a:r>
            <a:r>
              <a:rPr b="0" lang="it-IT" sz="1100" spc="-1" strike="noStrike">
                <a:solidFill>
                  <a:srgbClr val="000000"/>
                </a:solidFill>
                <a:latin typeface="Calibri"/>
              </a:rPr>
              <a:t>Le nostre proposte per una riforma delle politiche sociali attuale e attuabile”, </a:t>
            </a:r>
            <a:r>
              <a:rPr b="0" lang="es-ES" sz="1100" spc="-1" strike="noStrike">
                <a:solidFill>
                  <a:srgbClr val="000000"/>
                </a:solidFill>
                <a:latin typeface="Calibri"/>
              </a:rPr>
              <a:t>ponencia presentada en el seminario </a:t>
            </a:r>
            <a:r>
              <a:rPr b="0" i="1" lang="it-IT" sz="1100" spc="-1" strike="noStrike">
                <a:solidFill>
                  <a:srgbClr val="000000"/>
                </a:solidFill>
                <a:latin typeface="Calibri"/>
              </a:rPr>
              <a:t>Costruiamo il welfare di domani</a:t>
            </a:r>
            <a:r>
              <a:rPr b="1" lang="it-IT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it-IT" sz="1100" spc="-1" strike="noStrike">
                <a:solidFill>
                  <a:srgbClr val="000000"/>
                </a:solidFill>
                <a:latin typeface="Calibri"/>
              </a:rPr>
              <a:t>Milano 26 Settembre 2013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1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100" spc="-1" strike="noStrike">
                <a:solidFill>
                  <a:srgbClr val="000000"/>
                </a:solidFill>
                <a:latin typeface="Calibri"/>
              </a:rPr>
              <a:t>Nel 2011: 67 miliardi, il 4,28% del Pil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1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100" spc="-1" strike="noStrike">
                <a:solidFill>
                  <a:srgbClr val="000000"/>
                </a:solidFill>
                <a:latin typeface="Calibri"/>
              </a:rPr>
              <a:t></a:t>
            </a:r>
            <a:r>
              <a:rPr b="0" lang="it-IT" sz="1100" spc="-1" strike="noStrike">
                <a:solidFill>
                  <a:srgbClr val="000000"/>
                </a:solidFill>
                <a:latin typeface="Calibri"/>
              </a:rPr>
              <a:t>54 miliardi, pari al 80% del totale, sono assorbiti da programmi nazionali e detrazioni fiscali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1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100" spc="-1" strike="noStrike">
                <a:solidFill>
                  <a:srgbClr val="000000"/>
                </a:solidFill>
                <a:latin typeface="Calibri"/>
              </a:rPr>
              <a:t></a:t>
            </a:r>
            <a:r>
              <a:rPr b="0" lang="it-IT" sz="1100" spc="-1" strike="noStrike">
                <a:solidFill>
                  <a:srgbClr val="000000"/>
                </a:solidFill>
                <a:latin typeface="Calibri"/>
              </a:rPr>
              <a:t>Tre settori: famiglia, non autosufficienza e disabilità, povertà, di peso simile, rispettivamente di 21, 24, 18 miliardi circa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1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100" spc="-1" strike="noStrike">
                <a:solidFill>
                  <a:srgbClr val="000000"/>
                </a:solidFill>
                <a:latin typeface="Calibri"/>
              </a:rPr>
              <a:t></a:t>
            </a:r>
            <a:r>
              <a:rPr b="0" lang="it-IT" sz="1100" spc="-1" strike="noStrike">
                <a:solidFill>
                  <a:srgbClr val="000000"/>
                </a:solidFill>
                <a:latin typeface="Calibri"/>
              </a:rPr>
              <a:t>A Comuni, Regioni ed altri enti solo 8,5 miliardi, quasi il 14% del totale, per servizi e anche erogazioni monetarie. Nel federalismo fiscale si sono considerate solo queste risorse!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1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100" spc="-1" strike="noStrike">
                <a:solidFill>
                  <a:srgbClr val="000000"/>
                </a:solidFill>
                <a:latin typeface="Calibri"/>
              </a:rPr>
              <a:t></a:t>
            </a:r>
            <a:r>
              <a:rPr b="0" lang="it-IT" sz="1100" spc="-1" strike="noStrike">
                <a:solidFill>
                  <a:srgbClr val="000000"/>
                </a:solidFill>
                <a:latin typeface="Calibri"/>
              </a:rPr>
              <a:t>5 miliardi è la stima della spesa sociosanitaria per la non autosufficenza.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1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Calibri"/>
              </a:rPr>
              <a:t>----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1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1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it-IT" sz="1100" spc="-1" strike="noStrike">
                <a:solidFill>
                  <a:srgbClr val="000000"/>
                </a:solidFill>
                <a:latin typeface="Calibri"/>
              </a:rPr>
              <a:t>Disoccupazione al 12% (+1,3% sul 2012); giovanile al 39,5% (+4,3% sul 2012). In un anno 325mila disoccupati in più.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1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1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it-IT" sz="1100" spc="-1" strike="noStrike">
                <a:solidFill>
                  <a:srgbClr val="000000"/>
                </a:solidFill>
                <a:latin typeface="Calibri"/>
              </a:rPr>
              <a:t>Cassa integrazione in aumento: autorizzate 75,3 milioni di ore, tra interventi ordinari, straordinari e in deroga (+12,4% sul 2012).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1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100" spc="-1" strike="noStrike">
                <a:solidFill>
                  <a:srgbClr val="000000"/>
                </a:solidFill>
                <a:latin typeface="Calibri"/>
              </a:rPr>
              <a:t>Oneri crescenti su famiglie: +1.492 euro a famiglia (Imu, alimentari)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1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1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it-IT" sz="1100" spc="-1" strike="noStrike">
                <a:solidFill>
                  <a:srgbClr val="000000"/>
                </a:solidFill>
                <a:latin typeface="Calibri"/>
              </a:rPr>
              <a:t>Riduzione consumi: - 7,3% spesa delle famiglie rispetto al 2012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1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1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it-IT" sz="1100" spc="-1" strike="noStrike">
                <a:solidFill>
                  <a:srgbClr val="000000"/>
                </a:solidFill>
                <a:latin typeface="Calibri"/>
              </a:rPr>
              <a:t>Impoverimento diffuso: persone in povertà assoluta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1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100" spc="-1" strike="noStrike">
                <a:solidFill>
                  <a:srgbClr val="000000"/>
                </a:solidFill>
                <a:latin typeface="Calibri"/>
              </a:rPr>
              <a:t>4,1% nel 2005; 8% nel 2012, 4.800.000, 1 persona ogni 12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1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1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it-IT" sz="1100" spc="-1" strike="noStrike">
                <a:solidFill>
                  <a:srgbClr val="000000"/>
                </a:solidFill>
                <a:latin typeface="Calibri"/>
              </a:rPr>
              <a:t>Diseguaglianze crescenti (Gini: 0,323 per redditi, 0,613 per ricchezza, sesto per entità delle diseguaglianze fra 30 paesi Ocse)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1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79EA05-8FCE-456A-AF47-3ECE8FDEC6E8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5F910F-05E0-4532-8A73-1876F6DD993E}" type="slidenum">
              <a:rPr b="0" lang="it-IT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48BA39-8381-4DF0-BF89-56F98854A157}" type="slidenum">
              <a:rPr b="0" lang="it-IT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68760" cy="342576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2BA053-167A-46D7-B44F-738BA0AE45FC}" type="slidenum">
              <a:rPr b="0" lang="it-IT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68760" cy="342576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540FCD-3CE2-4A5F-9B48-CDB7621833A4}" type="slidenum">
              <a:rPr b="0" lang="it-IT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68760" cy="342576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8FF02A-572E-4B63-AE4E-11AA32E5B1EC}" type="slidenum">
              <a:rPr b="0" lang="it-IT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68760" cy="342576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67320" cy="342432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Segnaposto numero diapositiva 3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2EE8C8-2A7A-4825-BAD7-315AC67A95C2}" type="slidenum">
              <a:rPr b="0" lang="it-IT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67320" cy="342432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Segnaposto numero diapositiva 3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6618E1-8D3B-409E-9273-AD74963AFE3C}" type="slidenum">
              <a:rPr b="0" lang="it-IT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1DF995-D266-4A42-83B3-7973696335B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232E60-507F-4F8D-9F93-5532E9949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0F8482-7A67-4329-A4D4-D22058851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F09EEF-063F-4E33-A590-1021674E5BD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C2745F-F917-489B-B92E-7AC440778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C4F7A8-F561-436F-AC46-D19AAFB76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C47344-37E0-4AA4-A598-081CDD295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33F843-0CF5-4E92-BFE1-E3CADC3A6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96BCC6-9300-4539-9823-8BA1CA650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7A26EB-0E53-4F70-AB09-037BCBF69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E99906-C307-47C9-9E51-9AB42445D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E7FB7A-E28B-45BE-800B-0AF343678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160"/>
            <a:ext cx="21286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it-IT" sz="18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308D198-5128-4FC4-BDA6-1B4586E6B3F7}" type="datetime"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31/07/26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29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it-IT" sz="18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0E0DD7F-A558-45F3-8D52-88B0BC4551BC}" type="slidenum"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23960" y="22748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alibri"/>
              </a:rPr>
              <a:t>La dimensión territorial en los servicios sociales y las políticas de inclusión: el caso italian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684360" y="476280"/>
            <a:ext cx="2266920" cy="628560"/>
          </a:xfrm>
          <a:prstGeom prst="rect">
            <a:avLst/>
          </a:prstGeom>
          <a:ln w="0">
            <a:noFill/>
          </a:ln>
        </p:spPr>
      </p:pic>
      <p:sp>
        <p:nvSpPr>
          <p:cNvPr id="53" name="Text Box 3"/>
          <p:cNvSpPr/>
          <p:nvPr/>
        </p:nvSpPr>
        <p:spPr>
          <a:xfrm>
            <a:off x="1440000" y="5616720"/>
            <a:ext cx="61912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resentación: Dario Cona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Textos: Dario Conato y Francesco Chiod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1"/>
          <p:cNvSpPr/>
          <p:nvPr/>
        </p:nvSpPr>
        <p:spPr>
          <a:xfrm>
            <a:off x="108000" y="189000"/>
            <a:ext cx="8785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1. El marco de competencias</a:t>
            </a:r>
            <a:br>
              <a:rPr sz="2400"/>
            </a:br>
            <a:r>
              <a:rPr b="1" lang="es-ES" sz="1800" spc="-1" strike="noStrike">
                <a:solidFill>
                  <a:srgbClr val="ffcc00"/>
                </a:solidFill>
                <a:latin typeface="Arial"/>
                <a:ea typeface="Arial"/>
              </a:rPr>
              <a:t>(notas básicas sobre el sistema socio asistencial italian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Text Box 2"/>
          <p:cNvSpPr/>
          <p:nvPr/>
        </p:nvSpPr>
        <p:spPr>
          <a:xfrm>
            <a:off x="500040" y="1714680"/>
            <a:ext cx="8229600" cy="19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Los servicios socio-asistenciales se dan a nivel </a:t>
            </a:r>
            <a:r>
              <a:rPr b="0" lang="es-ES" sz="2400" spc="-1" strike="noStrike" u="sng">
                <a:solidFill>
                  <a:srgbClr val="000000"/>
                </a:solidFill>
                <a:uFillTx/>
                <a:latin typeface="Calibri"/>
              </a:rPr>
              <a:t>territorial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y son de competencia y responsabilidad de las </a:t>
            </a:r>
            <a:r>
              <a:rPr b="0" lang="es-ES" sz="2400" spc="-1" strike="noStrike" u="sng">
                <a:solidFill>
                  <a:srgbClr val="000000"/>
                </a:solidFill>
                <a:uFillTx/>
                <a:latin typeface="Calibri"/>
              </a:rPr>
              <a:t>Municipalidad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Existe un amplio abanico prestaciones sociales de tipo monetario reguladas y proporcionadas por el Estad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Text Box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2A6ED0-CE0B-4F5D-8AAD-11F14288968C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1"/>
          <p:cNvSpPr/>
          <p:nvPr/>
        </p:nvSpPr>
        <p:spPr>
          <a:xfrm>
            <a:off x="457200" y="189000"/>
            <a:ext cx="82296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400"/>
            </a:b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Marco de competencias según la Constitución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Text Box 2"/>
          <p:cNvSpPr/>
          <p:nvPr/>
        </p:nvSpPr>
        <p:spPr>
          <a:xfrm>
            <a:off x="457200" y="836640"/>
            <a:ext cx="8229600" cy="583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6040" indent="-446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4604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9429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La 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Constitución italiana asigna a las Regiones el poder legislativo en materia socio-asistenci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4604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9429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Las funciones administrativas son atribuidas a las Municipalida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4604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9429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Estado, Regiones, Ciudades metropolitanas, Provincias y Municipalidades favorecen la </a:t>
            </a:r>
            <a:r>
              <a:rPr b="0" i="1" lang="es-E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autónoma iniciativa de los ciudadanos, individuos y asociados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(subsidiariedad horizonta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4604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9429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El Estado debe determinar los </a:t>
            </a:r>
            <a:r>
              <a:rPr b="0" i="1" lang="es-ES" sz="2800" spc="-1" strike="noStrike">
                <a:solidFill>
                  <a:srgbClr val="000000"/>
                </a:solidFill>
                <a:latin typeface="Calibri"/>
              </a:rPr>
              <a:t>niveles esenciales de las prestaciones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referidas a los derechos civiles y sociales que deben ser garantizados en todo el territorio nacion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E69A04-0F46-44E3-949D-05BC819364DD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1"/>
          <p:cNvSpPr/>
          <p:nvPr/>
        </p:nvSpPr>
        <p:spPr>
          <a:xfrm>
            <a:off x="108000" y="274680"/>
            <a:ext cx="885672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Articulación competencias Estado / niveles subnaciona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Text Box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453AAE-D14A-4726-BA16-86FF1CDE2D28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Text Box 3"/>
          <p:cNvSpPr/>
          <p:nvPr/>
        </p:nvSpPr>
        <p:spPr>
          <a:xfrm>
            <a:off x="108000" y="981000"/>
            <a:ext cx="8856720" cy="56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84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Sistemas territoriales integrado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___________________________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Leyes y políticas regiona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___________________________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Niveles esenciales de las prestacio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piso mínimo obligatorio en todo el paí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AutoShape 4"/>
          <p:cNvSpPr/>
          <p:nvPr/>
        </p:nvSpPr>
        <p:spPr>
          <a:xfrm>
            <a:off x="0" y="4581360"/>
            <a:ext cx="1763640" cy="432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cap="sq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alibri"/>
              </a:rPr>
              <a:t>Esta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AutoShape 5"/>
          <p:cNvSpPr/>
          <p:nvPr/>
        </p:nvSpPr>
        <p:spPr>
          <a:xfrm>
            <a:off x="0" y="2781360"/>
            <a:ext cx="1763640" cy="4316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cap="sq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alibri"/>
              </a:rPr>
              <a:t>Region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AutoShape 6"/>
          <p:cNvSpPr/>
          <p:nvPr/>
        </p:nvSpPr>
        <p:spPr>
          <a:xfrm>
            <a:off x="0" y="1125360"/>
            <a:ext cx="1763640" cy="432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cap="sq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alibri"/>
              </a:rPr>
              <a:t>Municipalidad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1"/>
          <p:cNvSpPr/>
          <p:nvPr/>
        </p:nvSpPr>
        <p:spPr>
          <a:xfrm>
            <a:off x="108000" y="189000"/>
            <a:ext cx="8856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Funciones de los tres niveles de gobiern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Text Box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A0242A-0BC0-4CCD-B323-8CA24E56355F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179280" y="765000"/>
            <a:ext cx="8713800" cy="59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70c0"/>
                </a:solidFill>
                <a:latin typeface="Calibri"/>
                <a:ea typeface="Arial"/>
              </a:rPr>
              <a:t>El territorio es la unidad de referencia para la programación y la gestión del </a:t>
            </a:r>
            <a:r>
              <a:rPr b="0" lang="it-IT" sz="1800" spc="-1" strike="noStrike">
                <a:solidFill>
                  <a:srgbClr val="0070c0"/>
                </a:solidFill>
                <a:latin typeface="Calibri"/>
                <a:ea typeface="Arial"/>
              </a:rPr>
              <a:t>sistema  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  <a:ea typeface="Arial"/>
              </a:rPr>
              <a:t>(e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  <a:ea typeface="Arial"/>
              </a:rPr>
              <a:t>l territorio asegura la pertinencia </a:t>
            </a:r>
            <a:r>
              <a:rPr b="0" i="1" lang="es-ES" sz="1800" spc="-1" strike="noStrike">
                <a:solidFill>
                  <a:srgbClr val="000000"/>
                </a:solidFill>
                <a:latin typeface="Calibri"/>
                <a:ea typeface="Arial"/>
              </a:rPr>
              <a:t>ambiental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  <a:ea typeface="Arial"/>
              </a:rPr>
              <a:t> de las respuestas). Los servicios, por tanto, son brindados a nivel de ámbito territorial en el marco de una organización que prevé los siguientes role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216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b050"/>
                </a:solidFill>
                <a:latin typeface="Calibri"/>
                <a:ea typeface="Arial"/>
              </a:rPr>
              <a:t>Municipalidad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216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  <a:ea typeface="Arial"/>
              </a:rPr>
              <a:t>Programación, diseño y gestión del sistema local de servicios + evaluac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216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  <a:ea typeface="Arial"/>
              </a:rPr>
              <a:t>Provisión  directa o delegada de los servici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216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  <a:ea typeface="Arial"/>
              </a:rPr>
              <a:t>Coordinación interinstitucion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216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  <a:ea typeface="Arial"/>
              </a:rPr>
              <a:t>Autorización, acreditación y supervisión centros privad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2160"/>
              </a:lnSpc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  <a:ea typeface="Arial"/>
              </a:rPr>
              <a:t>Promoción de la participación ciudadan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216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70c0"/>
                </a:solidFill>
                <a:latin typeface="Calibri"/>
                <a:ea typeface="Arial"/>
              </a:rPr>
              <a:t>Region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2160"/>
              </a:lnSpc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  <a:ea typeface="Arial"/>
              </a:rPr>
              <a:t>Legislación, directrices y coordinac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2160"/>
              </a:lnSpc>
              <a:spcBef>
                <a:spcPts val="499"/>
              </a:spcBef>
              <a:buSzPct val="102792"/>
              <a:buBlip>
                <a:blip r:embed="rId7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  <a:ea typeface="Arial"/>
              </a:rPr>
              <a:t>Planes sociales regionales (que enmarcan la programación de los sistemas locales de servici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2160"/>
              </a:lnSpc>
              <a:spcBef>
                <a:spcPts val="499"/>
              </a:spcBef>
              <a:buSzPct val="102792"/>
              <a:buBlip>
                <a:blip r:embed="rId8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  <a:ea typeface="Arial"/>
              </a:rPr>
              <a:t>Definición requisitos y tipología servici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216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Calibri"/>
                <a:ea typeface="Arial"/>
              </a:rPr>
              <a:t>Estad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2160"/>
              </a:lnSpc>
              <a:spcBef>
                <a:spcPts val="499"/>
              </a:spcBef>
              <a:buSzPct val="102792"/>
              <a:buBlip>
                <a:blip r:embed="rId9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  <a:ea typeface="Arial"/>
              </a:rPr>
              <a:t>Niveles esenciales de las prestacio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216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alibri"/>
              </a:rPr>
              <a:t>La Ley 328/200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Es la Ley marco para la realización del sistema de acciones y servicios socia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alibri"/>
              </a:rPr>
              <a:t>Filosofía de la ley 32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Superar el concepto preminentemente asistencialista de la acción social: el ciudadano no es solamente </a:t>
            </a:r>
            <a:r>
              <a:rPr b="0" lang="it-IT" sz="3200" spc="-1" strike="noStrike" u="sng">
                <a:solidFill>
                  <a:srgbClr val="000000"/>
                </a:solidFill>
                <a:uFillTx/>
                <a:latin typeface="Calibri"/>
              </a:rPr>
              <a:t>usuario</a:t>
            </a:r>
            <a:r>
              <a:rPr b="0" i="1" lang="it-IT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sino que </a:t>
            </a:r>
            <a:r>
              <a:rPr b="0" lang="it-IT" sz="3200" spc="-1" strike="noStrike" u="sng">
                <a:solidFill>
                  <a:srgbClr val="000000"/>
                </a:solidFill>
                <a:uFillTx/>
                <a:latin typeface="Calibri"/>
              </a:rPr>
              <a:t>actor </a:t>
            </a: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en tanto </a:t>
            </a:r>
            <a:r>
              <a:rPr b="0" lang="it-IT" sz="3200" spc="-1" strike="noStrike" u="sng">
                <a:solidFill>
                  <a:srgbClr val="000000"/>
                </a:solidFill>
                <a:uFillTx/>
                <a:latin typeface="Calibri"/>
              </a:rPr>
              <a:t>titular de derechos</a:t>
            </a: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alibri"/>
              </a:rPr>
              <a:t>TIPOS DE SERVICI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0680" indent="-310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Proyectos individuales para personas con discapacid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0680" indent="-310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Apoyo domiciliario a personas mayores no autosuficien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0680" indent="-310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Aprovechamiento de y apoyo a las responsabilidades familia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0680" indent="-310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Emisión de cheques de cui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0680" indent="-310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Políticas para conciliar tiempo de trabajo y tiempo de cuido o de vid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alibri"/>
              </a:rPr>
              <a:t>TIPOS DE SERVICI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69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Sostén a los padres, también a través de la promoción del apoyo mutuo entre famili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Apoyo domicilliario para familias que ofrecen acogida, asistencia a discapacitados físicos, psíquicos y sensoriales, personas en dificultad, menores, ancian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Servicios de “alivio”, para acompañar a las familias en el cuido demiembros necesitad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Agogida y socialización en estructuras residenciales y semi-residenciales de las personas que no pueden recibir atención domiciliari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Apoyo al cuido de crianza </a:t>
            </a: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(formación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alibri"/>
              </a:rPr>
              <a:t>LOS BON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0760" indent="0">
              <a:spcBef>
                <a:spcPts val="799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Las municipallidades pueden ofrecer bonos no rembolsables o préstamos de honor (tasa cero) a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0760" indent="-317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Núcleos con un solo pad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0760" indent="-317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Mujeres embarazadas en dificultad soci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0760" indent="-317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Familias con miembros no autosuficientes en dificultades económic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0760" indent="-317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Inmigrados recientes con dificultades de inserción socia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0760" indent="0">
              <a:spcBef>
                <a:spcPts val="799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alibri"/>
              </a:rPr>
              <a:t>TASAS Y TARIF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Las municipalidades también pueden aplicar a las categorías mencionadas descuentos en las tasas y tarifa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1"/>
          <p:cNvSpPr/>
          <p:nvPr/>
        </p:nvSpPr>
        <p:spPr>
          <a:xfrm>
            <a:off x="720720" y="1871640"/>
            <a:ext cx="7559640" cy="35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38400" algn="ctr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TRES ELEMENTOS DE CONTEX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 algn="ctr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spcBef>
                <a:spcPts val="499"/>
              </a:spcBef>
              <a:buSzPct val="102909"/>
              <a:buBlip>
                <a:blip r:embed="rId1"/>
              </a:buBlip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Membresía en la Unión Europea  (adhesión a un marco común de referencia y vínculos)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spcBef>
                <a:spcPts val="499"/>
              </a:spcBef>
              <a:buSzPct val="102909"/>
              <a:buBlip>
                <a:blip r:embed="rId2"/>
              </a:buBlip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Reforma de las políticas sociales (Ley 328/2000 Sistema integrado de servicios e intervenciones sociales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spcBef>
                <a:spcPts val="451"/>
              </a:spcBef>
              <a:buSzPct val="102909"/>
              <a:buBlip>
                <a:blip r:embed="rId3"/>
              </a:buBlip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Reforma constitucional del 2001 (nuevo sistema de competencias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1"/>
          <p:cNvSpPr/>
          <p:nvPr/>
        </p:nvSpPr>
        <p:spPr>
          <a:xfrm>
            <a:off x="457200" y="274680"/>
            <a:ext cx="822960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Niveles esenciales de las prestaciones</a:t>
            </a:r>
            <a:br>
              <a:rPr sz="2400"/>
            </a:b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 según la ley de reforma 328/2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 Box 2"/>
          <p:cNvSpPr/>
          <p:nvPr/>
        </p:nvSpPr>
        <p:spPr>
          <a:xfrm>
            <a:off x="468360" y="1197000"/>
            <a:ext cx="8229600" cy="52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BO" sz="2700" spc="-1" strike="noStrike">
                <a:solidFill>
                  <a:srgbClr val="000000"/>
                </a:solidFill>
                <a:latin typeface="Calibri"/>
              </a:rPr>
              <a:t>Las medidas, servicios e intervenciones señaladas deben traducirse a nivel territorial, en: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lphaLcParenR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BO" sz="2700" spc="-1" strike="noStrike">
                <a:solidFill>
                  <a:srgbClr val="000000"/>
                </a:solidFill>
                <a:latin typeface="Calibri"/>
              </a:rPr>
              <a:t>servicios sociales profesionales y secretariado social para la información y asesoría al individuo y núcleos familiares;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lphaLcParenR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BO" sz="2700" spc="-1" strike="noStrike">
                <a:solidFill>
                  <a:srgbClr val="000000"/>
                </a:solidFill>
                <a:latin typeface="Calibri"/>
              </a:rPr>
              <a:t>servicios de primer auxilio social para situaciones de emergencia personales y familiares;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lphaLcParenR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BO" sz="2700" spc="-1" strike="noStrike">
                <a:solidFill>
                  <a:srgbClr val="000000"/>
                </a:solidFill>
                <a:latin typeface="Calibri"/>
              </a:rPr>
              <a:t>atención domiciliaria;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lphaLcParenR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BO" sz="2700" spc="-1" strike="noStrike">
                <a:solidFill>
                  <a:srgbClr val="000000"/>
                </a:solidFill>
                <a:latin typeface="Calibri"/>
              </a:rPr>
              <a:t>estructuras residenciales y semi residenciales para personas con fragilidades sociales;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lphaLcParenR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Calibri"/>
              </a:rPr>
              <a:t>centros de acogida residenciales o diurnos de carácter comunitario.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07A69D-B43E-4F36-80C3-560321DD85CF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alibri"/>
              </a:rPr>
              <a:t>El FNP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La ley 328/2000 establece un Fondo Nacional para las Políticas y Acciones Socia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El Fondo co-financia Planes Sociales Regionales y Planes Sociales de Zona para la inclusión y el mejoramiento de la calidad de vid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alibri"/>
              </a:rPr>
              <a:t>BENEFICIARI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Ciudadanos italianos y sus familia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Ciudadanos de la UE y sus familia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Ciudadanos extra-comunitari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Refugiados y apátrid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1"/>
          <p:cNvSpPr/>
          <p:nvPr/>
        </p:nvSpPr>
        <p:spPr>
          <a:xfrm>
            <a:off x="324000" y="189000"/>
            <a:ext cx="82296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4000"/>
            </a:b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3. Planificación de los sistemas integrados de servicios territoriales</a:t>
            </a:r>
            <a:br>
              <a:rPr sz="40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2"/>
          <p:cNvSpPr/>
          <p:nvPr/>
        </p:nvSpPr>
        <p:spPr>
          <a:xfrm>
            <a:off x="539640" y="692280"/>
            <a:ext cx="8425080" cy="58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84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D8EAF9-B94D-4617-AF83-070F62809A33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AutoShape 4"/>
          <p:cNvSpPr/>
          <p:nvPr/>
        </p:nvSpPr>
        <p:spPr>
          <a:xfrm>
            <a:off x="539640" y="1440000"/>
            <a:ext cx="3924360" cy="1152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cap="sq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alibri"/>
              </a:rPr>
              <a:t>Las Regiones legiferan y definen sus Planes socia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Rectangle 5"/>
          <p:cNvSpPr/>
          <p:nvPr/>
        </p:nvSpPr>
        <p:spPr>
          <a:xfrm>
            <a:off x="4608360" y="2808360"/>
            <a:ext cx="3743640" cy="2519280"/>
          </a:xfrm>
          <a:prstGeom prst="rect">
            <a:avLst/>
          </a:prstGeom>
          <a:solidFill>
            <a:srgbClr val="dce6f2"/>
          </a:solidFill>
          <a:ln cap="sq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  <a:ea typeface="Arial"/>
              </a:rPr>
              <a:t>Las Municipalidades asociadas en ámbitos territoriales planifican sus </a:t>
            </a:r>
            <a:r>
              <a:rPr b="0" lang="es-ES" sz="18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Planes territoriales trienales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  <a:ea typeface="Arial"/>
              </a:rPr>
              <a:t>Un plan es la expresión de u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s-ES" sz="1800" spc="-1" strike="noStrike">
                <a:solidFill>
                  <a:srgbClr val="00b050"/>
                </a:solidFill>
                <a:latin typeface="Calibri"/>
                <a:ea typeface="Arial"/>
              </a:rPr>
              <a:t>sistema territorial integrado de intervenciones y servicios socia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06" name="AutoShape 6"/>
          <p:cNvCxnSpPr>
            <a:stCxn id="104" idx="2"/>
            <a:endCxn id="105" idx="1"/>
          </p:cNvCxnSpPr>
          <p:nvPr/>
        </p:nvCxnSpPr>
        <p:spPr>
          <a:xfrm flipH="1" rot="16200000">
            <a:off x="2815560" y="2277000"/>
            <a:ext cx="1477080" cy="210672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</p:cxn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79234C-2A77-466B-A1FC-6CFC7BC4A4D2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Text Box 2"/>
          <p:cNvSpPr/>
          <p:nvPr/>
        </p:nvSpPr>
        <p:spPr>
          <a:xfrm>
            <a:off x="324000" y="333360"/>
            <a:ext cx="8820000" cy="59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Sistema integrad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70c0"/>
              </a:buClr>
              <a:buFont typeface="Symbol" charset="2"/>
              <a:buChar char="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70c0"/>
                </a:solidFill>
                <a:latin typeface="Calibri"/>
                <a:ea typeface="Times New Roman"/>
              </a:rPr>
              <a:t>Entre servicios y acciones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:  servicios y acciones se harmonizan en sistemas locales diseñados a través de planes territorial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70c0"/>
              </a:buClr>
              <a:buFont typeface="Symbol" charset="2"/>
              <a:buChar char="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70c0"/>
                </a:solidFill>
                <a:latin typeface="Calibri"/>
                <a:ea typeface="Times New Roman"/>
              </a:rPr>
              <a:t>Entre políticas e instituciones sectoriales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: convergencia alrededor de los objetivos de las diferentes instituciones, en particular los servicios socio asistenciales y los servicios sanitari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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s-ES" sz="2400" spc="-1" strike="noStrike">
                <a:solidFill>
                  <a:srgbClr val="0070c0"/>
                </a:solidFill>
                <a:latin typeface="Calibri"/>
                <a:ea typeface="Times New Roman"/>
              </a:rPr>
              <a:t>Entre público y privado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:  las políticas y los planes involucran aportes privados y del “privado social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70c0"/>
              </a:buClr>
              <a:buFont typeface="Symbol" charset="2"/>
              <a:buChar char="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70c0"/>
                </a:solidFill>
                <a:latin typeface="Calibri"/>
                <a:ea typeface="Times New Roman"/>
              </a:rPr>
              <a:t>Entre fondos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: un plan territorial es financiado por diferentes fuentes públicas (multi-nivel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Picture 3" descr=""/>
          <p:cNvPicPr/>
          <p:nvPr/>
        </p:nvPicPr>
        <p:blipFill>
          <a:blip r:embed="rId1"/>
          <a:stretch/>
        </p:blipFill>
        <p:spPr>
          <a:xfrm>
            <a:off x="1079640" y="1125360"/>
            <a:ext cx="7524720" cy="151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400"/>
            </a:br>
            <a:br>
              <a:rPr sz="2400"/>
            </a:b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Ámbitos territoriales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4DF143-BD2A-489F-AA5E-D26A4BE195E4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Picture 3" descr=""/>
          <p:cNvPicPr/>
          <p:nvPr/>
        </p:nvPicPr>
        <p:blipFill>
          <a:blip r:embed="rId1"/>
          <a:stretch/>
        </p:blipFill>
        <p:spPr>
          <a:xfrm>
            <a:off x="0" y="1413000"/>
            <a:ext cx="3348000" cy="35287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4" descr=""/>
          <p:cNvPicPr/>
          <p:nvPr/>
        </p:nvPicPr>
        <p:blipFill>
          <a:blip r:embed="rId2"/>
          <a:stretch/>
        </p:blipFill>
        <p:spPr>
          <a:xfrm>
            <a:off x="4067280" y="981000"/>
            <a:ext cx="4838760" cy="5616720"/>
          </a:xfrm>
          <a:prstGeom prst="rect">
            <a:avLst/>
          </a:prstGeom>
          <a:ln w="0">
            <a:noFill/>
          </a:ln>
        </p:spPr>
      </p:pic>
      <p:sp>
        <p:nvSpPr>
          <p:cNvPr id="114" name="AutoShape 5"/>
          <p:cNvSpPr/>
          <p:nvPr/>
        </p:nvSpPr>
        <p:spPr>
          <a:xfrm>
            <a:off x="250920" y="5373720"/>
            <a:ext cx="4033800" cy="1224000"/>
          </a:xfrm>
          <a:prstGeom prst="roundRect">
            <a:avLst>
              <a:gd name="adj" fmla="val 16667"/>
            </a:avLst>
          </a:prstGeom>
          <a:solidFill>
            <a:srgbClr val="ebf1de"/>
          </a:solidFill>
          <a:ln cap="sq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Ámbito territorial del Sebino  (12 Municipalidade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Municipalidad líder:  Ise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15" name="AutoShape 6"/>
          <p:cNvCxnSpPr/>
          <p:nvPr/>
        </p:nvCxnSpPr>
        <p:spPr>
          <a:xfrm>
            <a:off x="5580000" y="3284280"/>
            <a:ext cx="434160" cy="64980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6" name="Rectangle 7"/>
          <p:cNvSpPr/>
          <p:nvPr/>
        </p:nvSpPr>
        <p:spPr>
          <a:xfrm>
            <a:off x="0" y="765000"/>
            <a:ext cx="3780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Municipios asociad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1 cumple la función de jefe de fila o líd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AutoShape 8"/>
          <p:cNvSpPr/>
          <p:nvPr/>
        </p:nvSpPr>
        <p:spPr>
          <a:xfrm>
            <a:off x="6516720" y="404640"/>
            <a:ext cx="2303280" cy="576360"/>
          </a:xfrm>
          <a:prstGeom prst="roundRect">
            <a:avLst>
              <a:gd name="adj" fmla="val 16667"/>
            </a:avLst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Existen en total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635 ámbit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68D9FD-6BA1-4C5E-AC67-F25D5C4680B9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Text Box 2"/>
          <p:cNvSpPr/>
          <p:nvPr/>
        </p:nvSpPr>
        <p:spPr>
          <a:xfrm>
            <a:off x="468360" y="189000"/>
            <a:ext cx="82296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Las fa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179280" y="765000"/>
            <a:ext cx="8964720" cy="609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000" spc="-1" strike="noStrike">
                <a:solidFill>
                  <a:srgbClr val="0070c0"/>
                </a:solidFill>
                <a:latin typeface="Calibri"/>
                <a:ea typeface="Times New Roman"/>
              </a:rPr>
              <a:t>Caso Región Pugl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Se conforma la </a:t>
            </a:r>
            <a:r>
              <a:rPr b="0" i="1" lang="es-E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Asamblea de consorcio 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(Municipalidades asociada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s-E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Secretaría general del Plan 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(grupo de trabajo con mandato de coordinació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2.1  publica la información sobre puesta en marcha del proceso de planificac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2.2  instituye y coordina las </a:t>
            </a:r>
            <a:r>
              <a:rPr b="0" i="1" lang="es-E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mesas de concertación 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(temáticas) con los actores del territorio (e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ntre Municipalidades, servicios e instituciones -sobre todo del sector salud -, organizaciones del tercer sector (consulta y/o codiseño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2.3  elabora el  Plan social territorial, de acuerdo con las líneas del Plan region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2.4  convoca la Conferencia de Servicios por mandato de la Asamble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3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Realización de la </a:t>
            </a:r>
            <a:r>
              <a:rPr b="0" i="1" lang="es-E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Conferencia de Servicios 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para la aprobación del Plan (participan: Municipalidades, Servicio de Salud, Provincia, Región, otros acto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3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Financiamiento y puesta en marcha del Plan (tres año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Picture 4" descr=""/>
          <p:cNvPicPr/>
          <p:nvPr/>
        </p:nvPicPr>
        <p:blipFill>
          <a:blip r:embed="rId1"/>
          <a:stretch/>
        </p:blipFill>
        <p:spPr>
          <a:xfrm>
            <a:off x="6645240" y="1322280"/>
            <a:ext cx="2406600" cy="14763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5" descr=""/>
          <p:cNvPicPr/>
          <p:nvPr/>
        </p:nvPicPr>
        <p:blipFill>
          <a:blip r:embed="rId2"/>
          <a:stretch/>
        </p:blipFill>
        <p:spPr>
          <a:xfrm>
            <a:off x="158760" y="1322280"/>
            <a:ext cx="2413080" cy="14763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6" descr=""/>
          <p:cNvPicPr/>
          <p:nvPr/>
        </p:nvPicPr>
        <p:blipFill>
          <a:blip r:embed="rId3"/>
          <a:stretch/>
        </p:blipFill>
        <p:spPr>
          <a:xfrm>
            <a:off x="3187800" y="1249200"/>
            <a:ext cx="2914560" cy="1695600"/>
          </a:xfrm>
          <a:prstGeom prst="rect">
            <a:avLst/>
          </a:prstGeom>
          <a:ln w="0">
            <a:noFill/>
          </a:ln>
        </p:spPr>
      </p:pic>
      <p:sp>
        <p:nvSpPr>
          <p:cNvPr id="124" name="AutoShape 7"/>
          <p:cNvSpPr/>
          <p:nvPr/>
        </p:nvSpPr>
        <p:spPr>
          <a:xfrm>
            <a:off x="2556000" y="1916280"/>
            <a:ext cx="649080" cy="287280"/>
          </a:xfrm>
          <a:prstGeom prst="rightArrow">
            <a:avLst>
              <a:gd name="adj1" fmla="val 50000"/>
              <a:gd name="adj2" fmla="val 49989"/>
            </a:avLst>
          </a:prstGeom>
          <a:solidFill>
            <a:srgbClr val="4f81bd"/>
          </a:solidFill>
          <a:ln cap="sq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8"/>
          <p:cNvSpPr/>
          <p:nvPr/>
        </p:nvSpPr>
        <p:spPr>
          <a:xfrm>
            <a:off x="6012000" y="1916280"/>
            <a:ext cx="647640" cy="28728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4f81bd"/>
          </a:solidFill>
          <a:ln cap="sq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Picture 9" descr=""/>
          <p:cNvPicPr/>
          <p:nvPr/>
        </p:nvPicPr>
        <p:blipFill>
          <a:blip r:embed="rId4"/>
          <a:stretch/>
        </p:blipFill>
        <p:spPr>
          <a:xfrm>
            <a:off x="378000" y="165240"/>
            <a:ext cx="1761840" cy="761760"/>
          </a:xfrm>
          <a:prstGeom prst="rect">
            <a:avLst/>
          </a:prstGeom>
          <a:ln w="0">
            <a:noFill/>
          </a:ln>
        </p:spPr>
      </p:pic>
      <p:sp>
        <p:nvSpPr>
          <p:cNvPr id="127" name="AutoShape 10"/>
          <p:cNvSpPr/>
          <p:nvPr/>
        </p:nvSpPr>
        <p:spPr>
          <a:xfrm rot="5400000">
            <a:off x="871560" y="1089000"/>
            <a:ext cx="649440" cy="287280"/>
          </a:xfrm>
          <a:prstGeom prst="rightArrow">
            <a:avLst>
              <a:gd name="adj1" fmla="val 50000"/>
              <a:gd name="adj2" fmla="val 50017"/>
            </a:avLst>
          </a:prstGeom>
          <a:solidFill>
            <a:srgbClr val="4f81bd"/>
          </a:solidFill>
          <a:ln cap="sq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1"/>
          <p:cNvSpPr/>
          <p:nvPr/>
        </p:nvSpPr>
        <p:spPr>
          <a:xfrm>
            <a:off x="539640" y="0"/>
            <a:ext cx="82296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Estructura de un Pla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48DB09-10B9-424D-BB0B-7C3DF1282CA6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0" y="765000"/>
            <a:ext cx="6516720" cy="573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lang="it-IT" sz="1900" spc="-1" strike="noStrike">
                <a:solidFill>
                  <a:srgbClr val="000000"/>
                </a:solidFill>
                <a:latin typeface="Calibri"/>
                <a:ea typeface="Arial"/>
              </a:rPr>
              <a:t>ANALISIS DEL CONTEXTO Y DEL SISTEMA DE OFFERTA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2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alibri"/>
                <a:ea typeface="Arial"/>
              </a:rPr>
              <a:t>PRIORIDADES ESTRATEGICA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8360" indent="-2811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Arial"/>
              </a:rPr>
              <a:t>ESTRATEGIA DEL AMBITO TERRITORIA PARA CONSOLIDAR EL SISTEMA DEL WELFARE LOCAL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38360" indent="-2811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Arial"/>
              </a:rPr>
              <a:t>OBJETIVOS SE SERVICI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38360" indent="-2811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Arial"/>
              </a:rPr>
              <a:t>ENLACE ENTRE PLANIFICACIÓN ORDINARIA Y OTROS PLANES Y RECURSO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3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alibri"/>
                <a:ea typeface="Arial"/>
              </a:rPr>
              <a:t>PRESUPUEST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8360" indent="-2811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Arial"/>
              </a:rPr>
              <a:t>RECURSOS ORDINARIOS (FNPS, FNA, FGSA)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38360" indent="-2811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Arial"/>
              </a:rPr>
              <a:t>RECURSOS ADICIONAL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38360" indent="-2811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Arial"/>
              </a:rPr>
              <a:t>COFINANCIAMIENTO MUNICIPALIDAD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4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alibri"/>
                <a:ea typeface="Arial"/>
              </a:rPr>
              <a:t>LOS ACTORES DEL SISTEMA DE WELFARE LOC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8360" indent="-2811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Arial"/>
              </a:rPr>
              <a:t>ESTRUCTURA ORGANIZATIVA Y DE GESTIÓ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38360" indent="-2811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Arial"/>
              </a:rPr>
              <a:t>SISTEMA DE GOVERNAN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  <a:ea typeface="Arial"/>
              </a:rPr>
              <a:t>FICHAS DE INTERVENCIONES Y OBJETIVOS DE SERVICI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Rectangle 4"/>
          <p:cNvSpPr/>
          <p:nvPr/>
        </p:nvSpPr>
        <p:spPr>
          <a:xfrm>
            <a:off x="6443640" y="765000"/>
            <a:ext cx="2521080" cy="5204520"/>
          </a:xfrm>
          <a:prstGeom prst="rect">
            <a:avLst/>
          </a:prstGeom>
          <a:noFill/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c00000"/>
                </a:solidFill>
                <a:latin typeface="Calibri"/>
                <a:ea typeface="Times New Roman"/>
              </a:rPr>
              <a:t>Secretaría genera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estructura organizativa de gestión y coordinació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77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s-ES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Análisis de la demanda del territorio y de la capacidad de respuesta;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77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  </a:t>
            </a:r>
            <a:r>
              <a:rPr b="0" lang="es-ES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Coordinación del proceso de concertación y codiseñ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77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  </a:t>
            </a:r>
            <a:r>
              <a:rPr b="0" lang="es-ES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Redacción del pla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77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  </a:t>
            </a:r>
            <a:r>
              <a:rPr b="0" lang="es-ES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Gestión técnica y administrativ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77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  </a:t>
            </a:r>
            <a:r>
              <a:rPr b="0" lang="es-ES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Vigilancia de la integración socio sanitaria y de la articulación con otros plan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77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  </a:t>
            </a:r>
            <a:r>
              <a:rPr b="0" lang="es-ES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Asistencia técnica a los servicios y entidades que implementa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77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  </a:t>
            </a:r>
            <a:r>
              <a:rPr b="0" lang="es-ES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Informes de avances y ajustes a la planificació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2" name="AutoShape 5"/>
          <p:cNvCxnSpPr/>
          <p:nvPr/>
        </p:nvCxnSpPr>
        <p:spPr>
          <a:xfrm>
            <a:off x="-360" y="2565000"/>
            <a:ext cx="469080" cy="3960"/>
          </a:xfrm>
          <a:prstGeom prst="straightConnector1">
            <a:avLst/>
          </a:prstGeom>
          <a:ln cap="sq" w="25560">
            <a:solidFill>
              <a:srgbClr val="4a7ebb"/>
            </a:solidFill>
            <a:miter/>
            <a:tailEnd len="med" type="triangle" w="med"/>
          </a:ln>
        </p:spPr>
      </p:cxn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egnaposto data 1"/>
          <p:cNvSpPr/>
          <p:nvPr/>
        </p:nvSpPr>
        <p:spPr>
          <a:xfrm>
            <a:off x="457200" y="6356520"/>
            <a:ext cx="21286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0D7D58-0B3C-49EF-9D4D-A6501C278B7A}" type="datetime"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31/07/26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1"/>
          <p:cNvSpPr/>
          <p:nvPr/>
        </p:nvSpPr>
        <p:spPr>
          <a:xfrm>
            <a:off x="539640" y="189000"/>
            <a:ext cx="82296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Aspectos medulares de la implementa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Text Box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F12583-017A-436E-A830-ABDFF0836C6B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Text Box 3"/>
          <p:cNvSpPr/>
          <p:nvPr/>
        </p:nvSpPr>
        <p:spPr>
          <a:xfrm>
            <a:off x="0" y="765000"/>
            <a:ext cx="8964720" cy="573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→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Gestión asociada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de los servicios por parte de las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Municipalidades: una Municipalidad puede proporcionar un servicio para todo el ámbito territorial. 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(superar la fragmentación, garantizar la cobertura, racionalizar la oferta, igualdad de oportunidade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→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Calibri"/>
              </a:rPr>
              <a:t>Gestión integrada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servicios municipales – servicios de salud (para lo cual se suscribe un “Acuerdo de Programa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→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Calibri"/>
              </a:rPr>
              <a:t>Gestión delegada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a organizaciones del tercer sector (ya en la fase de redacción del Plan se suscribe un “Pacto de participación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→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Calibri"/>
              </a:rPr>
              <a:t>Licitaciones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para proyecto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→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Articulación con otros planes regionales y naciona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→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Rol central de la Secretaría del pl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→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Informe anual y ajustes a la programa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alibri"/>
              </a:rPr>
              <a:t>Italia: algunos dat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6840" y="1599840"/>
            <a:ext cx="82249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59 millones de habitant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Territorio 301,340 m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Presencia de minorías étnicas : alemanes, eslovenos, otro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Lengua: italiano, más minorías important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IDH: lugar 25. a nivel mundi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PIB:  9. lugar en el mund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Indice de Gini: 0.34 (2004: 0.332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Desempleo: 12.7% (2013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Población bajo línea pobreza: 16.3%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Incidencia migrantes: apróx. 8.1%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egnaposto data 3"/>
          <p:cNvSpPr/>
          <p:nvPr/>
        </p:nvSpPr>
        <p:spPr>
          <a:xfrm>
            <a:off x="457200" y="6356520"/>
            <a:ext cx="21286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1DF242-F757-42AF-A8AC-37D46A946DC9}" type="datetime"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31/07/26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1"/>
          <p:cNvSpPr/>
          <p:nvPr/>
        </p:nvSpPr>
        <p:spPr>
          <a:xfrm>
            <a:off x="324000" y="189000"/>
            <a:ext cx="83628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Principales prestaciones en los territori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Text Box 2"/>
          <p:cNvSpPr/>
          <p:nvPr/>
        </p:nvSpPr>
        <p:spPr>
          <a:xfrm>
            <a:off x="457200" y="907920"/>
            <a:ext cx="8229600" cy="56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El Estado aún  no ha definido los niveles esenciales y los derechos sociales correspondientes a prestaciones exigibles (existen para salud y educación). Ante esta falta, las Regiones, en sus leyes y planes sociales, han definido las prestaciones básicas que deben ser garantizadas, retomando las indicadas por la Ley 328/2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4A4809-6D98-4BC9-BEFB-ECA4BAAFFD9A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0" name="Object 4"/>
          <p:cNvGraphicFramePr/>
          <p:nvPr/>
        </p:nvGraphicFramePr>
        <p:xfrm>
          <a:off x="539640" y="2492280"/>
          <a:ext cx="7867800" cy="410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2492280"/>
                    <a:ext cx="7867800" cy="410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1"/>
          <p:cNvSpPr/>
          <p:nvPr/>
        </p:nvSpPr>
        <p:spPr>
          <a:xfrm>
            <a:off x="457200" y="274680"/>
            <a:ext cx="822960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Entrada al sistema de servici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"/>
          <p:cNvSpPr/>
          <p:nvPr/>
        </p:nvSpPr>
        <p:spPr>
          <a:xfrm>
            <a:off x="468360" y="1125360"/>
            <a:ext cx="82296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8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504F82-01DD-4052-9834-530BD66C341D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Oval 4"/>
          <p:cNvSpPr/>
          <p:nvPr/>
        </p:nvSpPr>
        <p:spPr>
          <a:xfrm>
            <a:off x="684360" y="3357720"/>
            <a:ext cx="3743280" cy="2087280"/>
          </a:xfrm>
          <a:prstGeom prst="ellipse">
            <a:avLst/>
          </a:prstGeom>
          <a:solidFill>
            <a:srgbClr val="4f81bd"/>
          </a:solidFill>
          <a:ln cap="sq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alibri"/>
              </a:rPr>
              <a:t>SERVICIO SOCIAL PROFESION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alibri"/>
              </a:rPr>
              <a:t>Puerta de entrada al sistem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46" name="AutoShape 5"/>
          <p:cNvCxnSpPr/>
          <p:nvPr/>
        </p:nvCxnSpPr>
        <p:spPr>
          <a:xfrm flipV="1">
            <a:off x="3492360" y="2204640"/>
            <a:ext cx="648360" cy="1296000"/>
          </a:xfrm>
          <a:prstGeom prst="straightConnector1">
            <a:avLst/>
          </a:prstGeom>
          <a:ln cap="sq"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47" name="AutoShape 6"/>
          <p:cNvCxnSpPr/>
          <p:nvPr/>
        </p:nvCxnSpPr>
        <p:spPr>
          <a:xfrm flipV="1">
            <a:off x="3797280" y="2939400"/>
            <a:ext cx="1945440" cy="864360"/>
          </a:xfrm>
          <a:prstGeom prst="straightConnector1">
            <a:avLst/>
          </a:prstGeom>
          <a:ln cap="sq"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48" name="AutoShape 7"/>
          <p:cNvCxnSpPr/>
          <p:nvPr/>
        </p:nvCxnSpPr>
        <p:spPr>
          <a:xfrm flipV="1">
            <a:off x="4284360" y="3933360"/>
            <a:ext cx="2159640" cy="432720"/>
          </a:xfrm>
          <a:prstGeom prst="straightConnector1">
            <a:avLst/>
          </a:prstGeom>
          <a:ln cap="sq"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49" name="AutoShape 8"/>
          <p:cNvCxnSpPr/>
          <p:nvPr/>
        </p:nvCxnSpPr>
        <p:spPr>
          <a:xfrm>
            <a:off x="4284360" y="4581000"/>
            <a:ext cx="2159640" cy="73800"/>
          </a:xfrm>
          <a:prstGeom prst="straightConnector1">
            <a:avLst/>
          </a:prstGeom>
          <a:ln cap="sq"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50" name="AutoShape 9"/>
          <p:cNvCxnSpPr/>
          <p:nvPr/>
        </p:nvCxnSpPr>
        <p:spPr>
          <a:xfrm>
            <a:off x="3563640" y="5300640"/>
            <a:ext cx="2089800" cy="218160"/>
          </a:xfrm>
          <a:prstGeom prst="straightConnector1">
            <a:avLst/>
          </a:prstGeom>
          <a:ln cap="sq"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51" name="AutoShape 10"/>
          <p:cNvSpPr/>
          <p:nvPr/>
        </p:nvSpPr>
        <p:spPr>
          <a:xfrm>
            <a:off x="4211640" y="1628640"/>
            <a:ext cx="1873080" cy="72072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cap="sq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alibri"/>
              </a:rPr>
              <a:t>SERVICI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AutoShape 11"/>
          <p:cNvSpPr/>
          <p:nvPr/>
        </p:nvSpPr>
        <p:spPr>
          <a:xfrm>
            <a:off x="6012000" y="2492280"/>
            <a:ext cx="1873080" cy="72072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cap="sq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alibri"/>
              </a:rPr>
              <a:t>SERVICI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12"/>
          <p:cNvSpPr/>
          <p:nvPr/>
        </p:nvSpPr>
        <p:spPr>
          <a:xfrm>
            <a:off x="6659640" y="3429000"/>
            <a:ext cx="1873080" cy="72072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cap="sq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alibri"/>
              </a:rPr>
              <a:t>SERVICI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AutoShape 13"/>
          <p:cNvSpPr/>
          <p:nvPr/>
        </p:nvSpPr>
        <p:spPr>
          <a:xfrm>
            <a:off x="6588000" y="4292640"/>
            <a:ext cx="1871640" cy="72072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cap="sq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alibri"/>
              </a:rPr>
              <a:t>SERVICI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AutoShape 14"/>
          <p:cNvSpPr/>
          <p:nvPr/>
        </p:nvSpPr>
        <p:spPr>
          <a:xfrm>
            <a:off x="5796000" y="5229360"/>
            <a:ext cx="1871640" cy="72072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cap="sq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alibri"/>
              </a:rPr>
              <a:t>SERVICI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AutoShape 15"/>
          <p:cNvSpPr/>
          <p:nvPr/>
        </p:nvSpPr>
        <p:spPr>
          <a:xfrm>
            <a:off x="324000" y="1125360"/>
            <a:ext cx="2303280" cy="1438560"/>
          </a:xfrm>
          <a:prstGeom prst="roundRect">
            <a:avLst>
              <a:gd name="adj" fmla="val 16667"/>
            </a:avLst>
          </a:prstGeom>
          <a:solidFill>
            <a:srgbClr val="dce6f2"/>
          </a:solidFill>
          <a:ln cap="sq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Bell MT"/>
              </a:rPr>
              <a:t>La cantidad y calidad de los servicios no es homogénea en todo el territorio nacional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1"/>
          <p:cNvSpPr/>
          <p:nvPr/>
        </p:nvSpPr>
        <p:spPr>
          <a:xfrm>
            <a:off x="395280" y="189000"/>
            <a:ext cx="822960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Principales target y principios de actua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2"/>
          <p:cNvSpPr/>
          <p:nvPr/>
        </p:nvSpPr>
        <p:spPr>
          <a:xfrm>
            <a:off x="250920" y="907920"/>
            <a:ext cx="8713800" cy="57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Los servicios que constituyen el </a:t>
            </a:r>
            <a:r>
              <a:rPr b="0" i="1" lang="es-ES" sz="1800" spc="-1" strike="noStrike">
                <a:solidFill>
                  <a:srgbClr val="000000"/>
                </a:solidFill>
                <a:latin typeface="Calibri"/>
              </a:rPr>
              <a:t>piso básico 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de prestaciones son en su mayoría de carácter universalista (en diferentes casos el acceso es según nivel de renta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ff0000"/>
                </a:solidFill>
                <a:latin typeface="Calibri"/>
              </a:rPr>
              <a:t>Usuarios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:  italianos, europeos, extranjer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ff0000"/>
                </a:solidFill>
                <a:latin typeface="Calibri"/>
              </a:rPr>
              <a:t>Target prioritarios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Pobres y personas e situación de exclus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Infancia y adolescenc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Familia, víctimas de violencia y trat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Migrantes, solicitantes asilo y refugiad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Discapacitad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Adultos mayor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Personas con problemas de salud mental y dependenci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Personas sin empleo (para la inserción laboral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ff0000"/>
                </a:solidFill>
                <a:latin typeface="Calibri"/>
              </a:rPr>
              <a:t>Principios comunes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Promoción de la autonomía, promoción social, personalización, atención domiciliaria o en centros, valorización de la familia, prevención, integración (sectores social, sanitario, educativo, ocupacional), subsidiariedad y complementariedad público-privado, mix prestaciones monetarias – servicio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Text Box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2C787F-6FA1-4D66-9A6F-F378C72B78C8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6A2C06-C7BC-4EA0-9262-93D7AA88FA98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1" name="Object 2"/>
          <p:cNvGraphicFramePr/>
          <p:nvPr/>
        </p:nvGraphicFramePr>
        <p:xfrm>
          <a:off x="177840" y="1200240"/>
          <a:ext cx="5046480" cy="4548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7840" y="1200240"/>
                    <a:ext cx="5046480" cy="454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3" name="Object 3"/>
          <p:cNvGraphicFramePr/>
          <p:nvPr/>
        </p:nvGraphicFramePr>
        <p:xfrm>
          <a:off x="4356000" y="333360"/>
          <a:ext cx="4680000" cy="6264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4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56000" y="333360"/>
                    <a:ext cx="4680000" cy="626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1"/>
          <p:cNvSpPr/>
          <p:nvPr/>
        </p:nvSpPr>
        <p:spPr>
          <a:xfrm>
            <a:off x="457200" y="189000"/>
            <a:ext cx="82296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400"/>
            </a:b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Conclusiones sobre planificación y coordinación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Text Box 2"/>
          <p:cNvSpPr/>
          <p:nvPr/>
        </p:nvSpPr>
        <p:spPr>
          <a:xfrm>
            <a:off x="216000" y="1771560"/>
            <a:ext cx="8351640" cy="41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SISTEMA, no programas o proyect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TERRITORIALIZADO 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(pertinencia, subsidiariedad) y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MULTIACT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Niveles esenciales prestacio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PLANIFICACIÓN PLURIANU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INTEGRACION </a:t>
            </a:r>
            <a:r>
              <a:rPr b="0" i="1" lang="es-ES" sz="2400" spc="-1" strike="noStrike">
                <a:solidFill>
                  <a:srgbClr val="000000"/>
                </a:solidFill>
                <a:latin typeface="Calibri"/>
              </a:rPr>
              <a:t>a monte, non a valle  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(es más difícil integrar lo que ha nacido por vías paralelas / es más fácil integra y coordinarse cuando se planifica conjuntament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FONDOS COMU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Coordinación a través de las Secretarías generales y puertas únicas de entrada al sistem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Innova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Text Box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5066BD-E38F-49D4-84FF-2594AFE4C962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alibri"/>
              </a:rPr>
              <a:t>PROBLEM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alibri"/>
              </a:rPr>
              <a:t>Reducción dramática de los financiamientos nacionales (sin federalismo fiscal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alibri"/>
              </a:rPr>
              <a:t>Falta de definición nacional de los niveles esenciales de las prestacion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alibri"/>
              </a:rPr>
              <a:t>Falta de un fuerte rol central nacion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alibri"/>
              </a:rPr>
              <a:t>El sistema nacional depende mucho de las capacidades (políticas, financieras y técnicas) de los actores local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alibri"/>
              </a:rPr>
              <a:t>Persiste una alta fragmentación de medidas y prestaciones, sobre todo de carácter nacional, de tipo sectorial y categorial y monetario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alibri"/>
              </a:rPr>
              <a:t>Tendencia a la concentración en la vulnerabilidad soci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alibri"/>
              </a:rPr>
              <a:t>Auto referencialidad como tendencia de muchas institucion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alibri"/>
              </a:rPr>
              <a:t>Superposición de planes europeos y nacionale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alibri"/>
              </a:rPr>
              <a:t>Las regiones italianas (1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Italia está dividida en 20 regione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Las regiones tienen autonomía estatutaria, legislativa, reglamentaria y financier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alibri"/>
              </a:rPr>
              <a:t>Las regiones italianas (2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99680" y="1428480"/>
            <a:ext cx="82263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Las regiones tienen competencias exclusivas o complementarias en todas las materias, excluídas las que corresponden únicamente al Estad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Quedan por lo tanto excluídas Política Exterior, Inmigración, Defensa, Orden Público, Administración del Estado, Educación, Seguridad Nacional, Fronteras, Finanzas Públicas, Elecciones, Seguridad Social, Aduanas, Derechos civiles y sociales, Medio Ambient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" descr=""/>
          <p:cNvPicPr/>
          <p:nvPr/>
        </p:nvPicPr>
        <p:blipFill>
          <a:blip r:embed="rId1"/>
          <a:stretch/>
        </p:blipFill>
        <p:spPr>
          <a:xfrm>
            <a:off x="2567160" y="0"/>
            <a:ext cx="52815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1" descr=""/>
          <p:cNvPicPr/>
          <p:nvPr/>
        </p:nvPicPr>
        <p:blipFill>
          <a:blip r:embed="rId1"/>
          <a:stretch/>
        </p:blipFill>
        <p:spPr>
          <a:xfrm>
            <a:off x="2567160" y="0"/>
            <a:ext cx="528156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Ovale 4"/>
          <p:cNvSpPr/>
          <p:nvPr/>
        </p:nvSpPr>
        <p:spPr>
          <a:xfrm rot="21266400">
            <a:off x="3346200" y="1020600"/>
            <a:ext cx="1968480" cy="1328760"/>
          </a:xfrm>
          <a:prstGeom prst="ellipse">
            <a:avLst/>
          </a:prstGeom>
          <a:solidFill>
            <a:srgbClr val="00b8ff">
              <a:alpha val="1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File:Mappa stranieri in Italia per paese d'origine.png"/>
          <p:cNvPicPr/>
          <p:nvPr/>
        </p:nvPicPr>
        <p:blipFill>
          <a:blip r:embed="rId1"/>
          <a:stretch/>
        </p:blipFill>
        <p:spPr>
          <a:xfrm>
            <a:off x="0" y="571680"/>
            <a:ext cx="9786960" cy="56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-571680" y="0"/>
            <a:ext cx="10434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5T09:29:15Z</dcterms:created>
  <dc:creator>Francesco Maria FMC. Chiodi</dc:creator>
  <dc:description/>
  <dc:language>en-US</dc:language>
  <cp:lastModifiedBy>Valued Acer Customer</cp:lastModifiedBy>
  <dcterms:modified xsi:type="dcterms:W3CDTF">2014-03-28T15:24:51Z</dcterms:modified>
  <cp:revision>402</cp:revision>
  <dc:subject/>
  <dc:title>Diapositiva 1</dc:title>
</cp:coreProperties>
</file>