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C9D4-8C36-4559-8B31-0685A08A7F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1520" y="8685360"/>
            <a:ext cx="2976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A75E4120-B286-438D-ACDC-69341E675DD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FFC-C81D-477A-B4FA-B6601D2B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D61-AE69-4189-8425-01C4CDB6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A6C-7EFB-4D9F-817E-4328754C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152-01F9-4B06-AA44-EF2B3A43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252-1303-46CD-B270-27833A7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EAA-D0CC-40AD-BEB6-79719D5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C55-6878-4D91-BF5B-50B620AF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5CA-43B1-4BBD-849E-6C7417CB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6C7-C4C8-464C-A6FA-DA41453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ED8-6EF3-4190-AA8C-39CD3BC4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C88-8F6A-4870-8BDA-1301479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81D-974A-4623-BD64-92061DA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D49F-F374-4EDB-9D9E-2937298C8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El Modelo de Gestión Territorial de la Protección Social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Ministerio de Desarrollo Social - Uruguay</a:t>
            </a:r>
            <a:br>
              <a:rPr sz="3200"/>
            </a:br>
            <a:br>
              <a:rPr sz="3200"/>
            </a:br>
            <a:r>
              <a:rPr b="1" lang="es-UY" sz="3000" spc="-1" strike="noStrike">
                <a:solidFill>
                  <a:srgbClr val="004586"/>
                </a:solidFill>
                <a:latin typeface="Arial"/>
              </a:rPr>
              <a:t>Dirección Nacional de Gestión Territorial</a:t>
            </a:r>
            <a:br>
              <a:rPr sz="30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Lic. Martín Rodríguez</a:t>
            </a:r>
            <a:br>
              <a:rPr sz="32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3067200"/>
            <a:ext cx="573696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000240" y="5153040"/>
            <a:ext cx="378648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58ed5"/>
                </a:solidFill>
                <a:latin typeface="Arial"/>
              </a:rPr>
              <a:t>Los dispositivos territoriales: “puertas de entrada” y “eternos demandan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9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dispositivos territoriales: so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 punto de encuentro entre el conjunto de programas y acciones del MIDES y la ciudadan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plen la función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ció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en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nculo con los programas (difusión, información, inscripción, derivación, registro, apoyo a la implemen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uimient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ormación de redes locales de prote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ística global del MIDES en su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El despliegue territorial en cifras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9 Direcciones Departamentale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 Oficinas Territorial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80 funcionari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técnicos y administrativos) dependientes de estos servicios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5 Servicios de Orientación, Consulta y Articulación Territori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OCAT) ejecutados a través de OSC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250 técnicos 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4295880" cy="3009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4786200" y="1285920"/>
            <a:ext cx="4143600" cy="3243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57120" y="3571920"/>
            <a:ext cx="42004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58ed5"/>
                </a:solidFill>
                <a:latin typeface="Arial"/>
              </a:rPr>
              <a:t>Las consultas atendid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28440" y="1143000"/>
            <a:ext cx="6537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182" name="3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801036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6465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pic>
        <p:nvPicPr>
          <p:cNvPr id="192" name="Chart 7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083800" cy="47307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3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bbe0e3"/>
                </a:solidFill>
                <a:latin typeface="Arial"/>
              </a:rPr>
              <a:t>Principales motivos de con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5280" y="907920"/>
            <a:ext cx="74581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eterna discusión polí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nsión centralidad – territori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Comunicación entre niveles?¿Qué márgenes para la innovación a nivel local se definirán? ¿Cómo acompasar el aumento de responsabilidades en el territorio con la disminución de los déficits en las capacidad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y mejorar procesos y metodologías de trabajo en los cuatro pilares del trabajo territo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articulación intra e inter, atención ciudadana y promoción de la particip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u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y recursos huma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acordes a las necesidades de un servicio de calidad (recursos limitados y escasez de oferta profesional en zonas perifér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1557360"/>
            <a:ext cx="648036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ción/articulación interinstituc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trabajo intersectorial como camino a intervenciones integrales, problemas de comunicación vertical, dificultad de lograr posiciones institucionales comunes en diferentes niveles de gestión, incentivos para el trabajo  asoc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 se gestion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¿en qué etapa del ciclo de la política social? ¿En qué áreas de política? ¿Con qué instrument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4000" spc="-1" strike="noStrike">
              <a:solidFill>
                <a:srgbClr val="558ed5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32000" y="1989000"/>
            <a:ext cx="6480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¡Muchas graci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ic. Martín Rodríguez Araú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ector Nacional de Gest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rtinrodriguez@mides.gub.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Arial"/>
              </a:rPr>
              <a:t>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65" name="12 Imagen" descr="http://www.uruguayuruguay.com/graphics%20uruguayruguay/bandera-uruguay.jpg"/>
          <p:cNvPicPr/>
          <p:nvPr/>
        </p:nvPicPr>
        <p:blipFill>
          <a:blip r:embed="rId2"/>
          <a:stretch/>
        </p:blipFill>
        <p:spPr>
          <a:xfrm>
            <a:off x="755640" y="981000"/>
            <a:ext cx="2352600" cy="1569960"/>
          </a:xfrm>
          <a:prstGeom prst="rect">
            <a:avLst/>
          </a:prstGeom>
          <a:ln w="0">
            <a:noFill/>
          </a:ln>
        </p:spPr>
      </p:pic>
      <p:pic>
        <p:nvPicPr>
          <p:cNvPr id="66" name="13 Imagen" descr="http://karenberger.com.uy/wp-content/themes/karenberger/images/foto-mapa-kb.jpg"/>
          <p:cNvPicPr/>
          <p:nvPr/>
        </p:nvPicPr>
        <p:blipFill>
          <a:blip r:embed="rId3"/>
          <a:stretch/>
        </p:blipFill>
        <p:spPr>
          <a:xfrm>
            <a:off x="5435640" y="83664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14 Imagen" descr="http://eldiario.com.uy/wp-content/uploads/2012/06/Luis-Suarez-Uruguay.jpg"/>
          <p:cNvPicPr/>
          <p:nvPr/>
        </p:nvPicPr>
        <p:blipFill>
          <a:blip r:embed="rId4"/>
          <a:stretch/>
        </p:blipFill>
        <p:spPr>
          <a:xfrm>
            <a:off x="539640" y="2637000"/>
            <a:ext cx="2702160" cy="1746000"/>
          </a:xfrm>
          <a:prstGeom prst="rect">
            <a:avLst/>
          </a:prstGeom>
          <a:ln w="0">
            <a:noFill/>
          </a:ln>
        </p:spPr>
      </p:pic>
      <p:pic>
        <p:nvPicPr>
          <p:cNvPr id="68" name="16 Imagen" descr="http://hypescience.com/wp-content/uploads/2010/09/vaca1.jpg"/>
          <p:cNvPicPr/>
          <p:nvPr/>
        </p:nvPicPr>
        <p:blipFill>
          <a:blip r:embed="rId5"/>
          <a:stretch/>
        </p:blipFill>
        <p:spPr>
          <a:xfrm>
            <a:off x="3419640" y="1341360"/>
            <a:ext cx="180000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17 Imagen" descr="http://www.semillasdevida.com.ar/wp-content/uploads/marihuana.jpg"/>
          <p:cNvPicPr/>
          <p:nvPr/>
        </p:nvPicPr>
        <p:blipFill>
          <a:blip r:embed="rId6"/>
          <a:stretch/>
        </p:blipFill>
        <p:spPr>
          <a:xfrm>
            <a:off x="7020000" y="3500280"/>
            <a:ext cx="1785960" cy="16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348000" y="3141720"/>
            <a:ext cx="3529080" cy="228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9640" y="4508640"/>
            <a:ext cx="2751120" cy="112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380360" y="907920"/>
            <a:ext cx="141444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Algunas cifras de 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rritorio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176 mil kilómetros cuad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paración Iglesia-Estado,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ciedad la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tnico-racialment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omogé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o Hu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lto (51 mundo, 3 en América La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empl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6.5% (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 bajo línea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12.4% (2012), 36.6%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 extre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0.5% (2012), 3.5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Gini: 0.382 (2012), 0.441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58ed5"/>
                </a:solidFill>
                <a:latin typeface="Arial"/>
              </a:rPr>
              <a:t>Algunos</a:t>
            </a: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 desafíos 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ciedad integrada, equiparación d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 de la calidad de servicios públicos (educación, salud, vivie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nuar con la reducción de la pobreza con distribución de 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de cuidados (1ª infancia, discapacidad, adulto mayor depend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versificación de la matriz productiva (vínculo social + produc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58ed5"/>
                </a:solidFill>
                <a:latin typeface="Arial"/>
              </a:rPr>
              <a:t>Arquitectura institucional de la protección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1484280"/>
            <a:ext cx="7031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jo de Ministros - Gabinete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jo Nacional de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as interinstitucionales de Políticas Sociales (M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as de Coordinación Zonal (MC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os temáticos (familia, educación, violenci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2565360"/>
            <a:ext cx="217440" cy="504720"/>
          </a:xfrm>
          <a:prstGeom prst="upDownArrow">
            <a:avLst>
              <a:gd name="adj1" fmla="val 50000"/>
              <a:gd name="adj2" fmla="val 46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860640"/>
            <a:ext cx="217440" cy="505080"/>
          </a:xfrm>
          <a:prstGeom prst="upDownArrow">
            <a:avLst>
              <a:gd name="adj1" fmla="val 50000"/>
              <a:gd name="adj2" fmla="val 46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58ed5"/>
                </a:solidFill>
                <a:latin typeface="Arial"/>
              </a:rPr>
              <a:t>El Ministerio de Desarrollo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072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do en 2005 con el objetivo central de articular las políticas sociales y la atención de las situaciones de mayor vulnerabilidad (PANES, Plan de Equida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zado en el inicio por la atención a la emergencia social lo cual condicionó su desarrollo y capacidades institucion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a institutos sociales (juventud, infancia, género, adulto may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esar de ello en 9 años el MIDES logra consolidar una presencia nacional, desarrollando un conjunto de acciones públicas que llegaron a los sectores más vulnerables e instalando las bases para una institucionalidad de la coordinación de las políticas sociales orientadas al desarrollo soc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es programas: Transferencias Monetarias, Programas Sociolaborales, Socioeducativos, Atención a la vulnerabilidad extrema , Discapac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2011 inicia un proceso de reestructura organizacional que tuvo como uno de sus pilares la reorganización territo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Cometidos del M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28800" y="1142640"/>
            <a:ext cx="6465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ordinar y articular las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eñar, coordinar, ejecutar y evaluar planes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toría en juventud, género, adulto mayor, dis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expresión tiene eso para la gestión territo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58ed5"/>
                </a:solidFill>
                <a:latin typeface="Arial"/>
              </a:rPr>
              <a:t>Los pilares del Modelo de Gestión Territorial del 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278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tención ciudadana (los dispositivos territor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coordinación con programas, servicios e iniciativas regulatorias del M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rticulación interinstitucional de base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 rot="10800000">
            <a:off x="8136000" y="144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"/>
          <p:cNvSpPr/>
          <p:nvPr/>
        </p:nvSpPr>
        <p:spPr>
          <a:xfrm>
            <a:off x="0" y="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0" y="674208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9036000" y="766800"/>
            <a:ext cx="108000" cy="609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179280" y="5940360"/>
            <a:ext cx="8785440" cy="180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-39240" bIns="-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6156360" y="6308640"/>
            <a:ext cx="25797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12 Conector recto"/>
          <p:cNvSpPr/>
          <p:nvPr/>
        </p:nvSpPr>
        <p:spPr>
          <a:xfrm>
            <a:off x="392040" y="6172200"/>
            <a:ext cx="8556840" cy="0"/>
          </a:xfrm>
          <a:prstGeom prst="line">
            <a:avLst/>
          </a:prstGeom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Marcador de contenido" descr=""/>
          <p:cNvPicPr/>
          <p:nvPr/>
        </p:nvPicPr>
        <p:blipFill>
          <a:blip r:embed="rId2"/>
          <a:stretch/>
        </p:blipFill>
        <p:spPr>
          <a:xfrm>
            <a:off x="676440" y="1262160"/>
            <a:ext cx="7943760" cy="4870440"/>
          </a:xfrm>
          <a:prstGeom prst="rect">
            <a:avLst/>
          </a:prstGeom>
          <a:ln w="0">
            <a:noFill/>
          </a:ln>
        </p:spPr>
      </p:pic>
      <p:sp>
        <p:nvSpPr>
          <p:cNvPr id="140" name="14 Flecha derecha"/>
          <p:cNvSpPr/>
          <p:nvPr/>
        </p:nvSpPr>
        <p:spPr>
          <a:xfrm>
            <a:off x="357120" y="3071880"/>
            <a:ext cx="2214720" cy="15714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ación de Program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3:23:16Z</dcterms:created>
  <dc:creator>mides</dc:creator>
  <dc:description/>
  <dc:language>en-US</dc:language>
  <cp:lastModifiedBy>mides</cp:lastModifiedBy>
  <dcterms:modified xsi:type="dcterms:W3CDTF">2014-03-28T14:03:42Z</dcterms:modified>
  <cp:revision>4</cp:revision>
  <dc:subject/>
  <dc:title> El Modelo de Gestión Territorial de la Protección Social  Ministerio de Desarrollo Social - Uruguay  Dirección Nacional de Gestión Territorial Lic. Martín Rodríguez   </dc:title>
</cp:coreProperties>
</file>