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E6EE-17A1-4FA4-A3F1-0DC51201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E8C-FF55-4AD6-A3C5-AA3026F6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2B3-3B4E-4D00-A24F-96032EE4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FFF-4B96-4C6C-800A-2FA6D5E2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3238-3359-47B1-A766-43C4A3F3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026A-2869-4DE1-B64D-E640FBF9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6F19-EB9A-425F-9478-7E9207CE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B45A-75DC-4042-BB16-D7FECFF0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9F50-3B6F-45E9-A0E1-AD42BAC6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DF84-9FC0-45F4-ADF7-46F05124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4459-4CE9-45FF-BCEE-FCEC3D93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48A-75AE-43D1-AD73-A30A9A33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0BC8-3F21-495B-BDCB-FE4E04AC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D9C1-FE3F-46F7-B5A6-568512E8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4F47-4492-46B2-B061-C89A1C72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BCC9-160C-4E0C-8E8A-B4494F43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F11F-8AF2-4E66-AFCE-B013B9D3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8A9A1-E61C-4082-9999-D0890532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D9A4-D7E7-4941-B187-BFC5EEA4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5B5C1-1A2A-460F-A5D1-87628C53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A6FC-CF2C-4DC4-AFF5-3D68AF2C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AB493-C92F-42AA-B783-3DE687D4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594-3511-4CD6-96F0-36E0F734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1D777-252C-451D-92AB-8FAD05CC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4B48-F7F8-42AE-996B-086A4799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F6E3-E096-4E1A-91D9-A07B1301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14BC3-D012-4EDD-9FCB-6FE8E219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7E77-A34A-4499-BF10-A3B76962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AE0B-1977-49CD-8918-A37EACED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B5226-F2B2-4C24-B55A-EE20045F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BF1EE-E9D5-4E15-9A9E-B251CDB7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179B8-38A0-4726-84ED-466B846D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AEA71-8935-439A-BA86-F81CFD8A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172-F7A2-4334-AC67-64B7EE98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568A6-6554-4193-A6E5-D58E9703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37BCA-D864-496D-A762-A8057BF9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B1EDF-12EB-49A2-A046-D36CB888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6448F-645F-4F44-9BF9-1CEC0D97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F563B-916E-412F-8D4E-72119974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D0219-2D8E-4A88-B669-3F22A2F2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5CA58-7C64-415C-9558-E55E0525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F1B4F-07FC-4602-BBCE-25BE4827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82CE-3762-4934-85EF-72316329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B53A9-9498-401E-BFAF-2CD8F5E6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F88-7D72-45AE-995B-99A9A440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52370-2985-4E77-B622-A3720177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9F99B-31F7-41A5-AEDC-17CEC846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81C02-25C5-4727-B721-7311C4B8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75543-5A24-43DA-A522-3AE9AEA6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41E90-5CBD-4EE2-BDB7-F784FCBA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FD324-86AC-40EE-848D-5C3D1C0F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C5B97-33CF-4980-9BC2-67A2FB25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B8CDF-61E8-44A5-B780-3ACFE761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FB215-1640-4330-AE02-4A7CCCDD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54467-FF47-44FE-99E3-14E7BADC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EAB-ED50-4AD2-963F-9B6598F1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08B6C-2EEF-4F77-9655-0910534B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7D745-FFC0-4620-8E3C-324E7746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E7100-F3E8-4E38-AAEA-50E7129A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EED61-8FA3-4BA6-81D3-7C73CC1F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74FB3-DC4E-4C8B-810A-DDC345BC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5DC3F-8162-4717-9331-C612E589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0CFB1-0455-4457-8738-9691C995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C6548-B988-47CD-9CAF-7ACB56B1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9A26E-6CCE-4B14-A3BC-F472A3B9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03369-2358-4BAF-A52B-A2532C2C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C5D-D861-4AAF-9FCD-D7F06791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CF0BD-13E0-4F7B-83D7-19D4BAB8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5F795-07DE-4211-AED1-B8E86247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75A0B-505D-426A-949F-3D0F23E0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58E3E-9377-4433-8154-DFD6BB59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F3002-4FC9-48C2-9058-D858B761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4E992-76B3-4A24-894C-D5DE5413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FF86B-F244-4930-BFBF-3A6AA0AE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6F738-2F02-468F-BA3A-B5D2E9AC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E633E-CC19-437D-BF30-0350A38E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378C6-E30A-4510-908A-5E0EFE0A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7EB-BA2E-41AA-80CF-58D16F2C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4EF5E-C2A9-401B-B58F-4CE19FCB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E5D83-36C2-4DA0-B466-97FDE854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82FA8-EF3F-43F3-8DC0-1DF35C2B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D5CA4-61CF-4C75-A7D3-C01FA186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2D765-0876-4E88-BB98-05FC8FBD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ED2B7-C424-45B9-B889-0CE4748C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ECF90-F85B-470F-9856-8E8883E8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BC6F8-AB72-42B1-A70F-9AF91E2F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16BC1-2F0E-4EB1-8F85-4F0B0F00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D6DBB-FE20-45C5-BD64-9583AAEE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13C-A838-4713-BFFA-C4DDD71D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B92BE-9937-43BD-8DDF-83A3437E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8B253-BA46-4174-B65D-DBDE468A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2E84A-6032-410C-805E-B320DB3B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F0F82-3E2E-427E-9C8B-D3F361C1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5602D-03BE-4C48-9248-30B75882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F3D4B-9DC2-469F-9952-8026D5B1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D033F-B821-447E-BF6D-82E6E73E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6710-7123-433E-972F-B48135B66A7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930F-2E36-4318-9885-BBB182F158F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396B-903F-465D-AAD1-CC8490056DA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FF51-7E4A-4665-ADDB-282A372EF06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674C-008D-4761-A72C-D2A9FA2BD71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3966-CF25-4A7B-B898-65E9A6F005A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Obraz 6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3996-4362-4FF4-95FE-FECA8702320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Obraz 6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FD21-FA95-4011-8541-5D22548A35F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971640" y="1916280"/>
            <a:ext cx="72007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600" spc="-1" strike="noStrike">
                <a:solidFill>
                  <a:srgbClr val="ffffff"/>
                </a:solidFill>
                <a:latin typeface="Tahoma"/>
              </a:rPr>
              <a:t>ituación socioeconómica</a:t>
            </a:r>
            <a:r>
              <a:rPr b="1" lang="pl-PL" sz="2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Tahoma"/>
              </a:rPr>
              <a:t>y sistema de planificación estratégica de la política de desarrollo en Pol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rostokąt 5"/>
          <p:cNvSpPr/>
          <p:nvPr/>
        </p:nvSpPr>
        <p:spPr>
          <a:xfrm>
            <a:off x="1692360" y="4365720"/>
            <a:ext cx="57592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Visita de los representantes de Bolivia en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M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Jacek Białek, D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Eugeniusz Sadowski, D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rostokąt 6"/>
          <p:cNvSpPr/>
          <p:nvPr/>
        </p:nvSpPr>
        <p:spPr>
          <a:xfrm>
            <a:off x="3395160" y="6308640"/>
            <a:ext cx="23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6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de marzo de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7"/>
          <p:cNvGraphicFramePr/>
          <p:nvPr/>
        </p:nvGraphicFramePr>
        <p:xfrm>
          <a:off x="250920" y="1197000"/>
          <a:ext cx="8583480" cy="40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58348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13"/>
          <p:cNvSpPr/>
          <p:nvPr/>
        </p:nvSpPr>
        <p:spPr>
          <a:xfrm>
            <a:off x="3564000" y="36504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Situación de las finanz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684360" y="5805360"/>
            <a:ext cx="806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4f8a"/>
                </a:solidFill>
                <a:latin typeface="Tahoma"/>
              </a:rPr>
              <a:t>Mejora de la situación del sector de finanzas públicas en</a:t>
            </a:r>
            <a:r>
              <a:rPr b="0" lang="pl-PL" sz="2800" spc="-1" strike="noStrike">
                <a:solidFill>
                  <a:srgbClr val="004f8a"/>
                </a:solidFill>
                <a:latin typeface="Tahoma"/>
              </a:rPr>
              <a:t> 2011 </a:t>
            </a:r>
            <a:r>
              <a:rPr b="0" lang="es-ES_tradnl" sz="2800" spc="-1" strike="noStrike">
                <a:solidFill>
                  <a:srgbClr val="004f8a"/>
                </a:solidFill>
                <a:latin typeface="Tahoma"/>
              </a:rPr>
              <a:t>y</a:t>
            </a:r>
            <a:r>
              <a:rPr b="0" lang="pl-PL" sz="2800" spc="-1" strike="noStrike">
                <a:solidFill>
                  <a:srgbClr val="004f8a"/>
                </a:solidFill>
                <a:latin typeface="Tahoma"/>
              </a:rPr>
              <a:t>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7" descr="PKB-wzrost 2004-2010-tlo"/>
          <p:cNvPicPr/>
          <p:nvPr/>
        </p:nvPicPr>
        <p:blipFill>
          <a:blip r:embed="rId1"/>
          <a:srcRect l="15974" t="0" r="18454" b="0"/>
          <a:stretch/>
        </p:blipFill>
        <p:spPr>
          <a:xfrm>
            <a:off x="2502000" y="1484280"/>
            <a:ext cx="4157640" cy="44784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3"/>
          <p:cNvSpPr/>
          <p:nvPr/>
        </p:nvSpPr>
        <p:spPr>
          <a:xfrm>
            <a:off x="2016000" y="6021360"/>
            <a:ext cx="511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P</a:t>
            </a: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I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B</a:t>
            </a: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per cápita según PAE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,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 U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E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-27=100  </a:t>
            </a: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en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 201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Voivodía M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azowieckie - 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102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% (83% </a:t>
            </a: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en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 2006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Voivodía P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odkarpackie - 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42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% (3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5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% </a:t>
            </a: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en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324000" y="112572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ahoma"/>
              </a:rPr>
              <a:t>P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ahoma"/>
              </a:rPr>
              <a:t>I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ahoma"/>
              </a:rPr>
              <a:t>B per 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c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á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pita 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según 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P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AE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 UE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ahoma"/>
              </a:rPr>
              <a:t>-27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=100 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ahoma"/>
              </a:rPr>
              <a:t>en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 2010, (%) 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y su cambio en los años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 2004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564000" y="20160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Tendenc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ias de desarrollo en las voivodías (reg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564000" y="36360"/>
            <a:ext cx="55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ircunstancias de la Estrategia Nacional de Desarrollo</a:t>
            </a:r>
            <a:br>
              <a:rPr sz="2000"/>
            </a:b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ventajas y des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0"/>
          <p:cNvSpPr/>
          <p:nvPr/>
        </p:nvSpPr>
        <p:spPr>
          <a:xfrm rot="10800000">
            <a:off x="179280" y="1052280"/>
            <a:ext cx="2286000" cy="152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0" bIns="0" anchor="b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Población y espír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empres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1"/>
          <p:cNvSpPr/>
          <p:nvPr/>
        </p:nvSpPr>
        <p:spPr>
          <a:xfrm rot="10800000">
            <a:off x="3058920" y="981000"/>
            <a:ext cx="2438280" cy="1524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396000" anchor="b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Desarrollo</a:t>
            </a:r>
            <a:r>
              <a:rPr b="1" lang="pl-PL" sz="1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2"/>
          <p:cNvSpPr/>
          <p:nvPr/>
        </p:nvSpPr>
        <p:spPr>
          <a:xfrm rot="10800000">
            <a:off x="6084720" y="1052280"/>
            <a:ext cx="2438640" cy="152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960" bIns="245160" anchor="b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Ordenación</a:t>
            </a:r>
            <a:r>
              <a:rPr b="1" lang="pl-PL" sz="1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territorial</a:t>
            </a:r>
            <a:r>
              <a:rPr b="1" lang="pl-PL" sz="1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del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3"/>
          <p:cNvSpPr/>
          <p:nvPr/>
        </p:nvSpPr>
        <p:spPr>
          <a:xfrm rot="10800000">
            <a:off x="1638360" y="2133360"/>
            <a:ext cx="2286000" cy="152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504000" anchor="b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Atra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ctivo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las inver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4"/>
          <p:cNvSpPr/>
          <p:nvPr/>
        </p:nvSpPr>
        <p:spPr>
          <a:xfrm rot="10800000">
            <a:off x="4427280" y="2192040"/>
            <a:ext cx="2438280" cy="152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0" bIns="252000" anchor="b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Recursos naturales</a:t>
            </a:r>
            <a:r>
              <a:rPr b="1" lang="pl-PL" sz="1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y medio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5"/>
          <p:cNvSpPr/>
          <p:nvPr/>
        </p:nvSpPr>
        <p:spPr>
          <a:xfrm>
            <a:off x="324000" y="4065480"/>
            <a:ext cx="2286000" cy="1524240"/>
          </a:xfrm>
          <a:prstGeom prst="pi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Mercado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6"/>
          <p:cNvSpPr/>
          <p:nvPr/>
        </p:nvSpPr>
        <p:spPr>
          <a:xfrm>
            <a:off x="3059280" y="4005360"/>
            <a:ext cx="2286000" cy="1595520"/>
          </a:xfrm>
          <a:prstGeom prst="pi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Inn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7"/>
          <p:cNvSpPr/>
          <p:nvPr/>
        </p:nvSpPr>
        <p:spPr>
          <a:xfrm>
            <a:off x="6156360" y="3933720"/>
            <a:ext cx="2286000" cy="1524240"/>
          </a:xfrm>
          <a:prstGeom prst="pi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Infra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e</a:t>
            </a: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stru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c</a:t>
            </a: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1547640" y="5221440"/>
            <a:ext cx="2286000" cy="1447560"/>
          </a:xfrm>
          <a:prstGeom prst="pi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6960" bIns="-23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Diversificación</a:t>
            </a: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re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0"/>
          <p:cNvSpPr/>
          <p:nvPr/>
        </p:nvSpPr>
        <p:spPr>
          <a:xfrm>
            <a:off x="5029200" y="5229360"/>
            <a:ext cx="2286000" cy="1447560"/>
          </a:xfrm>
          <a:prstGeom prst="pi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6960" bIns="-23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Administrac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ión</a:t>
            </a: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p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181080" y="1924200"/>
            <a:ext cx="2087280" cy="3809880"/>
          </a:xfrm>
          <a:custGeom>
            <a:avLst/>
            <a:gdLst>
              <a:gd name="textAreaLeft" fmla="*/ 101880 w 2087280"/>
              <a:gd name="textAreaRight" fmla="*/ 1985400 w 2087280"/>
              <a:gd name="textAreaTop" fmla="*/ 101880 h 3809880"/>
              <a:gd name="textAreaBottom" fmla="*/ 3708000 h 3809880"/>
            </a:gdLst>
            <a:ahLst/>
            <a:rect l="textAreaLeft" t="textAreaTop" r="textAreaRight" b="textAreaBottom"/>
            <a:pathLst>
              <a:path w="21600" h="39423">
                <a:moveTo>
                  <a:pt x="3600" y="0"/>
                </a:moveTo>
                <a:arcTo wR="3600" hR="3600" stAng="16200000" swAng="-5400000"/>
                <a:lnTo>
                  <a:pt x="0" y="35823"/>
                </a:lnTo>
                <a:arcTo wR="3600" hR="3600" stAng="10800000" swAng="-5400000"/>
                <a:lnTo>
                  <a:pt x="18000" y="394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62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Una seri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medidas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interconectadas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que tienen co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objetivo </a:t>
            </a:r>
            <a:r>
              <a:rPr b="1" lang="pl-P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garantizar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911160" y="1422360"/>
            <a:ext cx="7059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cc"/>
                </a:solidFill>
                <a:latin typeface="Arial"/>
              </a:rPr>
              <a:t>Artículo 2 de la Ley sobre los principios de la política de desarr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780000" y="1844640"/>
            <a:ext cx="5105160" cy="4572000"/>
          </a:xfrm>
          <a:custGeom>
            <a:avLst/>
            <a:gdLst>
              <a:gd name="textAreaLeft" fmla="*/ 1540440 w 5105160"/>
              <a:gd name="textAreaRight" fmla="*/ 3510000 w 5105160"/>
              <a:gd name="textAreaTop" fmla="*/ 649440 h 4572000"/>
              <a:gd name="textAreaBottom" fmla="*/ 392256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225" y="2664"/>
                  <a:pt x="14850" y="5080"/>
                  <a:pt x="14850" y="10800"/>
                </a:cubicBezTo>
                <a:cubicBezTo>
                  <a:pt x="14850" y="16520"/>
                  <a:pt x="18225" y="1893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38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8"/>
          <p:cNvSpPr/>
          <p:nvPr/>
        </p:nvSpPr>
        <p:spPr>
          <a:xfrm>
            <a:off x="5292720" y="2276640"/>
            <a:ext cx="3429000" cy="3276360"/>
          </a:xfrm>
          <a:custGeom>
            <a:avLst/>
            <a:gdLst>
              <a:gd name="textAreaLeft" fmla="*/ 1034640 w 3429000"/>
              <a:gd name="textAreaRight" fmla="*/ 2357640 w 3429000"/>
              <a:gd name="textAreaTop" fmla="*/ 465480 h 3276360"/>
              <a:gd name="textAreaBottom" fmla="*/ 281088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225" y="2664"/>
                  <a:pt x="14850" y="5080"/>
                  <a:pt x="14850" y="10800"/>
                </a:cubicBezTo>
                <a:cubicBezTo>
                  <a:pt x="14850" y="16520"/>
                  <a:pt x="18225" y="1893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38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1"/>
          <p:cNvSpPr/>
          <p:nvPr/>
        </p:nvSpPr>
        <p:spPr>
          <a:xfrm>
            <a:off x="6516720" y="2852640"/>
            <a:ext cx="2133720" cy="1981440"/>
          </a:xfrm>
          <a:custGeom>
            <a:avLst/>
            <a:gdLst>
              <a:gd name="textAreaLeft" fmla="*/ 643680 w 2133720"/>
              <a:gd name="textAreaRight" fmla="*/ 1467000 w 2133720"/>
              <a:gd name="textAreaTop" fmla="*/ 281520 h 1981440"/>
              <a:gd name="textAreaBottom" fmla="*/ 169992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225" y="2664"/>
                  <a:pt x="14850" y="5080"/>
                  <a:pt x="14850" y="10800"/>
                </a:cubicBezTo>
                <a:cubicBezTo>
                  <a:pt x="14850" y="16520"/>
                  <a:pt x="18225" y="1893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38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4"/>
          <p:cNvSpPr/>
          <p:nvPr/>
        </p:nvSpPr>
        <p:spPr>
          <a:xfrm>
            <a:off x="1968480" y="2214720"/>
            <a:ext cx="5483160" cy="1143000"/>
          </a:xfrm>
          <a:prstGeom prst="ellipse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esarrollo sostenible del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3"/>
          <p:cNvSpPr/>
          <p:nvPr/>
        </p:nvSpPr>
        <p:spPr>
          <a:xfrm>
            <a:off x="1835280" y="3284640"/>
            <a:ext cx="5497560" cy="1160280"/>
          </a:xfrm>
          <a:prstGeom prst="ellipse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Cohesión socioeconómica regional</a:t>
            </a:r>
            <a:r>
              <a:rPr b="1" lang="pl-P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y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5"/>
          <p:cNvSpPr/>
          <p:nvPr/>
        </p:nvSpPr>
        <p:spPr>
          <a:xfrm>
            <a:off x="1882800" y="4356000"/>
            <a:ext cx="5497560" cy="1160640"/>
          </a:xfrm>
          <a:prstGeom prst="ellipse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Mejora de la competitividad de la economía</a:t>
            </a:r>
            <a:r>
              <a:rPr b="1" lang="pl-P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y creación de nuevos puestos de emp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 rot="1200000">
            <a:off x="6667560" y="396864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a escala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 rot="1020000">
            <a:off x="6311160" y="5479920"/>
            <a:ext cx="16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 escal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 rot="1140000">
            <a:off x="7309080" y="49672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 escala regional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6"/>
          <p:cNvSpPr/>
          <p:nvPr/>
        </p:nvSpPr>
        <p:spPr>
          <a:xfrm>
            <a:off x="3564000" y="26028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POL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ÍTICA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0"/>
          <p:cNvSpPr/>
          <p:nvPr/>
        </p:nvSpPr>
        <p:spPr>
          <a:xfrm>
            <a:off x="3551400" y="189000"/>
            <a:ext cx="55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ircunstancias e indicios de la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Estrategia Nacional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upa 1"/>
          <p:cNvGrpSpPr/>
          <p:nvPr/>
        </p:nvGrpSpPr>
        <p:grpSpPr>
          <a:xfrm>
            <a:off x="324000" y="1270080"/>
            <a:ext cx="8496000" cy="5311440"/>
            <a:chOff x="324000" y="1270080"/>
            <a:chExt cx="8496000" cy="5311440"/>
          </a:xfrm>
        </p:grpSpPr>
        <p:grpSp>
          <p:nvGrpSpPr>
            <p:cNvPr id="405" name="Group 31"/>
            <p:cNvGrpSpPr/>
            <p:nvPr/>
          </p:nvGrpSpPr>
          <p:grpSpPr>
            <a:xfrm>
              <a:off x="350640" y="1270080"/>
              <a:ext cx="3429000" cy="1904760"/>
              <a:chOff x="350640" y="1270080"/>
              <a:chExt cx="3429000" cy="1904760"/>
            </a:xfrm>
          </p:grpSpPr>
          <p:sp>
            <p:nvSpPr>
              <p:cNvPr id="406" name="Line 32"/>
              <p:cNvSpPr/>
              <p:nvPr/>
            </p:nvSpPr>
            <p:spPr>
              <a:xfrm>
                <a:off x="3475080" y="2946240"/>
                <a:ext cx="304560" cy="2286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AutoShape 33"/>
              <p:cNvSpPr/>
              <p:nvPr/>
            </p:nvSpPr>
            <p:spPr>
              <a:xfrm>
                <a:off x="350640" y="1270080"/>
                <a:ext cx="3200400" cy="1828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bd927"/>
                  </a:gs>
                  <a:gs pos="50000">
                    <a:srgbClr val="ddebcf"/>
                  </a:gs>
                  <a:gs pos="100000">
                    <a:srgbClr val="bbd9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Interiores</a:t>
                </a:r>
                <a:r>
                  <a:rPr b="1" lang="en-GB" sz="1600" spc="-1" strike="noStrike">
                    <a:solidFill>
                      <a:srgbClr val="000099"/>
                    </a:solidFill>
                    <a:latin typeface="Tahoma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34"/>
              <p:cNvSpPr/>
              <p:nvPr/>
            </p:nvSpPr>
            <p:spPr>
              <a:xfrm>
                <a:off x="503280" y="1650960"/>
                <a:ext cx="2895480" cy="122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marL="98280" indent="-98280">
                  <a:lnSpc>
                    <a:spcPct val="90000"/>
                  </a:lnSpc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99"/>
                    </a:solidFill>
                    <a:latin typeface="Times New Roman"/>
                  </a:rPr>
                  <a:t>Funcionamiento del sistema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 inst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tuc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onal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-regula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90000"/>
                  </a:lnSpc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Retraso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, potenc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al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y activ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90000"/>
                  </a:lnSpc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Diversificación 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region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90000"/>
                  </a:lnSpc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Aspirac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ones de los ciudada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35"/>
            <p:cNvGrpSpPr/>
            <p:nvPr/>
          </p:nvGrpSpPr>
          <p:grpSpPr>
            <a:xfrm>
              <a:off x="324000" y="4509720"/>
              <a:ext cx="3429000" cy="1981440"/>
              <a:chOff x="324000" y="4509720"/>
              <a:chExt cx="3429000" cy="1981440"/>
            </a:xfrm>
          </p:grpSpPr>
          <p:sp>
            <p:nvSpPr>
              <p:cNvPr id="410" name="AutoShape 36"/>
              <p:cNvSpPr/>
              <p:nvPr/>
            </p:nvSpPr>
            <p:spPr>
              <a:xfrm>
                <a:off x="324000" y="4738680"/>
                <a:ext cx="3200400" cy="1752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ccff"/>
                  </a:gs>
                  <a:gs pos="50000">
                    <a:srgbClr val="ccecff"/>
                  </a:gs>
                  <a:gs pos="100000">
                    <a:srgbClr val="00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Influencia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de la</a:t>
                </a: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 integraci</a:t>
                </a: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ón</a:t>
                </a: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 europe</a:t>
                </a: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a</a:t>
                </a: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37"/>
              <p:cNvSpPr/>
              <p:nvPr/>
            </p:nvSpPr>
            <p:spPr>
              <a:xfrm flipV="1">
                <a:off x="3476520" y="4509720"/>
                <a:ext cx="276480" cy="2761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38"/>
              <p:cNvSpPr/>
              <p:nvPr/>
            </p:nvSpPr>
            <p:spPr>
              <a:xfrm>
                <a:off x="476280" y="5275080"/>
                <a:ext cx="2895480" cy="9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spAutoFit/>
              </a:bodyPr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Oportunidades de desarroll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Compromisos del País Miembr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Cogest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39"/>
            <p:cNvGrpSpPr/>
            <p:nvPr/>
          </p:nvGrpSpPr>
          <p:grpSpPr>
            <a:xfrm>
              <a:off x="5319720" y="1270080"/>
              <a:ext cx="3429000" cy="1905120"/>
              <a:chOff x="5319720" y="1270080"/>
              <a:chExt cx="3429000" cy="1905120"/>
            </a:xfrm>
          </p:grpSpPr>
          <p:sp>
            <p:nvSpPr>
              <p:cNvPr id="414" name="AutoShape 40"/>
              <p:cNvSpPr/>
              <p:nvPr/>
            </p:nvSpPr>
            <p:spPr>
              <a:xfrm>
                <a:off x="5624280" y="1270080"/>
                <a:ext cx="3124440" cy="1752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ccff"/>
                  </a:gs>
                  <a:gs pos="50000">
                    <a:srgbClr val="ccecff"/>
                  </a:gs>
                  <a:gs pos="100000">
                    <a:srgbClr val="00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S</a:t>
                </a: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istema de valores</a:t>
                </a: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41"/>
              <p:cNvSpPr/>
              <p:nvPr/>
            </p:nvSpPr>
            <p:spPr>
              <a:xfrm flipH="1">
                <a:off x="5319720" y="2946600"/>
                <a:ext cx="304560" cy="2286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42"/>
              <p:cNvSpPr/>
              <p:nvPr/>
            </p:nvSpPr>
            <p:spPr>
              <a:xfrm>
                <a:off x="5700600" y="1727280"/>
                <a:ext cx="2971800" cy="11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spAutoFit/>
              </a:bodyPr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99"/>
                    </a:solidFill>
                    <a:latin typeface="Times New Roman"/>
                  </a:rPr>
                  <a:t>Estado solidar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ociedad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civ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Cohesión social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, 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económica y territor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43"/>
            <p:cNvGrpSpPr/>
            <p:nvPr/>
          </p:nvGrpSpPr>
          <p:grpSpPr>
            <a:xfrm>
              <a:off x="5390640" y="4676400"/>
              <a:ext cx="3429360" cy="1905120"/>
              <a:chOff x="5390640" y="4676400"/>
              <a:chExt cx="3429360" cy="1905120"/>
            </a:xfrm>
          </p:grpSpPr>
          <p:sp>
            <p:nvSpPr>
              <p:cNvPr id="418" name="AutoShape 44"/>
              <p:cNvSpPr/>
              <p:nvPr/>
            </p:nvSpPr>
            <p:spPr>
              <a:xfrm>
                <a:off x="5695920" y="4829040"/>
                <a:ext cx="3124080" cy="1752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ad826"/>
                  </a:gs>
                  <a:gs pos="50000">
                    <a:srgbClr val="ddebcf"/>
                  </a:gs>
                  <a:gs pos="100000">
                    <a:srgbClr val="bad8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Exteriores</a:t>
                </a: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45"/>
              <p:cNvSpPr/>
              <p:nvPr/>
            </p:nvSpPr>
            <p:spPr>
              <a:xfrm>
                <a:off x="5771880" y="5209920"/>
                <a:ext cx="2971800" cy="11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spAutoFit/>
              </a:bodyPr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99"/>
                    </a:solidFill>
                    <a:latin typeface="Times New Roman"/>
                  </a:rPr>
                  <a:t>Globaliza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c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Retos en materia de la 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energ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ética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, 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el medioambiente y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la 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migrac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Seguridad internacion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46"/>
              <p:cNvSpPr/>
              <p:nvPr/>
            </p:nvSpPr>
            <p:spPr>
              <a:xfrm flipH="1" flipV="1">
                <a:off x="5390640" y="4676400"/>
                <a:ext cx="304920" cy="2286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Oval 47"/>
            <p:cNvSpPr/>
            <p:nvPr/>
          </p:nvSpPr>
          <p:spPr>
            <a:xfrm>
              <a:off x="3564000" y="2881440"/>
              <a:ext cx="2087280" cy="2087640"/>
            </a:xfrm>
            <a:prstGeom prst="ellipse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Objetivos</a:t>
              </a:r>
              <a:r>
                <a:rPr b="1" lang="pl-PL" sz="1600" spc="-1" strike="noStrike">
                  <a:solidFill>
                    <a:srgbClr val="0033cc"/>
                  </a:solidFill>
                  <a:latin typeface="Tahoma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p</a:t>
              </a:r>
              <a:r>
                <a:rPr b="1" lang="pl-PL" sz="1600" spc="-1" strike="noStrike">
                  <a:solidFill>
                    <a:srgbClr val="0033cc"/>
                  </a:solidFill>
                  <a:latin typeface="Tahoma"/>
                </a:rPr>
                <a:t>rior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idades y</a:t>
              </a:r>
              <a:r>
                <a:rPr b="1" lang="pl-PL" sz="1600" spc="-1" strike="noStrike">
                  <a:solidFill>
                    <a:srgbClr val="0033cc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p</a:t>
              </a:r>
              <a:r>
                <a:rPr b="1" lang="pl-PL" sz="1600" spc="-1" strike="noStrike">
                  <a:solidFill>
                    <a:srgbClr val="0033cc"/>
                  </a:solidFill>
                  <a:latin typeface="Tahoma"/>
                </a:rPr>
                <a:t>roces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o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i</a:t>
              </a:r>
              <a:r>
                <a:rPr b="1" lang="pl-PL" sz="1600" spc="-1" strike="noStrike">
                  <a:solidFill>
                    <a:srgbClr val="0033cc"/>
                  </a:solidFill>
                  <a:latin typeface="Tahoma"/>
                </a:rPr>
                <a:t>mplementaci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ón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la Estrategi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Nacional de Desarrol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3564000" y="26028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Pun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to de par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250920" y="1341360"/>
            <a:ext cx="4392360" cy="4537080"/>
          </a:xfrm>
          <a:custGeom>
            <a:avLst/>
            <a:gdLst>
              <a:gd name="textAreaLeft" fmla="*/ 214200 w 4392360"/>
              <a:gd name="textAreaRight" fmla="*/ 4178160 w 4392360"/>
              <a:gd name="textAreaTop" fmla="*/ 214200 h 4537080"/>
              <a:gd name="textAreaBottom" fmla="*/ 4322880 h 4537080"/>
            </a:gdLst>
            <a:ahLst/>
            <a:rect l="textAreaLeft" t="textAreaTop" r="textAreaRight" b="textAreaBottom"/>
            <a:pathLst>
              <a:path w="21600" h="22312">
                <a:moveTo>
                  <a:pt x="3600" y="0"/>
                </a:moveTo>
                <a:arcTo wR="3600" hR="3600" stAng="16200000" swAng="-5400000"/>
                <a:lnTo>
                  <a:pt x="0" y="18712"/>
                </a:lnTo>
                <a:arcTo wR="3600" hR="3600" stAng="10800000" swAng="-5400000"/>
                <a:lnTo>
                  <a:pt x="18000" y="223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>
              <a:alpha val="70000"/>
            </a:srgbClr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spcAft>
                <a:spcPts val="5499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611280" y="2276640"/>
            <a:ext cx="3673440" cy="684000"/>
          </a:xfrm>
          <a:prstGeom prst="roundRect">
            <a:avLst>
              <a:gd name="adj" fmla="val 16593"/>
            </a:avLst>
          </a:prstGeom>
          <a:solidFill>
            <a:srgbClr val="003366">
              <a:alpha val="54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0 estrategias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611280" y="3176640"/>
            <a:ext cx="3673440" cy="684000"/>
          </a:xfrm>
          <a:prstGeom prst="roundRect">
            <a:avLst>
              <a:gd name="adj" fmla="val 16593"/>
            </a:avLst>
          </a:prstGeom>
          <a:solidFill>
            <a:srgbClr val="003366">
              <a:alpha val="54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3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oper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8"/>
          <p:cNvSpPr/>
          <p:nvPr/>
        </p:nvSpPr>
        <p:spPr>
          <a:xfrm>
            <a:off x="611280" y="4076640"/>
            <a:ext cx="3673440" cy="684360"/>
          </a:xfrm>
          <a:prstGeom prst="roundRect">
            <a:avLst>
              <a:gd name="adj" fmla="val 16593"/>
            </a:avLst>
          </a:prstGeom>
          <a:solidFill>
            <a:srgbClr val="003366">
              <a:alpha val="54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13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s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8"/>
          <p:cNvSpPr/>
          <p:nvPr/>
        </p:nvSpPr>
        <p:spPr>
          <a:xfrm>
            <a:off x="611280" y="5013360"/>
            <a:ext cx="3673440" cy="684000"/>
          </a:xfrm>
          <a:prstGeom prst="roundRect">
            <a:avLst>
              <a:gd name="adj" fmla="val 16593"/>
            </a:avLst>
          </a:prstGeom>
          <a:solidFill>
            <a:srgbClr val="003366">
              <a:alpha val="54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4 otros documento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33480" y="6308640"/>
            <a:ext cx="6214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4f8a"/>
                </a:solidFill>
                <a:latin typeface="Arial"/>
              </a:rPr>
              <a:t>2008 – reducción del número de </a:t>
            </a:r>
            <a:r>
              <a:rPr b="1" lang="pl-PL" sz="1700" spc="-1" strike="noStrike">
                <a:solidFill>
                  <a:srgbClr val="004f8a"/>
                </a:solidFill>
                <a:latin typeface="Arial"/>
              </a:rPr>
              <a:t>do</a:t>
            </a: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cumentos de </a:t>
            </a:r>
            <a:r>
              <a:rPr b="1" lang="en-GB" sz="1700" spc="-1" strike="noStrike">
                <a:solidFill>
                  <a:srgbClr val="004f8a"/>
                </a:solidFill>
                <a:latin typeface="Arial"/>
              </a:rPr>
              <a:t>406</a:t>
            </a: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 a</a:t>
            </a:r>
            <a:r>
              <a:rPr b="1" lang="en-GB" sz="1700" spc="-1" strike="noStrike">
                <a:solidFill>
                  <a:srgbClr val="004f8a"/>
                </a:solidFill>
                <a:latin typeface="Arial"/>
              </a:rPr>
              <a:t> 21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4859280" y="1413000"/>
            <a:ext cx="410544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Debilidad</a:t>
            </a:r>
            <a:r>
              <a:rPr b="1" lang="pl-PL" sz="1700" spc="-1" strike="noStrike">
                <a:solidFill>
                  <a:srgbClr val="004f8a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e ineficacia del sistema de programación</a:t>
            </a:r>
            <a:r>
              <a:rPr b="1" lang="en-GB" sz="1700" spc="-1" strike="noStrike">
                <a:solidFill>
                  <a:srgbClr val="004f8a"/>
                </a:solidFill>
                <a:latin typeface="Arial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 u="sng">
                <a:solidFill>
                  <a:srgbClr val="004f8a"/>
                </a:solidFill>
                <a:uFillTx/>
                <a:latin typeface="Arial"/>
              </a:rPr>
              <a:t>Conección insuficiente entre el nivel de programación y nivel opera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Cooperación insuficiente entre entidades que realizan la </a:t>
            </a:r>
            <a:r>
              <a:rPr b="1" lang="pl-PL" sz="1700" spc="-1" strike="noStrike">
                <a:solidFill>
                  <a:srgbClr val="004f8a"/>
                </a:solidFill>
                <a:latin typeface="Arial"/>
              </a:rPr>
              <a:t>política de desarrollo</a:t>
            </a:r>
            <a:r>
              <a:rPr b="1" lang="en-GB" sz="1700" spc="-1" strike="noStrike">
                <a:solidFill>
                  <a:srgbClr val="004f8a"/>
                </a:solidFill>
                <a:latin typeface="Arial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 u="sng">
                <a:solidFill>
                  <a:srgbClr val="004f8a"/>
                </a:solidFill>
                <a:uFillTx/>
                <a:latin typeface="Arial"/>
              </a:rPr>
              <a:t>Separación de la planificacón territorial de la planificación </a:t>
            </a:r>
            <a:r>
              <a:rPr b="1" lang="pl-PL" sz="1700" spc="-1" strike="noStrike" u="sng">
                <a:solidFill>
                  <a:srgbClr val="004f8a"/>
                </a:solidFill>
                <a:uFillTx/>
                <a:latin typeface="Arial"/>
              </a:rPr>
              <a:t>socio</a:t>
            </a:r>
            <a:r>
              <a:rPr b="1" lang="es-ES_tradnl" sz="1700" spc="-1" strike="noStrike" u="sng">
                <a:solidFill>
                  <a:srgbClr val="004f8a"/>
                </a:solidFill>
                <a:uFillTx/>
                <a:latin typeface="Arial"/>
              </a:rPr>
              <a:t>económica</a:t>
            </a:r>
            <a:r>
              <a:rPr b="1" lang="en-GB" sz="1700" spc="-1" strike="noStrike" u="sng">
                <a:solidFill>
                  <a:srgbClr val="004f8a"/>
                </a:solidFill>
                <a:uFillTx/>
                <a:latin typeface="Arial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Relaciones entre la </a:t>
            </a:r>
            <a:r>
              <a:rPr b="1" lang="pl-PL" sz="1700" spc="-1" strike="noStrike">
                <a:solidFill>
                  <a:srgbClr val="004f8a"/>
                </a:solidFill>
                <a:latin typeface="Arial"/>
              </a:rPr>
              <a:t>política de desarrollo</a:t>
            </a: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 y política regional insuficientemente determinada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Falta de un sistema transparente de financiación de la política de dasarr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3564000" y="3636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Medidas para aumentar la eficacia de la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política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812880" y="1486080"/>
            <a:ext cx="7791480" cy="647640"/>
          </a:xfrm>
          <a:custGeom>
            <a:avLst/>
            <a:gdLst>
              <a:gd name="textAreaLeft" fmla="*/ 0 w 7791480"/>
              <a:gd name="textAreaRight" fmla="*/ 7791840 w 77914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55" y="0"/>
                </a:lnTo>
                <a:lnTo>
                  <a:pt x="21600" y="10800"/>
                </a:lnTo>
                <a:lnTo>
                  <a:pt x="197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Preparaci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ó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n de 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la propuesta de soluciones de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Directrices del sistema de gestión del desarrollo polaco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 - 27 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de abril de </a:t>
            </a: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5"/>
          <p:cNvSpPr/>
          <p:nvPr/>
        </p:nvSpPr>
        <p:spPr>
          <a:xfrm>
            <a:off x="826920" y="2276640"/>
            <a:ext cx="7777440" cy="936360"/>
          </a:xfrm>
          <a:custGeom>
            <a:avLst/>
            <a:gdLst>
              <a:gd name="textAreaLeft" fmla="*/ 0 w 7777440"/>
              <a:gd name="textAreaRight" fmla="*/ 7777800 w 7777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68" y="0"/>
                </a:lnTo>
                <a:lnTo>
                  <a:pt x="21600" y="10800"/>
                </a:lnTo>
                <a:lnTo>
                  <a:pt x="197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Medidas legislativ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Enmiendas a la Ley de 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6 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de diciembre de </a:t>
            </a: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2006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sobre los principios  de la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 polític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desarroll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Ley de Finanzas Públicas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;</a:t>
            </a: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 Ley de Planificación y Desarrollo Terri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9"/>
          <p:cNvSpPr/>
          <p:nvPr/>
        </p:nvSpPr>
        <p:spPr>
          <a:xfrm>
            <a:off x="826920" y="3357720"/>
            <a:ext cx="7777440" cy="1152360"/>
          </a:xfrm>
          <a:custGeom>
            <a:avLst/>
            <a:gdLst>
              <a:gd name="textAreaLeft" fmla="*/ 0 w 7777440"/>
              <a:gd name="textAreaRight" fmla="*/ 7777800 w 777744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5" y="0"/>
                </a:lnTo>
                <a:lnTo>
                  <a:pt x="21600" y="10800"/>
                </a:lnTo>
                <a:lnTo>
                  <a:pt x="197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Preparación de los principales 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instrument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os de 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implementac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ión</a:t>
            </a: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Estrategia Nacional de Desarrollo a Largo Plazo</a:t>
            </a: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en-GB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ctualización de la Estrategia Nacional de Desarrollo a Medio Plazo</a:t>
            </a: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cc"/>
                </a:solidFill>
                <a:latin typeface="Arial"/>
              </a:rPr>
              <a:t>Plan de Reorganización de la Estrategia de Desarrollo </a:t>
            </a: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aprobado el </a:t>
            </a: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24 </a:t>
            </a: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de noviembre de</a:t>
            </a: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 2009</a:t>
            </a: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812880" y="4653000"/>
            <a:ext cx="7791480" cy="792000"/>
          </a:xfrm>
          <a:custGeom>
            <a:avLst/>
            <a:gdLst>
              <a:gd name="textAreaLeft" fmla="*/ 0 w 7791480"/>
              <a:gd name="textAreaRight" fmla="*/ 7791840 w 77914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1" y="0"/>
                </a:lnTo>
                <a:lnTo>
                  <a:pt x="21600" y="10800"/>
                </a:lnTo>
                <a:lnTo>
                  <a:pt x="198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Evaluación de la conformidad de la estrategia de desarro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y programas de desarro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con la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 Estrategia Nacional de Desarrollo a medi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8"/>
          <p:cNvSpPr/>
          <p:nvPr/>
        </p:nvSpPr>
        <p:spPr>
          <a:xfrm>
            <a:off x="820800" y="5661000"/>
            <a:ext cx="7783560" cy="792360"/>
          </a:xfrm>
          <a:custGeom>
            <a:avLst/>
            <a:gdLst>
              <a:gd name="textAreaLeft" fmla="*/ 0 w 7783560"/>
              <a:gd name="textAreaRight" fmla="*/ 7783920 w 77835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4" y="0"/>
                </a:lnTo>
                <a:lnTo>
                  <a:pt x="21600" y="10800"/>
                </a:lnTo>
                <a:lnTo>
                  <a:pt x="1979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Refuerzo de la administración pública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en lo que se refiera a la gestión de desarrollo</a:t>
            </a: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pro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yecto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 PO KL</a:t>
            </a: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3564000" y="20160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Sistema de vínculos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y coordinación de los documentos estraté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upa 3"/>
          <p:cNvGrpSpPr/>
          <p:nvPr/>
        </p:nvGrpSpPr>
        <p:grpSpPr>
          <a:xfrm>
            <a:off x="179280" y="1125360"/>
            <a:ext cx="8856720" cy="5752080"/>
            <a:chOff x="179280" y="1125360"/>
            <a:chExt cx="8856720" cy="5752080"/>
          </a:xfrm>
        </p:grpSpPr>
        <p:sp>
          <p:nvSpPr>
            <p:cNvPr id="439" name="AutoShape 41"/>
            <p:cNvSpPr/>
            <p:nvPr/>
          </p:nvSpPr>
          <p:spPr>
            <a:xfrm>
              <a:off x="1222200" y="1125360"/>
              <a:ext cx="7166160" cy="934920"/>
            </a:xfrm>
            <a:prstGeom prst="pie">
              <a:avLst/>
            </a:prstGeom>
            <a:solidFill>
              <a:srgbClr val="33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</a:rPr>
                <a:t>Estrategia Nacional de Desarrollo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a Largo Plaz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(desarrollo </a:t>
              </a:r>
              <a:r>
                <a:rPr b="0" lang="pl-PL" sz="1400" spc="-1" strike="noStrike">
                  <a:solidFill>
                    <a:srgbClr val="ffffff"/>
                  </a:solidFill>
                  <a:latin typeface="Arial"/>
                </a:rPr>
                <a:t>socioeconómico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 y territorial</a:t>
              </a: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ncepto de la Ordenación Territorial del Paí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36"/>
            <p:cNvSpPr/>
            <p:nvPr/>
          </p:nvSpPr>
          <p:spPr>
            <a:xfrm>
              <a:off x="179280" y="1989000"/>
              <a:ext cx="912600" cy="46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99"/>
                  </a:solidFill>
                  <a:latin typeface="Arial"/>
                </a:rPr>
                <a:t>Program</a:t>
              </a:r>
              <a:r>
                <a:rPr b="1" lang="es-ES_tradnl" sz="800" spc="-1" strike="noStrike">
                  <a:solidFill>
                    <a:srgbClr val="003399"/>
                  </a:solidFill>
                  <a:latin typeface="Arial"/>
                </a:rPr>
                <a:t>a de C</a:t>
              </a:r>
              <a:r>
                <a:rPr b="1" lang="pl-PL" sz="800" spc="-1" strike="noStrike">
                  <a:solidFill>
                    <a:srgbClr val="003399"/>
                  </a:solidFill>
                  <a:latin typeface="Arial"/>
                </a:rPr>
                <a:t>on</a:t>
              </a:r>
              <a:r>
                <a:rPr b="1" lang="es-ES_tradnl" sz="800" spc="-1" strike="noStrike">
                  <a:solidFill>
                    <a:srgbClr val="003399"/>
                  </a:solidFill>
                  <a:latin typeface="Arial"/>
                </a:rPr>
                <a:t>vergenc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5"/>
            <p:cNvSpPr/>
            <p:nvPr/>
          </p:nvSpPr>
          <p:spPr>
            <a:xfrm>
              <a:off x="323640" y="2565000"/>
              <a:ext cx="799920" cy="449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800" spc="-1" strike="noStrike">
                  <a:solidFill>
                    <a:srgbClr val="003399"/>
                  </a:solidFill>
                  <a:latin typeface="Arial"/>
                </a:rPr>
                <a:t>Plan</a:t>
              </a:r>
              <a:r>
                <a:rPr b="1" lang="es-ES_tradnl" sz="800" spc="-1" strike="noStrike">
                  <a:solidFill>
                    <a:srgbClr val="003399"/>
                  </a:solidFill>
                  <a:latin typeface="Arial"/>
                </a:rPr>
                <a:t> Plurianual de Financia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35"/>
            <p:cNvSpPr/>
            <p:nvPr/>
          </p:nvSpPr>
          <p:spPr>
            <a:xfrm>
              <a:off x="323640" y="3285720"/>
              <a:ext cx="768240" cy="46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cc"/>
                  </a:solidFill>
                  <a:latin typeface="Arial"/>
                </a:rPr>
                <a:t>Program</a:t>
              </a: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a Nacional de </a:t>
              </a:r>
              <a:r>
                <a:rPr b="1" lang="pl-PL" sz="900" spc="-1" strike="noStrike">
                  <a:solidFill>
                    <a:srgbClr val="0000cc"/>
                  </a:solidFill>
                  <a:latin typeface="Arial"/>
                </a:rPr>
                <a:t> Reform</a:t>
              </a: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0"/>
            <p:cNvSpPr/>
            <p:nvPr/>
          </p:nvSpPr>
          <p:spPr>
            <a:xfrm>
              <a:off x="1279440" y="3157200"/>
              <a:ext cx="825480" cy="63180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Est</a:t>
              </a:r>
              <a:r>
                <a:rPr b="1" lang="pl-PL" sz="900" spc="-1" strike="noStrike">
                  <a:solidFill>
                    <a:srgbClr val="000000"/>
                  </a:solidFill>
                  <a:latin typeface="Arial"/>
                </a:rPr>
                <a:t>trategia</a:t>
              </a: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 Nacional de Cohesión</a:t>
              </a:r>
              <a:br>
                <a:rPr sz="900"/>
              </a:b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(NSR</a:t>
              </a:r>
              <a:r>
                <a:rPr b="1" lang="pl-PL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br>
                <a:rPr sz="900"/>
              </a:b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8"/>
            <p:cNvSpPr/>
            <p:nvPr/>
          </p:nvSpPr>
          <p:spPr>
            <a:xfrm>
              <a:off x="1114200" y="2260440"/>
              <a:ext cx="1152360" cy="17280"/>
            </a:xfrm>
            <a:prstGeom prst="line">
              <a:avLst/>
            </a:prstGeom>
            <a:ln w="12600">
              <a:solidFill>
                <a:srgbClr val="333399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43"/>
            <p:cNvSpPr/>
            <p:nvPr/>
          </p:nvSpPr>
          <p:spPr>
            <a:xfrm>
              <a:off x="2411280" y="2277720"/>
              <a:ext cx="4681440" cy="502920"/>
            </a:xfrm>
            <a:prstGeom prst="pie">
              <a:avLst/>
            </a:prstGeom>
            <a:solidFill>
              <a:srgbClr val="0099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strategia Nacional de Desarrollo a Medio Plazo 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(contexto</a:t>
              </a:r>
              <a:r>
                <a:rPr b="0" lang="pl-PL" sz="1000" spc="-1" strike="noStrike">
                  <a:solidFill>
                    <a:srgbClr val="ffffff"/>
                  </a:solidFill>
                  <a:latin typeface="Arial"/>
                </a:rPr>
                <a:t>: económico, social 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 y territorial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) </a:t>
              </a:r>
              <a:br>
                <a:rPr sz="1100"/>
              </a:b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5"/>
            <p:cNvSpPr/>
            <p:nvPr/>
          </p:nvSpPr>
          <p:spPr>
            <a:xfrm flipV="1">
              <a:off x="4356000" y="1843920"/>
              <a:ext cx="0" cy="2156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5"/>
            <p:cNvSpPr/>
            <p:nvPr/>
          </p:nvSpPr>
          <p:spPr>
            <a:xfrm flipV="1">
              <a:off x="4572000" y="2059920"/>
              <a:ext cx="0" cy="215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55"/>
            <p:cNvSpPr/>
            <p:nvPr/>
          </p:nvSpPr>
          <p:spPr>
            <a:xfrm flipH="1">
              <a:off x="681840" y="2420640"/>
              <a:ext cx="1873080" cy="865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7"/>
            <p:cNvSpPr/>
            <p:nvPr/>
          </p:nvSpPr>
          <p:spPr>
            <a:xfrm flipV="1">
              <a:off x="1164960" y="2420640"/>
              <a:ext cx="1245960" cy="411120"/>
            </a:xfrm>
            <a:prstGeom prst="line">
              <a:avLst/>
            </a:prstGeom>
            <a:ln w="12600">
              <a:solidFill>
                <a:srgbClr val="333399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8"/>
            <p:cNvSpPr/>
            <p:nvPr/>
          </p:nvSpPr>
          <p:spPr>
            <a:xfrm>
              <a:off x="1617480" y="3716280"/>
              <a:ext cx="1440" cy="14745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3"/>
            <p:cNvSpPr/>
            <p:nvPr/>
          </p:nvSpPr>
          <p:spPr>
            <a:xfrm>
              <a:off x="1293480" y="5118120"/>
              <a:ext cx="685800" cy="40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7e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 Opera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tivos Nacion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7"/>
            <p:cNvSpPr/>
            <p:nvPr/>
          </p:nvSpPr>
          <p:spPr>
            <a:xfrm>
              <a:off x="2124000" y="5445000"/>
              <a:ext cx="42480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 de innovación y eficacia de la economía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de desarrollo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 del capital humano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de desarrollo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del 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transport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 de seguridad energética y medioambiente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Estado Eficiente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de desarrollo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 del capital social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 Nacional 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de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D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arrollo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R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gional – Region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es Ciudades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Zonas rur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de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D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arrollo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Sostenible de las zonas rurales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, 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agricultura y pesca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de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D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arrollo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del sistema de seguridad nacional de Polonia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 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51"/>
            <p:cNvSpPr/>
            <p:nvPr/>
          </p:nvSpPr>
          <p:spPr>
            <a:xfrm>
              <a:off x="2914560" y="2997000"/>
              <a:ext cx="3097080" cy="215640"/>
            </a:xfrm>
            <a:prstGeom prst="pie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"/>
                </a:rPr>
                <a:t>Otras estrategias  de desarroll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 flipV="1">
              <a:off x="4572000" y="2780640"/>
              <a:ext cx="0" cy="215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1"/>
            <p:cNvSpPr/>
            <p:nvPr/>
          </p:nvSpPr>
          <p:spPr>
            <a:xfrm>
              <a:off x="2266920" y="3355920"/>
              <a:ext cx="2160360" cy="36036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Estrategias de desarrollo integrad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44"/>
            <p:cNvSpPr/>
            <p:nvPr/>
          </p:nvSpPr>
          <p:spPr>
            <a:xfrm>
              <a:off x="4611600" y="3355920"/>
              <a:ext cx="2047680" cy="36036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Estrategias referentes al desarrollo de las reg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7"/>
            <p:cNvSpPr/>
            <p:nvPr/>
          </p:nvSpPr>
          <p:spPr>
            <a:xfrm flipH="1">
              <a:off x="2771280" y="3089160"/>
              <a:ext cx="177480" cy="195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28"/>
            <p:cNvSpPr/>
            <p:nvPr/>
          </p:nvSpPr>
          <p:spPr>
            <a:xfrm>
              <a:off x="2555640" y="4555800"/>
              <a:ext cx="661680" cy="38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7e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Progrm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s de desarroll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9"/>
            <p:cNvSpPr/>
            <p:nvPr/>
          </p:nvSpPr>
          <p:spPr>
            <a:xfrm>
              <a:off x="2916000" y="3717720"/>
              <a:ext cx="0" cy="8636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22"/>
            <p:cNvSpPr/>
            <p:nvPr/>
          </p:nvSpPr>
          <p:spPr>
            <a:xfrm>
              <a:off x="3635280" y="3933720"/>
              <a:ext cx="1182600" cy="43164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Arial"/>
                </a:rPr>
                <a:t>Krajowa Strategia de desarrollo Regionalne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45"/>
            <p:cNvSpPr/>
            <p:nvPr/>
          </p:nvSpPr>
          <p:spPr>
            <a:xfrm>
              <a:off x="5076720" y="3933720"/>
              <a:ext cx="1008000" cy="43164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Estrategias supraregiona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0"/>
            <p:cNvSpPr/>
            <p:nvPr/>
          </p:nvSpPr>
          <p:spPr>
            <a:xfrm flipH="1">
              <a:off x="4427280" y="3717720"/>
              <a:ext cx="288720" cy="2156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6"/>
            <p:cNvSpPr/>
            <p:nvPr/>
          </p:nvSpPr>
          <p:spPr>
            <a:xfrm>
              <a:off x="5435640" y="3717720"/>
              <a:ext cx="0" cy="2156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47"/>
            <p:cNvSpPr/>
            <p:nvPr/>
          </p:nvSpPr>
          <p:spPr>
            <a:xfrm>
              <a:off x="6156360" y="3716280"/>
              <a:ext cx="360360" cy="2156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4"/>
            <p:cNvSpPr/>
            <p:nvPr/>
          </p:nvSpPr>
          <p:spPr>
            <a:xfrm>
              <a:off x="6154560" y="3933720"/>
              <a:ext cx="1081080" cy="43164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Arial"/>
                </a:rPr>
                <a:t>Estrategias de desarrollo województ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6"/>
            <p:cNvSpPr/>
            <p:nvPr/>
          </p:nvSpPr>
          <p:spPr>
            <a:xfrm>
              <a:off x="6443640" y="4508280"/>
              <a:ext cx="865080" cy="725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7e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Estrategias de desarrollo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locales</a:t>
              </a:r>
              <a:br>
                <a:rPr sz="800"/>
              </a:b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municipios, ciudades, otro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364000" y="5084640"/>
              <a:ext cx="844560" cy="45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7e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Operativos Region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6804000" y="5497560"/>
              <a:ext cx="863640" cy="523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7e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rogram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s y planes </a:t>
              </a: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de desarrollo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 regionales y loc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7020000" y="5268960"/>
              <a:ext cx="0" cy="1760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8"/>
            <p:cNvSpPr/>
            <p:nvPr/>
          </p:nvSpPr>
          <p:spPr>
            <a:xfrm>
              <a:off x="7667640" y="3408120"/>
              <a:ext cx="1296720" cy="884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3399"/>
                  </a:solidFill>
                  <a:latin typeface="Arial"/>
                </a:rPr>
                <a:t>Plan</a:t>
              </a: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es</a:t>
              </a:r>
              <a:r>
                <a:rPr b="0" lang="pl-PL" sz="1000" spc="-1" strike="noStrike">
                  <a:solidFill>
                    <a:srgbClr val="003399"/>
                  </a:solidFill>
                  <a:latin typeface="Arial"/>
                </a:rPr>
                <a:t> de </a:t>
              </a: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D</a:t>
              </a:r>
              <a:r>
                <a:rPr b="0" lang="pl-PL" sz="1000" spc="-1" strike="noStrike">
                  <a:solidFill>
                    <a:srgbClr val="003399"/>
                  </a:solidFill>
                  <a:latin typeface="Arial"/>
                </a:rPr>
                <a:t>esarrollo </a:t>
              </a: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 Teriitoriales de Voivodí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49"/>
            <p:cNvSpPr/>
            <p:nvPr/>
          </p:nvSpPr>
          <p:spPr>
            <a:xfrm>
              <a:off x="7739280" y="5589360"/>
              <a:ext cx="1296720" cy="863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P</a:t>
              </a:r>
              <a:r>
                <a:rPr b="0" lang="pl-PL" sz="1000" spc="-1" strike="noStrike">
                  <a:solidFill>
                    <a:srgbClr val="003399"/>
                  </a:solidFill>
                  <a:latin typeface="Arial"/>
                </a:rPr>
                <a:t>lan</a:t>
              </a: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es</a:t>
              </a:r>
              <a:r>
                <a:rPr b="0" lang="pl-PL" sz="1000" spc="-1" strike="noStrike">
                  <a:solidFill>
                    <a:srgbClr val="003399"/>
                  </a:solidFill>
                  <a:latin typeface="Arial"/>
                </a:rPr>
                <a:t> de desarrollo </a:t>
              </a: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territorial loc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50"/>
            <p:cNvSpPr/>
            <p:nvPr/>
          </p:nvSpPr>
          <p:spPr>
            <a:xfrm>
              <a:off x="7632720" y="4514760"/>
              <a:ext cx="1403280" cy="930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3399"/>
                  </a:solidFill>
                  <a:latin typeface="Arial"/>
                </a:rPr>
                <a:t>Estudios referentes a las condiciones </a:t>
              </a:r>
              <a:r>
                <a:rPr b="0" lang="pl-PL" sz="900" spc="-1" strike="noStrike">
                  <a:solidFill>
                    <a:srgbClr val="003399"/>
                  </a:solidFill>
                  <a:latin typeface="Arial"/>
                </a:rPr>
                <a:t>de desarrollo </a:t>
              </a:r>
              <a:r>
                <a:rPr b="0" lang="es-ES_tradnl" sz="900" spc="-1" strike="noStrike">
                  <a:solidFill>
                    <a:srgbClr val="003399"/>
                  </a:solidFill>
                  <a:latin typeface="Arial"/>
                </a:rPr>
                <a:t>territorial de los municipi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53"/>
            <p:cNvSpPr/>
            <p:nvPr/>
          </p:nvSpPr>
          <p:spPr>
            <a:xfrm>
              <a:off x="8172360" y="5443560"/>
              <a:ext cx="0" cy="217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54"/>
            <p:cNvSpPr/>
            <p:nvPr/>
          </p:nvSpPr>
          <p:spPr>
            <a:xfrm>
              <a:off x="7308720" y="4005000"/>
              <a:ext cx="3585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1"/>
            <p:cNvSpPr/>
            <p:nvPr/>
          </p:nvSpPr>
          <p:spPr>
            <a:xfrm>
              <a:off x="7380360" y="4732200"/>
              <a:ext cx="215640" cy="64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>
              <a:off x="8317080" y="4362120"/>
              <a:ext cx="0" cy="1458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7"/>
            <p:cNvSpPr/>
            <p:nvPr/>
          </p:nvSpPr>
          <p:spPr>
            <a:xfrm>
              <a:off x="6012000" y="3089160"/>
              <a:ext cx="109440" cy="195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58"/>
            <p:cNvSpPr/>
            <p:nvPr/>
          </p:nvSpPr>
          <p:spPr>
            <a:xfrm>
              <a:off x="3995640" y="3717720"/>
              <a:ext cx="0" cy="215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1"/>
            <p:cNvSpPr/>
            <p:nvPr/>
          </p:nvSpPr>
          <p:spPr>
            <a:xfrm>
              <a:off x="7669440" y="1699920"/>
              <a:ext cx="1079280" cy="1800000"/>
            </a:xfrm>
            <a:prstGeom prst="line">
              <a:avLst/>
            </a:prstGeom>
            <a:ln w="12600">
              <a:solidFill>
                <a:srgbClr val="33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49"/>
            <p:cNvSpPr/>
            <p:nvPr/>
          </p:nvSpPr>
          <p:spPr>
            <a:xfrm>
              <a:off x="6588000" y="2636640"/>
              <a:ext cx="431640" cy="12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50"/>
            <p:cNvSpPr/>
            <p:nvPr/>
          </p:nvSpPr>
          <p:spPr>
            <a:xfrm>
              <a:off x="1115640" y="350028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52"/>
            <p:cNvSpPr/>
            <p:nvPr/>
          </p:nvSpPr>
          <p:spPr>
            <a:xfrm flipH="1">
              <a:off x="6012000" y="4365360"/>
              <a:ext cx="28872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53"/>
            <p:cNvSpPr/>
            <p:nvPr/>
          </p:nvSpPr>
          <p:spPr>
            <a:xfrm>
              <a:off x="2050920" y="378900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54"/>
            <p:cNvSpPr/>
            <p:nvPr/>
          </p:nvSpPr>
          <p:spPr>
            <a:xfrm>
              <a:off x="2050920" y="522900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55"/>
            <p:cNvSpPr/>
            <p:nvPr/>
          </p:nvSpPr>
          <p:spPr>
            <a:xfrm>
              <a:off x="3924360" y="37162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57"/>
            <p:cNvSpPr/>
            <p:nvPr/>
          </p:nvSpPr>
          <p:spPr>
            <a:xfrm flipH="1">
              <a:off x="1763280" y="2491920"/>
              <a:ext cx="936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ole tekstowe 5"/>
          <p:cNvSpPr/>
          <p:nvPr/>
        </p:nvSpPr>
        <p:spPr>
          <a:xfrm>
            <a:off x="395280" y="2205000"/>
            <a:ext cx="8497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Pre</a:t>
            </a: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senta principales tendencias</a:t>
            </a: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, </a:t>
            </a: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retos y escenarios del desarrollo </a:t>
            </a: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socio</a:t>
            </a: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económico del país</a:t>
            </a: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Señala orientación del desarrollo territorial del paí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Contiene recomendaciones para la estrategia de desarrollo a medio plazo</a:t>
            </a: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Abarca el período mínimo de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 15</a:t>
            </a: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3564000" y="33336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Estrategia de desarrollo 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a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3564000" y="26028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2"/>
          <p:cNvSpPr/>
          <p:nvPr/>
        </p:nvSpPr>
        <p:spPr>
          <a:xfrm>
            <a:off x="971640" y="1357200"/>
            <a:ext cx="7561080" cy="70344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ole tekstowe 3"/>
          <p:cNvSpPr/>
          <p:nvPr/>
        </p:nvSpPr>
        <p:spPr>
          <a:xfrm>
            <a:off x="971640" y="2205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JETIVO PRINCIPAL</a:t>
            </a: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jorar la calidad de vida en Polonia basándose en un estable y alto crecimiento económico que lleve a la modernización económica</a:t>
            </a: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ole tekstowe 5"/>
          <p:cNvSpPr/>
          <p:nvPr/>
        </p:nvSpPr>
        <p:spPr>
          <a:xfrm>
            <a:off x="971640" y="3716280"/>
            <a:ext cx="74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ÁREA </a:t>
            </a:r>
            <a:r>
              <a:rPr b="1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DE LA MODER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jorar la competitividad e innovación de la economí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ole tekstowe 40"/>
          <p:cNvSpPr/>
          <p:nvPr/>
        </p:nvSpPr>
        <p:spPr>
          <a:xfrm>
            <a:off x="971640" y="4653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ÁREA </a:t>
            </a:r>
            <a:r>
              <a:rPr b="1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 LA DIFUSIÓN</a:t>
            </a: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quilibrar el potencial de desarrollo de cada reg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ole tekstowe 42"/>
          <p:cNvSpPr/>
          <p:nvPr/>
        </p:nvSpPr>
        <p:spPr>
          <a:xfrm>
            <a:off x="971640" y="55958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ÁREA </a:t>
            </a:r>
            <a:r>
              <a:rPr b="1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 LA EFI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jorar la eficacia y eficiencia del funcionamiento de Pol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2060640"/>
            <a:ext cx="741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4f8a"/>
                </a:solidFill>
                <a:latin typeface="Tahoma"/>
              </a:rPr>
              <a:t>Índice de la presentación</a:t>
            </a:r>
            <a:r>
              <a:rPr b="1" lang="pl-PL" sz="2800" spc="-1" strike="noStrike">
                <a:solidFill>
                  <a:srgbClr val="004f8a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buClr>
                <a:srgbClr val="004f8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4f8a"/>
                </a:solidFill>
                <a:latin typeface="Tahoma"/>
              </a:rPr>
              <a:t>S</a:t>
            </a:r>
            <a:r>
              <a:rPr b="0" lang="es-ES_tradnl" sz="2800" spc="-1" strike="noStrike">
                <a:solidFill>
                  <a:srgbClr val="004f8a"/>
                </a:solidFill>
                <a:latin typeface="Tahoma"/>
              </a:rPr>
              <a:t>ituación económica y 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buClr>
                <a:srgbClr val="004f8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4f8a"/>
                </a:solidFill>
                <a:latin typeface="Tahoma"/>
              </a:rPr>
              <a:t>S</a:t>
            </a:r>
            <a:r>
              <a:rPr b="0" lang="es-ES_tradnl" sz="2800" spc="-1" strike="noStrike">
                <a:solidFill>
                  <a:srgbClr val="004f8a"/>
                </a:solidFill>
                <a:latin typeface="Tahoma"/>
              </a:rPr>
              <a:t>istema de planificac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buClr>
                <a:srgbClr val="004f8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4f8a"/>
                </a:solidFill>
                <a:latin typeface="Tahoma"/>
              </a:rPr>
              <a:t>P</a:t>
            </a:r>
            <a:r>
              <a:rPr b="0" lang="es-ES_tradnl" sz="2800" spc="-1" strike="noStrike">
                <a:solidFill>
                  <a:srgbClr val="004f8a"/>
                </a:solidFill>
                <a:latin typeface="Tahoma"/>
              </a:rPr>
              <a:t>rincipales estrategias de 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ole tekstowe 5"/>
          <p:cNvSpPr/>
          <p:nvPr/>
        </p:nvSpPr>
        <p:spPr>
          <a:xfrm>
            <a:off x="900000" y="2506680"/>
            <a:ext cx="7704360" cy="29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Pre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senta circunstancias básicas</a:t>
            </a: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,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objetivos y orientación del desarrollo s</a:t>
            </a: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ocio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económico del país</a:t>
            </a: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Toma en cuenta circunstancias sociales, económicas, regionales y territoriales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Abarca los períodos de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4-10 añ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Realiz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ada mediante la estrategia de desarrollo y programas de desarrollo</a:t>
            </a: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2"/>
          <p:cNvSpPr/>
          <p:nvPr/>
        </p:nvSpPr>
        <p:spPr>
          <a:xfrm>
            <a:off x="971640" y="1413000"/>
            <a:ext cx="756108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3564000" y="3031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2"/>
          <p:cNvSpPr/>
          <p:nvPr/>
        </p:nvSpPr>
        <p:spPr>
          <a:xfrm>
            <a:off x="971640" y="1413000"/>
            <a:ext cx="756108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ole tekstowe 3"/>
          <p:cNvSpPr/>
          <p:nvPr/>
        </p:nvSpPr>
        <p:spPr>
          <a:xfrm>
            <a:off x="971640" y="231156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BJETIVO PRINCIPAL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forzar y aprovechar 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l potencial económico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social e institucional para garantizar un desarrollo m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s rápido y sostenible del estado y mejorar la calidad de vida de l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ole tekstowe 5"/>
          <p:cNvSpPr/>
          <p:nvPr/>
        </p:nvSpPr>
        <p:spPr>
          <a:xfrm>
            <a:off x="971640" y="36511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stado eficaz y e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ole tekstowe 5"/>
          <p:cNvSpPr/>
          <p:nvPr/>
        </p:nvSpPr>
        <p:spPr>
          <a:xfrm>
            <a:off x="971640" y="44434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conomía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ole tekstowe 5"/>
          <p:cNvSpPr/>
          <p:nvPr/>
        </p:nvSpPr>
        <p:spPr>
          <a:xfrm>
            <a:off x="971640" y="52308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ohesión social y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2"/>
          <p:cNvSpPr/>
          <p:nvPr/>
        </p:nvSpPr>
        <p:spPr>
          <a:xfrm>
            <a:off x="971640" y="1413000"/>
            <a:ext cx="756108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 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ole tekstowe 3"/>
          <p:cNvSpPr/>
          <p:nvPr/>
        </p:nvSpPr>
        <p:spPr>
          <a:xfrm>
            <a:off x="971640" y="2411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ESTADO EFICAZ Y E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ole tekstowe 5"/>
          <p:cNvSpPr/>
          <p:nvPr/>
        </p:nvSpPr>
        <p:spPr>
          <a:xfrm>
            <a:off x="971640" y="3068640"/>
            <a:ext cx="792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jetivos estratégicos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sar de la administración de desarrollo a la gestión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Garantizar fondos para las medidas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Mejorar condiciones para satisfacer las nececidades de los ciudadanos y estimular su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3564000" y="3031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22"/>
          <p:cNvSpPr/>
          <p:nvPr/>
        </p:nvSpPr>
        <p:spPr>
          <a:xfrm>
            <a:off x="971640" y="1413000"/>
            <a:ext cx="720072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ole tekstowe 3"/>
          <p:cNvSpPr/>
          <p:nvPr/>
        </p:nvSpPr>
        <p:spPr>
          <a:xfrm>
            <a:off x="971640" y="226692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ECONOMÍA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ole tekstowe 5"/>
          <p:cNvSpPr/>
          <p:nvPr/>
        </p:nvSpPr>
        <p:spPr>
          <a:xfrm>
            <a:off x="971640" y="2809800"/>
            <a:ext cx="78501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jetivos estratégicos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forzar la estabilidad macro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Mejorar la eficiencia 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Mejor la innovación de la econó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esarrollar el capital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umentar el uso de las tecnologías dig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guridad energética y conservación del medio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umentar la eficiencia del sistema de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4"/>
          <p:cNvSpPr/>
          <p:nvPr/>
        </p:nvSpPr>
        <p:spPr>
          <a:xfrm>
            <a:off x="3564000" y="3031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2"/>
          <p:cNvSpPr/>
          <p:nvPr/>
        </p:nvSpPr>
        <p:spPr>
          <a:xfrm>
            <a:off x="971640" y="1413000"/>
            <a:ext cx="734544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 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ole tekstowe 3"/>
          <p:cNvSpPr/>
          <p:nvPr/>
        </p:nvSpPr>
        <p:spPr>
          <a:xfrm>
            <a:off x="971640" y="22669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COHESIÓN SOCIAL Y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ole tekstowe 5"/>
          <p:cNvSpPr/>
          <p:nvPr/>
        </p:nvSpPr>
        <p:spPr>
          <a:xfrm>
            <a:off x="971640" y="2738520"/>
            <a:ext cx="792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bjetivos estratégicos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tegrac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Garantizar el acceso a los servicios públicos de un estandar determ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forzar mecanismos de la sostenibilidad de desarrollo territorial  e integración territorial para garantizar pleno aprovechamiento de los potenciales regionales.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3564000" y="3031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3492360" y="29520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2"/>
          <p:cNvSpPr/>
          <p:nvPr/>
        </p:nvSpPr>
        <p:spPr>
          <a:xfrm>
            <a:off x="971640" y="1413000"/>
            <a:ext cx="7200720" cy="86364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RC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9"/>
          <p:cNvSpPr/>
          <p:nvPr/>
        </p:nvSpPr>
        <p:spPr>
          <a:xfrm>
            <a:off x="1042920" y="2637000"/>
            <a:ext cx="2374920" cy="1079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0"/>
          <p:cNvSpPr/>
          <p:nvPr/>
        </p:nvSpPr>
        <p:spPr>
          <a:xfrm>
            <a:off x="1044720" y="4022640"/>
            <a:ext cx="2447640" cy="106200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1062000"/>
              <a:gd name="textAreaBottom" fmla="*/ 1062360 h 106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1620720" y="29908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7,3 %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1620720" y="43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 bi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ne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P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3"/>
          <p:cNvSpPr/>
          <p:nvPr/>
        </p:nvSpPr>
        <p:spPr>
          <a:xfrm>
            <a:off x="3276720" y="4005360"/>
            <a:ext cx="2447640" cy="106200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1062000"/>
              <a:gd name="textAreaBottom" fmla="*/ 1062360 h 106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3924360" y="4365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30 bi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5"/>
          <p:cNvSpPr/>
          <p:nvPr/>
        </p:nvSpPr>
        <p:spPr>
          <a:xfrm>
            <a:off x="5867280" y="3141720"/>
            <a:ext cx="2881440" cy="28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6"/>
          <p:cNvSpPr/>
          <p:nvPr/>
        </p:nvSpPr>
        <p:spPr>
          <a:xfrm>
            <a:off x="7236000" y="465300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7"/>
          <p:cNvSpPr/>
          <p:nvPr/>
        </p:nvSpPr>
        <p:spPr>
          <a:xfrm>
            <a:off x="723600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8"/>
          <p:cNvSpPr/>
          <p:nvPr/>
        </p:nvSpPr>
        <p:spPr>
          <a:xfrm>
            <a:off x="7237440" y="3645000"/>
            <a:ext cx="1655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3 -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ndo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4"/>
          <p:cNvSpPr/>
          <p:nvPr/>
        </p:nvSpPr>
        <p:spPr>
          <a:xfrm>
            <a:off x="3564000" y="3031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ole tekstowe 4"/>
          <p:cNvSpPr/>
          <p:nvPr/>
        </p:nvSpPr>
        <p:spPr>
          <a:xfrm>
            <a:off x="2411280" y="3798720"/>
            <a:ext cx="43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,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ole tekstowe 14"/>
          <p:cNvSpPr/>
          <p:nvPr/>
        </p:nvSpPr>
        <p:spPr>
          <a:xfrm>
            <a:off x="2843280" y="3573360"/>
            <a:ext cx="433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ole tekstowe 15"/>
          <p:cNvSpPr/>
          <p:nvPr/>
        </p:nvSpPr>
        <p:spPr>
          <a:xfrm>
            <a:off x="3995640" y="3933720"/>
            <a:ext cx="43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7,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ole tekstowe 16"/>
          <p:cNvSpPr/>
          <p:nvPr/>
        </p:nvSpPr>
        <p:spPr>
          <a:xfrm>
            <a:off x="4427640" y="3598920"/>
            <a:ext cx="43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17"/>
          <p:cNvSpPr/>
          <p:nvPr/>
        </p:nvSpPr>
        <p:spPr>
          <a:xfrm>
            <a:off x="5508720" y="3527280"/>
            <a:ext cx="43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1,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ole tekstowe 18"/>
          <p:cNvSpPr/>
          <p:nvPr/>
        </p:nvSpPr>
        <p:spPr>
          <a:xfrm>
            <a:off x="6084720" y="3529080"/>
            <a:ext cx="43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ole tekstowe 5"/>
          <p:cNvSpPr/>
          <p:nvPr/>
        </p:nvSpPr>
        <p:spPr>
          <a:xfrm>
            <a:off x="3059280" y="478008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13"/>
          <p:cNvSpPr/>
          <p:nvPr/>
        </p:nvSpPr>
        <p:spPr>
          <a:xfrm>
            <a:off x="4498920" y="4203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-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22"/>
          <p:cNvSpPr/>
          <p:nvPr/>
        </p:nvSpPr>
        <p:spPr>
          <a:xfrm>
            <a:off x="971640" y="1413000"/>
            <a:ext cx="7200720" cy="79200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 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 S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TEMA DE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5"/>
          <p:cNvSpPr/>
          <p:nvPr/>
        </p:nvSpPr>
        <p:spPr>
          <a:xfrm>
            <a:off x="539640" y="2781360"/>
            <a:ext cx="1440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ole tekstowe 15"/>
          <p:cNvSpPr/>
          <p:nvPr/>
        </p:nvSpPr>
        <p:spPr>
          <a:xfrm>
            <a:off x="826920" y="3141720"/>
            <a:ext cx="8636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c7d96"/>
                </a:solidFill>
                <a:latin typeface="Times New Roman"/>
                <a:ea typeface="Times New Roman"/>
              </a:rPr>
              <a:t>Cada año</a:t>
            </a:r>
            <a:r>
              <a:rPr b="1" lang="pl-PL" sz="1600" spc="-1" strike="noStrike">
                <a:solidFill>
                  <a:srgbClr val="3c7d96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7"/>
          <p:cNvSpPr/>
          <p:nvPr/>
        </p:nvSpPr>
        <p:spPr>
          <a:xfrm>
            <a:off x="539640" y="4076640"/>
            <a:ext cx="1440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15"/>
          <p:cNvSpPr/>
          <p:nvPr/>
        </p:nvSpPr>
        <p:spPr>
          <a:xfrm>
            <a:off x="826920" y="4292640"/>
            <a:ext cx="86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c7d96"/>
                </a:solidFill>
                <a:latin typeface="Times New Roman"/>
                <a:ea typeface="Times New Roman"/>
              </a:rPr>
              <a:t>C</a:t>
            </a:r>
            <a:r>
              <a:rPr b="1" lang="es-ES_tradnl" sz="1600" spc="-1" strike="noStrike">
                <a:solidFill>
                  <a:srgbClr val="3c7d96"/>
                </a:solidFill>
                <a:latin typeface="Times New Roman"/>
                <a:ea typeface="Times New Roman"/>
              </a:rPr>
              <a:t>ada tres año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9"/>
          <p:cNvSpPr/>
          <p:nvPr/>
        </p:nvSpPr>
        <p:spPr>
          <a:xfrm>
            <a:off x="2195640" y="2997360"/>
            <a:ext cx="612144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0"/>
          <p:cNvSpPr/>
          <p:nvPr/>
        </p:nvSpPr>
        <p:spPr>
          <a:xfrm>
            <a:off x="2340000" y="3068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forme sobre implementación del Plan de Medidas para realización de la Estrategia Naciona de Desarroll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1"/>
          <p:cNvSpPr/>
          <p:nvPr/>
        </p:nvSpPr>
        <p:spPr>
          <a:xfrm>
            <a:off x="2195640" y="4294080"/>
            <a:ext cx="6121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2"/>
          <p:cNvSpPr/>
          <p:nvPr/>
        </p:nvSpPr>
        <p:spPr>
          <a:xfrm>
            <a:off x="2340000" y="43657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forme del desarrollo socioeconómico regional y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ole tekstowe 14"/>
          <p:cNvSpPr/>
          <p:nvPr/>
        </p:nvSpPr>
        <p:spPr>
          <a:xfrm>
            <a:off x="3564000" y="30780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Estructura de los documento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2"/>
          <p:cNvSpPr/>
          <p:nvPr/>
        </p:nvSpPr>
        <p:spPr>
          <a:xfrm>
            <a:off x="971640" y="1413000"/>
            <a:ext cx="720072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tras Estartegias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upa 1"/>
          <p:cNvGrpSpPr/>
          <p:nvPr/>
        </p:nvGrpSpPr>
        <p:grpSpPr>
          <a:xfrm>
            <a:off x="1692360" y="2701800"/>
            <a:ext cx="5689080" cy="2743200"/>
            <a:chOff x="1692360" y="2701800"/>
            <a:chExt cx="5689080" cy="2743200"/>
          </a:xfrm>
        </p:grpSpPr>
        <p:sp>
          <p:nvSpPr>
            <p:cNvPr id="581" name="Line 58"/>
            <p:cNvSpPr/>
            <p:nvPr/>
          </p:nvSpPr>
          <p:spPr>
            <a:xfrm>
              <a:off x="4645080" y="4070160"/>
              <a:ext cx="0" cy="215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upa 45"/>
            <p:cNvGrpSpPr/>
            <p:nvPr/>
          </p:nvGrpSpPr>
          <p:grpSpPr>
            <a:xfrm>
              <a:off x="2383920" y="2701800"/>
              <a:ext cx="1323720" cy="1519200"/>
              <a:chOff x="2383920" y="2701800"/>
              <a:chExt cx="1323720" cy="1519200"/>
            </a:xfrm>
          </p:grpSpPr>
          <p:sp>
            <p:nvSpPr>
              <p:cNvPr id="583" name="Sześciokąt 46"/>
              <p:cNvSpPr/>
              <p:nvPr/>
            </p:nvSpPr>
            <p:spPr>
              <a:xfrm rot="5400000">
                <a:off x="2286000" y="2799360"/>
                <a:ext cx="1519200" cy="1323720"/>
              </a:xfrm>
              <a:prstGeom prst="hexagon">
                <a:avLst>
                  <a:gd name="adj" fmla="val 2496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Sześciokąt 4"/>
              <p:cNvSpPr/>
              <p:nvPr/>
            </p:nvSpPr>
            <p:spPr>
              <a:xfrm>
                <a:off x="2590560" y="2938320"/>
                <a:ext cx="9111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iagn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óstico de la situ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upa 27"/>
            <p:cNvGrpSpPr/>
            <p:nvPr/>
          </p:nvGrpSpPr>
          <p:grpSpPr>
            <a:xfrm>
              <a:off x="3824280" y="2701800"/>
              <a:ext cx="1325520" cy="1519200"/>
              <a:chOff x="3824280" y="2701800"/>
              <a:chExt cx="1325520" cy="1519200"/>
            </a:xfrm>
          </p:grpSpPr>
          <p:sp>
            <p:nvSpPr>
              <p:cNvPr id="586" name="Sześciokąt 28"/>
              <p:cNvSpPr/>
              <p:nvPr/>
            </p:nvSpPr>
            <p:spPr>
              <a:xfrm rot="5400000">
                <a:off x="3727440" y="279864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Sześciokąt 4"/>
              <p:cNvSpPr/>
              <p:nvPr/>
            </p:nvSpPr>
            <p:spPr>
              <a:xfrm>
                <a:off x="4030560" y="2938320"/>
                <a:ext cx="9129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ro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nósticos de las tendencias de desarroll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upa 33"/>
            <p:cNvGrpSpPr/>
            <p:nvPr/>
          </p:nvGrpSpPr>
          <p:grpSpPr>
            <a:xfrm>
              <a:off x="5264280" y="2701800"/>
              <a:ext cx="1325520" cy="1519200"/>
              <a:chOff x="5264280" y="2701800"/>
              <a:chExt cx="1325520" cy="1519200"/>
            </a:xfrm>
          </p:grpSpPr>
          <p:sp>
            <p:nvSpPr>
              <p:cNvPr id="589" name="Sześciokąt 34"/>
              <p:cNvSpPr/>
              <p:nvPr/>
            </p:nvSpPr>
            <p:spPr>
              <a:xfrm rot="5400000">
                <a:off x="5167440" y="279864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Sześciokąt 4"/>
              <p:cNvSpPr/>
              <p:nvPr/>
            </p:nvSpPr>
            <p:spPr>
              <a:xfrm>
                <a:off x="5351400" y="2938320"/>
                <a:ext cx="115092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bjetivos de desarroll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upa 36"/>
            <p:cNvGrpSpPr/>
            <p:nvPr/>
          </p:nvGrpSpPr>
          <p:grpSpPr>
            <a:xfrm>
              <a:off x="3103560" y="3925800"/>
              <a:ext cx="1325520" cy="1519200"/>
              <a:chOff x="3103560" y="3925800"/>
              <a:chExt cx="1325520" cy="1519200"/>
            </a:xfrm>
          </p:grpSpPr>
          <p:sp>
            <p:nvSpPr>
              <p:cNvPr id="592" name="Sześciokąt 37"/>
              <p:cNvSpPr/>
              <p:nvPr/>
            </p:nvSpPr>
            <p:spPr>
              <a:xfrm rot="5400000">
                <a:off x="3006720" y="402264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Sześciokąt 4"/>
              <p:cNvSpPr/>
              <p:nvPr/>
            </p:nvSpPr>
            <p:spPr>
              <a:xfrm>
                <a:off x="3309840" y="4162320"/>
                <a:ext cx="9129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Índices de cumplimien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Grupa 54"/>
            <p:cNvGrpSpPr/>
            <p:nvPr/>
          </p:nvGrpSpPr>
          <p:grpSpPr>
            <a:xfrm>
              <a:off x="4543560" y="3925800"/>
              <a:ext cx="1325520" cy="1519200"/>
              <a:chOff x="4543560" y="3925800"/>
              <a:chExt cx="1325520" cy="1519200"/>
            </a:xfrm>
          </p:grpSpPr>
          <p:sp>
            <p:nvSpPr>
              <p:cNvPr id="595" name="Sześciokąt 55"/>
              <p:cNvSpPr/>
              <p:nvPr/>
            </p:nvSpPr>
            <p:spPr>
              <a:xfrm rot="5400000">
                <a:off x="4446720" y="402264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Sześciokąt 4"/>
              <p:cNvSpPr/>
              <p:nvPr/>
            </p:nvSpPr>
            <p:spPr>
              <a:xfrm>
                <a:off x="4614840" y="4162320"/>
                <a:ext cx="115272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stema de implement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Grupa 48"/>
            <p:cNvGrpSpPr/>
            <p:nvPr/>
          </p:nvGrpSpPr>
          <p:grpSpPr>
            <a:xfrm>
              <a:off x="5941800" y="3925800"/>
              <a:ext cx="1439640" cy="1519200"/>
              <a:chOff x="5941800" y="3925800"/>
              <a:chExt cx="1439640" cy="1519200"/>
            </a:xfrm>
          </p:grpSpPr>
          <p:sp>
            <p:nvSpPr>
              <p:cNvPr id="598" name="Sześciokąt 49"/>
              <p:cNvSpPr/>
              <p:nvPr/>
            </p:nvSpPr>
            <p:spPr>
              <a:xfrm rot="5400000">
                <a:off x="5901840" y="3965400"/>
                <a:ext cx="1519200" cy="1439640"/>
              </a:xfrm>
              <a:prstGeom prst="hexagon">
                <a:avLst>
                  <a:gd name="adj" fmla="val 2295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Sześciokąt 4"/>
              <p:cNvSpPr/>
              <p:nvPr/>
            </p:nvSpPr>
            <p:spPr>
              <a:xfrm>
                <a:off x="6165720" y="4221000"/>
                <a:ext cx="992160" cy="920880"/>
              </a:xfrm>
              <a:prstGeom prst="rect">
                <a:avLst/>
              </a:prstGeom>
              <a:solidFill>
                <a:srgbClr val="4ea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Marcos financier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Grupa 51"/>
            <p:cNvGrpSpPr/>
            <p:nvPr/>
          </p:nvGrpSpPr>
          <p:grpSpPr>
            <a:xfrm>
              <a:off x="1692360" y="3925800"/>
              <a:ext cx="1325520" cy="1519200"/>
              <a:chOff x="1692360" y="3925800"/>
              <a:chExt cx="1325520" cy="1519200"/>
            </a:xfrm>
          </p:grpSpPr>
          <p:sp>
            <p:nvSpPr>
              <p:cNvPr id="601" name="Sześciokąt 52"/>
              <p:cNvSpPr/>
              <p:nvPr/>
            </p:nvSpPr>
            <p:spPr>
              <a:xfrm rot="5400000">
                <a:off x="1595520" y="402264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Sześciokąt 4"/>
              <p:cNvSpPr/>
              <p:nvPr/>
            </p:nvSpPr>
            <p:spPr>
              <a:xfrm>
                <a:off x="1898640" y="4162320"/>
                <a:ext cx="9129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Medidas planeadas en el contexto territori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2"/>
          <p:cNvSpPr/>
          <p:nvPr/>
        </p:nvSpPr>
        <p:spPr>
          <a:xfrm>
            <a:off x="971640" y="1413000"/>
            <a:ext cx="720072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upa 5"/>
          <p:cNvGrpSpPr/>
          <p:nvPr/>
        </p:nvGrpSpPr>
        <p:grpSpPr>
          <a:xfrm>
            <a:off x="1692360" y="2486160"/>
            <a:ext cx="5689080" cy="3967200"/>
            <a:chOff x="1692360" y="2486160"/>
            <a:chExt cx="5689080" cy="3967200"/>
          </a:xfrm>
        </p:grpSpPr>
        <p:sp>
          <p:nvSpPr>
            <p:cNvPr id="610" name="Line 58"/>
            <p:cNvSpPr/>
            <p:nvPr/>
          </p:nvSpPr>
          <p:spPr>
            <a:xfrm>
              <a:off x="4645080" y="3718080"/>
              <a:ext cx="0" cy="215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upa 45"/>
            <p:cNvGrpSpPr/>
            <p:nvPr/>
          </p:nvGrpSpPr>
          <p:grpSpPr>
            <a:xfrm>
              <a:off x="2457000" y="3710160"/>
              <a:ext cx="1323720" cy="1519200"/>
              <a:chOff x="2457000" y="3710160"/>
              <a:chExt cx="1323720" cy="1519200"/>
            </a:xfrm>
          </p:grpSpPr>
          <p:sp>
            <p:nvSpPr>
              <p:cNvPr id="612" name="Sześciokąt 46"/>
              <p:cNvSpPr/>
              <p:nvPr/>
            </p:nvSpPr>
            <p:spPr>
              <a:xfrm rot="5400000">
                <a:off x="2359080" y="3807720"/>
                <a:ext cx="1519200" cy="1323720"/>
              </a:xfrm>
              <a:prstGeom prst="hexagon">
                <a:avLst>
                  <a:gd name="adj" fmla="val 2496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Sześciokąt 4"/>
              <p:cNvSpPr/>
              <p:nvPr/>
            </p:nvSpPr>
            <p:spPr>
              <a:xfrm>
                <a:off x="2663640" y="3946680"/>
                <a:ext cx="9111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Medidas planeadas en el contexto territori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upa 27"/>
            <p:cNvGrpSpPr/>
            <p:nvPr/>
          </p:nvGrpSpPr>
          <p:grpSpPr>
            <a:xfrm>
              <a:off x="3824280" y="3710160"/>
              <a:ext cx="1325520" cy="1519200"/>
              <a:chOff x="3824280" y="3710160"/>
              <a:chExt cx="1325520" cy="1519200"/>
            </a:xfrm>
          </p:grpSpPr>
          <p:sp>
            <p:nvSpPr>
              <p:cNvPr id="615" name="Sześciokąt 28"/>
              <p:cNvSpPr/>
              <p:nvPr/>
            </p:nvSpPr>
            <p:spPr>
              <a:xfrm rot="5400000">
                <a:off x="3727440" y="380700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Sześciokąt 4"/>
              <p:cNvSpPr/>
              <p:nvPr/>
            </p:nvSpPr>
            <p:spPr>
              <a:xfrm>
                <a:off x="4030560" y="3946680"/>
                <a:ext cx="9129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bjetivo princip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upa 33"/>
            <p:cNvGrpSpPr/>
            <p:nvPr/>
          </p:nvGrpSpPr>
          <p:grpSpPr>
            <a:xfrm>
              <a:off x="5221440" y="3710160"/>
              <a:ext cx="1325520" cy="1519200"/>
              <a:chOff x="5221440" y="3710160"/>
              <a:chExt cx="1325520" cy="1519200"/>
            </a:xfrm>
          </p:grpSpPr>
          <p:sp>
            <p:nvSpPr>
              <p:cNvPr id="618" name="Sześciokąt 34"/>
              <p:cNvSpPr/>
              <p:nvPr/>
            </p:nvSpPr>
            <p:spPr>
              <a:xfrm rot="5400000">
                <a:off x="5124600" y="380700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Sześciokąt 4"/>
              <p:cNvSpPr/>
              <p:nvPr/>
            </p:nvSpPr>
            <p:spPr>
              <a:xfrm>
                <a:off x="5308560" y="3946680"/>
                <a:ext cx="115092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bjetivos específic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upa 36"/>
            <p:cNvGrpSpPr/>
            <p:nvPr/>
          </p:nvGrpSpPr>
          <p:grpSpPr>
            <a:xfrm>
              <a:off x="3103560" y="4934160"/>
              <a:ext cx="1325520" cy="1519200"/>
              <a:chOff x="3103560" y="4934160"/>
              <a:chExt cx="1325520" cy="1519200"/>
            </a:xfrm>
          </p:grpSpPr>
          <p:sp>
            <p:nvSpPr>
              <p:cNvPr id="621" name="Sześciokąt 37"/>
              <p:cNvSpPr/>
              <p:nvPr/>
            </p:nvSpPr>
            <p:spPr>
              <a:xfrm rot="5400000">
                <a:off x="3006720" y="503100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Sześciokąt 4"/>
              <p:cNvSpPr/>
              <p:nvPr/>
            </p:nvSpPr>
            <p:spPr>
              <a:xfrm>
                <a:off x="3309840" y="5170680"/>
                <a:ext cx="9129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lan finan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ier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upa 54"/>
            <p:cNvGrpSpPr/>
            <p:nvPr/>
          </p:nvGrpSpPr>
          <p:grpSpPr>
            <a:xfrm>
              <a:off x="4543560" y="4934160"/>
              <a:ext cx="1325520" cy="1519200"/>
              <a:chOff x="4543560" y="4934160"/>
              <a:chExt cx="1325520" cy="1519200"/>
            </a:xfrm>
          </p:grpSpPr>
          <p:sp>
            <p:nvSpPr>
              <p:cNvPr id="624" name="Sześciokąt 55"/>
              <p:cNvSpPr/>
              <p:nvPr/>
            </p:nvSpPr>
            <p:spPr>
              <a:xfrm rot="5400000">
                <a:off x="4446720" y="503100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Sześciokąt 4"/>
              <p:cNvSpPr/>
              <p:nvPr/>
            </p:nvSpPr>
            <p:spPr>
              <a:xfrm>
                <a:off x="4614840" y="5170680"/>
                <a:ext cx="115272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Índices del cumplimien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upa 48"/>
            <p:cNvGrpSpPr/>
            <p:nvPr/>
          </p:nvGrpSpPr>
          <p:grpSpPr>
            <a:xfrm>
              <a:off x="5941800" y="4934160"/>
              <a:ext cx="1439640" cy="1519200"/>
              <a:chOff x="5941800" y="4934160"/>
              <a:chExt cx="1439640" cy="1519200"/>
            </a:xfrm>
          </p:grpSpPr>
          <p:sp>
            <p:nvSpPr>
              <p:cNvPr id="627" name="Sześciokąt 49"/>
              <p:cNvSpPr/>
              <p:nvPr/>
            </p:nvSpPr>
            <p:spPr>
              <a:xfrm rot="5400000">
                <a:off x="5901840" y="4973760"/>
                <a:ext cx="1519200" cy="1439640"/>
              </a:xfrm>
              <a:prstGeom prst="hexagon">
                <a:avLst>
                  <a:gd name="adj" fmla="val 2295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Sześciokąt 4"/>
              <p:cNvSpPr/>
              <p:nvPr/>
            </p:nvSpPr>
            <p:spPr>
              <a:xfrm>
                <a:off x="6165720" y="5229360"/>
                <a:ext cx="1069920" cy="920880"/>
              </a:xfrm>
              <a:prstGeom prst="rect">
                <a:avLst/>
              </a:prstGeom>
              <a:solidFill>
                <a:srgbClr val="4ea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stema de seguimiento de la implement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upa 51"/>
            <p:cNvGrpSpPr/>
            <p:nvPr/>
          </p:nvGrpSpPr>
          <p:grpSpPr>
            <a:xfrm>
              <a:off x="1692360" y="4934160"/>
              <a:ext cx="1325520" cy="1519200"/>
              <a:chOff x="1692360" y="4934160"/>
              <a:chExt cx="1325520" cy="1519200"/>
            </a:xfrm>
          </p:grpSpPr>
          <p:sp>
            <p:nvSpPr>
              <p:cNvPr id="630" name="Sześciokąt 52"/>
              <p:cNvSpPr/>
              <p:nvPr/>
            </p:nvSpPr>
            <p:spPr>
              <a:xfrm rot="5400000">
                <a:off x="1595520" y="503100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Sześciokąt 4"/>
              <p:cNvSpPr/>
              <p:nvPr/>
            </p:nvSpPr>
            <p:spPr>
              <a:xfrm>
                <a:off x="1763640" y="5170680"/>
                <a:ext cx="115272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stema de implement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upa 45"/>
            <p:cNvGrpSpPr/>
            <p:nvPr/>
          </p:nvGrpSpPr>
          <p:grpSpPr>
            <a:xfrm>
              <a:off x="3133440" y="2486160"/>
              <a:ext cx="1323720" cy="1519200"/>
              <a:chOff x="3133440" y="2486160"/>
              <a:chExt cx="1323720" cy="1519200"/>
            </a:xfrm>
          </p:grpSpPr>
          <p:sp>
            <p:nvSpPr>
              <p:cNvPr id="633" name="Sześciokąt 46"/>
              <p:cNvSpPr/>
              <p:nvPr/>
            </p:nvSpPr>
            <p:spPr>
              <a:xfrm rot="5400000">
                <a:off x="3035520" y="2583720"/>
                <a:ext cx="1519200" cy="1323720"/>
              </a:xfrm>
              <a:prstGeom prst="hexagon">
                <a:avLst>
                  <a:gd name="adj" fmla="val 2496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Sześciokąt 4"/>
              <p:cNvSpPr/>
              <p:nvPr/>
            </p:nvSpPr>
            <p:spPr>
              <a:xfrm>
                <a:off x="3340080" y="2722680"/>
                <a:ext cx="9111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iagn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óstico de la situ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Grupa 45"/>
            <p:cNvGrpSpPr/>
            <p:nvPr/>
          </p:nvGrpSpPr>
          <p:grpSpPr>
            <a:xfrm>
              <a:off x="4544640" y="2486160"/>
              <a:ext cx="1323720" cy="1519200"/>
              <a:chOff x="4544640" y="2486160"/>
              <a:chExt cx="1323720" cy="1519200"/>
            </a:xfrm>
          </p:grpSpPr>
          <p:sp>
            <p:nvSpPr>
              <p:cNvPr id="636" name="Sześciokąt 46"/>
              <p:cNvSpPr/>
              <p:nvPr/>
            </p:nvSpPr>
            <p:spPr>
              <a:xfrm rot="5400000">
                <a:off x="4446720" y="2583720"/>
                <a:ext cx="1519200" cy="1323720"/>
              </a:xfrm>
              <a:prstGeom prst="hexagon">
                <a:avLst>
                  <a:gd name="adj" fmla="val 2496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Sześciokąt 4"/>
              <p:cNvSpPr/>
              <p:nvPr/>
            </p:nvSpPr>
            <p:spPr>
              <a:xfrm>
                <a:off x="4751280" y="2722680"/>
                <a:ext cx="9111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clusiones de la evaluación</a:t>
                </a: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ex -a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pole tekstowe 14"/>
          <p:cNvSpPr/>
          <p:nvPr/>
        </p:nvSpPr>
        <p:spPr>
          <a:xfrm>
            <a:off x="3575160" y="307800"/>
            <a:ext cx="55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Estructura de los documento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58"/>
          <p:cNvSpPr/>
          <p:nvPr/>
        </p:nvSpPr>
        <p:spPr>
          <a:xfrm>
            <a:off x="3995640" y="3754440"/>
            <a:ext cx="0" cy="2160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3564000" y="-27000"/>
            <a:ext cx="55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GB" sz="2200" spc="-1" strike="noStrike">
                <a:solidFill>
                  <a:srgbClr val="ffffcc"/>
                </a:solidFill>
                <a:latin typeface="Tahoma"/>
              </a:rPr>
              <a:t>Directrices del sistema de gestión del desarrollo polaco</a:t>
            </a:r>
            <a:r>
              <a:rPr b="0" lang="pl-PL" sz="2200" spc="-1" strike="noStrike">
                <a:solidFill>
                  <a:srgbClr val="ffffcc"/>
                </a:solidFill>
                <a:latin typeface="Tahoma"/>
              </a:rPr>
              <a:t>” </a:t>
            </a:r>
            <a:br>
              <a:rPr sz="2200"/>
            </a:br>
            <a:r>
              <a:rPr b="0" lang="es-ES_tradnl" sz="2200" spc="-1" strike="noStrike">
                <a:solidFill>
                  <a:srgbClr val="ffffcc"/>
                </a:solidFill>
                <a:latin typeface="Tahoma"/>
              </a:rPr>
              <a:t>Subsistema institu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9"/>
          <p:cNvSpPr/>
          <p:nvPr/>
        </p:nvSpPr>
        <p:spPr>
          <a:xfrm>
            <a:off x="196920" y="1162800"/>
            <a:ext cx="8748720" cy="4633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Primer ministro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– supervisión directa de la gestión estraté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2"/>
          <p:cNvSpPr/>
          <p:nvPr/>
        </p:nvSpPr>
        <p:spPr>
          <a:xfrm>
            <a:off x="206280" y="1667880"/>
            <a:ext cx="8748720" cy="767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Consejo de </a:t>
            </a:r>
            <a:r>
              <a:rPr b="1" lang="pl-PL" sz="1800" spc="-1" strike="noStrike" u="sng">
                <a:solidFill>
                  <a:srgbClr val="ffff00"/>
                </a:solidFill>
                <a:uFillTx/>
                <a:latin typeface="Arial"/>
              </a:rPr>
              <a:t>Ministr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os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– decisiones más importantes y aprobación de los objetivos estratégicos 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5"/>
          <p:cNvSpPr/>
          <p:nvPr/>
        </p:nvSpPr>
        <p:spPr>
          <a:xfrm>
            <a:off x="196920" y="2478240"/>
            <a:ext cx="8748720" cy="767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C</a:t>
            </a:r>
            <a:r>
              <a:rPr b="1" lang="pl-PL" sz="1800" spc="-1" strike="noStrike" u="sng">
                <a:solidFill>
                  <a:srgbClr val="ffff00"/>
                </a:solidFill>
                <a:uFillTx/>
                <a:latin typeface="Arial"/>
              </a:rPr>
              <a:t>omit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é de Coordinación de la Política de Desarrollo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– órgano consultivo y asesor del Primer Mini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8"/>
          <p:cNvSpPr/>
          <p:nvPr/>
        </p:nvSpPr>
        <p:spPr>
          <a:xfrm>
            <a:off x="196920" y="3323520"/>
            <a:ext cx="8748720" cy="767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Cancillería del Presidente de Consejo de Ministros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inic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a actividad dentro del programa  y ejerce función de supervisión y ver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1"/>
          <p:cNvSpPr/>
          <p:nvPr/>
        </p:nvSpPr>
        <p:spPr>
          <a:xfrm>
            <a:off x="196920" y="4133880"/>
            <a:ext cx="8748720" cy="767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Minist</a:t>
            </a:r>
            <a:r>
              <a:rPr b="1" lang="pl-PL" sz="1800" spc="-1" strike="noStrike" u="sng">
                <a:solidFill>
                  <a:srgbClr val="ffff00"/>
                </a:solidFill>
                <a:uFillTx/>
                <a:latin typeface="Arial"/>
              </a:rPr>
              <a:t>er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io de Desarrollo Regional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– coordinación conforme a  las competencias establecidas por las l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4"/>
          <p:cNvSpPr/>
          <p:nvPr/>
        </p:nvSpPr>
        <p:spPr>
          <a:xfrm>
            <a:off x="196920" y="4812480"/>
            <a:ext cx="8748720" cy="16794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Ministerios, 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jefes de las administraciones centrales  y autoridades regionales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 sea instituciones coordinadas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oman iniciativas resultantes de sus competencias y responsabilidades, también toman decisiones en el marco de la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 política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6"/>
          <p:cNvSpPr/>
          <p:nvPr/>
        </p:nvSpPr>
        <p:spPr>
          <a:xfrm>
            <a:off x="214200" y="6384240"/>
            <a:ext cx="8713800" cy="4633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Otros agentes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(agentes sociales y económ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3564000" y="33336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recimiento del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B  (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ambios anuales en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8360" y="1197000"/>
          <a:ext cx="8280360" cy="5046480"/>
        </p:xfrm>
        <a:graphic>
          <a:graphicData uri="http://schemas.openxmlformats.org/drawingml/2006/table">
            <a:tbl>
              <a:tblPr/>
              <a:tblGrid>
                <a:gridCol w="2448000"/>
                <a:gridCol w="1457280"/>
                <a:gridCol w="1458720"/>
                <a:gridCol w="1457280"/>
                <a:gridCol w="1459080"/>
              </a:tblGrid>
              <a:tr h="297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País</a:t>
                      </a: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/</a:t>
                      </a: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014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015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El m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EE.U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Zona del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Aleman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Fra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   </a:t>
                      </a: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It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   </a:t>
                      </a: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Esp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Gran Bret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oli</a:t>
                      </a:r>
                      <a:r>
                        <a:rPr b="0" lang="es-ES_tradnl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ol</a:t>
                      </a:r>
                      <a:r>
                        <a:rPr b="0" lang="es-ES_tradnl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R</a:t>
                      </a: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u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Bra</a:t>
                      </a: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Jap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Canad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343" name="Prostokąt 2"/>
          <p:cNvSpPr/>
          <p:nvPr/>
        </p:nvSpPr>
        <p:spPr>
          <a:xfrm>
            <a:off x="324000" y="6273720"/>
            <a:ext cx="84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Fuente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: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	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International Monetary Fund, “World Economic Outlook, Update”. 21 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de enero de 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2013. Boli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via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 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- 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World Economic Outlook, database, 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octubre de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 2013. Polska, GUS 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y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 WEO database, 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octubre de 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 201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250920" y="1268280"/>
            <a:ext cx="8785080" cy="22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8000"/>
                </a:solidFill>
                <a:uFillTx/>
                <a:latin typeface="Garamond"/>
              </a:rPr>
              <a:t>E</a:t>
            </a:r>
            <a:r>
              <a:rPr b="1" lang="es-ES_tradnl" sz="2000" spc="-1" strike="noStrike" u="sng">
                <a:solidFill>
                  <a:srgbClr val="008000"/>
                </a:solidFill>
                <a:uFillTx/>
                <a:latin typeface="Garamond"/>
              </a:rPr>
              <a:t>valuación de la eficacia de determinados instrumentos de la</a:t>
            </a:r>
            <a:r>
              <a:rPr b="1" lang="pl-PL" sz="2000" spc="-1" strike="noStrike" u="sng">
                <a:solidFill>
                  <a:srgbClr val="008000"/>
                </a:solidFill>
                <a:uFillTx/>
                <a:latin typeface="Garamond"/>
              </a:rPr>
              <a:t> política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Informe anual de la realización de la Estrategia Nacional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de 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D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esarrollo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 a medi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Requisito de la evaluación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ex-ante 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de los 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program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as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Informe sobre el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desarrollo socioeconómic, regional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 y territorial preparado cada 3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79280" y="3429000"/>
            <a:ext cx="864072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8000"/>
                </a:solidFill>
                <a:uFillTx/>
                <a:latin typeface="Garamond"/>
              </a:rPr>
              <a:t>Creación de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Garamond"/>
              </a:rPr>
              <a:t>“buenas prácticas” y su divul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</a:t>
            </a:r>
            <a:r>
              <a:rPr b="1" lang="pl-PL" sz="18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et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odolog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í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a 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de la elaboración de los documentos estratégicos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Determinación de la terminología única para el ámbito de la programación estraté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C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iclo de cursos de formación para personal de la a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dministrac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ión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250920" y="5229360"/>
            <a:ext cx="705636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8000"/>
                </a:solidFill>
                <a:uFillTx/>
                <a:latin typeface="Garamond"/>
              </a:rPr>
              <a:t>Garantizar la financiación eficaz de la </a:t>
            </a:r>
            <a:r>
              <a:rPr b="1" lang="pl-PL" sz="2000" spc="-1" strike="noStrike" u="sng">
                <a:solidFill>
                  <a:srgbClr val="008000"/>
                </a:solidFill>
                <a:uFillTx/>
                <a:latin typeface="Garamond"/>
              </a:rPr>
              <a:t>política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Plan financiero plurianual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     </a:t>
            </a: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Presupuestación por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     </a:t>
            </a: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Contracto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"/>
          <p:cNvSpPr/>
          <p:nvPr/>
        </p:nvSpPr>
        <p:spPr>
          <a:xfrm>
            <a:off x="3564000" y="139680"/>
            <a:ext cx="55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Tahoma"/>
              </a:rPr>
              <a:t>Directrices del sistema de gestión del desarrollo pola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6"/>
          <p:cNvSpPr/>
          <p:nvPr/>
        </p:nvSpPr>
        <p:spPr>
          <a:xfrm>
            <a:off x="1258920" y="2852640"/>
            <a:ext cx="65768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Arial"/>
              </a:rPr>
              <a:t>Gracias por su aten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Departament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o de Coordinación de la Estrategia y Políticas 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 de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esarrollo (D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ugeniusz.Sadowski@mir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</a:rPr>
              <a:t>Jacek.Bialek@mir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Garamond"/>
              </a:rPr>
              <a:t>www.mir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Garamond"/>
              </a:rPr>
              <a:t>www.funduszeeuropejskie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3564000" y="33336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recimiento del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B  (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ambios anuales en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179280" y="1557360"/>
          <a:ext cx="874872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57360"/>
                    <a:ext cx="874872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44"/>
          <p:cNvSpPr/>
          <p:nvPr/>
        </p:nvSpPr>
        <p:spPr>
          <a:xfrm>
            <a:off x="3564000" y="4428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recimiento del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B 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en países de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Europa Central y del Este en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1989-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08000" y="1341360"/>
          <a:ext cx="8928000" cy="4969080"/>
        </p:xfrm>
        <a:graphic>
          <a:graphicData uri="http://schemas.openxmlformats.org/drawingml/2006/table">
            <a:tbl>
              <a:tblPr/>
              <a:tblGrid>
                <a:gridCol w="1797120"/>
                <a:gridCol w="866520"/>
                <a:gridCol w="792360"/>
                <a:gridCol w="792000"/>
                <a:gridCol w="792360"/>
                <a:gridCol w="792000"/>
                <a:gridCol w="792360"/>
                <a:gridCol w="863640"/>
                <a:gridCol w="720720"/>
                <a:gridCol w="718920"/>
              </a:tblGrid>
              <a:tr h="408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989=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u</a:t>
                      </a: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lg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6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6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Rep</a:t>
                      </a: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ública Che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3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Esto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6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4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4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Lit</a:t>
                      </a: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u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5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6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10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Leto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5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1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Pol</a:t>
                      </a: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o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5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5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6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0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Rum</a:t>
                      </a: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2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slovaqu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10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6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slov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4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Hungr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10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</a:tbl>
          </a:graphicData>
        </a:graphic>
      </p:graphicFrame>
      <p:sp>
        <p:nvSpPr>
          <p:cNvPr id="351" name="Rectangle 282"/>
          <p:cNvSpPr/>
          <p:nvPr/>
        </p:nvSpPr>
        <p:spPr>
          <a:xfrm>
            <a:off x="463680" y="6467400"/>
            <a:ext cx="828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Fuente</a:t>
            </a:r>
            <a:r>
              <a:rPr b="1" lang="pl-PL" sz="1200" spc="-1" strike="noStrike">
                <a:solidFill>
                  <a:srgbClr val="003399"/>
                </a:solidFill>
                <a:latin typeface="Tahoma"/>
              </a:rPr>
              <a:t>: </a:t>
            </a: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Estimaciones propias basadas en</a:t>
            </a:r>
            <a:r>
              <a:rPr b="1" lang="pl-PL" sz="1200" spc="-1" strike="noStrike">
                <a:solidFill>
                  <a:srgbClr val="003399"/>
                </a:solidFill>
                <a:latin typeface="Tahoma"/>
              </a:rPr>
              <a:t> Eurostat </a:t>
            </a: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y</a:t>
            </a:r>
            <a:r>
              <a:rPr b="1" lang="pl-PL" sz="1200" spc="-1" strike="noStrike">
                <a:solidFill>
                  <a:srgbClr val="003399"/>
                </a:solidFill>
                <a:latin typeface="Tahoma"/>
              </a:rPr>
              <a:t> UN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564000" y="189000"/>
            <a:ext cx="5580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0" lang="es-ES_tradnl" sz="19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pl-PL" sz="1900" spc="-1" strike="noStrike">
                <a:solidFill>
                  <a:srgbClr val="ffffcc"/>
                </a:solidFill>
                <a:latin typeface="Tahoma"/>
              </a:rPr>
              <a:t>B per c</a:t>
            </a:r>
            <a:r>
              <a:rPr b="0" lang="es-ES_tradnl" sz="1900" spc="-1" strike="noStrike">
                <a:solidFill>
                  <a:srgbClr val="ffffcc"/>
                </a:solidFill>
                <a:latin typeface="Tahoma"/>
              </a:rPr>
              <a:t>á</a:t>
            </a:r>
            <a:r>
              <a:rPr b="0" lang="pl-PL" sz="1900" spc="-1" strike="noStrike">
                <a:solidFill>
                  <a:srgbClr val="ffffcc"/>
                </a:solidFill>
                <a:latin typeface="Tahoma"/>
              </a:rPr>
              <a:t>pita </a:t>
            </a:r>
            <a:r>
              <a:rPr b="0" lang="es-ES_tradnl" sz="1900" spc="-1" strike="noStrike">
                <a:solidFill>
                  <a:srgbClr val="ffffcc"/>
                </a:solidFill>
                <a:latin typeface="Tahoma"/>
              </a:rPr>
              <a:t>en los países de la</a:t>
            </a:r>
            <a:r>
              <a:rPr b="0" lang="pl-PL" sz="1900" spc="-1" strike="noStrike">
                <a:solidFill>
                  <a:srgbClr val="ffffcc"/>
                </a:solidFill>
                <a:latin typeface="Tahoma"/>
              </a:rPr>
              <a:t> UE-28 </a:t>
            </a:r>
            <a:r>
              <a:rPr b="0" lang="es-ES_tradnl" sz="1900" spc="-1" strike="noStrike">
                <a:solidFill>
                  <a:srgbClr val="ffffcc"/>
                </a:solidFill>
                <a:latin typeface="Tahoma"/>
              </a:rPr>
              <a:t>en</a:t>
            </a:r>
            <a:r>
              <a:rPr b="0" lang="pl-PL" sz="1900" spc="-1" strike="noStrike">
                <a:solidFill>
                  <a:srgbClr val="ffffcc"/>
                </a:solidFill>
                <a:latin typeface="Tahoma"/>
              </a:rPr>
              <a:t> 2012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es-ES_tradnl" sz="1800" spc="-1" strike="noStrike">
                <a:solidFill>
                  <a:srgbClr val="ffffcc"/>
                </a:solidFill>
                <a:latin typeface="Tahoma"/>
              </a:rPr>
              <a:t>según el Poder Adquisitivo Estándar,</a:t>
            </a: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 EU-28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5"/>
          <p:cNvGraphicFramePr/>
          <p:nvPr/>
        </p:nvGraphicFramePr>
        <p:xfrm>
          <a:off x="0" y="1413000"/>
          <a:ext cx="8866080" cy="45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886608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Object 142"/>
          <p:cNvGraphicFramePr/>
          <p:nvPr/>
        </p:nvGraphicFramePr>
        <p:xfrm>
          <a:off x="223920" y="1263600"/>
          <a:ext cx="842652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8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1263600"/>
                    <a:ext cx="842652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143"/>
          <p:cNvSpPr/>
          <p:nvPr/>
        </p:nvSpPr>
        <p:spPr>
          <a:xfrm>
            <a:off x="3564000" y="20160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Tasa de empleo en los países de la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UE-28, </a:t>
            </a:r>
            <a:br>
              <a:rPr sz="2000"/>
            </a:b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edad: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20-64 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años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(2012,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564000" y="18900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Tasa armonizada de desempleo en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 U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E-28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diciembre de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2013, %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7"/>
          <p:cNvGraphicFramePr/>
          <p:nvPr/>
        </p:nvGraphicFramePr>
        <p:xfrm>
          <a:off x="181080" y="1258920"/>
          <a:ext cx="86868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258920"/>
                    <a:ext cx="8686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24000" y="1617840"/>
          <a:ext cx="8496000" cy="4187520"/>
        </p:xfrm>
        <a:graphic>
          <a:graphicData uri="http://schemas.openxmlformats.org/drawingml/2006/table">
            <a:tbl>
              <a:tblPr/>
              <a:tblGrid>
                <a:gridCol w="3311280"/>
                <a:gridCol w="1368360"/>
                <a:gridCol w="1224000"/>
                <a:gridCol w="1297080"/>
                <a:gridCol w="1295280"/>
              </a:tblGrid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Categor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2012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UE-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4255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4f8a"/>
                          </a:solidFill>
                          <a:latin typeface="Arial Narrow"/>
                        </a:rPr>
                        <a:t>Valor añadido bruto</a:t>
                      </a:r>
                      <a:r>
                        <a:rPr b="1" lang="pl-PL" sz="2000" spc="-1" strike="noStrike">
                          <a:solidFill>
                            <a:srgbClr val="004f8a"/>
                          </a:solidFill>
                          <a:latin typeface="Arial Narrow"/>
                        </a:rPr>
                        <a:t> (GV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agricultura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industria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+ 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construcción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3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3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5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I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rvicios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5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6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6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73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51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4f8a"/>
                          </a:solidFill>
                          <a:latin typeface="Arial Narrow"/>
                        </a:rPr>
                        <a:t>Empleo</a:t>
                      </a:r>
                      <a:r>
                        <a:rPr b="1" lang="pl-PL" sz="2000" spc="-1" strike="noStrike">
                          <a:solidFill>
                            <a:srgbClr val="004f8a"/>
                          </a:solidFill>
                          <a:latin typeface="Arial Narrow"/>
                        </a:rPr>
                        <a:t> (15+, LF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agricultura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18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industria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+ 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construcción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8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3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4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I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rvicios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4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53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5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70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366" name="Rectangle 2"/>
          <p:cNvSpPr/>
          <p:nvPr/>
        </p:nvSpPr>
        <p:spPr>
          <a:xfrm>
            <a:off x="3564000" y="33336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ambios de la estructura económica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1:34:25Z</dcterms:created>
  <dc:creator>jadwiga_szymanska</dc:creator>
  <dc:description/>
  <dc:language>en-US</dc:language>
  <cp:lastModifiedBy>AdaLara</cp:lastModifiedBy>
  <dcterms:modified xsi:type="dcterms:W3CDTF">2014-03-03T15:02:08Z</dcterms:modified>
  <cp:revision>120</cp:revision>
  <dc:subject/>
  <dc:title>Slajd 1</dc:title>
</cp:coreProperties>
</file>