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D9EA-1735-4398-96FA-C2BA01DF68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2FE6-DF52-490D-A455-268E68C897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9D58-EB22-4B6A-8211-127494827C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2B24-2B5D-452F-BF77-F09EE931E7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A5DC-5A62-4885-A947-532DAA1EDF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D206-11AA-43B8-AC31-529D730A21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E083-4395-4586-972B-55022F55B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E1E6-1FD6-4BBC-A990-D942EB3B76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8AE4-A9B0-4B5D-8CD0-8D3AB27F07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4FDD-E3DC-4104-8633-3C182BE942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8D0E-832C-4653-AAAC-722C581A39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DAA1-7C5F-4FE4-8BCD-1AF4D9EF7D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18A7-2AE9-4A84-9A9D-4F44B3E53B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24F6-9076-4CDF-B93D-403AC25B00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3AAF-DD48-4666-8B70-0FB8C0BE9A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B256-87FB-45B6-A641-D0EE88D2FD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8777-4729-4BAB-8CD5-0B077FB31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1AC4-1B18-4D85-BA19-DBD6F737FA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F619-DD5C-4A29-B0E1-071E528AAD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388E-006F-4A13-8915-E9BB52EDC3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CD5F-FB63-41B5-853D-FC973B1A4C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F9CA-38E0-469F-8DA9-450E2BD632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8883-7470-4795-B8F0-A375A9F132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4F8D-4F52-44B1-9AB8-58EEC89F4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964960"/>
            <a:ext cx="990612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0760-4BA6-474E-83E5-7797505B0B62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54680" y="939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Índice          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79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DCB2-56CC-42F2-B9BB-9C0AC8139435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80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buClr>
                <a:srgbClr val="333333"/>
              </a:buClr>
              <a:buFont typeface="Gill Sans MT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547560" indent="-210960">
              <a:buClr>
                <a:srgbClr val="a7aaab"/>
              </a:buClr>
              <a:buFont typeface="Gill Sans MT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a7aaab"/>
              </a:solidFill>
              <a:latin typeface="Gill Sans MT"/>
            </a:endParaRPr>
          </a:p>
          <a:p>
            <a:pPr lvl="2" marL="841320" indent="-168120">
              <a:buClr>
                <a:srgbClr val="a7aaab"/>
              </a:buClr>
              <a:buFont typeface="Gill Sans MT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177920" indent="-168120">
              <a:buClr>
                <a:srgbClr val="a7aaab"/>
              </a:buClr>
              <a:buFont typeface="Gill Sans MT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  <a:p>
            <a:pPr lvl="4" marL="1515960" indent="-168120">
              <a:buClr>
                <a:srgbClr val="a7aaab"/>
              </a:buClr>
              <a:buFont typeface="Gill Sans MT"/>
              <a:buChar char="»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  <a:p>
            <a:pPr lvl="5" marL="1515960" indent="-16812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  <a:p>
            <a:pPr lvl="6" marL="1515960" indent="-16812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5616720"/>
            <a:ext cx="9906120" cy="1241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19240" y="5729400"/>
            <a:ext cx="9296280" cy="98424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 flipV="1">
            <a:off x="-720" y="5624640"/>
            <a:ext cx="990612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964960"/>
            <a:ext cx="990612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aller Técnico Binacional</a:t>
            </a: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Sistema de Gestión productiva y comercial en España</a:t>
            </a:r>
            <a:br>
              <a:rPr sz="5000"/>
            </a:br>
            <a:r>
              <a:rPr b="1" lang="en-US" sz="2700" spc="-1" strike="noStrike">
                <a:solidFill>
                  <a:srgbClr val="ffffff"/>
                </a:solidFill>
                <a:latin typeface="Gill Sans MT"/>
              </a:rPr>
              <a:t>Santiago de Chile</a:t>
            </a:r>
            <a:r>
              <a:rPr b="1" lang="en-US" sz="5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Gill Sans MT"/>
              </a:rPr>
              <a:t>13-15 de Noviembre 2013</a:t>
            </a:r>
            <a:br>
              <a:rPr sz="2700"/>
            </a:b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                                  </a:t>
            </a:r>
            <a:r>
              <a:rPr b="1" i="1" lang="en-US" sz="2700" spc="-1" strike="noStrike">
                <a:solidFill>
                  <a:srgbClr val="ffffff"/>
                </a:solidFill>
                <a:latin typeface="Gill Sans MT"/>
              </a:rPr>
              <a:t>Manuel Fuentes Muñoz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C23EEE7D-0FA5-45AF-890D-87E6CA92BF2E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977480" y="690840"/>
            <a:ext cx="5948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8.- Sistema de gestión comerci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1214280"/>
            <a:ext cx="1016316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ORGANIZACIÓN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1.- Servicios Centrales: Coordinación gener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2.- Coordinadores Territoriales como agentes comerci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3.- Centros Penitenciarios en su ámbito de gestión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4.- 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TODA LA ORGANIZACIÓN DEBE VENDER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-OFERTA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1.- Espacios e instalaciones disponibles para empresas externa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2.- Talleres de producción propia, para fabricación mediante pedidos puntuales de distintas especialidad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3.- Productos fabricados en nuestros talleres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4.- Productos artesan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5.- Servicios y suministros institucion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-ESTRATEGIA COMERCIAL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1.- Plan anual por demarcación territorial y por Centr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2.- Objetivos anuales por Coordinador Territori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3.- Explotación de la marca ASOMBR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4.- Difusión comercial, por todos los medios disponib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4D6306A2-0849-4AE6-8DEE-D0822C4E2741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560160" y="690840"/>
            <a:ext cx="8785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9.- Sistemas de Organización y Gestión en la U.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-257040" y="1303200"/>
            <a:ext cx="96692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SISTEMAS DE ORGANIZACIÓN Y GESTIÓN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la propia Administración Penitenciari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con sistemas diversos de gestión: casos de Portugal e Itali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la propia Administración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pero con un sistema de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gestión mixt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público o privado): Francia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Organismo Autónom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: España y Gran Bretaña. Gestión con criterios de viabilidad o rentabilidad económic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mpresa Públic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: En España en la Comunidad Autónoma de Cataluñ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Sistema descentralizado de organización 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a través de sus entes territoriales, con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gestión pública o privad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: Alemani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E95FEB7F-27FE-4545-82C3-3D28729376FA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1008000" y="1878120"/>
            <a:ext cx="84060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Antecedentes de Organización en Españ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Organización actual y futura en Españ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Características operativas del O.A.T.P.F.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istemas de gestión productiv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ervicios Penitenciario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Producción Extern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Producción Propi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istema de gestión comercial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istemas de Organización y Gestión en la U.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95360" y="1878120"/>
            <a:ext cx="26964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9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9838C92-A6E0-49F5-8932-2352813C54C3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963360" y="903240"/>
            <a:ext cx="798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1.-Antecedentes de Organización en Españ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1303200"/>
            <a:ext cx="97250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Mínima organización:</a:t>
            </a:r>
            <a:r>
              <a:rPr b="1" lang="es-ES" sz="2800" spc="-1" strike="noStrike" u="sng">
                <a:solidFill>
                  <a:srgbClr val="333399"/>
                </a:solidFill>
                <a:uFillTx/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Reglamento de 1930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Incipiente regulación laboral de los internos trabajador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Organización de carácter benéfico y de gestión de la redención de penas</a:t>
            </a:r>
            <a:r>
              <a:rPr b="1" lang="es-ES_tradnl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just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atronato Central para la Redención de Penas por el Trabaj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39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just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atronato Central de Nª Sª de la Merced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56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Organización de carácter económic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-O. Autónomo de Trabajos Penitenciarios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64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O. Autónomo de Trabajo y Prestaciones Penitenciarias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95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Organismo Autónomo de Trabajo Penitenciario y Formación para el Emple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2004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2BC1DAB8-9A2F-49C0-AE93-2680CED146C0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2105640" y="904680"/>
            <a:ext cx="7641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2.-Organización actual y futura en Españ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93560" y="1303200"/>
            <a:ext cx="8918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ORGANISMO AUTONOMO</a:t>
            </a:r>
            <a:r>
              <a:rPr b="1" lang="es-ES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r>
              <a:rPr b="1" lang="es-ES" sz="2800" spc="-1" strike="noStrike" u="sng">
                <a:solidFill>
                  <a:srgbClr val="333399"/>
                </a:solidFill>
                <a:uFillTx/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idad jurídica y tesorería propia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esupuesto mixto (administrativo y comercial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Normas de contratación especi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 funcionario y labor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EMPRESA PÚBLICA</a:t>
            </a:r>
            <a:r>
              <a:rPr b="1" lang="es-ES_tradnl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Organización de la C. A. de Cataluña (CIRE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 propio (no funcionario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 diferenciada (contratos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ENTIDAD DE DERECHO PÚBLICO</a:t>
            </a: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 mixto (laboral y funcionario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esupuesto únic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utofinanciación plen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72E32283-1379-4BF6-B403-7408D0BB04BE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878120" y="904680"/>
            <a:ext cx="7970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3.- Características operativas del O.A.T.P.F.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93560" y="1303200"/>
            <a:ext cx="8918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ersonalidad jurídica propi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y diferenciada del Estad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Tesorería propia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, con fondos propios y autonomía financiera (no depende del B. España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resupuesto administrativo y comercial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Mínima aportación del Estado (menos 10% del presupuesto total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Normas de contratación especiales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convenios con distintas instituciones, contratos en régimen privado y no administrativo y encomiendas de gestión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ersonal funcionario y laboral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Prima el personal funcionario en la gestión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Control financiero permanente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, no previo. Se fiscaliza a posteriori la gestión que se lleva a cab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D144CC8D-01B6-446B-A62A-E3A5F12CDB02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1842480" y="903240"/>
            <a:ext cx="621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4.-Sistemas de gestión producti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-476280" y="1303200"/>
            <a:ext cx="1064412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SERVICIOS PENITENCIARIOS</a:t>
            </a:r>
            <a:r>
              <a:rPr b="1" lang="es-ES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r>
              <a:rPr b="1" lang="es-ES" sz="2800" spc="-1" strike="noStrike" u="sng">
                <a:solidFill>
                  <a:srgbClr val="333399"/>
                </a:solidFill>
                <a:uFillTx/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limentación, panadería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Economatos (expendios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ctividades Auxiliares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Mantenimient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COLABORACIÓN CON EMPRESAS PRIVADAS</a:t>
            </a:r>
            <a:r>
              <a:rPr b="1" lang="es-ES_tradnl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roducción en régimen de colaboración extern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Trabajos manufactureros  y de montaje de diversas especialidades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PRODUCCIÓN PROPIA</a:t>
            </a: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oducción a riesgo y ventura del Organismo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Especialidades tradicionales (metal, confección o artes gráficas) y actuales (inyección de plástico, por ejemplo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ncomiendas de gestión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60853885-52FB-4B45-9CB4-43CFECD84E24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2468160" y="690840"/>
            <a:ext cx="4965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5.- Servicios Penitenciari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93560" y="1303200"/>
            <a:ext cx="8918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completa y/o parcial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 centralizada de la adquisición de suministros y servicios, aprovechando las economías de escal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Derechos laborales plenos (hasta 1997 eran actividades gratificadas, no laborales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Aplicación de gestión ERP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ncomiendas de gestión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Márgenes comerciales diferenciad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Supresión total del dinero de curso legal y de las tarjetas de valor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FDAE86B5-D09E-485B-87A9-7523DFDE9AC3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2830680" y="690840"/>
            <a:ext cx="4233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6.- Producción extern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-477720" y="1071720"/>
            <a:ext cx="9889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APORTACIÓN DEL ORGANISMO AUTÓNOMO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uesta a disposición de trabajadores en horario labor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Relación laboral directa con los internos trabajador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portación de instalaciones básicas y edifici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evención de RR LL: (evaluación de equipos e instalaciones y, entre otros, aportación de Equipos de protección individual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Fiscalización y control de estas actividad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APORTACIÓN DE LA EMPRESA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Medios materiales y recursos humanos.</a:t>
            </a:r>
            <a:r>
              <a:rPr b="1" lang="es-ES_tradnl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Solvencia técnica y económica (incluyendo avales y seguros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 de calidad y responsabilidad medio ambiental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agos mensuales conforme a lo acordad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FORMALIZACIÓN DE LA RELACIÓN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Formalización de la relación conforme a las condiciones generales de colaboración con empresas establecidas por el Organismo Autónomo (Convenios, protocolos, etc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22379F50-F2E1-4E42-8480-F3025AF3F5F0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2948760" y="690840"/>
            <a:ext cx="39945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7.- Producción Prop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-257040" y="1303200"/>
            <a:ext cx="96692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i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l Organismo aport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todos los medios materiales y personales que requiere la actividad y establece los precios de venta de los productos que se fabrican. Medio propio de la Administración General del Estado. Además, asume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La prevención de riesgos laborales de los intern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La gestión de la calidad. Certificaciones ISO 9000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La gestión de todo tipo de residuos y la responsabilidad medio ambient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i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Las empresas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que realizan encargos a estas actividades están obligadas a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En su caso, realizar pagos anticipad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Formalizar los pedidos conforme a lo exigido por el Organismo Autónomo en sus normas de gestión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Abonar las facturas en los plazos y forma establecid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Retirar los productos terminados mensualmente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anuel</cp:lastModifiedBy>
  <dcterms:modified xsi:type="dcterms:W3CDTF">2013-11-14T22:15:31Z</dcterms:modified>
  <cp:revision>22</cp:revision>
  <dc:subject/>
  <dc:title>Titulo de la presentación -Subtítulo de la presentación-</dc:title>
</cp:coreProperties>
</file>