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377720" y="634680"/>
            <a:ext cx="3932280" cy="294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6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7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84D1-ED1A-427F-854F-D30902249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535A-1B11-49C1-9BDB-639A5F005C2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C68C-CC3A-4E09-8870-A3CC878B976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274F-859A-42CC-83C2-83912F8C61D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547A-8156-4905-BDD8-647F75A6C17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1458-70C3-4B7F-911D-36B32884CDC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2AF2-1822-429F-A2BA-10D2B3C4CE1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0B37-BF0B-4257-BAC7-1BCED5E8E83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9B72-7701-46BE-ACA8-80F48AA9CE3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2FFB-C091-4D40-8D97-2B3D6E2D179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. La presente guía se concentra en los esfuerzos de las distintas administraciones tributarias nacionales para mostrar a los contribuyentes cómo pagar sus impuestos y concienciarles acerca de la importancia de este gesto, todo ello vinculado, en gran medida, a la dimensión social del gasto público y la asignación equitativa de l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studios recientes, incluidos los de la OCDE, reflejan un vínculo directo entre la ética fiscal y la percepción de los ciudadanos tanto en materia tributaria como acerca de la calidad del gasto público. En otras palabras, se aprecia una mayor predisposición a pagar impuestos entre aquellos segmentos sociales que perciben una mayor calidad de los servicios públicos prestados (OCDE/CEPAL, 2011). Esta situación de escasa ética fiscal no sólo debilita los sentimientos de pertenencia a un proyecto social común, sino que pone de manifiesto la existencia de un círculo vicioso en virtud del que la evasión fiscal o la negativa a pagar más impuestos se justifica bajo el pretexto de que el Estado no cumple su parte del contrato social, lo que conduce al mismo tiempo a que los servicios no puedan mejorar por ser insuficientes los ingresos, de ahí que los servicios se deterioren, degeneren y el ciclo se perpetú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7D8E-4110-4219-9F86-DC8578127D3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E1FC-FD81-428F-9B03-CF39471E2E1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BACF-8139-40A3-91B2-9BEC75CC97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8055-02AF-4AC3-9D9E-B9003E980FC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E7DB-C53A-4BE7-AF82-7B76E486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F7D-7FA7-4E82-B9DC-06591B24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064D-3928-4ACB-B57E-71C54D21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684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00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684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DE9-DF4C-4135-929B-27F71367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190B-E58B-4568-AE8E-6FB1E43B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4CAC-A9C9-4CD7-9780-186BB024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AE88-8E84-4340-9195-0288591F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1C7B-791A-4DCA-AC3C-5A01161A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0B93-1503-4DD2-9DED-CC872E33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79640" y="237960"/>
            <a:ext cx="741672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7172-DEAA-458C-80D3-77B422AC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6295-6782-467E-A624-819C7215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68AF-F090-46F1-9C71-DB3A3D5B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D9FA-1797-4EA9-91D3-E7185ADD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6E51-85FC-4AC1-9FA5-9A40CEC6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AD2B-3E9E-49E4-945A-DA9077DD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102C-A2D0-42D5-99E5-8FF08BCB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684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532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00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684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532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FD5E-2F6C-4663-836C-646EAF80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6320F-4819-4218-B73D-163FD756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1222E-4605-4669-82DE-C0638B0A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4CCA6-8F7C-4025-BEE4-64BEC219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C798E-C296-42D7-8079-5320F92F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CB9CF-87E7-430E-9FCC-77ACD629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8A1-7AD3-4EED-AB07-30F55C62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79640" y="237960"/>
            <a:ext cx="741672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381E0-44A8-4050-B981-6CD87C5F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EE0BA-8A41-46F9-8E7C-FCBE1B70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AB08E-B855-48C0-89DC-79D3FC9A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7B381-CEB1-45BE-9FE3-2B878A82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4F4CD-500C-4D7A-9B45-C73BB2BE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4F190-D77D-4E08-A788-34C2A950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4684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532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800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4684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532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5AA73-28FD-4C48-9E3C-CBD5E0D0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2CDD-A959-42F9-A588-933C4522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079640" y="237960"/>
            <a:ext cx="741672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4684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532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00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4684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532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910306-822D-4212-9A95-ED09E5B5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BB0-F607-41EA-BE61-7112D191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379AE1-A1FE-40F3-8EBE-0990B3B5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D3333E-8C4C-42E7-83D0-5611AADD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FB42A0-BF97-4D37-9EAC-21CE6EDD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EEEC6D-2A71-4408-AF73-20F1391C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079640" y="237960"/>
            <a:ext cx="741672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53F6E-3A42-4EE9-B91B-20687B09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C0E3B2-D334-42F8-904D-FAF0E2B2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66859-8E40-4CB1-8845-43DA673D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56E87-CEB8-43F6-8C9A-C8166EA5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DC47A-5F51-4AF2-9DEA-10D821B3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AAE18-2421-48CD-911D-A3225C38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79640" y="237960"/>
            <a:ext cx="741672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014-4A33-4233-BBB0-7AFF3770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4684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532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800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4684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532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DD80FC-4728-4DD5-8EA2-68F46D01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646-802F-4141-BC85-38557C5E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9D17-A574-49A3-9801-5FC4C153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120-D892-43D0-8467-971DAD91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4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PPT_fondslid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4b78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172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72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A8C1-53C0-4C98-8703-9855DACEDA10}" type="datetime">
              <a:rPr b="0" lang="en-US" sz="1400" spc="-1" strike="noStrike">
                <a:solidFill>
                  <a:srgbClr val="727272"/>
                </a:solidFill>
                <a:latin typeface="Georgi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558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000" y="6244920"/>
            <a:ext cx="1114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72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3CE8-D0D1-4605-8A64-905246537364}" type="slidenum">
              <a:rPr b="0" lang="en-US" sz="1400" spc="-1" strike="noStrike">
                <a:solidFill>
                  <a:srgbClr val="727272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OECD_10cm.png"/>
          <p:cNvPicPr/>
          <p:nvPr/>
        </p:nvPicPr>
        <p:blipFill>
          <a:blip r:embed="rId3"/>
          <a:stretch/>
        </p:blipFill>
        <p:spPr>
          <a:xfrm>
            <a:off x="468360" y="6172200"/>
            <a:ext cx="58248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8" descr=""/>
          <p:cNvPicPr/>
          <p:nvPr/>
        </p:nvPicPr>
        <p:blipFill>
          <a:blip r:embed="rId2"/>
          <a:stretch/>
        </p:blipFill>
        <p:spPr>
          <a:xfrm>
            <a:off x="8193240" y="5327640"/>
            <a:ext cx="950760" cy="1530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0"/>
          <p:cNvSpPr/>
          <p:nvPr/>
        </p:nvSpPr>
        <p:spPr>
          <a:xfrm>
            <a:off x="503280" y="1306440"/>
            <a:ext cx="8155080" cy="360"/>
          </a:xfrm>
          <a:prstGeom prst="rect">
            <a:avLst/>
          </a:prstGeom>
          <a:noFill/>
          <a:ln w="6480">
            <a:solidFill>
              <a:srgbClr val="7272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7" descr=""/>
          <p:cNvPicPr/>
          <p:nvPr/>
        </p:nvPicPr>
        <p:blipFill>
          <a:blip r:embed="rId3"/>
          <a:stretch/>
        </p:blipFill>
        <p:spPr>
          <a:xfrm>
            <a:off x="500040" y="287280"/>
            <a:ext cx="458640" cy="954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spcBef>
                <a:spcPts val="763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2" marL="1144440" indent="-230040"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3" marL="1601640" indent="-230040">
              <a:spcBef>
                <a:spcPts val="763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4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5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6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03200" y="6411600"/>
            <a:ext cx="900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272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0F44-F75F-454D-8916-CB983760B44B}" type="datetime">
              <a:rPr b="0" lang="en-US" sz="1000" spc="-1" strike="noStrike">
                <a:solidFill>
                  <a:srgbClr val="727272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368360" y="6411600"/>
            <a:ext cx="4680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40720" y="6411600"/>
            <a:ext cx="341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F451-7B8B-4AB6-A7D9-D85687AB9D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PPT_fondcouv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Logo_ENG.png"/>
          <p:cNvPicPr/>
          <p:nvPr/>
        </p:nvPicPr>
        <p:blipFill>
          <a:blip r:embed="rId3"/>
          <a:stretch/>
        </p:blipFill>
        <p:spPr>
          <a:xfrm>
            <a:off x="0" y="0"/>
            <a:ext cx="3762360" cy="1103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4b78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250560" y="6244920"/>
            <a:ext cx="4043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72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77D0-032E-453A-B91E-CB6E18A93A8B}" type="datetime">
              <a:rPr b="0" lang="en-US" sz="1400" spc="-1" strike="noStrike">
                <a:solidFill>
                  <a:srgbClr val="727272"/>
                </a:solidFill>
                <a:latin typeface="Georgi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5558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72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E0E7-C99D-4D2F-8953-6733F2FB3ECC}" type="slidenum">
              <a:rPr b="0" lang="en-US" sz="1400" spc="-1" strike="noStrike">
                <a:solidFill>
                  <a:srgbClr val="727272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2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mage 12" descr=""/>
          <p:cNvPicPr/>
          <p:nvPr/>
        </p:nvPicPr>
        <p:blipFill>
          <a:blip r:embed="rId2"/>
          <a:stretch/>
        </p:blipFill>
        <p:spPr>
          <a:xfrm>
            <a:off x="6516720" y="2629080"/>
            <a:ext cx="2627280" cy="4228920"/>
          </a:xfrm>
          <a:prstGeom prst="rect">
            <a:avLst/>
          </a:prstGeom>
          <a:ln w="0">
            <a:noFill/>
          </a:ln>
        </p:spPr>
      </p:pic>
      <p:pic>
        <p:nvPicPr>
          <p:cNvPr id="131" name="Image 10" descr=""/>
          <p:cNvPicPr/>
          <p:nvPr/>
        </p:nvPicPr>
        <p:blipFill>
          <a:blip r:embed="rId3"/>
          <a:stretch/>
        </p:blipFill>
        <p:spPr>
          <a:xfrm>
            <a:off x="0" y="0"/>
            <a:ext cx="2627280" cy="4230720"/>
          </a:xfrm>
          <a:prstGeom prst="rect">
            <a:avLst/>
          </a:prstGeom>
          <a:ln w="0">
            <a:noFill/>
          </a:ln>
        </p:spPr>
      </p:pic>
      <p:pic>
        <p:nvPicPr>
          <p:cNvPr id="132" name="Image 11" descr=""/>
          <p:cNvPicPr/>
          <p:nvPr/>
        </p:nvPicPr>
        <p:blipFill>
          <a:blip r:embed="rId4"/>
          <a:stretch/>
        </p:blipFill>
        <p:spPr>
          <a:xfrm>
            <a:off x="511200" y="431640"/>
            <a:ext cx="692280" cy="1440000"/>
          </a:xfrm>
          <a:prstGeom prst="rect">
            <a:avLst/>
          </a:prstGeom>
          <a:ln w="0">
            <a:noFill/>
          </a:ln>
        </p:spPr>
      </p:pic>
      <p:pic>
        <p:nvPicPr>
          <p:cNvPr id="133" name="Image 13" descr=""/>
          <p:cNvPicPr/>
          <p:nvPr/>
        </p:nvPicPr>
        <p:blipFill>
          <a:blip r:embed="rId5"/>
          <a:stretch/>
        </p:blipFill>
        <p:spPr>
          <a:xfrm>
            <a:off x="7164360" y="6054840"/>
            <a:ext cx="1741680" cy="5792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spcBef>
                <a:spcPts val="763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2" marL="1144440" indent="-230040"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3" marL="1601640" indent="-230040">
              <a:spcBef>
                <a:spcPts val="763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4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5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6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03200" y="6411600"/>
            <a:ext cx="900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B9D8-59B1-4EB7-BFFF-B6FC81CEBCF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368360" y="6411600"/>
            <a:ext cx="4680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72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Image 6" descr=""/>
          <p:cNvPicPr/>
          <p:nvPr/>
        </p:nvPicPr>
        <p:blipFill>
          <a:blip r:embed="rId2"/>
          <a:stretch/>
        </p:blipFill>
        <p:spPr>
          <a:xfrm>
            <a:off x="8193240" y="5327640"/>
            <a:ext cx="950760" cy="1530360"/>
          </a:xfrm>
          <a:prstGeom prst="rect">
            <a:avLst/>
          </a:prstGeom>
          <a:ln w="0">
            <a:noFill/>
          </a:ln>
        </p:spPr>
      </p:pic>
      <p:pic>
        <p:nvPicPr>
          <p:cNvPr id="175" name="Image 7" descr=""/>
          <p:cNvPicPr/>
          <p:nvPr/>
        </p:nvPicPr>
        <p:blipFill>
          <a:blip r:embed="rId3"/>
          <a:stretch/>
        </p:blipFill>
        <p:spPr>
          <a:xfrm>
            <a:off x="579600" y="468360"/>
            <a:ext cx="691920" cy="1439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spcBef>
                <a:spcPts val="763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2" marL="1144440" indent="-230040"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3" marL="1601640" indent="-230040">
              <a:spcBef>
                <a:spcPts val="763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4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5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6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2"/>
          </p:nvPr>
        </p:nvSpPr>
        <p:spPr>
          <a:xfrm>
            <a:off x="403200" y="6411600"/>
            <a:ext cx="900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7729-A034-4E17-A8DD-E2A4BCF153C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3"/>
          </p:nvPr>
        </p:nvSpPr>
        <p:spPr>
          <a:xfrm>
            <a:off x="1368360" y="6411600"/>
            <a:ext cx="4680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4"/>
          </p:nvPr>
        </p:nvSpPr>
        <p:spPr>
          <a:xfrm>
            <a:off x="8640720" y="6411600"/>
            <a:ext cx="341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851C-D0C9-4575-A649-CF0F8BA9DD98}" type="slidenum">
              <a:rPr b="0" lang="en-US" sz="1000" spc="-1" strike="noStrike">
                <a:solidFill>
                  <a:srgbClr val="006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76000" y="1819080"/>
            <a:ext cx="649908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b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UILDING TAX CULTURE, COMPLIANCE AND CITIZENSHIP</a:t>
            </a:r>
            <a:br>
              <a:rPr sz="3600"/>
            </a:br>
            <a:br>
              <a:rPr sz="36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GLOBAL SOURCE BOOK ON TAXPAYER EDUCATION</a:t>
            </a:r>
            <a:endParaRPr b="0" lang="en-US" sz="2800" spc="-1" strike="noStrike">
              <a:solidFill>
                <a:srgbClr val="7272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39280" y="18446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Tax in cyberspace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Resource optimisation through ICT use. e.g. </a:t>
            </a:r>
            <a:r>
              <a:rPr b="0" i="1" lang="en-GB" sz="2000" spc="-1" strike="noStrike">
                <a:solidFill>
                  <a:srgbClr val="727272"/>
                </a:solidFill>
                <a:latin typeface="Calibri"/>
              </a:rPr>
              <a:t>El Salvador, Chile, Uruguay 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Tax at the games room and on TV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tax can be explained through interactive play spaces, theatre, video games, and soap operas on television . E.g. </a:t>
            </a:r>
            <a:r>
              <a:rPr b="0" i="1" lang="en-GB" sz="2000" spc="-1" strike="noStrike">
                <a:solidFill>
                  <a:srgbClr val="727272"/>
                </a:solidFill>
                <a:latin typeface="Calibri"/>
              </a:rPr>
              <a:t>Malaysia, Nigeria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Celebrating tax: tax days and festivals 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Bangladesh celebrates National Income Tax Day 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Guatemala’s annual citizen culture festival “Strength Lies in Numbers”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Rwanda’s Taxpayer’s Day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2. Global Source Book on Taxpayer Education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a range of approaches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AF66-972A-4BDC-832F-B8EA6165EE7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68000" y="18446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27272"/>
                </a:solidFill>
                <a:latin typeface="Calibri"/>
              </a:rPr>
              <a:t>Solid partnerships -</a:t>
            </a: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 domestically, regionally and even internationally: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long-term, sustainable cultural change requires building solid alliances with the education sector , on condition of identification of common goals.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In Latin America alone, nine countries have included tax education in their school syllabi</a:t>
            </a: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Other useful partners can be business and civil society (Jamaica, Rwanda, Brasil)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27272"/>
                </a:solidFill>
                <a:latin typeface="Calibri"/>
              </a:rPr>
              <a:t>Tax Champions - </a:t>
            </a: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High-level political commitment and participation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Promote cross-country learning – ATAF , CIAT, IOTA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2. Global Source Book on Taxpayer Education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Keys to success?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E130-FE3F-4BBF-9E78-F446A20E555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68000" y="16286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Limited time, financial and human resource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ICT’s might bring new sorts of problems: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Nobody else will provide taxpayer education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Little ‘hard’ evidence of success or impact evaluations, how to measure behavioural change?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What is the role for development co-operation?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How to make revenue-expenditure linkages ‘concrete’?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2. Global Source Book on Taxpayer Education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Obstacles and Challenges for the future?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60AC-9AE3-4DC1-8ED2-815A772F17A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68000" y="16286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South Africa – Mobile Tax Unit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Mozambique – Annual campaign and simplified tax for small taxpayer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Rwanda _ Taxpayer day, tax advisory council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Morocco – taxpayer education at school through theatre, media campaign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Korea – tax classes for small businesse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2. Global Source Book on Taxpayer Education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Some examples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5DCF-48FB-41BD-8A1E-E20E8527155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8000" y="1773360"/>
            <a:ext cx="8496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27272"/>
                </a:solidFill>
                <a:latin typeface="Calibri"/>
              </a:rPr>
              <a:t>Background and context: </a:t>
            </a:r>
            <a:endParaRPr b="0" lang="en-US" sz="2800" spc="-1" strike="noStrike">
              <a:solidFill>
                <a:srgbClr val="727272"/>
              </a:solidFill>
              <a:latin typeface="Georgia"/>
            </a:endParaRPr>
          </a:p>
          <a:p>
            <a:pPr lvl="1" marL="857160" indent="-45720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27272"/>
                </a:solidFill>
                <a:latin typeface="Calibri"/>
              </a:rPr>
              <a:t>The OECD and the Task Force on Tax and Development?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lvl="1" marL="857160" indent="-45720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27272"/>
                </a:solidFill>
                <a:latin typeface="Calibri"/>
              </a:rPr>
              <a:t>Why does the OECD work on taxpayer education?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27272"/>
                </a:solidFill>
                <a:latin typeface="Calibri"/>
              </a:rPr>
              <a:t>The global source book on taxpayer education:</a:t>
            </a:r>
            <a:endParaRPr b="0" lang="en-US" sz="2800" spc="-1" strike="noStrike">
              <a:solidFill>
                <a:srgbClr val="727272"/>
              </a:solidFill>
              <a:latin typeface="Georgia"/>
            </a:endParaRPr>
          </a:p>
          <a:p>
            <a:pPr lvl="1" marL="857160" indent="-45720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27272"/>
                </a:solidFill>
                <a:latin typeface="Calibri"/>
              </a:rPr>
              <a:t>Content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lvl="1" marL="857160" indent="-45720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27272"/>
                </a:solidFill>
                <a:latin typeface="Calibri"/>
              </a:rPr>
              <a:t>Lessons learnt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7272"/>
              </a:solidFill>
              <a:latin typeface="Georgia"/>
            </a:endParaRPr>
          </a:p>
          <a:p>
            <a:pPr lvl="1" marL="857160" indent="-45720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27" name="Slide Number Placeholder 2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2C64-259A-43FA-BFA0-541EA010E2A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68000" y="170352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5656"/>
                </a:solidFill>
                <a:latin typeface="Calibri"/>
              </a:rPr>
              <a:t>= </a:t>
            </a: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 </a:t>
            </a:r>
            <a:r>
              <a:rPr b="1" lang="en-US" sz="2400" spc="-1" strike="noStrike">
                <a:solidFill>
                  <a:srgbClr val="727272"/>
                </a:solidFill>
                <a:latin typeface="Calibri"/>
              </a:rPr>
              <a:t>promote public policies </a:t>
            </a: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that will improve the economic and social well-being of people around the world.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= forum in which governments can work together to </a:t>
            </a:r>
            <a:r>
              <a:rPr b="1" lang="en-US" sz="2400" spc="-1" strike="noStrike">
                <a:solidFill>
                  <a:srgbClr val="727272"/>
                </a:solidFill>
                <a:latin typeface="Calibri"/>
              </a:rPr>
              <a:t>share experiences</a:t>
            </a: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 and seek solutions to common problems, e.g. peer review mechanisms.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set </a:t>
            </a:r>
            <a:r>
              <a:rPr b="1" lang="en-US" sz="2400" spc="-1" strike="noStrike">
                <a:solidFill>
                  <a:srgbClr val="727272"/>
                </a:solidFill>
                <a:latin typeface="Calibri"/>
              </a:rPr>
              <a:t>international standards </a:t>
            </a: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on a wide range of issues, from agriculture and tax to the safety of chemicals.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1. Background and context: </a:t>
            </a: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The Organisation for Economic Co-operation and Development (OECD)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4504-7E53-4123-8105-E311B93D1016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68000" y="155736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Creation: 2010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24000" indent="-3240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24000" indent="-3240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Flexible membership from OECD countries; developing countries; international and regional organisations; civil society; business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24000" indent="-3240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24000" indent="-3240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7272"/>
                </a:solidFill>
                <a:latin typeface="Calibri"/>
              </a:rPr>
              <a:t>Objective is to create an enhanced enabling environment to assist developing countries collect taxes effectively and fairly.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24000" indent="-3240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24000" indent="-3240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Bi-annual workplan proposed by the Task Force and agreed by OECD committees, including work on state-building, taxation and capacity building 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24000" indent="-324000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1. Background and context: </a:t>
            </a:r>
            <a:br>
              <a:rPr sz="2400"/>
            </a:b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The OECD Task Force on Tax and Development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D48D-F0D3-49FF-8FBD-29DE0570DB6D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23360" y="148428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Calibri"/>
              </a:rPr>
              <a:t>= Many Countries will not Raise the Tax Needed to Meet the Millennium Development Goal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Some  countries (including half of sub Saharan Africa countries) raise less than 17% of GDP in tax revenues, the minimum level considered by the UN as necessary to achieve the MDGs.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1. Background and context: </a:t>
            </a:r>
            <a:br>
              <a:rPr sz="2400"/>
            </a:b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Why</a:t>
            </a: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Tax and Development?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0CB1-171D-4017-A59A-80D33470230C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1"/>
          <a:stretch/>
        </p:blipFill>
        <p:spPr>
          <a:xfrm>
            <a:off x="1763640" y="3716280"/>
            <a:ext cx="55450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94920" y="17002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Examines the attitudes and perceptions of citizens in developed and developing countries to taxation and tax evasion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727272"/>
                </a:solidFill>
                <a:latin typeface="Calibri"/>
              </a:rPr>
              <a:t>Based on </a:t>
            </a:r>
            <a:r>
              <a:rPr b="0" lang="en-GB" sz="1600" spc="-1" strike="noStrike">
                <a:solidFill>
                  <a:srgbClr val="727272"/>
                </a:solidFill>
                <a:latin typeface="Calibri"/>
              </a:rPr>
              <a:t>World Values Survey, Afrobarometer, Asiabarometer and Latinobarometro data</a:t>
            </a:r>
            <a:endParaRPr b="0" lang="en-US" sz="16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Attitudes towards taxation are shaped by factors beyond enforcement and the probability of being caught for tax evasion. 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7272"/>
                </a:solidFill>
                <a:latin typeface="Calibri"/>
              </a:rPr>
              <a:t>Socio-economic factors (education, gender, income, employment, age, and religious beliefs) influence tax morale. </a:t>
            </a:r>
            <a:endParaRPr b="0" lang="en-US" sz="16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7272"/>
                </a:solidFill>
                <a:latin typeface="Calibri"/>
              </a:rPr>
              <a:t>Institutional factors, such as trust in government and satisfaction with public services and the functioning of democracy</a:t>
            </a:r>
            <a:endParaRPr b="0" lang="en-US" sz="1600" spc="-1" strike="noStrike">
              <a:solidFill>
                <a:srgbClr val="727272"/>
              </a:solidFill>
              <a:latin typeface="Georgia"/>
            </a:endParaRPr>
          </a:p>
          <a:p>
            <a:pPr lvl="4"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Link between Tax Morale and tax compliance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27272"/>
                </a:solidFill>
                <a:latin typeface="Calibri"/>
              </a:rPr>
              <a:t>Task Force </a:t>
            </a: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requested to compile and disseminate effective practices in taxpayer education leading to the preparation of a source book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1. Background and context: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2012 OECD report « What drives tax morale? »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1839-43F2-407E-8C9A-CA5B3A2B209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23360" y="148428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28 different innovative country approaches to taxpayer education :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5 – page chapters including objectives of programme, focus on specific initiative, impact, lessons learnt.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2. Global Source Book on Taxpayer Education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1209-9E80-4DD9-B69C-313CA218591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403280" y="1916280"/>
          <a:ext cx="6048360" cy="2863800"/>
        </p:xfrm>
        <a:graphic>
          <a:graphicData uri="http://schemas.openxmlformats.org/drawingml/2006/table">
            <a:tbl>
              <a:tblPr/>
              <a:tblGrid>
                <a:gridCol w="2210040"/>
                <a:gridCol w="2100240"/>
                <a:gridCol w="1738080"/>
              </a:tblGrid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Jamaï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Bhu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Keny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P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Bras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Ko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Rwa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Buru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Leb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Sene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Malay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Singap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Colo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Maurit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Costa</a:t>
                      </a: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Mex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Tur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El</a:t>
                      </a: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Salv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Moroc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Urugu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Esto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Mozamb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Z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Guatema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68000" y="16286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Taxpayer education to: 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Strengthen the state-citizen relationship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Address the informal sector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Promote voluntary compliance and social cohesion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Leading to a transformation of the tax authorities and linking tax compliance to citizenship and values of cohesive democratic societies 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2013 OECD study on « Aid Modalities for Strengthening Tax Systems » confirms taxpayer education as  an effective mechanism to rebuild trust and stimulate  citizen participaiotn in the public debate.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2. Global Source Book on Taxpayer Education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AB83-9BBD-4BC9-BAFD-2CCEFAFEDDCA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539280" y="18446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Raising awareness and making life easier</a:t>
            </a: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Raise public’s awareness of new tax laws and methods of filing, to answer the public’s inquiries and to make life easier for taxpayers. e.g. </a:t>
            </a:r>
            <a:r>
              <a:rPr b="0" i="1" lang="en-GB" sz="2000" spc="-1" strike="noStrike">
                <a:solidFill>
                  <a:srgbClr val="727272"/>
                </a:solidFill>
                <a:latin typeface="Calibri"/>
              </a:rPr>
              <a:t>Lebanon, Zambia, South Africa, Korea 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Tackling the informal sector: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Broadening the tax base to reduce informality and non-payment of tax. e.g. persuade small traders to register for value added tax (</a:t>
            </a:r>
            <a:r>
              <a:rPr b="0" i="1" lang="en-GB" sz="2000" spc="-1" strike="noStrike">
                <a:solidFill>
                  <a:srgbClr val="727272"/>
                </a:solidFill>
                <a:latin typeface="Calibri"/>
              </a:rPr>
              <a:t>Burundi</a:t>
            </a: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) or get into the habit of asking for official receipt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Reaching the next generation;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Insertion of taxpayer educaiton in school and university curricula. e.g. </a:t>
            </a:r>
            <a:r>
              <a:rPr b="0" i="1" lang="fr-FR" sz="2000" spc="-1" strike="noStrike">
                <a:solidFill>
                  <a:srgbClr val="727272"/>
                </a:solidFill>
                <a:latin typeface="Calibri"/>
              </a:rPr>
              <a:t>Costa Rica, El Salvador, Morocco, Mexico, Brasil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2. Global Source Book on Taxpayer Education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a range of themes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555C-D0AE-488E-A33F-A573E008F22A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0:33:07Z</dcterms:created>
  <dc:creator>innamorato_c</dc:creator>
  <dc:description/>
  <dc:language>en-US</dc:language>
  <cp:lastModifiedBy>DE PAEPE Gregory</cp:lastModifiedBy>
  <cp:lastPrinted>2013-10-16T14:53:19Z</cp:lastPrinted>
  <dcterms:modified xsi:type="dcterms:W3CDTF">2014-10-23T13:16:38Z</dcterms:modified>
  <cp:revision>634</cp:revision>
  <dc:subject/>
  <dc:title>2013-07 BEPS R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mment">
    <vt:lpwstr/>
  </property>
  <property fmtid="{D5CDD505-2E9C-101B-9397-08002B2CF9AE}" pid="3" name="Content">
    <vt:lpwstr/>
  </property>
  <property fmtid="{D5CDD505-2E9C-101B-9397-08002B2CF9AE}" pid="4" name="ContentType">
    <vt:lpwstr>Document</vt:lpwstr>
  </property>
  <property fmtid="{D5CDD505-2E9C-101B-9397-08002B2CF9AE}" pid="5" name="Date">
    <vt:lpwstr/>
  </property>
  <property fmtid="{D5CDD505-2E9C-101B-9397-08002B2CF9AE}" pid="6" name="Outreach">
    <vt:lpwstr/>
  </property>
  <property fmtid="{D5CDD505-2E9C-101B-9397-08002B2CF9AE}" pid="7" name="Who">
    <vt:lpwstr/>
  </property>
</Properties>
</file>