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091-5CC0-4826-8F9C-4AE3F82CE8A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37F-36A1-43F2-8B53-390AC93447B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AF6-72C6-4025-B498-B0F674308E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ABE-3B25-477E-9BB6-A301BEAF62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1 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ecial de 1 d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s profesores capacitados en curso presencial (junto con alumnos) y 1 profesor capacitado en Curso de Expertos en Factura Electrónica, dictado a funcionarios del S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3AE-18F2-42DF-9BD8-7CCB045A649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E275-0F21-4F60-B2CD-8E2D16DF432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736-5910-494D-B3F0-211357D467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12B-12FC-4A18-B27B-47C111FDF3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60A-4B89-4845-B93C-5DA076E63F8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F12A-F713-42EB-B946-DD56A6E330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8FD-596F-42E9-AA0E-EF1516B3055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convenio de cooperación en educación fiscal, permite implementar distintas acciones tendientes a incentivar en los alumnos no solo el conocimiento tributario, sino que distintos aspectos relacionados a la educación fiscal, como la ciudadanía responsable (derechos y deberes), rol social del impuesto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toma como base la experiencia de Brasil, y se adapta programa a la realidad Chilena. Se focaliza atención en temas: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Implementación de Facturas electrónica, Inicio de Actividades, Timbraje de Documentos, Llenado de Libros de Compra y venta, Declaraciones de IVA, Actualizaciones y llenado de Formular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nios externos: se gestionan estos convenios con la finalidad de asegurar la atención de contribuyentes (MIPYME) Municipalidad de Santiago ya confirmó 150 emprendedores para entregarles asist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alumnos convocados realizaron como prerrequisito, E-Learning, cuyo resultado sirvió para elegir a los 46 alumnos que forman parte del pilo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 consultas sin respuesta citan al contribuyente en otra ocas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7EE6-1541-42B7-B5B7-32F7BF97BBA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como pre requisito para participar del piloto, convocatoria se extendió a todos los alumnos interes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on 630 alum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os 630 alumnos que participaron en el E-Learning, se escogió a los 46 mejores puntajes que participaron luego en una capacitación presencial, en dependencias del S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3C3-4A42-44A8-999F-78E7526A396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 es la capacitación presencial a 46 alumnos que fueron los mejores del e-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4E6-AAF5-4BC5-8657-695881FB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41C-36FD-47D7-99D3-ECD795A7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49959-A886-4BAF-8CA8-C41C3F6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B1B26-A2C3-42C7-8149-5D12DA9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083A9-3D36-476C-9C5B-95CEC9E0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39337-FF3B-4448-AA4C-1CA3A0C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77ACD-075A-4FDB-97AB-D46CB4B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0934F-D63D-476C-BAFF-0CED606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45975-DBE0-46A2-8EBA-ECFD5D5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2CF6D-804E-4BAA-938E-1092B7F9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BB83A-F1E0-4E9B-B4E4-F4F08192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4B81E-7B26-4F39-BAC6-070B5E277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780-BA6D-482D-9C74-B024CEC7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C7B28-4532-4B6E-BC0F-710631C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9A86-A883-4126-B968-EB6CB9E5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A03C0-9A68-4316-B4D8-C234DC7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7571-A7CF-4273-ABE9-449316CE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EA548-7533-4808-AC57-C6ECA2E0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C5860-570F-4F49-958B-F6C3CCD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D03A4-70EC-41D6-8000-6A94FF3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1A026-2F37-4C2C-AC41-F0C871F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A9CDB-0BDE-4EEE-A65C-2B8B6EB9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E441-3E1E-4CF7-B74A-8E2974CF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288-6642-4F0A-8D72-2BA5D30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5C2C5-BB61-47D6-9575-455167446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B7D1DD-5ED5-4549-97A0-398E3E395C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E0BAB-7E53-48CB-A8C6-5477DCF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1EB15B-C5E1-4CB9-B7D3-58AF808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C6309-4E65-4105-BA74-BB78B177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52221-BD73-4386-A6BB-9ECEEF3F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30F5C-D971-4381-AE63-CDD804A2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1C863-5F6B-4705-A7B2-07D5B142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92C6F-A106-4F39-A2FF-169751A4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0884B-2752-45D4-B09F-E7239E8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06D7-2D91-4CE7-9FFC-CAECB28C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EDA8A2-835E-4E74-966C-481865B0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AC726-2224-4AFC-B35B-BFD30ED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A42045-E96E-4046-91DD-41ABCF25A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46A684-660E-4DA6-AE49-45B718D3A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4C962A-3CF9-4389-98B2-65281C1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07D517-EF83-480A-9E3E-98C4D0F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86331-3F13-4C06-B765-37308C26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07166A-B8BD-4A4A-AC14-258D933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45F864-516F-45E0-A282-36A44C05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75833-1C44-4353-A7C2-9092B4F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EF3-EC33-42FD-A44C-5296D85B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9EEB35-2942-40AC-A21E-8923576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FAC0B1-DA66-49A4-BA16-993A200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171854-C707-4276-B99F-4D00AF8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855977-BEBF-43AB-9C46-55744D9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BC697D-5BC5-4B80-8106-F869B64254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11BEE-53EB-4D60-9002-D928FFE52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842C2-E8C7-4151-A329-310E082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C9AE-D1C2-4847-9A82-FAD27660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05DD-F3C4-41E5-A706-F34AD9A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E3BB-86AE-4217-AADC-26C92893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55D5-6E7D-45BA-A545-52F5D2E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646A-7DB3-489C-A848-1E5EE4D8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02F9F-6E0D-4273-A02D-3D5B3802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766D5-8090-46EF-9A27-A12C86A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66B1-6022-4843-8648-E1B0041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D425A-CB4A-4B03-9201-5FFA408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F18F-A0BE-4A27-B12F-3735573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53AD-64EC-4E23-936E-3AF8F8FB3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9F6B35-7DF7-4540-9747-DD5E020E7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56163-8293-4A4B-A270-5732307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7C2B6C-4D62-447C-AF53-7BF64B8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89E-356D-4694-8FE8-7804C60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D4F11-FD4A-4C03-B2AB-6F4B72F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590345-2350-4349-8808-EF4605DC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BEA334-7747-4DD9-944D-6DE500B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D2EEFF-8BF4-4C90-B150-C866A4CA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5976CD-3C8F-4CE4-94E7-4D46A3F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CA05E-2843-4572-8A77-282B55C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C58EC3-B6C0-4C08-ACCF-8C6EB91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845B8-A536-49BC-B7A6-4833A13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1C682E-89B1-4673-BB5C-9699EC218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7769B4-E358-4795-8EE6-BF0656FA0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14CD-062F-4281-9CCD-7E4BB72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2BBD40-0689-4479-8019-6800F5E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E507DC-961C-426C-9D1C-326CFBD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7BCC9A-7164-40F7-83A4-17F0A59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F26943-591A-4E50-B9A2-1B9FB76D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F0E281-DBA7-4C33-B2A9-0B949B5A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3B80FC-A7AB-40C9-A350-CFDD7ED9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AD8EE2-754A-4EC0-BD9F-6A9935A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200EA5-B53E-4936-806B-CFFD83B7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BC3E67-8CEB-4115-B6DA-7D759B3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7454B0-652E-4F80-8185-7FDFECA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5E87-461E-40A3-856F-A8837DA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505520-550A-4C11-87A0-223856972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BD02-62DE-477F-B739-C32C407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5F7-EF73-4B3C-92D5-91F7233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711-B8B9-4022-85F6-6BB41D4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245F-49A5-4041-ABC7-7B528F2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212-2FE7-458F-90E2-2A58957F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9378-6842-42C7-9BA5-E8D54F1E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1D1F-221D-4A40-85A8-4C3945A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0446C-0FEC-4CB0-BA95-59283A2D0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E0030-5C73-4098-93CB-1AE0AC9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2F3C5-DE57-423D-A923-58250CDE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EAB83-4153-4E08-A3B5-7208F15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F8EB5-6FA8-449C-9B4A-B12BD492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810-E99B-43C2-8991-5D09E8CB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F1F37-5AAD-4F7D-BA7B-0E24147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67306-D6F8-4FFA-B423-F7FB8A4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54598-7AE9-4447-997F-ADEE122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0A7F9-E3F4-474F-A027-785B1D5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95B0A-D78D-4662-8BE6-3A7C5EC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39FE0-1099-4F4D-B9C1-45963395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C0C8F-8715-4FF1-9A25-A80C4A7BE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B6DAC-DE88-430F-9985-BE642D6B4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8C40B-0DE6-4672-90AC-FE14819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50419-16BD-425D-A1D7-D75151FE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CF2-7B48-4F10-B1B6-356A4EE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01688-6854-4A58-ADA6-79376DC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80E65-91D1-4067-9A34-10F88B08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B14E0-EA0C-4A0C-930A-7ED9EBDF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982E0-7309-442E-B0C3-4B2D76E2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9D472-61A2-4BAF-9E62-0FAF3E0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10D69-0111-4B69-9381-BA8CB1A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59C10-6128-48BD-8192-4E5E350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F9A35-A06E-475E-A0B4-59A58F0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BF34C-CC63-41A7-9886-5C29B8450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CB9B18-9545-4770-BC38-A2EBE9B7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B0B-9C60-4FEC-889A-D8440CF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2BC94-6992-4B5C-A66D-FE44653F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82DE0-D864-40F8-B55B-754419F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3B512-452C-4E88-907B-B464336D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9379B-1DD1-4649-B9E9-988D9519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ACAB1-9049-4A45-A8C2-19A2EC2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E893D-1469-4789-962D-D828440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54D17-F00A-4954-8D1B-8C2F5EC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0C4C3-D08C-4BF7-A7F3-EB91D6D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A23C5B-1FDD-40AE-8222-CB5FD11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A2220-27D4-48FD-BAA3-9A342D98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128-2301-4687-ADA1-528D6007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3005F-54EE-4144-A98C-4C082C99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CEF33E-9AA0-45BE-83CE-F155418C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C869E-9A41-4779-A48C-45B2638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1C065-82EA-4645-B7C6-A9D990A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D44AA-FF7E-4604-912B-24E7E792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A3C837-8CFC-43FB-AD15-68E75230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FE5F8-6975-48BB-9576-36EB32D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78976-7EE2-45BA-B2D3-37AE6E4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070BF-8404-460C-BFFF-2232416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D547B2-3280-4688-89FE-34A1D54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D2E-A43A-4641-A731-85ACB64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521AF-C6A2-435F-A502-9270FAF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1E3F4-4BA8-476D-B840-D84873F6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12F03-E2D6-4359-B65C-DC543F25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FC3F8B-CA14-46C4-8C96-A12B55FC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BFE24-7CDD-476B-A68D-C91F63F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D1D2E-2EA1-4B43-A5E6-0E2543B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AD555-E26F-4C68-BAED-311E66E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3477B-2708-4FAF-A191-0E43D98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A24BD-2872-4961-8E55-93AF8048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80522-0FD9-4161-B0CE-0533003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19C-83A2-4F5F-92F3-9733E0E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9EF749-224C-4C3F-8204-D01B278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42CCBF-7F9E-461C-9B92-65014E0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9482C5-0D54-4B79-A62C-B5B2EF0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65BBA-A9AF-49E1-BDAE-DF7E5F2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6031C-2E4F-4AD5-A222-ADA4D181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5A18F-C45A-452C-9731-148AAB43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6F432F-7184-4F57-B1B0-6D7B12A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744E94-AE63-4993-8B27-5EE1A2C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F3C2D-9AB9-4EFA-AEC8-F50DA5AC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5834F1-AE6C-4D6F-8520-66BECAA6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92B-2D5D-4289-AFC9-3ACF94F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FCF0C1-79E2-4239-A5E9-24CD366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9D7FCA-8371-4691-A69A-7B4BD2C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D5DAE-C94D-460B-A07B-891806E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8B81B-00C0-4899-BCE9-B068E79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6FE859-4171-4FE8-9EDB-FE85975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1A715-D806-4656-8BD4-54F86FF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1E758-98F8-41BC-BD2B-29D00E8F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561C6-D773-49B5-894E-C186039F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FE10E-6A4F-409F-B2DF-D15AF469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5AF3D-0788-4EE9-9A80-C029355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79DD-E5BC-4E86-91D0-FEBD5080BCDD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166-B315-4E5E-A7BA-7D711B2600D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A98E-28E5-460A-A970-50346C173D7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C0B-3CC2-4CAF-AAD0-F9396621965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157-7C97-4B87-9840-42C328447A3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6DC-AE83-428D-8081-7A15788FDDE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2160-9327-48FE-BDC2-5A681575B9E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28F-15C2-4947-B58A-B8D9925BE5B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E25-435F-454E-84BF-03D08F3D542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255-DFE1-41F6-AE13-3EDBF98A9B0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12A-848B-47D0-8FA1-25DFB4C9761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B7F-CF6E-43A9-B3BF-C524FD53EFC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A08-EA55-4582-8F64-F2B990B4A8D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8D2A-7202-4DC8-A609-9F7E09B7920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6B3-3101-40D0-80A1-1F20A3463B47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26C-D86A-4ADF-A441-DFA5D291846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44A7-B86E-4728-BDE2-EDBC32B1497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BEBC-D65D-403A-ACFF-916C4D552A7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BB78-24FB-45A2-94B2-9B889246BF9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7DE-70B5-4ACD-BBFB-89CB1B88EAF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F659-CC63-4972-8165-733637137A8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2483-69B4-49DF-99E9-411A6F81ED3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A36-1509-450A-970B-89CA4492695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DEE-D767-41E1-A9E7-B0EC734AE62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3CB-AD8F-447F-BB43-3C7329B7C06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864C-286E-4141-AD89-D40E4E8E734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E6C-C1B8-4C8E-97A8-D477A15C8B1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E1A-C121-48A4-A7C9-9558AA6C220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AFA-1B2D-4693-BACC-01E19693B3E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F10-C6EF-4E04-9217-76ACA2B9CC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Imagen 4" descr="cid:image002.png@01CFCC37.FA37C420"/>
          <p:cNvPicPr/>
          <p:nvPr/>
        </p:nvPicPr>
        <p:blipFill>
          <a:blip r:embed="rId2"/>
          <a:stretch/>
        </p:blipFill>
        <p:spPr>
          <a:xfrm>
            <a:off x="682560" y="5522760"/>
            <a:ext cx="3673440" cy="8445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616" name="Rectángulo 1"/>
          <p:cNvSpPr/>
          <p:nvPr/>
        </p:nvSpPr>
        <p:spPr>
          <a:xfrm>
            <a:off x="390600" y="549360"/>
            <a:ext cx="8351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sobre mejores prácticas de Educación Fiscal en la Unión Europea y América Lat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México D.F., del 21 al 24 de octubre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6804000" y="5522760"/>
            <a:ext cx="16765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F7FE-9E1A-4EB8-B3C4-BE1EFEDB122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ángulo 3"/>
          <p:cNvSpPr/>
          <p:nvPr/>
        </p:nvSpPr>
        <p:spPr>
          <a:xfrm>
            <a:off x="585720" y="928800"/>
            <a:ext cx="845028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NA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3: Tipos de Docume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Aspectos Generales de la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undamentos, Sistema de Mercado y Gratuito, operación y flu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actibilidad, Inscripción, Configuración del PC en Sistema Grat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boratorio: Emisión Práctica de Documentos, IECV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512F-B7A7-4F2B-8F05-73FC718BE6C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4 CuadroTexto"/>
          <p:cNvSpPr/>
          <p:nvPr/>
        </p:nvSpPr>
        <p:spPr>
          <a:xfrm>
            <a:off x="1073160" y="116064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2060"/>
                </a:solidFill>
                <a:latin typeface="Arial"/>
              </a:rPr>
              <a:t>Hitos relevantes del P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Imagen 1" descr=""/>
          <p:cNvPicPr/>
          <p:nvPr/>
        </p:nvPicPr>
        <p:blipFill>
          <a:blip r:embed="rId1"/>
          <a:stretch/>
        </p:blipFill>
        <p:spPr>
          <a:xfrm>
            <a:off x="6886440" y="3882960"/>
            <a:ext cx="2232000" cy="297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3" name="Imagen 2" descr=""/>
          <p:cNvPicPr/>
          <p:nvPr/>
        </p:nvPicPr>
        <p:blipFill>
          <a:blip r:embed="rId2"/>
          <a:stretch/>
        </p:blipFill>
        <p:spPr>
          <a:xfrm>
            <a:off x="4716360" y="5232240"/>
            <a:ext cx="2170080" cy="1625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4" name="Imagen 3" descr=""/>
          <p:cNvPicPr/>
          <p:nvPr/>
        </p:nvPicPr>
        <p:blipFill>
          <a:blip r:embed="rId3"/>
          <a:stretch/>
        </p:blipFill>
        <p:spPr>
          <a:xfrm>
            <a:off x="5702400" y="1268280"/>
            <a:ext cx="3441600" cy="2581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665" name=""/>
          <p:cNvGraphicFramePr/>
          <p:nvPr/>
        </p:nvGraphicFramePr>
        <p:xfrm>
          <a:off x="108000" y="1052640"/>
          <a:ext cx="5359320" cy="1682640"/>
        </p:xfrm>
        <a:graphic>
          <a:graphicData uri="http://schemas.openxmlformats.org/drawingml/2006/table">
            <a:tbl>
              <a:tblPr/>
              <a:tblGrid>
                <a:gridCol w="3168720"/>
                <a:gridCol w="1261800"/>
                <a:gridCol w="928800"/>
              </a:tblGrid>
              <a:tr h="3078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Resumen NAF A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E-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Pres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en el S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es Capaci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108000" y="2924280"/>
          <a:ext cx="5359320" cy="1657080"/>
        </p:xfrm>
        <a:graphic>
          <a:graphicData uri="http://schemas.openxmlformats.org/drawingml/2006/table">
            <a:tbl>
              <a:tblPr/>
              <a:tblGrid>
                <a:gridCol w="3465360"/>
                <a:gridCol w="1893960"/>
              </a:tblGrid>
              <a:tr h="4237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y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tend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scr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ado al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 y sáb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667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826920" y="4797360"/>
          <a:ext cx="4535640" cy="160668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Mensual (I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ación, Inicio de actividades y escoger Actividad comer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ción Electró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 de g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7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E28-B8CB-4328-8F8E-35E55D2453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pic>
        <p:nvPicPr>
          <p:cNvPr id="622" name="Imagen 11" descr=""/>
          <p:cNvPicPr/>
          <p:nvPr/>
        </p:nvPicPr>
        <p:blipFill>
          <a:blip r:embed="rId3"/>
          <a:stretch/>
        </p:blipFill>
        <p:spPr>
          <a:xfrm>
            <a:off x="7380360" y="3807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471600" y="1054080"/>
            <a:ext cx="8001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d2d8a"/>
                </a:solidFill>
                <a:latin typeface="Arial"/>
                <a:ea typeface="Calibri"/>
              </a:rPr>
              <a:t>Panel III: Educación Fiscal en el ámbito Universitario- Experiencias de responsab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Los Núcleos de Apoyo Contable y Fiscal (NAF) a Contribuyentes MIPYME en C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Imagen 1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F9E-A105-47AD-9F5D-8FBDA60E778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7" name="8 CuadroTexto"/>
          <p:cNvSpPr/>
          <p:nvPr/>
        </p:nvSpPr>
        <p:spPr>
          <a:xfrm>
            <a:off x="2343240" y="10638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7"/>
          <p:cNvSpPr/>
          <p:nvPr/>
        </p:nvSpPr>
        <p:spPr>
          <a:xfrm>
            <a:off x="692280" y="1598760"/>
            <a:ext cx="80010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Dentro de la misión del S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        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“…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Proveer a los contribuyentes de servicios de excelencia,    potenciando la generación de nuevos productos y servicios con el objetivo de facilitar el cumplimiento tributario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Reforma Tributa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54061"/>
                </a:solidFill>
                <a:latin typeface="Tahoma"/>
                <a:ea typeface="Tahoma"/>
              </a:rPr>
              <a:t>Entrega como rol la asistencia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n 8" descr=""/>
          <p:cNvPicPr/>
          <p:nvPr/>
        </p:nvPicPr>
        <p:blipFill>
          <a:blip r:embed="rId3"/>
          <a:stretch/>
        </p:blipFill>
        <p:spPr>
          <a:xfrm>
            <a:off x="6195960" y="5621400"/>
            <a:ext cx="167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42F-A99F-4EDF-9096-F2BA62DA28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33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34" name="2 Rectángulo"/>
          <p:cNvSpPr/>
          <p:nvPr/>
        </p:nvSpPr>
        <p:spPr>
          <a:xfrm>
            <a:off x="858960" y="1557360"/>
            <a:ext cx="725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SII busca reducir los costos de cumplimiento tributario de los contribuyentes y facilitar los trámites durante todo el Ciclo de Vida Tributaria de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"/>
          <p:cNvPicPr/>
          <p:nvPr/>
        </p:nvPicPr>
        <p:blipFill>
          <a:blip r:embed="rId3"/>
          <a:stretch/>
        </p:blipFill>
        <p:spPr>
          <a:xfrm>
            <a:off x="266760" y="3041640"/>
            <a:ext cx="8609040" cy="1657440"/>
          </a:xfrm>
          <a:prstGeom prst="rect">
            <a:avLst/>
          </a:prstGeom>
          <a:ln w="0">
            <a:noFill/>
          </a:ln>
        </p:spPr>
      </p:pic>
      <p:pic>
        <p:nvPicPr>
          <p:cNvPr id="636" name="Imagen 9" descr=""/>
          <p:cNvPicPr/>
          <p:nvPr/>
        </p:nvPicPr>
        <p:blipFill>
          <a:blip r:embed="rId4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37" name="8 CuadroTexto"/>
          <p:cNvSpPr/>
          <p:nvPr/>
        </p:nvSpPr>
        <p:spPr>
          <a:xfrm>
            <a:off x="2146320" y="82224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D0F-4BCB-496F-A150-2CCCB28B589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40" name="1 Imagen" descr=""/>
          <p:cNvPicPr/>
          <p:nvPr/>
        </p:nvPicPr>
        <p:blipFill>
          <a:blip r:embed="rId2"/>
          <a:stretch/>
        </p:blipFill>
        <p:spPr>
          <a:xfrm>
            <a:off x="3568680" y="558972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41" name="2 Rectángulo"/>
          <p:cNvSpPr/>
          <p:nvPr/>
        </p:nvSpPr>
        <p:spPr>
          <a:xfrm>
            <a:off x="822240" y="1557360"/>
            <a:ext cx="72500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tender y dar asistencia técnica a pequeños contribuyentes para poder conocer sobre aspectos generales del sistema gratuito de factura electrónica del SII, completar sus obligaciones, trámites, actuaciones y pago de impuestos ante el fisco chile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NAF atenderá a pequeños contribuyentes y personas de escasos recursos que no puedan pagar una atención profesional de maner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Imagen 9" descr=""/>
          <p:cNvPicPr/>
          <p:nvPr/>
        </p:nvPicPr>
        <p:blipFill>
          <a:blip r:embed="rId3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43" name="8 CuadroTexto"/>
          <p:cNvSpPr/>
          <p:nvPr/>
        </p:nvSpPr>
        <p:spPr>
          <a:xfrm>
            <a:off x="2902320" y="8222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AF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BEF-2B4D-4922-9F3B-2139E4395A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Diagrama 2" descr=""/>
          <p:cNvPicPr/>
          <p:nvPr/>
        </p:nvPicPr>
        <p:blipFill>
          <a:blip r:embed="rId1"/>
          <a:stretch/>
        </p:blipFill>
        <p:spPr>
          <a:xfrm>
            <a:off x="268200" y="1195560"/>
            <a:ext cx="8094600" cy="4625640"/>
          </a:xfrm>
          <a:prstGeom prst="rect">
            <a:avLst/>
          </a:prstGeom>
          <a:ln w="0">
            <a:noFill/>
          </a:ln>
        </p:spPr>
      </p:pic>
      <p:sp>
        <p:nvSpPr>
          <p:cNvPr id="646" name="Rectángulo 5"/>
          <p:cNvSpPr/>
          <p:nvPr/>
        </p:nvSpPr>
        <p:spPr>
          <a:xfrm>
            <a:off x="32400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f0"/>
                </a:solidFill>
                <a:latin typeface="Arial"/>
              </a:rPr>
              <a:t>Proceso de puesta en marcha NA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ángulo 1"/>
          <p:cNvSpPr/>
          <p:nvPr/>
        </p:nvSpPr>
        <p:spPr>
          <a:xfrm>
            <a:off x="2780280" y="7351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50"/>
                </a:solidFill>
                <a:latin typeface="Arial"/>
              </a:rPr>
              <a:t>El NAF en C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0EC-7821-41A0-9293-131DFB593C2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ángulo 3"/>
          <p:cNvSpPr/>
          <p:nvPr/>
        </p:nvSpPr>
        <p:spPr>
          <a:xfrm>
            <a:off x="468360" y="760320"/>
            <a:ext cx="844848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ESTRATEGIA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lianza Educativa con Instituto AIEP- de la Universidad Andrés B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Generación de “Convenio de cooperación en Educación Fis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daptación y Programación del NAF-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Infraestructura (Universidad Andrés Bello – AIEP): sala acondicionada para atención de público (4 equipos P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enios externos: emprendedores Municipalidad de Santiago, CONUPIA. Se siguen acciones con Fosis, Sercotec, ProPYME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ocatoria de alumnos carrera de Contador Auditor, realización de E-Learning y elección de los mejores alum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apacitación Presencial en el SII (630 alum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Piloto (4 meses): Inauguración, evaluación y seguimiento, estadísticas, citación de contribuyentes, seguimiento de respuestas, supervisión de profe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Imagen 1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08440" cy="59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5AD1-7855-41DA-AF72-9C9D145A6F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ángulo 1"/>
          <p:cNvSpPr/>
          <p:nvPr/>
        </p:nvSpPr>
        <p:spPr>
          <a:xfrm>
            <a:off x="458640" y="1700280"/>
            <a:ext cx="871236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PACITACIÓN E-LEARNING, 3 UN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NIDAD 1: “</a:t>
            </a: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Estado, Tributación y Ciudadanía”. Conocer y formarse una opinión crítica sobre los conceptos de Estado y Tributación, y cómo estos nos ayudan a desarrollar una sociedad más ordenada y justa para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2:  "La Administración Pública Y tu Profesión", cuyo objetivo es conocer las principales Funciones de la Administrac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3:  "Facturación Electrónica" cuyo objetivo es reconocer los actores y procesos que intervienen en la nueva Ley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Imagen 1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2908440" cy="59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EDFD-B936-4AB2-97BF-2217A6E8221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ángulo 3"/>
          <p:cNvSpPr/>
          <p:nvPr/>
        </p:nvSpPr>
        <p:spPr>
          <a:xfrm>
            <a:off x="585720" y="928800"/>
            <a:ext cx="84502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PRESENCIAL NAF, 3 módulos, mejores alumnos del E Learning (46 alumn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Módulo 1: La Educación Fiscal y tu prof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iudadanía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¿Qué es la educación fis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os tres ejes que fundamentan la educación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Rol social del im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 ética profesional y tu compromis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2: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Nueva Ley 20.727 de 2014 (Factura Electrónica Univer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avegación y ayuda para la facturación electrónica en el sitio Web del S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nformación de ayuda y asiste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Preguntas Frecuentes, Contáctenos, Guías de Ayuda, Mesa de Ayuda y Videos Educativos sobre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Ricardo Antonio Pizarro Alfaro</cp:lastModifiedBy>
  <cp:lastPrinted>2013-05-15T01:14:53Z</cp:lastPrinted>
  <dcterms:modified xsi:type="dcterms:W3CDTF">2014-10-22T12:39:48Z</dcterms:modified>
  <cp:revision>560</cp:revision>
  <dc:subject/>
  <dc:title>Cuenta Pública 2010 SII</dc:title>
</cp:coreProperties>
</file>