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16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FF356-841C-4E3E-B542-AD5FA75D3F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A643A-7726-48AC-9C0F-3415497F71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24D92-B57A-4205-B71F-B8C585CDFE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1D43E-8340-4A6A-81F8-22CDFE602C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82E2A-E637-4ABC-92D0-F7738903A2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F82B4-B79F-4003-B100-BEA19194E4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B6AD0-65A5-4BF0-8A0E-79DE256BA7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56EB9-C030-4D58-81C8-2A739C87F1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1E0B1-DCD1-4286-8516-02B24EFD28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AE7D3-EC7D-4C78-8793-6A3676EB9C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354C1-265B-40CD-8C0A-B7BFECFA6F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3EBBF-3333-46BC-BA13-83BFF9A17D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F4395-9B29-4392-BDE9-B17E35F45C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624-4BF6-4159-BBBA-E4AFE1E0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F1E-C8D0-4335-8858-4A4AFF54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F05-FF8F-425A-87A0-9C74F414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C49-FE84-4FCA-8E83-118486CE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CB7E-F2EB-45D4-8490-24840A74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BBC3-4A0A-4B71-8E1D-070DE6D8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DCDE-3C03-4B7F-8F7B-13BB5718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5FA2-FA2E-443C-968E-96A9B9DC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A275-7FA4-40BE-B708-696DD568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86CC-123B-446C-A4A4-E43AFE56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9E2B-9B5E-419E-A1A7-2519BB3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1AC-BBD3-49DF-9A93-432CE062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BDEB-40DB-485C-BC69-D9D9BB6D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6914-5D49-4DBB-9806-A56FDB1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8B85-7094-4F43-865F-E9741FBF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7031-D572-45A0-B2E5-9A0379A8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385D-CAEB-43D8-A9F4-85FC6011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033B-673A-41B6-BC9D-00E7FE9A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F97A-DB11-4150-8D42-4905BC77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EC09-DF02-4455-99D3-7E406096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5113-71B3-4256-9D56-90E3989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5F87-E491-4E9D-B87C-4D0DDCC2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AD5-120E-4A5C-B66B-A7121BCE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BD70-A707-4D92-8014-2FF42A68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E734-06C2-44A1-82FD-F0A5E6AE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A03EB-228F-4486-B41F-0090795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FF7B-4616-4580-81C9-9E3E38E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38D1-3194-4256-919F-BE1777BD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A8FD-A885-4208-B940-DC8EF607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A627-BC88-4F98-B9DF-043EE24C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FB4A-C0AC-43D5-9843-1B92E0E8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B6F5-9775-494B-9463-8D872FD0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7CDDB-4E7B-4271-8359-09EB0133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8B5-A0AC-4ED1-A02A-B0B45745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A4E18-3F6E-432A-8120-01AFEB47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B4783-4CF8-428F-8E50-1D6DBC29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997F-0E0F-42EE-85F8-60D48526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D4AFB-70C1-4F40-BA45-8D452B3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AAA10-E340-4B8A-98F2-B72B8889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0F0B-12EC-4656-98BE-EDF7482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3231-9D72-4078-8223-D133C804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E1E54-556E-4832-8C25-E9A02D43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A7A32-EC62-4306-8FB9-715AF6A0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5CF2-C625-464E-9098-8D939D73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0CD-8BD8-4B47-B94B-D3A463BE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9A7F3-B042-4151-8A24-64DD60C7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3E22-E9B4-49F1-B550-B1CF1677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5F936-34CB-4E52-A952-F5B2B1A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C0BA-BFFE-4B92-9350-1C9F132A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E2987-3CB4-4079-BD14-65545382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479A5-958B-4E9E-B126-CCEC99B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2447-DAAE-4E26-A0B3-BFE1D43D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19244-ACD9-4AC8-A532-27145958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7EFD-89BD-47F2-A965-830EC3ED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E519-C75B-4544-B7D6-6F7730BC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F59-8442-4AE2-99EE-990B0290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44E2-0A29-4BB5-AB5B-16C9BB1C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B6E-978E-45A8-8365-4A594BF1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364-2250-4A43-8CD9-92000A00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420-FFE4-49E4-8359-35E33FA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0E307D-D475-45CD-83B1-1C055F3F8338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9360" y="-9360"/>
              <a:ext cx="952200" cy="628200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DAC484-8D97-4A0A-AC1A-75B5EDD468EC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05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1399BA-7D01-421C-BD05-A3020D016222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59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80C52F-551A-4EFE-AD82-897584BF9E5B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213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E8F029-23FA-4A2A-B261-DEF854F0362A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360" y="250920"/>
            <a:ext cx="9429840" cy="1944720"/>
          </a:xfrm>
          <a:prstGeom prst="rect">
            <a:avLst/>
          </a:prstGeom>
          <a:noFill/>
          <a:ln w="0">
            <a:noFill/>
          </a:ln>
        </p:spPr>
        <p:txBody>
          <a:bodyPr t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MÉXICO – EL SALVADOR EUROsociAL II – FIIAPP </a:t>
            </a:r>
            <a:br>
              <a:rPr sz="2000"/>
            </a:b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F</a:t>
            </a:r>
            <a:r>
              <a:rPr b="0" lang="es-ES_tradnl" sz="2000" spc="-1" strike="noStrike">
                <a:solidFill>
                  <a:srgbClr val="90c226"/>
                </a:solidFill>
                <a:latin typeface="Trebuchet MS"/>
              </a:rPr>
              <a:t>ortalecimiento de los Programas de Educación</a:t>
            </a: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 Fiscal</a:t>
            </a:r>
            <a:br>
              <a:rPr sz="2000"/>
            </a:b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Taller internacional sobre mejores</a:t>
            </a:r>
            <a:r>
              <a:rPr b="1" lang="pt-BR" sz="2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pt-BR" sz="2400" spc="-1" strike="noStrike" u="sng">
                <a:solidFill>
                  <a:srgbClr val="90c226"/>
                </a:solidFill>
                <a:uFillTx/>
                <a:latin typeface="Trebuchet MS"/>
              </a:rPr>
              <a:t>prácticas</a:t>
            </a: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 de Educación Fiscal e</a:t>
            </a:r>
            <a:r>
              <a:rPr b="0" lang="pt-BR" sz="2000" spc="-1" strike="noStrike">
                <a:solidFill>
                  <a:srgbClr val="eaf6d1"/>
                </a:solidFill>
                <a:latin typeface="Trebuchet MS"/>
              </a:rPr>
              <a:t>n la Unión </a:t>
            </a: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Europea y América Latina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2340000"/>
            <a:ext cx="90709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Práctica de Educación Fiscal en América Latin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Brasil, Brasília - D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6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'La ciudad constitucional: Capital de la República'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Prof. Marcelo Arno Nerling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Universidade de São Paulo - US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mnerling@usp.b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1-24/10/201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México – D.F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31640" y="395280"/>
            <a:ext cx="9071280" cy="117144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Un dia de programación</a:t>
            </a:r>
            <a:br>
              <a:rPr sz="2200"/>
            </a:b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La ciudad constitucional 2014</a:t>
            </a:r>
            <a:br>
              <a:rPr sz="2200"/>
            </a:b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Ejemplo II - 09/09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marL="378000" indent="-378000"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09:20 – Auditório CGU - V Seminário USP-CGU – 'Archivos, control e prevención de la corrupción' – Secretario Ejecutivo Sr. Carlo Higin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-378000"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09:40 - Observatório de despesa publica – Coordinador del Observatório Sr. Henrique Roch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0:00 - El control interno e el papel de la CGU en el aperfeiçoamento de los programas governamentais –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-378000"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Director de planeamiento de la Secretaria Federal de Controle Interno da CGU: Ronald da Silva Balb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2124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Ejemplo Día II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1332000"/>
            <a:ext cx="9070920" cy="537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1h10 – Secretaria da Transparência e Prevenção da Corrupção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Diretor da Secretaria da Transparência e Prevenção da Corrupção (STPC) – Diretoria de Promoción de la Integridad, Acuerdos y Cooperación Internacional: Hamilton Fernando Cota Cruz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1h55 – Acceso a la información y archivos públicos – El archivo como condición de eficácia del derecho fundamental de acceso a la información - Analista de la CGU: Marcos Lindenmayer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1:30 – Pregunt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2:00 – Almuerzo Restaurante CG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pt-BR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-360" y="1042920"/>
            <a:ext cx="9070920" cy="56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5:00 – IV Seminário USP – UnB – El derecho de la calle y de las instituciones em uma ciudad constitucional – Professor, Ex-Rector de la Universidad de Brasília (UnB) – Dr. José Geraldo de Sousa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00 – VII Seminário USP – Ministério da Saú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00 - Cordenación de Enfermidades Cronicas no Transmisibles del Ministerio de la Salud - Sra. Taís Port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15 Programa Academia da la Salud  - Departamiento de Lesiones y Enfermidad  no Transmisibles – Sra. Valdeth Santo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30 – La cógestión como un dispositivo para intersectorial – Sra. Denise Bueno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45 - El papel de lo sector salud en el enfrentamiento de la violência y de los accidentes  - Sra. Eneida Paiva Eneida Paiv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7:00 – Plan Juventud Viva  - Sra. Sabrina Faria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3900" spc="-1" strike="noStrike">
                <a:solidFill>
                  <a:srgbClr val="90c226"/>
                </a:solidFill>
                <a:latin typeface="Trebuchet MS"/>
              </a:rPr>
              <a:t>Muchas gracias!</a:t>
            </a:r>
            <a:br>
              <a:rPr sz="3900"/>
            </a:b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9" name="Espaço Reservado para Conteúdo 9" descr=""/>
          <p:cNvPicPr/>
          <p:nvPr/>
        </p:nvPicPr>
        <p:blipFill>
          <a:blip r:embed="rId1"/>
          <a:stretch/>
        </p:blipFill>
        <p:spPr>
          <a:xfrm>
            <a:off x="1800360" y="2340000"/>
            <a:ext cx="5703840" cy="4638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file:///C:/Users/Prof.%20Dr.%20Marcelo/Pictures/Cidade%20constitucional/Foto%20A%20cidade%20constitucional%20-%20Capital%20da%20Rep%C3%BAblica%20-%20RicardoMazucato-%202009.jpg"/>
          <p:cNvPicPr/>
          <p:nvPr/>
        </p:nvPicPr>
        <p:blipFill>
          <a:blip r:embed=""/>
          <a:stretch/>
        </p:blipFill>
        <p:spPr>
          <a:xfrm>
            <a:off x="2592360" y="1324080"/>
            <a:ext cx="612000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2920" y="290160"/>
            <a:ext cx="9070920" cy="1282680"/>
          </a:xfrm>
          <a:prstGeom prst="rect">
            <a:avLst/>
          </a:prstGeom>
          <a:noFill/>
          <a:ln w="0">
            <a:noFill/>
          </a:ln>
        </p:spPr>
        <p:txBody>
          <a:bodyPr tIns="5868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400" spc="-1" strike="noStrike">
                <a:solidFill>
                  <a:srgbClr val="90c226"/>
                </a:solidFill>
                <a:latin typeface="Trebuchet MS"/>
              </a:rPr>
              <a:t>'Ciudad constitucional' – Valores, memória institucional y gestión del conocimiento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1373040"/>
            <a:ext cx="907092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ctr">
            <a:noAutofit/>
          </a:bodyPr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'Cohesión social'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Hacer '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uente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' entre el Estado y la ciudadaní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Sociedad civil - </a:t>
            </a:r>
            <a:r>
              <a:rPr b="1" lang="es-ES_tradnl" sz="2000" spc="-1" strike="noStrike">
                <a:solidFill>
                  <a:srgbClr val="404040"/>
                </a:solidFill>
                <a:latin typeface="Trebuchet MS"/>
              </a:rPr>
              <a:t>universidad</a:t>
            </a: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 X Sociedad polític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Desarrollo de la personalidad, </a:t>
            </a:r>
            <a:r>
              <a:rPr b="1" lang="es-ES_tradnl" sz="2000" spc="-1" strike="noStrike">
                <a:solidFill>
                  <a:srgbClr val="404040"/>
                </a:solidFill>
                <a:latin typeface="Trebuchet MS"/>
              </a:rPr>
              <a:t>preparo </a:t>
            </a: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de la </a:t>
            </a:r>
            <a:r>
              <a:rPr b="1" lang="es-ES_tradnl" sz="2000" spc="-1" strike="noStrike">
                <a:solidFill>
                  <a:srgbClr val="404040"/>
                </a:solidFill>
                <a:latin typeface="Trebuchet MS"/>
              </a:rPr>
              <a:t>ciudadanía</a:t>
            </a: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, mundo del trabaj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Impulsar la iniciativa 'Ciudad Constitucional'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Pressupuesto por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rograma;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Reformas institucionales y cultural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Informar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, para que todos conoscam;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educar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, para que todos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ratiquem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” (García, Lobo, 2010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Ejes estricturantes de la 'ciudad constitucional' – Curso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de una </a:t>
            </a: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Licenciatura en Gestión de Políticas Públicas 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-360" y="1332000"/>
            <a:ext cx="907092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73800" bIns="0" anchor="ctr">
            <a:noAutofit/>
          </a:bodyPr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Uno que 'lee mucho y anda mucho, ve y sabe mucho' (Cervantes) de las 'ciudades invisibles', (Calvino) de las 'ciudades constitucinales' (Nerling), se tiene 'voluntad de Constitución'. (Hess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Extensión, Investigación (</a:t>
            </a:r>
            <a:r>
              <a:rPr b="1" i="1" lang="pt-BR" sz="2000" spc="-1" strike="noStrike">
                <a:solidFill>
                  <a:srgbClr val="404040"/>
                </a:solidFill>
                <a:latin typeface="Trebuchet MS"/>
              </a:rPr>
              <a:t>práxis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), Enseñanza – Autonomí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Cognición –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ctitud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-Teoría y práxi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ndragogía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- Educación para la liberta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07 – 2011 – Extensió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09 – Investigació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11-2014 – Docencia – Proyecto Político Pedagógico – Titulación – Licenciatura en GPP – Curso – 06 créditos – 60 h.a. + 20 h.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Metodología y formato</a:t>
            </a:r>
            <a:br>
              <a:rPr sz="2200"/>
            </a:b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La experiencia del Ciudad Constitucional en Brasil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-36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Puente entre la administracion fiscal y educaciona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Cooperación técnica - USP-ENAP-ESAF-RFB-EUROsociA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Viaje de estudio a la Capital de la República -Curso 06 C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(SP-BSB 1.200 K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Ciudad Constitucional: Edital; Contenido (descripción de la asignatura); Programa; Metodología docente y cronograma (Semana de la patria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Poderes, entes, entidades, instituciones; su cultura, el a</a:t>
            </a: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uditorio, el sonido, la luz (economicidad)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es-ES_tradnl" sz="2200" spc="-1" strike="noStrike" u="sng">
                <a:solidFill>
                  <a:srgbClr val="404040"/>
                </a:solidFill>
                <a:uFillTx/>
                <a:latin typeface="Trebuchet MS"/>
              </a:rPr>
              <a:t>Recursos humano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- '</a:t>
            </a:r>
            <a:r>
              <a:rPr b="0" lang="es-ES_tradnl" sz="2200" spc="-1" strike="noStrike" u="sng">
                <a:solidFill>
                  <a:srgbClr val="404040"/>
                </a:solidFill>
                <a:uFillTx/>
                <a:latin typeface="Trebuchet MS"/>
              </a:rPr>
              <a:t>Programas</a:t>
            </a: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' y 'Proyectos'; Planiamiento; Pressupues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Estrategias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62280" bIns="0" anchor="ctr">
            <a:noAutofit/>
          </a:bodyPr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 u="sng">
                <a:solidFill>
                  <a:srgbClr val="404040"/>
                </a:solidFill>
                <a:uFillTx/>
                <a:latin typeface="Trebuchet MS"/>
              </a:rPr>
              <a:t>Salir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de las aulas tradicionales, fuera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Trebuchet MS"/>
              </a:rPr>
              <a:t>de las paredes del clase/aula y las paredes de la universidad: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Enseñanza, libertad y autonomia: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ctitu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Gestión del conocimient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uentes entre el Estado y la ciudadaní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Contenidos y sus metologías: Taller; Resolución de problemas;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Seminário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; Jornadas Virtuales (Investigación - EaD); Estudio de caso; Juri discutible;Workshop (ANASTASIOU, ALVES, 2009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El espacio público enseña.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Investigar en el local de trabayo los 'programas' de politicas públicas, informando para que todos conoscam y educando para que todos pratiquem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 u="sng">
                <a:solidFill>
                  <a:srgbClr val="404040"/>
                </a:solidFill>
                <a:uFillTx/>
                <a:latin typeface="Trebuchet MS"/>
              </a:rPr>
              <a:t>Programas y proyectos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que són desafíos nacionales y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rioridades – control del gasto y arrecaudación - PN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tIns="2124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Ciudad constitucional en construcción...</a:t>
            </a:r>
            <a:br>
              <a:rPr sz="2400"/>
            </a:b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2006-2014...VIII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Espaço Reservado para Conteúdo 1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4425840" cy="4351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4" descr="file:///C:/Users/Prof.%20Dr.%20Marcelo/Pictures/Cidade%20constitucional/A%20cidade%20constitucional%202009%20-%20Foto%20RicardoMazucato.jpg"/>
          <p:cNvPicPr/>
          <p:nvPr/>
        </p:nvPicPr>
        <p:blipFill>
          <a:blip r:embed=""/>
          <a:stretch/>
        </p:blipFill>
        <p:spPr>
          <a:xfrm>
            <a:off x="720720" y="1800360"/>
            <a:ext cx="4140360" cy="4319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31964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36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El eje educación fiscal</a:t>
            </a:r>
            <a:br>
              <a:rPr sz="1800"/>
            </a:b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La ciudad constitucional 2014</a:t>
            </a:r>
            <a:br>
              <a:rPr sz="1800"/>
            </a:b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Ejemple I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08/09 e 11/09 – 12 horas extensión certificación ESAF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-360" y="1814040"/>
            <a:ext cx="907092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8h30 -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 cooperação técnica internacional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- Educación Fiscal y cohesión social – ESAF; USP; Representante da Oficina EUROsociAL II; FIIAPP; El Salvador; Hondur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presentantes da Oficina EUROsociAL – FIIAPP (Fundación Internacional y Para Iberoamérica de Administración y Políticas Públicas ; Representante de Honduras – David Jerezano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presentante de El Salvador – Wendy Magari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Directora General da ESAF: Raimunda Ferreira de Almeid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presentante de la Unión Europa: Asier Luzuriag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Coordenador da disciplina </a:t>
            </a:r>
            <a:r>
              <a:rPr b="0" i="1" lang="pt-BR" sz="2000" spc="-1" strike="noStrike">
                <a:solidFill>
                  <a:srgbClr val="404040"/>
                </a:solidFill>
                <a:latin typeface="Trebuchet MS"/>
              </a:rPr>
              <a:t>A Cidade Constitucional e a Capital da República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: Prof. Dr. Marcelo Arno Nerling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sponsável pela disciplina </a:t>
            </a:r>
            <a:r>
              <a:rPr b="0" i="1" lang="pt-BR" sz="2000" spc="-1" strike="noStrike">
                <a:solidFill>
                  <a:srgbClr val="404040"/>
                </a:solidFill>
                <a:latin typeface="Trebuchet MS"/>
              </a:rPr>
              <a:t>A Cidade Constitucional e a Capital da República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: Prof. Dr. Douglas Roque Andrad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958680"/>
          </a:xfrm>
          <a:prstGeom prst="rect">
            <a:avLst/>
          </a:prstGeom>
          <a:noFill/>
          <a:ln w="0">
            <a:noFill/>
          </a:ln>
        </p:spPr>
        <p:txBody>
          <a:bodyPr tIns="2124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Eje educación fiscal y sostenibilidad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1544400"/>
            <a:ext cx="9070920" cy="5707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0:00 – IV Seminário USP-ESAF – Sustentabilidade Ambiental  - Director de Cooperación Técnica de ESAF: Sr. Paulo Mauge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0:30 – Educación en la ESAF: Sra. Lucíola Maurício de Arrud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1:00 -  – EaD em El Sitio Virtual de la ESAF – Sr. Halisson Palmeira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1:15 Pregunta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1:45 - Almuerz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4:30 – EN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9:30 – Programa Nacional de Educação Fiscal do Brasil – PNEF: Educación Fiscal y el preparo de la ciudadanía  - Gerente del Programa Nacional de Educación Fiscal do Brasil: Sr. Ronaldo Iun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:25 – Administração tributária e educacional: exemplos de aproximação pela Receita Federal do Brasil – RFB  - Coordenador de Educación Fiscal y Memória Institucional de la RFB: Sr. Antonio Henrique Lindemberg Baltaza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Sexto dia –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3200" spc="-1" strike="noStrike">
                <a:solidFill>
                  <a:srgbClr val="90c226"/>
                </a:solidFill>
                <a:latin typeface="Trebuchet MS"/>
              </a:rPr>
              <a:t>Eje educación fiscal y sostenibilidad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Trebuchet MS"/>
              </a:rPr>
              <a:t>11/09/201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Trebuchet MS"/>
              </a:rPr>
              <a:t>9:00 – VI Visita aos Vitrais da Sede, espelho da Federação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Trebuchet MS"/>
              </a:rPr>
              <a:t>10:35 – I Seminário USP – Caixa Federal – Programa Caixa Melhores Práticas em Gestão Local  - Consultor da Caixa - Sr. Gustavo Ribeiro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Trebuchet MS"/>
              </a:rPr>
              <a:t>11:30 – II Seminário USP – Banco Central – Educação Fiscal y financiera para la ciudadanía – Cordinador del Programa - Sr. Silvio Carlos Arduini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20:54:16Z</dcterms:created>
  <dc:creator>Marcelo Arno Nerling</dc:creator>
  <dc:description/>
  <dc:language>en-US</dc:language>
  <cp:lastModifiedBy>Bernardo Sanchez</cp:lastModifiedBy>
  <cp:lastPrinted>2014-10-19T21:01:41Z</cp:lastPrinted>
  <dcterms:modified xsi:type="dcterms:W3CDTF">2014-10-23T12:49:12Z</dcterms:modified>
  <cp:revision>33</cp:revision>
  <dc:subject/>
  <dc:title>MÉXICO – EL SALVADOR EUROsociAL II – FIIAPP  Fortalecimiento de los Programas de Educación Fiscal Taller internacional sobre mejores prácticas de Educación Fiscal en la Unión Europea y América Latina</dc:title>
</cp:coreProperties>
</file>