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907588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2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ill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711000" y="739440"/>
            <a:ext cx="534348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3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4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6A64-4388-427C-886B-3AFE9A94F724}" type="slidenum">
              <a:rPr b="0" lang="fr-FR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711360" y="739800"/>
            <a:ext cx="5343480" cy="37004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Espace réservé du numéro de diapositive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0168-5F6D-4DC0-98E7-BC617655F3AC}" type="slidenum">
              <a:rPr b="0" lang="fr-FR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711360" y="739800"/>
            <a:ext cx="5343480" cy="37004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Espace réservé du numéro de diapositive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C7E6-7933-43C8-A532-002CF618D49A}" type="slidenum">
              <a:rPr b="0" lang="fr-FR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67C67-4FA6-4138-9E4B-AD57F4E976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31BE9-67BC-43B9-93D0-2E80AB5367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1628C-ECCF-4B4F-8C73-BDEE38B782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B5639-9B26-407B-BD59-D70B097195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0F72B-2CE9-46FF-8278-7A9718A306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4B399-C888-4370-9E8D-6BF54C8F7B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5B0CF-1926-43ED-B5D3-16EEBC641E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F961C-24E8-4E1E-AFBA-F84B701C49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F0C31-C518-40EC-A086-4752FF3C8E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ECE43-8115-4BBD-B285-EB9DA68E37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7AC50-7681-4870-AFB8-9FB3355705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DA43D-6F29-4E57-95EF-99E702FC8FD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2963520"/>
            <a:ext cx="9906120" cy="16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" descr=""/>
          <p:cNvPicPr/>
          <p:nvPr/>
        </p:nvPicPr>
        <p:blipFill>
          <a:blip r:embed="rId2"/>
          <a:stretch/>
        </p:blipFill>
        <p:spPr>
          <a:xfrm>
            <a:off x="0" y="6523200"/>
            <a:ext cx="9906120" cy="374400"/>
          </a:xfrm>
          <a:prstGeom prst="rect">
            <a:avLst/>
          </a:prstGeom>
          <a:ln w="0">
            <a:noFill/>
          </a:ln>
        </p:spPr>
      </p:pic>
      <p:sp>
        <p:nvSpPr>
          <p:cNvPr id="38" name="Line 2"/>
          <p:cNvSpPr/>
          <p:nvPr/>
        </p:nvSpPr>
        <p:spPr>
          <a:xfrm flipV="1">
            <a:off x="483480" y="1293840"/>
            <a:ext cx="893772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Num" idx="1"/>
          </p:nvPr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8427-811A-4176-B9E2-8705E1456EB7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906120" cy="76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3429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07272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  <a:p>
            <a:pPr lvl="1" marL="546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7aaab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a7aaab"/>
              </a:solidFill>
              <a:latin typeface="Gill Sans MT"/>
            </a:endParaRPr>
          </a:p>
          <a:p>
            <a:pPr lvl="2" marL="841320" indent="-168120">
              <a:buClr>
                <a:srgbClr val="a7aaab"/>
              </a:buClr>
              <a:buFont typeface="Gill Sans M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7aaab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a7aaab"/>
              </a:solidFill>
              <a:latin typeface="Gill Sans MT"/>
            </a:endParaRPr>
          </a:p>
          <a:p>
            <a:pPr lvl="3" marL="1177920" indent="-168120">
              <a:buClr>
                <a:srgbClr val="a7aaab"/>
              </a:buClr>
              <a:buFont typeface="Gill Sans M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7aaab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a7aaab"/>
              </a:solidFill>
              <a:latin typeface="Gill Sans MT"/>
            </a:endParaRPr>
          </a:p>
          <a:p>
            <a:pPr lvl="4" marL="1514520" indent="-168480">
              <a:buClr>
                <a:srgbClr val="a7aaab"/>
              </a:buClr>
              <a:buFont typeface="Gill Sans MT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7aaab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a7aaab"/>
              </a:solidFill>
              <a:latin typeface="Gill Sans MT"/>
            </a:endParaRPr>
          </a:p>
          <a:p>
            <a:pPr lvl="5" marL="1514520" indent="-168480">
              <a:spcBef>
                <a:spcPts val="45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7aaab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a7aaab"/>
              </a:solidFill>
              <a:latin typeface="Gill Sans MT"/>
            </a:endParaRPr>
          </a:p>
          <a:p>
            <a:pPr lvl="6" marL="1514520" indent="-168480">
              <a:spcBef>
                <a:spcPts val="45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7aaab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a7aaab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0" y="5616720"/>
            <a:ext cx="9906120" cy="124128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219240" y="5729400"/>
            <a:ext cx="9296280" cy="984240"/>
          </a:xfrm>
          <a:prstGeom prst="rect">
            <a:avLst/>
          </a:prstGeom>
          <a:ln w="0">
            <a:noFill/>
          </a:ln>
        </p:spPr>
      </p:pic>
      <p:sp>
        <p:nvSpPr>
          <p:cNvPr id="126" name="Line 4"/>
          <p:cNvSpPr/>
          <p:nvPr/>
        </p:nvSpPr>
        <p:spPr>
          <a:xfrm flipV="1">
            <a:off x="-720" y="5624640"/>
            <a:ext cx="9906120" cy="1440"/>
          </a:xfrm>
          <a:prstGeom prst="line">
            <a:avLst/>
          </a:prstGeom>
          <a:ln w="25560">
            <a:solidFill>
              <a:srgbClr val="0d4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2349360"/>
            <a:ext cx="9906120" cy="22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urso de Inducción a la Orientación y Asistencia a las mujeres víctimas de violencia usuarias del CAPRODEM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D7C5-94FB-417D-997F-80CFEBF5365A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493560" y="1495440"/>
            <a:ext cx="891864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4f18"/>
                </a:solidFill>
                <a:latin typeface="Gill Sans"/>
                <a:ea typeface="ＭＳ Ｐゴシック"/>
              </a:rPr>
              <a:t>Las mujeres víctimas de violencia doméstica no dejan a su pareja porque no quieren.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FALSO.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No siempre pueden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Hay mujeres víctimas de violencia que sufren dependencia económica o incluso emocional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Si no cuentan con redes de apoyo familiares o sociales, les es mas difícil dejar el hogar o denunciar al agresor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El tener hijos(as) las puede echar para atrás por miedo a no poder salir adelante solas con ellos(as) o a perder su custodia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La baja autoestima, como consecuencia de la violencia, puede ser un obstáculo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2F99-A0EE-48D2-9D7A-CA8BAD068BC0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93560" y="1495440"/>
            <a:ext cx="891864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51" name="Image 1" descr=""/>
          <p:cNvPicPr/>
          <p:nvPr/>
        </p:nvPicPr>
        <p:blipFill>
          <a:blip r:embed="rId1"/>
          <a:stretch/>
        </p:blipFill>
        <p:spPr>
          <a:xfrm>
            <a:off x="2489040" y="1473120"/>
            <a:ext cx="4915080" cy="3899160"/>
          </a:xfrm>
          <a:prstGeom prst="rect">
            <a:avLst/>
          </a:prstGeom>
          <a:ln w="0">
            <a:noFill/>
          </a:ln>
        </p:spPr>
      </p:pic>
      <p:sp>
        <p:nvSpPr>
          <p:cNvPr id="152" name="ZoneTexte 2"/>
          <p:cNvSpPr/>
          <p:nvPr/>
        </p:nvSpPr>
        <p:spPr>
          <a:xfrm>
            <a:off x="3334320" y="6070680"/>
            <a:ext cx="637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nte: Ministerio Público, </a:t>
            </a:r>
            <a:r>
              <a:rPr b="0" i="1" lang="fr-FR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énero, Justicia y Derechos humanos. Manual de Capacitación</a:t>
            </a:r>
            <a:r>
              <a:rPr b="0" lang="fr-FR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onduras, 2011.</a:t>
            </a:r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DCFE-1120-470F-9CC1-A9967B2B2E1D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493560" y="1495440"/>
            <a:ext cx="891864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4f18"/>
                </a:solidFill>
                <a:latin typeface="Gill Sans"/>
                <a:ea typeface="ＭＳ Ｐゴシック"/>
              </a:rPr>
              <a:t>Una mujer empoderada tiene mas probabilidades de denunciar a su agresor/abusador y seguir el proceso hasta ver sus derechos reconocidos y protegidos.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VERDADERO.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Una mujer que conoce y comprende sus derechos ve su autoestima fortalezida, lo que le permite actuar para hacer valer sus derechos y no renunciar a ellos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83FB-D8AC-4D1C-BEC8-DF3C5B5A2932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493560" y="1495440"/>
            <a:ext cx="891864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4f18"/>
                </a:solidFill>
                <a:latin typeface="Gill Sans"/>
                <a:ea typeface="ＭＳ Ｐゴシック"/>
              </a:rPr>
              <a:t>La violencia en el seno de la pareja es un asunto privado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FALS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Cualquier tipo de violencia contra las mujeres afecta a la sociedad en general. La protección y defensa de los derechos de las mujeres es responsabilidad de todos(as)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El principio de no violencia contra las mujeres forma parte de los estandares internacionales de Derechos Humanos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La violencia doméstica está sancionada en Honduras, como en muchos otros países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7479-F57C-46C2-8B25-3C3CF2F48316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493560" y="1495440"/>
            <a:ext cx="891864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e4aff"/>
                </a:solidFill>
                <a:latin typeface="Gill Sans"/>
                <a:ea typeface="ＭＳ Ｐゴシック"/>
              </a:rPr>
              <a:t>Legislación especial en Hondura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Gill Sans"/>
              </a:rPr>
              <a:t>Ley contra la violencia doméstica</a:t>
            </a:r>
            <a:r>
              <a:rPr b="1" lang="fr-FR" sz="2200" spc="-1" strike="noStrike">
                <a:solidFill>
                  <a:srgbClr val="000000"/>
                </a:solidFill>
                <a:latin typeface="Gill Sans"/>
              </a:rPr>
              <a:t> (1997, 2005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"/>
              </a:rPr>
              <a:t>Regula la aplicación de sanciones y la adopción de medidas para proteger la integridad física, psicológica patrimonial y sexual de la mujer contra cualquier forma de violencia por parte de su pareja (en sentido amplio), y establece un conjunto de derechos procesales para la mujer víctima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ine la violencia doméstica como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todo patrón de conducta asociado a una situación de ejercicio desigual de poder que se manifiesta en el uso de la violencia física, psicológica, patrimonial y/o económica y sexual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7446-D5A4-46EA-8E0F-9AB8818E03A5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493560" y="1495440"/>
            <a:ext cx="891864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endo la desigualdad de poder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toda conducta dirigida a afectar, comprometer o limitar el libre desenvolvimiento de la personalidad de la mujer por razones de género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onsidera como forma de 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Violencia física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: </a:t>
            </a:r>
            <a:r>
              <a:rPr b="0" i="1" lang="fr-FR" sz="2000" spc="-1" strike="noStrike">
                <a:solidFill>
                  <a:srgbClr val="000000"/>
                </a:solidFill>
                <a:latin typeface="Gill Sans"/>
              </a:rPr>
              <a:t>Toda acción u omisión que produce un daño o menoscabo a la integridad corporal de la mujer, no tipificada como delito en el Código Penal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sicológica: </a:t>
            </a:r>
            <a:r>
              <a:rPr b="0" i="1" lang="fr-FR" sz="2000" spc="-1" strike="noStrike">
                <a:solidFill>
                  <a:srgbClr val="000000"/>
                </a:solidFill>
                <a:latin typeface="Gill Sans"/>
              </a:rPr>
              <a:t>Toda acción u omisión cuyo propósito sea degradar o controlar las acciones, comportamientos, creencias y decisiones de la mujer, por medio de la intimidación, manipulación, amenaza directa o indirecta, humillación, aislamiento, encierro o cualquier otra conducta u omisión que implique un perjuicio en el desarrollo integral o la autodeterminación de la mujer, o que ocasione daño emocional, disminuya la autoestima</a:t>
            </a:r>
            <a:r>
              <a:rPr b="0" lang="fr-FR" sz="2000" spc="-1" strike="noStrike">
                <a:solidFill>
                  <a:srgbClr val="000000"/>
                </a:solidFill>
                <a:latin typeface="Gill San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C7E3-848F-4FC2-8ADE-ECA68A9AC0D8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493560" y="1495440"/>
            <a:ext cx="891864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336600" indent="12060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perjudique o perturbe el sano desarrollo de la mujer, ejerciendo actos en descrédito de la mujer o menosprecio al valor personal o dignidad, tratos humillantes o vejatorios, vigilancia, aislamiento, insultos, el chantaje, degradación, ridiculizar, manipular, explotar o amenazar con el alejamiento de los(as) hijos(as), entre otras;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336600" indent="12060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xual: </a:t>
            </a:r>
            <a:r>
              <a:rPr b="0" i="1" lang="fr-FR" sz="2000" spc="-1" strike="noStrike">
                <a:solidFill>
                  <a:srgbClr val="000000"/>
                </a:solidFill>
                <a:latin typeface="Gill Sans"/>
              </a:rPr>
              <a:t>Toda conducta que entrañe amenaza o intimidación que afecte la integridad o la autodeterminación sexual de la mujer, tal como las relaciones sexuales no deseadas, la negación a anticoncepción y protección, entre otras, siempre que dichas acciones no se encuentren tipificadas como delito en el Código Penal;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atrimonial y/o económica: </a:t>
            </a:r>
            <a:r>
              <a:rPr b="0" i="1" lang="fr-FR" sz="2000" spc="-1" strike="noStrike">
                <a:solidFill>
                  <a:srgbClr val="000000"/>
                </a:solidFill>
                <a:latin typeface="Gill Sans"/>
              </a:rPr>
              <a:t>Todo acto u omisión que implica pérdida, transformación, negación, sustracción, destrucción, retención de objetos, documentos personales, bien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3B10-DCEC-420D-92FF-7A3F91927938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488880" y="1484280"/>
            <a:ext cx="891864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Gill Sans"/>
              </a:rPr>
              <a:t>muebles e inmuebles, valores, derechos o recursos económicos destinados a </a:t>
            </a:r>
            <a:r>
              <a:rPr b="0" i="1" lang="fr-FR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Gill Sans"/>
              </a:rPr>
              <a:t>satisfacer las necesidades de la mujer o del grupo familiar, incluyendo el </a:t>
            </a:r>
            <a:r>
              <a:rPr b="0" i="1" lang="fr-FR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Gill Sans"/>
              </a:rPr>
              <a:t>menoscabo, reducción o negación que afecten los ingresos de la mujer o el </a:t>
            </a:r>
            <a:r>
              <a:rPr b="0" i="1" lang="fr-FR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Gill Sans"/>
              </a:rPr>
              <a:t>incumplimiento de obligaciones alimentarias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"/>
              </a:rPr>
              <a:t>Código penal - Artículos 179 ss. Sobre Violencia intrafamilia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Gill Sans"/>
              </a:rPr>
              <a:t>Artículo 179 A.- Quien emplee fuerza, intimidación o haga objeto de persecución a un cónyuge o ex-cónyuge, a la persona con quien conviva o haya mantenido una relación concubinaria o a aquélla quien haya procreado un hijo, con la finalidad de causarle daño físico o emocional o para dañar su bienes, será sancionado con reclusión de uno (1) a tres (3) años, sin perjuicio de la pena que corresponda a la lesiones o daños causados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336600" indent="12060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809A-8F86-4533-B37E-52B9976559CF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488880" y="1484280"/>
            <a:ext cx="891864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"/>
              </a:rPr>
              <a:t>Código penal - Libro II, Título II: Delitos contra la libertad e integridad física, psicológica y sexual de las persona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"/>
              </a:rPr>
              <a:t>Artículo 140.- Delito de violació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"/>
              </a:rPr>
              <a:t>Artículo 141.-Actos de lujurí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"/>
              </a:rPr>
              <a:t>Artículo 142.-Estupr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"/>
              </a:rPr>
              <a:t>Artículo 143.-Delito de incest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"/>
              </a:rPr>
              <a:t>Artículo 144.- Rapt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"/>
              </a:rPr>
              <a:t>Artículo 147. A.- Hostigamiento sexua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"/>
              </a:rPr>
              <a:t>Artíclo 148 ss..- Delitos de explotación sexual y comercial: proxenetismo, trata de personas ect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336600" indent="12060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2200" spc="-1" strike="noStrike">
                <a:solidFill>
                  <a:srgbClr val="0e4aff"/>
                </a:solidFill>
                <a:latin typeface="Gill Sans"/>
                <a:ea typeface="ＭＳ Ｐゴシック"/>
              </a:rPr>
              <a:t>Estadisticas desagregados por tipos de acto de violencia</a:t>
            </a:r>
            <a:endParaRPr b="0" lang="en-US" sz="22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88520" y="1341360"/>
            <a:ext cx="8913960" cy="518328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t">
            <a:normAutofit fontScale="99000"/>
          </a:bodyPr>
          <a:p>
            <a:pPr marL="249480" indent="-24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33"/>
                </a:solidFill>
                <a:latin typeface="Gill Sans MT"/>
              </a:rPr>
              <a:t>Delitos contra la libertad sexual y la honestidad ingresados en los Tribunales de sentencia entre enero y junio del 2012: </a:t>
            </a:r>
            <a:r>
              <a:rPr b="0" lang="fr-FR" sz="1800" spc="-1" strike="noStrike" u="sng">
                <a:solidFill>
                  <a:srgbClr val="333333"/>
                </a:solidFill>
                <a:uFillTx/>
                <a:latin typeface="Gill Sans MT"/>
              </a:rPr>
              <a:t>170</a:t>
            </a:r>
            <a:r>
              <a:rPr b="0" lang="fr-FR" sz="1800" spc="-1" strike="noStrike">
                <a:solidFill>
                  <a:srgbClr val="333333"/>
                </a:solidFill>
                <a:latin typeface="Gill Sans MT"/>
              </a:rPr>
              <a:t> (total)</a:t>
            </a: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  <a:p>
            <a:pPr marL="249480" indent="-24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33"/>
                </a:solidFill>
                <a:latin typeface="Gill Sans MT"/>
              </a:rPr>
              <a:t>Violación (113)</a:t>
            </a: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  <a:p>
            <a:pPr marL="249480" indent="-24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33"/>
                </a:solidFill>
                <a:latin typeface="Gill Sans MT"/>
              </a:rPr>
              <a:t>Actos de Lujuria (55)</a:t>
            </a: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  <a:p>
            <a:pPr marL="249480" indent="-24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33"/>
                </a:solidFill>
                <a:latin typeface="Gill Sans MT"/>
              </a:rPr>
              <a:t>Estupro : (1)</a:t>
            </a: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  <a:p>
            <a:pPr marL="249480" indent="-24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33"/>
                </a:solidFill>
                <a:latin typeface="Gill Sans MT"/>
              </a:rPr>
              <a:t>Incesto : (0)</a:t>
            </a: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  <a:p>
            <a:pPr marL="249480" indent="-24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33"/>
                </a:solidFill>
                <a:latin typeface="Gill Sans MT"/>
              </a:rPr>
              <a:t>Explotación Sexual (1)</a:t>
            </a: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  <a:p>
            <a:pPr marL="249480" indent="-24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33"/>
                </a:solidFill>
                <a:latin typeface="Gill Sans MT"/>
              </a:rPr>
              <a:t>Hostigamiento Sexual (0)</a:t>
            </a: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  <a:p>
            <a:pPr marL="249480" indent="-24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33"/>
                </a:solidFill>
                <a:latin typeface="Gill Sans MT"/>
              </a:rPr>
              <a:t>Trata de Persona (0)</a:t>
            </a: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  <a:p>
            <a:pPr marL="249480" indent="-24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33"/>
                </a:solidFill>
                <a:latin typeface="Gill Sans MT"/>
              </a:rPr>
              <a:t>Rapto (0)</a:t>
            </a: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  <a:p>
            <a:pPr marL="249480" indent="-24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33"/>
                </a:solidFill>
                <a:latin typeface="Gill Sans MT"/>
              </a:rPr>
              <a:t>Proxenetismo (0)</a:t>
            </a: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  <a:p>
            <a:pPr marL="249480" indent="-24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Gill Sans MT"/>
            </a:endParaRPr>
          </a:p>
          <a:p>
            <a:pPr marL="249480" indent="-24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33"/>
                </a:solidFill>
                <a:latin typeface="Gill Sans MT"/>
              </a:rPr>
              <a:t>Delitos contra la mujer ingresados en los Tribunales de sentencia entre enero y junio del 2012: </a:t>
            </a:r>
            <a:r>
              <a:rPr b="0" lang="fr-FR" sz="1800" spc="-1" strike="noStrike" u="sng">
                <a:solidFill>
                  <a:srgbClr val="333333"/>
                </a:solidFill>
                <a:uFillTx/>
                <a:latin typeface="Gill Sans MT"/>
              </a:rPr>
              <a:t>108</a:t>
            </a:r>
            <a:r>
              <a:rPr b="0" lang="fr-FR" sz="1800" spc="-1" strike="noStrike">
                <a:solidFill>
                  <a:srgbClr val="333333"/>
                </a:solidFill>
                <a:latin typeface="Gill Sans MT"/>
              </a:rPr>
              <a:t> (total)</a:t>
            </a: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  <a:p>
            <a:pPr marL="249480" indent="-24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33"/>
                </a:solidFill>
                <a:latin typeface="Gill Sans MT"/>
              </a:rPr>
              <a:t>Violencia Intafamiliar (85)</a:t>
            </a: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  <a:p>
            <a:pPr marL="249480" indent="-24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33"/>
                </a:solidFill>
                <a:latin typeface="Gill Sans MT"/>
              </a:rPr>
              <a:t>Homicidios (14)</a:t>
            </a: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  <a:p>
            <a:pPr marL="249480" indent="-24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33"/>
                </a:solidFill>
                <a:latin typeface="Gill Sans MT"/>
              </a:rPr>
              <a:t>Asesinatos (6)</a:t>
            </a: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  <a:p>
            <a:pPr marL="249480" indent="-24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33"/>
                </a:solidFill>
                <a:latin typeface="Gill Sans MT"/>
              </a:rPr>
              <a:t>Parricidios (3)</a:t>
            </a: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  <a:p>
            <a:pPr marL="249480" indent="-24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Gill Sans MT"/>
            </a:endParaRPr>
          </a:p>
          <a:p>
            <a:pPr marL="249480" indent="-2494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uente: </a:t>
            </a:r>
            <a:r>
              <a:rPr b="0" lang="fr-FR" sz="1200" spc="-1" strike="noStrike">
                <a:solidFill>
                  <a:srgbClr val="333333"/>
                </a:solidFill>
                <a:latin typeface="Times New Roman"/>
                <a:ea typeface="Arial"/>
              </a:rPr>
              <a:t>Unidad de Estadística del CEDIJ</a:t>
            </a:r>
            <a:endParaRPr b="0" lang="en-US" sz="1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9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D1C9-3D79-4E48-ACEC-4B72BBBA8A86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30CA-8F6B-4F65-82FF-08E8354F5719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493560" y="1495440"/>
            <a:ext cx="891864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1aff"/>
                </a:solidFill>
                <a:latin typeface="Gill Sans"/>
                <a:ea typeface="ＭＳ Ｐゴシック"/>
              </a:rPr>
              <a:t>MODULO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1aff"/>
                </a:solidFill>
                <a:latin typeface="Gill Sans"/>
                <a:ea typeface="ＭＳ Ｐゴシック"/>
              </a:rPr>
              <a:t>¿Qué es la violencia contra las mujeres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Gill Sans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1"/>
          <p:cNvGrpSpPr/>
          <p:nvPr/>
        </p:nvGrpSpPr>
        <p:grpSpPr>
          <a:xfrm>
            <a:off x="3386160" y="3792960"/>
            <a:ext cx="3146760" cy="198000"/>
            <a:chOff x="3386160" y="3792960"/>
            <a:chExt cx="3146760" cy="198000"/>
          </a:xfrm>
        </p:grpSpPr>
        <p:sp>
          <p:nvSpPr>
            <p:cNvPr id="171" name="Rectangle 2"/>
            <p:cNvSpPr/>
            <p:nvPr/>
          </p:nvSpPr>
          <p:spPr>
            <a:xfrm>
              <a:off x="3533040" y="3792960"/>
              <a:ext cx="113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07173"/>
                  </a:solidFill>
                  <a:latin typeface="Gill Sans"/>
                  <a:ea typeface="ＭＳ Ｐゴシック"/>
                </a:rPr>
                <a:t>Organizado por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2" name="Rectangle 3"/>
            <p:cNvSpPr/>
            <p:nvPr/>
          </p:nvSpPr>
          <p:spPr>
            <a:xfrm>
              <a:off x="3386160" y="3849480"/>
              <a:ext cx="96480" cy="88920"/>
            </a:xfrm>
            <a:prstGeom prst="rect">
              <a:avLst/>
            </a:prstGeom>
            <a:solidFill>
              <a:srgbClr val="d90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3" name="Line 4"/>
            <p:cNvSpPr/>
            <p:nvPr/>
          </p:nvSpPr>
          <p:spPr>
            <a:xfrm>
              <a:off x="3387600" y="3990960"/>
              <a:ext cx="3145320" cy="0"/>
            </a:xfrm>
            <a:prstGeom prst="line">
              <a:avLst/>
            </a:prstGeom>
            <a:ln w="12600">
              <a:solidFill>
                <a:srgbClr val="7071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74" name="Rectangle 18"/>
          <p:cNvSpPr/>
          <p:nvPr/>
        </p:nvSpPr>
        <p:spPr>
          <a:xfrm>
            <a:off x="3252960" y="4138560"/>
            <a:ext cx="15904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840" bIns="338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 u="sng">
                <a:solidFill>
                  <a:srgbClr val="7f7f7f"/>
                </a:solidFill>
                <a:uFillTx/>
                <a:latin typeface="Gill Sans"/>
              </a:rPr>
              <a:t>Socio Operativo</a:t>
            </a: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3081240" y="5445000"/>
            <a:ext cx="15908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840" bIns="338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 u="sng">
                <a:solidFill>
                  <a:srgbClr val="7f7f7f"/>
                </a:solidFill>
                <a:uFillTx/>
                <a:latin typeface="Gill Sans"/>
              </a:rPr>
              <a:t>Colabora</a:t>
            </a: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76" name="Image 4" descr="logo PJ.png"/>
          <p:cNvPicPr/>
          <p:nvPr/>
        </p:nvPicPr>
        <p:blipFill>
          <a:blip r:embed="rId1"/>
          <a:stretch/>
        </p:blipFill>
        <p:spPr>
          <a:xfrm>
            <a:off x="3513240" y="5805360"/>
            <a:ext cx="1160280" cy="719280"/>
          </a:xfrm>
          <a:prstGeom prst="rect">
            <a:avLst/>
          </a:prstGeom>
          <a:ln w="0">
            <a:noFill/>
          </a:ln>
        </p:spPr>
      </p:pic>
      <p:pic>
        <p:nvPicPr>
          <p:cNvPr id="177" name="Image 1" descr="IDLO%20Logo%20blue%20on%20white.jpg"/>
          <p:cNvPicPr/>
          <p:nvPr/>
        </p:nvPicPr>
        <p:blipFill>
          <a:blip r:embed="rId2"/>
          <a:stretch/>
        </p:blipFill>
        <p:spPr>
          <a:xfrm>
            <a:off x="3513240" y="4508640"/>
            <a:ext cx="1066680" cy="901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0B80-6FB1-4325-9C64-149967EA851A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493560" y="1495440"/>
            <a:ext cx="891864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4aff"/>
                </a:solidFill>
                <a:latin typeface="Gill Sans"/>
                <a:ea typeface="ＭＳ Ｐゴシック"/>
              </a:rPr>
              <a:t>Defini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Todo acto que resulte o pueda resultar en un daño o sufrimiento físico, sexual o psicológico para la mujer, incluyendo las amenazas de tales actos, la coacción o la privación arbitraria de la libertad, tanto si se producen en la vida pública o privada.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Artículo 1 de la Declaración de la ONU sobre la Eliminación de la Violencia contra la mujer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"/>
              </a:rPr>
              <a:t>Cualquier acción o conducta, basada en su género, que cause muerte, daño o sufrimiento físico, sexual o psicológico a la mujer, tanto en el ámbito público como en el privado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Artículo 1 de la Convención </a:t>
            </a:r>
            <a:r>
              <a:rPr b="0" lang="es-ES_tradnl" sz="1600" spc="-1" strike="noStrike">
                <a:solidFill>
                  <a:srgbClr val="000000"/>
                </a:solidFill>
                <a:latin typeface="Gill Sans"/>
              </a:rPr>
              <a:t>Interamericana para Prevenir, Sancionar y Erradicar la Violencia contra la Mujer.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66E5-63B3-45DE-A133-C39FD6048B26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493560" y="1495440"/>
            <a:ext cx="891864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Gill Sans"/>
                <a:ea typeface="ＭＳ Ｐゴシック"/>
              </a:rPr>
              <a:t>Formas de la violenci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4f18"/>
                </a:solidFill>
                <a:latin typeface="Gill Sans"/>
                <a:ea typeface="ＭＳ Ｐゴシック"/>
              </a:rPr>
              <a:t>Según el índole de los actos de violencia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Violencia </a:t>
            </a:r>
            <a:r>
              <a:rPr b="0" i="1" lang="en-US" sz="21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física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Violencia </a:t>
            </a:r>
            <a:r>
              <a:rPr b="0" i="1" lang="en-US" sz="21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sexua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Violencia </a:t>
            </a:r>
            <a:r>
              <a:rPr b="0" i="1" lang="en-US" sz="21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psicológica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Violencia </a:t>
            </a:r>
            <a:r>
              <a:rPr b="0" i="1" lang="en-US" sz="21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patrimonia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4f18"/>
                </a:solidFill>
                <a:latin typeface="Gill Sans"/>
                <a:ea typeface="ＭＳ Ｐゴシック"/>
              </a:rPr>
              <a:t>Según su escenario, la relación con el agresor/abusador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d0d0d"/>
                </a:solidFill>
                <a:latin typeface="Gill Sans"/>
                <a:ea typeface="ＭＳ Ｐゴシック"/>
              </a:rPr>
              <a:t>Violencia</a:t>
            </a:r>
            <a:r>
              <a:rPr b="0" i="1" lang="en-US" sz="2100" spc="-1" strike="noStrike">
                <a:solidFill>
                  <a:srgbClr val="0d0d0d"/>
                </a:solidFill>
                <a:latin typeface="Gill Sans"/>
                <a:ea typeface="ＭＳ Ｐゴシック"/>
              </a:rPr>
              <a:t> doméstica</a:t>
            </a:r>
            <a:r>
              <a:rPr b="0" lang="en-US" sz="2100" spc="-1" strike="noStrike">
                <a:solidFill>
                  <a:srgbClr val="0d0d0d"/>
                </a:solidFill>
                <a:latin typeface="Gill Sans"/>
                <a:ea typeface="ＭＳ Ｐゴシック"/>
              </a:rPr>
              <a:t>: ámbito doméstico, relación de pareja, ex-pareja, ect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d0d0d"/>
                </a:solidFill>
                <a:latin typeface="Gill Sans"/>
                <a:ea typeface="ＭＳ Ｐゴシック"/>
              </a:rPr>
              <a:t>Violencia</a:t>
            </a:r>
            <a:r>
              <a:rPr b="0" i="1" lang="en-US" sz="2100" spc="-1" strike="noStrike">
                <a:solidFill>
                  <a:srgbClr val="0d0d0d"/>
                </a:solidFill>
                <a:latin typeface="Gill Sans"/>
                <a:ea typeface="ＭＳ Ｐゴシック"/>
              </a:rPr>
              <a:t> intrafamiliar: </a:t>
            </a:r>
            <a:r>
              <a:rPr b="0" lang="en-US" sz="2100" spc="-1" strike="noStrike">
                <a:solidFill>
                  <a:srgbClr val="0d0d0d"/>
                </a:solidFill>
                <a:latin typeface="Gill Sans"/>
                <a:ea typeface="ＭＳ Ｐゴシック"/>
              </a:rPr>
              <a:t>contexto de las relaciones familiares (en el caso de la mujer la violencia puede se perpetratado por los hijos, los suegros, ect.)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Gill Sans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4BEC-2A89-4F48-8C99-D924551CAC87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493560" y="1495440"/>
            <a:ext cx="891864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4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d0d0d"/>
                </a:solidFill>
                <a:latin typeface="Gill Sans"/>
                <a:ea typeface="ＭＳ Ｐゴシック"/>
              </a:rPr>
              <a:t>Violencia</a:t>
            </a:r>
            <a:r>
              <a:rPr b="0" i="1" lang="en-US" sz="2100" spc="-1" strike="noStrike">
                <a:solidFill>
                  <a:srgbClr val="0d0d0d"/>
                </a:solidFill>
                <a:latin typeface="Gill Sans"/>
                <a:ea typeface="ＭＳ Ｐゴシック"/>
              </a:rPr>
              <a:t> en el escenario de la comunidad</a:t>
            </a:r>
            <a:r>
              <a:rPr b="0" lang="en-US" sz="2100" spc="-1" strike="noStrike">
                <a:solidFill>
                  <a:srgbClr val="0d0d0d"/>
                </a:solidFill>
                <a:latin typeface="Gill Sans"/>
                <a:ea typeface="ＭＳ Ｐゴシック"/>
              </a:rPr>
              <a:t>: ámbito de la comunidad, perpetrada por cualquier persona, puede ser en el lugar del trabajo, puede incluir forma de trata de personas (explotación sexual, económica/laboral) ect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Gill Sans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AB6D-4616-409F-A2AD-FA9548DB357C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493560" y="1495440"/>
            <a:ext cx="891864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Gill Sans"/>
                <a:ea typeface="ＭＳ Ｐゴシック"/>
              </a:rPr>
              <a:t>Quizz: ¿Mito o realidad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4f18"/>
                </a:solidFill>
                <a:latin typeface="Gill Sans"/>
                <a:ea typeface="ＭＳ Ｐゴシック"/>
              </a:rPr>
              <a:t>La violencia es un problema de clases sociales bajas y poblaciones marginales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FALSO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La violencia contra las mujeres se produce en todas las clases sociales, sin distinción de factores sociales, económicos, educativos o culturales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Sin embargo, las mujeres víctimas de violencia de menores recursos económicos son más vulnerables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Gill Sans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86C9-505C-47F7-B324-912242F6DBE8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488880" y="1484280"/>
            <a:ext cx="891864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4f18"/>
                </a:solidFill>
                <a:latin typeface="Gill Sans"/>
                <a:ea typeface="ＭＳ Ｐゴシック"/>
              </a:rPr>
              <a:t>El problema de la violencia doméstica está muy exagerado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FALSO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Entre enero y agosto de 2013, la Fiscalía Especial de la Mujer del Ministerio Público registró en Tegucigalpa 1.387 denuncias (entre las distintas instituciones habilitadas a recibir denuncias), y se impusieron 895 sanciones por violencia doméstica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ZoneTexte 3"/>
          <p:cNvSpPr/>
          <p:nvPr/>
        </p:nvSpPr>
        <p:spPr>
          <a:xfrm>
            <a:off x="3944880" y="4149720"/>
            <a:ext cx="554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nte: Ministerio Público, Unidad Técnica de Reforma Penal, Área de Violencia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88880" y="4724280"/>
            <a:ext cx="89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Entre enero y septiembre de 2013, ingresaron en el Juzgado de letras contra la violencia doméstica 4.082 casos de violencia doméstica hacia la mujer (496 hacia el hombre)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ZoneTexte 3"/>
          <p:cNvSpPr/>
          <p:nvPr/>
        </p:nvSpPr>
        <p:spPr>
          <a:xfrm>
            <a:off x="4016520" y="5732640"/>
            <a:ext cx="554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nte: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Unidad de Estadística del CEDIJ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3AA8-2775-4890-BDD5-8EB29B08ED1E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493560" y="1495440"/>
            <a:ext cx="891864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4f18"/>
                </a:solidFill>
                <a:latin typeface="Gill Sans"/>
                <a:ea typeface="ＭＳ Ｐゴシック"/>
              </a:rPr>
              <a:t>El consumo de alcohol y drogas son causas de los actos de violencia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FALSO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No son causas de la violencia sino factores de riesgo. Por ejemplo, el consumo de alcohol o drogas puede incidir en el aumento del grado o de la frecuencia de los actos de violencia por parte del agresor/abusador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EA8D-7686-4EB6-A6FD-84A494BCFBFE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493560" y="1495440"/>
            <a:ext cx="891864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4f18"/>
                </a:solidFill>
                <a:latin typeface="Gill Sans"/>
                <a:ea typeface="ＭＳ Ｐゴシック"/>
              </a:rPr>
              <a:t>Los hijos(as) de una mujer víctima de violencia presentan mas problemas emocionales, de conducta, que los(as) que viven en ambientes libres de violencia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VERDADER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Los niños(as) necesitan un ámbito libre de violencia para su desarrollo.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El hecho de que vivan en un contexto de violencia no significa necesariamente que se vayan a convertir en personas violentas, pero sí, les afecta y genera trastornos de conducta por imitación, o como expresión o consecuencia de un malestar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Bénédicte Lucas</cp:lastModifiedBy>
  <cp:lastPrinted>2012-11-22T11:09:56Z</cp:lastPrinted>
  <dcterms:modified xsi:type="dcterms:W3CDTF">2013-12-05T16:14:20Z</dcterms:modified>
  <cp:revision>218</cp:revision>
  <dc:subject/>
  <dc:title>Titulo de la presentación -Subtítulo de la presentación-</dc:title>
</cp:coreProperties>
</file>