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895C-0DF8-448E-8660-734D88647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2432-2B95-4C32-92F7-DA05F6C4E8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3ADE-A8C8-458D-8E68-FB38D89AE1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C913-F97E-4476-85EB-C48FA3AB78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4757-36F9-48A6-B812-70D4AD2B83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FD41-44FC-4FE8-9F2D-7DA14A2C61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9918-6048-448E-A678-0F9ABEF97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61F0-294A-43E0-AC48-91758E86B1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5028-D907-44A1-903E-49B1FE0195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365E-F640-4FFB-BA56-B692096515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451D-9869-4A26-84CC-82D3B9F23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B3D0-B636-4D08-962A-9DA9E1E702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3520"/>
            <a:ext cx="9906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8C49-685C-4ACA-87E4-02F8CA96F5BA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lvl="1" marL="546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4" marL="1514520" indent="-16848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5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6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990612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apacitación en orientación, asistencia y protección de las mujeres migrantes, transfronterizas y refugiadas víctimas de violencia en Upala.</a:t>
            </a:r>
            <a:br>
              <a:rPr sz="4400"/>
            </a:b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-Bénédicte Lucas-</a:t>
            </a:r>
            <a:endParaRPr b="0" lang="en-US" sz="35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54F4-E61A-4124-A038-E5181B4D34B9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Objetivo del proyecto marco de la capacit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Mejorar el acceso a la justicia de las mujeres migrantes, transfronterizas y refugiadas víctimas de violencia en el Cantón de Upal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6600"/>
                </a:solidFill>
                <a:latin typeface="Gill Sans"/>
              </a:rPr>
              <a:t> </a:t>
            </a:r>
            <a:r>
              <a:rPr b="1" lang="en-US" sz="21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Objetivo general de la capacitació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Ser capaz de orientar, asistir y proteger a las mujeres </a:t>
            </a:r>
            <a:r>
              <a:rPr b="1" lang="fr-FR" sz="18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migrantes, transfronterizas y refugiadas víctimas de violencia en el Cantón de Upal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EA4-C127-4261-A77A-6F247DF6EC8C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6600"/>
                </a:solidFill>
                <a:latin typeface="Gill Sans"/>
              </a:rPr>
              <a:t> </a:t>
            </a:r>
            <a:r>
              <a:rPr b="1" lang="en-US" sz="21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Objetivos específicos de la capacitació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</a:t>
            </a: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identificar y evaluar una situación de riesg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tomar las medidas adecuadas para la efectividad de los derechos de las muje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coordinar acciones con otras instituciones públicas o organizaciones de la sociedad civi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activar un dispositivo de emergencia cuando la situación lo requi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ff4f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3386160" y="3792960"/>
            <a:ext cx="3146760" cy="198000"/>
            <a:chOff x="3386160" y="3792960"/>
            <a:chExt cx="3146760" cy="198000"/>
          </a:xfrm>
        </p:grpSpPr>
        <p:sp>
          <p:nvSpPr>
            <p:cNvPr id="126" name="Rectangle 2"/>
            <p:cNvSpPr/>
            <p:nvPr/>
          </p:nvSpPr>
          <p:spPr>
            <a:xfrm>
              <a:off x="3533040" y="37929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07173"/>
                  </a:solidFill>
                  <a:latin typeface="Gill Sans"/>
                  <a:ea typeface="ＭＳ Ｐゴシック"/>
                </a:rPr>
                <a:t>Organizado por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7" name="Rectangle 3"/>
            <p:cNvSpPr/>
            <p:nvPr/>
          </p:nvSpPr>
          <p:spPr>
            <a:xfrm>
              <a:off x="3386160" y="3849480"/>
              <a:ext cx="96480" cy="88920"/>
            </a:xfrm>
            <a:prstGeom prst="rect">
              <a:avLst/>
            </a:prstGeom>
            <a:solidFill>
              <a:srgbClr val="d90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>
              <a:off x="3387600" y="3990960"/>
              <a:ext cx="3145320" cy="0"/>
            </a:xfrm>
            <a:prstGeom prst="line">
              <a:avLst/>
            </a:prstGeom>
            <a:ln w="12600">
              <a:solidFill>
                <a:srgbClr val="7071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129" name="Picture 17" descr="LOGO RGB"/>
          <p:cNvPicPr/>
          <p:nvPr/>
        </p:nvPicPr>
        <p:blipFill>
          <a:blip r:embed="rId1"/>
          <a:srcRect l="1290" t="0" r="0" b="0"/>
          <a:stretch/>
        </p:blipFill>
        <p:spPr>
          <a:xfrm>
            <a:off x="3362400" y="4441680"/>
            <a:ext cx="3346200" cy="911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252960" y="4138560"/>
            <a:ext cx="1590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Socio Operativo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énédicte Lucas</cp:lastModifiedBy>
  <cp:lastPrinted>2012-11-22T11:09:56Z</cp:lastPrinted>
  <dcterms:modified xsi:type="dcterms:W3CDTF">2013-09-29T23:04:25Z</dcterms:modified>
  <cp:revision>139</cp:revision>
  <dc:subject/>
  <dc:title>Titulo de la presentación -Subtítulo de la presentación-</dc:title>
</cp:coreProperties>
</file>