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</p:sldMasterIdLst>
  <p:notesMasterIdLst>
    <p:notesMasterId r:id="rId55"/>
  </p:notesMasterIdLst>
  <p:sldIdLst>
    <p:sldId id="256" r:id="rId56"/>
    <p:sldId id="257" r:id="rId57"/>
    <p:sldId id="258" r:id="rId58"/>
    <p:sldId id="259" r:id="rId59"/>
    <p:sldId id="260" r:id="rId60"/>
    <p:sldId id="261" r:id="rId61"/>
    <p:sldId id="262" r:id="rId62"/>
    <p:sldId id="263" r:id="rId63"/>
    <p:sldId id="264" r:id="rId64"/>
    <p:sldId id="265" r:id="rId6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notesMaster" Target="notesMasters/notesMaster1.xml"/><Relationship Id="rId56" Type="http://schemas.openxmlformats.org/officeDocument/2006/relationships/slide" Target="slides/slide1.xml"/><Relationship Id="rId57" Type="http://schemas.openxmlformats.org/officeDocument/2006/relationships/slide" Target="slides/slide2.xml"/><Relationship Id="rId58" Type="http://schemas.openxmlformats.org/officeDocument/2006/relationships/slide" Target="slides/slide3.xml"/><Relationship Id="rId59" Type="http://schemas.openxmlformats.org/officeDocument/2006/relationships/slide" Target="slides/slide4.xml"/><Relationship Id="rId60" Type="http://schemas.openxmlformats.org/officeDocument/2006/relationships/slide" Target="slides/slide5.xml"/><Relationship Id="rId61" Type="http://schemas.openxmlformats.org/officeDocument/2006/relationships/slide" Target="slides/slide6.xml"/><Relationship Id="rId62" Type="http://schemas.openxmlformats.org/officeDocument/2006/relationships/slide" Target="slides/slide7.xml"/><Relationship Id="rId63" Type="http://schemas.openxmlformats.org/officeDocument/2006/relationships/slide" Target="slides/slide8.xml"/><Relationship Id="rId64" Type="http://schemas.openxmlformats.org/officeDocument/2006/relationships/slide" Target="slides/slide9.xml"/><Relationship Id="rId65" Type="http://schemas.openxmlformats.org/officeDocument/2006/relationships/slide" Target="slides/slide10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 type="dt" idx="13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48A04-FCE2-4016-9433-5D1CF44AA5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2" name="PlaceHolder 5"/>
          <p:cNvSpPr>
            <a:spLocks noGrp="1"/>
          </p:cNvSpPr>
          <p:nvPr>
            <p:ph type="ftr" idx="13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6"/>
          <p:cNvSpPr>
            <a:spLocks noGrp="1"/>
          </p:cNvSpPr>
          <p:nvPr>
            <p:ph type="sldNum" idx="13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089C0-6C56-4B8B-87A7-3AA3BB8D5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C033B-EC47-4666-91C2-32C6A3D9C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DBCB3-206E-4E5B-8C08-02D651E6E93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8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12FD7-3FF5-4F9E-AD52-4861341F9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0DDEE-D076-4FA7-8031-B5E54762940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71001-E8FF-4E22-8CEE-72E8CD27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970A8-BE7F-4EED-9D28-BDD6D8C4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A752C-CEB9-48D4-AD7E-0B84B08A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30BF0-D389-4E3E-857B-97555C75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7DB7F-5B17-4F8E-8F43-943A54C5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7AEF6-58E6-485C-9582-9644D4BA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6D1B8-8865-49E8-96A8-FFC8E44A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126F5-96CA-4CE0-8D48-CD3096F1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38764-CD4E-460E-956D-030B664A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13A63-D29A-48A6-A933-7D42F6AF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652BD-642E-4615-825E-A9D4F5A388F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74AFC-5CA4-4376-BB5A-A88ABBA2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95978-265E-42FC-BA26-89BA7B53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A1E9E-A6D8-4F5B-B0D9-9A769DBF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D1231-EC66-4A98-8B75-1DD4B6AC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7FD89-EAEB-49A3-B1CB-8773B1D1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3B06F-0208-4D8D-B554-0FC4E8E2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3CFBA-1A2A-4AA3-87A9-5587C986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912F9-71A2-4E84-92AA-5127957C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E4F26-A763-4459-9B1B-495905C6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05DE6-F882-445A-8708-BD88FE24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87EE8-3335-414A-ADBD-49931A920FA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E82E0-9A28-4B9F-A8A7-2015EDF9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3D67E8-0980-4D60-B3AE-70D08443902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597BEC-A945-4947-BCA7-E23A71C422B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C25B4A-3EFB-443C-8745-6C89CA6C11C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056C9B-6FB9-45EF-986E-EF74F4C1050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9373F6-7CB7-4ADC-824E-2090B9EF453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FC529E-C501-4361-ABA3-CD56ABDAA69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63CF63-997B-45D9-97DD-F3AD744E52C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F46979-8C34-4F57-A721-68D5A951FA2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24D5A2-2155-48FB-9C62-418B428D6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1B4F3A-D0DF-434D-961D-4FD8095C319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DF5C6E-92D3-4082-B4BC-10C34AFC8FA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AEE0FE-92F2-4536-A5E5-4ACFE244C6E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520800-7D27-4E77-BF0F-15C5CFA604A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473D72-B8B0-4696-8114-288F88C5B45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DF28D0-90E2-48EC-A3ED-DDA5BB2A637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115809-5892-4E8B-8966-C6160F0FA0B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3593C4-241F-4F84-8C1D-13D2A2C0121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81EAAD-F3E4-43F9-AC7C-7F20147B34A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4506F8-C8BA-497D-8682-665F349B6F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45D6EC-669D-4531-8F70-C90B6EA2550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850FC8-72E2-4366-9B4E-72DF3C0BBFE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6B9A24-A8CB-43CC-8563-51C6D1DB57F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8FFC58-66FA-4BB8-BDC8-3907F242FB9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EACA4A-8B19-4EE9-A3DC-000AFFF1FE3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0D9D7-2075-4584-8A02-747BFBF7144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F7EDC-F449-4ED9-B97C-FAD66475934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1D754-A93E-4CA9-BF0B-D32E08351A9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57B02-3471-4469-977C-DFF348A3417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08D72-3D60-4670-9E11-47C04C97B5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E6D32-AF28-4DB6-8582-0FA8C3BA7D4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AA8F2-5375-43E9-90AB-8B9E666CB15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E23E8-4FA5-43D1-9966-5D3E7AF2938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1F151-2535-427A-B405-F530F07E153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CE162-34B2-45E8-8978-FFB4D07BB43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A19AD-5F3E-4A47-82B7-C03E7B76B2A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5A763-12B3-44B0-BCEE-72F9A9E42F8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307C8B-DA8F-4372-A836-FAE32528265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BBAF1D-5BF2-48DB-8F71-BB7F9DCDFE5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6E81FE-B8BE-4ADB-A19C-148748A428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F76B93-BE45-49CB-8513-83FDD84AC3A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699C32-75FB-41AD-AF16-9F87B79F620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2263FE-D549-4746-8F4C-29DDA39D193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12CBE3-880D-4E88-8AF1-69C53FD17AC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046341-771A-49A0-9F68-8D0B303466B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78CE4D-D740-458B-9545-35E21652CC8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52EC4A-72FA-498F-91B9-153F01B304C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FB3C5D-A837-4F9B-84F3-DB0E4410D5B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D8B0C5-BA62-4BEB-BBA1-ED8B69957BB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49748E-37AD-49E3-B540-2794F42CD2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76C01-C12E-420D-B1DC-FB17C546239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F2A75-F911-4DD5-9AD3-E2E033521B5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0B4073-BC3C-4D18-81F7-1CF0C71A9DB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F18E3F-4E48-430F-993A-6ABD26DF627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BCA1A4-042C-4339-BD1A-0C6FEAA71ED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CEB4E4-DAF5-4D92-81B5-EF74F661A58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37E8D1-05F5-4947-A378-5AF9DFD2030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862052-0BF1-4673-BF39-F851D879A09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60C5FB-32F5-4392-AD55-FE272264293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0F46BB-0D21-427F-9345-DB8A1DCCE9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E4EC56-C8D4-4A2B-984E-97B5A243B53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CC5C5-BA4B-4C4E-95DA-CAB6CCCBED8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58E79-C32A-45D9-8D86-F63DA80403E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5B363-0672-405C-8F36-AD427EDDBF2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1B62E-E965-486B-92B5-31BC8CD7D5A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B6608-1970-46EA-BA4C-32910FA7B07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4C04B-6FE9-47B0-A0D4-048AB2D0209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2591C-C117-4B49-8591-14A37A2EEB7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A2B23-602F-4E7D-B5F0-B45ACACC0CA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066A5-77A9-49B9-87E4-029B1454B5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52EC5-BB3F-4CDD-9315-39DC56DB58D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386FF-1A19-4BD0-A128-5BEC60BA3AB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B5976-E18D-4A0C-8F66-0BD56A56F2A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CC1CE-3B53-4E6B-9CBA-B5AD4D8C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8B589-7AE3-45F3-872D-B5ECC01B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48C40-2FDC-4CF2-99FA-1E6ED4FC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E674A-1FB5-46A2-B927-DF0F55DB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10C60-6B22-449D-ACEE-7E1C1CE4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51796-D725-4B45-BFF0-46BCC19B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91D97-08DA-4D1E-ADB1-80D25E67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58253-7EC7-4F2A-B5B2-592AF3814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835CE-226E-4E53-985C-AFFEFEE6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06459-B7CF-484D-8CEF-D5D6D478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B2C5B-9140-4DD4-A493-3A058753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77520-559A-40C1-A0AB-8A39E406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9AA82-B2E3-4BD4-8A0D-489074AC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A71AF-D2F9-4CD0-998F-D999A2E7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789EA-4688-4221-9B24-0273F209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0B3AE-8577-45CA-8DC3-5869E581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601AC-A30A-4420-8C3A-14F5F7D3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4A8FE-E47C-4B32-8E60-CF7E21A2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FC120-3623-4891-90E9-A70B56A1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49442-6832-4184-B336-5F76AA86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80C3B-C378-42B4-837C-8EDBE192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EB3A2-D55C-42B7-A97A-D3509CF3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51C30-A44B-4623-9ACF-F3137857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47C0F-E968-4BE5-BF3D-3BEFFD5C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6AB08-268B-4A14-8CAB-0E55B50B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2ED47-73AF-4253-A391-41AF4355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9ECFEA-C003-4C6F-9ACF-C6827ACE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9EF049-19D1-4BBF-BA51-F579B56D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341388-F9E0-4053-B71D-C632372F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02215-F2C7-494A-BE1D-E2225BF2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3910F5-9832-4790-B216-EDBC6B89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212325-5614-4C47-A1FF-AE3F6D58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1ACAE-CD00-4DD1-B6A4-D47B7FF0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5C88F-104D-4593-A908-1067EFA7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4360D-F2E9-443C-BE6C-5856D404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38C78-38C7-49F6-A9F5-9C4F7DB7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448EE-4A99-4191-8A34-F9E65570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22FDBC-142F-4003-9DE0-A919F18F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4DD4D0-6F2B-4E3A-99B3-BDF5BF04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D7F9F1-5B69-4579-BD86-55716127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5DC780-30B5-4946-957B-0119F5B6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B66A6-C3C3-4BCB-80A6-1AAA157E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518A62-C6FB-44B7-AF6C-6A8F26A5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D4E94D-C173-44BB-840E-57CFF482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06C91C-EE49-4A2C-9AEB-FD9BA675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89F8ED-260D-4809-8E31-F696F879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BE210F-AFF0-4350-AB48-9D84B4D8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8AADA6-3011-47FC-9B05-A2E01AD6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013C0-CF67-49A8-B623-06435433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6A3B83-89A8-45B7-849E-C6145996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50E3C7-1760-47D2-90F9-6562FB9E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EA578E-B645-4F5F-A896-648CDCD6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2D9E23-DAF8-4CDA-89B6-82E3B665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697529-B640-45FA-8F0A-3295522F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F6C09F-5423-4BC0-A116-AA1B122B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55CEE5-F33D-4621-819D-7E300BD8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AD7D3C-22BF-49CE-9858-9974D16D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403FBE-D28F-435A-907C-11CF2E94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713FAA-B67D-4305-933A-07C53F63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13345D-2A6A-4BCE-BC6D-FC5B7225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2AEDE3-E34F-4DDD-B356-653D5972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CC4F95-3E5B-4A2C-BBB9-8D14770C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BDC6B8-06DA-4EBC-BC00-87A2E45E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978086-BDB7-484D-B076-9D6311E0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DD9FDD-9C52-4995-B020-F7F24DF5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E279C4-141F-46C8-B249-53EC729D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1F6969-F21B-4E6B-A7BB-DED30196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3D2286-60CE-4695-ACCB-BB19B722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90E27C-8FE3-4FFD-A342-6974EC3C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D1BC22-1283-4051-AD8F-EF683430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FC3E69-A537-448F-886C-7688505A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1978C2-5217-4B58-9003-5392A614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2962C5-4E47-4286-88D7-6FA9B27D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0A2167-0C27-423C-9612-A6F57FAE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9F3653-A014-4B02-A2C2-AEF07FA3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886388-32EF-4276-9F74-263037D0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C5F625-0EAD-4604-99A3-FE8A2EEC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441A14-7725-4244-A995-5BC6E67C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026537-12DE-4F44-8B18-5010BE33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791877-3C0C-4C46-9155-D685DEEE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7A6E63-9E92-49E0-8742-572365C7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6631A9-B225-4F05-A7A5-96D23A78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41C120-697E-431A-AD89-691180F2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22BEDF-3002-454A-9A7B-DBF8967C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12129C-46DF-43DD-83B2-D91278C7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AC8D7C-FB3E-488D-984D-078E20B6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1B076B-FC66-4DAC-94D6-5ED3E3FD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41666F-90FF-4C44-BF47-7A10FF7F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290A28-310B-4715-8595-125F3575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72E5FF-457A-41C1-8D76-67A93F1A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61DBBE-7BD1-481E-ADF4-F3BB3917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70DBD0-2D92-4E54-969D-9F5B5497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2D6890-AB4B-4801-9301-8A7BC23E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9AF3D6-CD7A-4C79-9C7B-FC7B0786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611FC0-4B95-4AD3-B557-1D22073D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3CE8C1-E69E-4ACF-BF94-4C8A546D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A5E84E-EE88-400B-8E0A-AC5966B9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1536D5-7C94-4C45-B4DC-32528352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8AE41C-DB1B-493B-9CB6-4A04071F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A835BB-2B58-4E40-9AE1-320BCF9D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CA13A2-14A6-4E80-8881-D9BFD624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53323A-7CA4-4A59-A853-9A2F2114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B05871-12E6-4137-BC73-D86D3B99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44842F-4130-46EB-A3EA-597BA015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02545D-C303-41F6-B92C-C850972B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FBF740-A6F7-4B73-99FF-6F673365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A313D2-1519-4342-9284-C23086CC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4397D3-758A-45F6-8662-4D9943D6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571CA-0B57-4186-AF2B-6567F129A2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C098C4-E5D6-4745-B7FC-F0510C44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8D5141-64DD-443B-B0AE-2B11C22F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D5B447-3A33-4CA6-A607-522266DB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68C141-A9AF-4D81-8F44-DD8B028B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B3E3D6-2152-4295-B5CF-520817E5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CAC445-2A9E-4E56-A0AF-623980C3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9E176E-3F39-48DC-81CE-F382FA95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F061BC-B938-4643-B813-26DC7351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FCA6A7-9EF0-4114-A836-3EDDB7BF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86EAB9-5D58-4787-8647-19553237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E7EB33-23DF-489B-9B2A-5B8F000E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09F7F0-243B-425F-848C-4E9E6E68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5E3B98-CCF7-491E-A6A4-DC1D579E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25141D-8532-4A60-B7BD-A3F80FDF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1A505A-D3FD-43BB-B40C-485ACE8D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765ACE-A246-48D5-9AF2-75E33232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988410-A53B-44E7-B552-B5DE2CBB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7EC032-94A8-4D3F-A47A-E14E115A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74FED6-3BE4-413C-90D6-A39B44E7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051083-B192-4B17-B0DD-8FA80E31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556297-FA54-4674-888D-0EE6BE68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9B826F-90B0-4978-8431-CB8D234F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9EA2CC-4013-4486-9602-2DEC350A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6C4AEA-99F4-47CC-A8B2-A5B751EA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0B9B03-85A0-42B4-94B1-DB21DA2B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891CE9-650E-4460-A4C8-6D465226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CAA00F-186C-47E8-A590-F358241D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5848EF-5E4D-40C6-8246-CFEBF0D2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A7E8DC-741A-4CB5-B7F6-F1B0996F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AE7A41-EE53-4E64-AA02-61D16321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7B4F00-32CD-4885-B735-30D2854B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2F49CC-E7D8-43C5-B7FA-4B017298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4AF49C-27EB-43D2-8BDF-C0BE70FA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34DBB0-00BE-406C-A3F7-A9EF1065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5DA4BB-DF0A-4044-BEC0-2D311025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004E7B-97BB-4469-AF5B-C82178B0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07C2FD-B71B-45AF-9984-5425B043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CDFB28-065B-4AA4-8EFE-F9562773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C0ADD0-2272-49D2-B552-175E8CBA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EDAF86-7B6F-4FCC-9413-A832AC49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05DB39-E2AF-435C-9B3E-BD686918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8D0319-42D3-41E5-9011-5D42D3B4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76FF35-6598-401D-8974-A433E06E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D1F1F1-BAC1-4C37-B02B-FC111031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9B50CE-9D47-4004-AFD2-54059848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9A34AB-875F-4936-A7B3-B9EAF80E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9BD872-11D5-4BE5-856F-67121150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A62987-13E0-47E6-9B15-3B698143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FFE8F2-4A5A-4B95-85E4-3D5FEFA4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E08558-1C20-4F21-9F47-C80C6974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A56370-F841-4EF9-8BB4-B61C2034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679C3C-BB94-475F-A6A4-984B3AF5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801BFB-D8C7-4FD0-A6F2-05602075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A05350-97DA-4D5B-A250-67B05B46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A52135-5AF2-45E0-BB45-9DFDE41F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2B4E5F-50CC-4AC8-9123-6DCEB0B9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EE1670-0358-4C05-9391-8CEE5D16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F40C34-AF60-45E1-98F7-354B4C8C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15B7B1-C38B-4DCF-9CFE-311FE105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697556-B76B-419C-BC72-0C20FA92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1C3FC1-C4B8-4E3C-B817-F8DE11DB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8701D0-D41D-47F9-8B3D-0A9B31BE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F7F46D-1172-48CD-A9F8-11762BDF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D0E10E-A4C3-4A5C-9C9B-B99B45B8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7500F7-DC93-4D69-BAC1-B6CBCECB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3BF40E-5439-46C6-886A-EE5524C0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49AF70-3098-4AA8-88EF-28BE07D8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520AE0-3950-4C86-9B3B-B7D56C41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E1AD6E-9967-4094-B1EC-21325187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CE12B1-A761-4B03-9A61-1F1D5B42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C7EF84-F484-4C97-AEBA-D21E2024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47C799-12C0-4929-9634-E70ABF79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4EDEB7-723D-4BDB-92D5-78D38E59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691E40-9876-4E8C-AA61-6E5A86A9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AEE103-D51E-4BFD-8DD2-D1E0CEE7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3E67CF-D8AA-4289-A9F5-093D639D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C4B42D-ED15-4DB5-AC3D-C8F0FD7E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FAF14F-726C-474F-8FEF-D8504011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A998D3-1C97-4F96-9F06-85CE61A0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8E942A-F3C3-4471-B697-0BAB8D5E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1FB77B-BFA3-4DB0-931F-3D6C5A80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08CA2A-CAA7-47A7-8559-1C78D540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AEC287-5CDA-445F-9793-8B10F6E5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95FF25-9921-4ECB-9D31-48765D4F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B84F35-5654-4D26-A118-61562657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D2D586-5FDD-45AC-9E3D-3F8AE083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E831B6-A1C9-49FF-951B-72AD65AC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8C0709-A35D-4E46-8F59-6C37FAD3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F79791-0A47-4697-8A94-A4A3E142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CA1D7B-AAEB-413E-9270-0B3FA2A9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8A2A2D-4457-4216-BEFE-EC8413BC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58B8D8-3219-40A8-9EAC-0C161E96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B270C8-EE29-46E6-A6E4-5771D510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A42AC5-B98B-470F-B4F1-B521EE05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C4DD02-3B2B-4A64-A315-DABDA15E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EC4B51-831D-4B8E-92ED-B65227D8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008948-D2A6-4171-893F-4208A1D9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83082F-8E39-49BC-89CD-53CB22BC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D00D3E-60D7-4FDA-B76A-96ADEAE2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7A2A4C-B396-4B3A-96C3-01821D24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4DF43-BB90-4736-9FC3-32286CC4D5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B016DB-0459-4868-89FF-29CA5D8E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39ACE3-82A9-42D3-BCFC-E94E65A6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AAA064-FF8C-4F9B-A663-5AC32C9C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5BE7F1-545A-43E7-96B4-A1EA133F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131CE8-F7F7-4712-B814-063BF3A5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B0D031-D66F-4AC4-9249-2D5241C8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2FD3D9-2D1E-4749-BA20-CD1D8F9B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79A35D-56B4-4BD9-A130-0652ACAB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BED367-B6BB-458D-9CCF-85B9438B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E0ED4D-EB3E-4F2C-992D-CA792ABD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58B9B7-4DD7-42D1-AAC3-1892C9FC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8977C5-0BD0-4836-8A02-5DB25F63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29FA59-F180-4884-8203-DFFB8B3A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DC0CEF-4F04-45F3-B867-34893009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68C7D9-443C-4BFC-9314-8228597D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4C83FF-D950-4CF5-ABD9-6B6600B8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21C996-9B77-45F7-A787-4FF250C5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48C047-FAD3-44CD-A5D2-722F428F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5DDB10-702D-4A6C-A757-40F0AA88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128BDC-12B8-49A9-B0F3-BDB9D5C8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D9E016-2892-4C1C-A71B-8C620BD3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802DB9-3832-419C-86CE-D8044C30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7538E2-84A6-459E-BE5D-2943F671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0C5DCB-F69D-44B8-BF5D-DB04260B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30F0F9-69A6-4159-877F-CDDE8A06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A9602F-0DEB-480A-935B-BED56ED2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02552A-F0CB-44E8-BB0C-41402AD2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2B573A-5EEB-4285-B161-2ED145D4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48333D-8314-4D8B-8AF5-79497537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2B3ADF-57E0-43FF-B602-924396B2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3206A6-02EE-43E1-AA8C-750A5891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512D06-2E52-4B53-A26A-957D9CE8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9C0098-6E3E-4603-8CC3-8753E5BB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4E62DF-1163-428A-8DAC-81CD6734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424CE2-A6DE-4071-84B4-3AEB49C6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C8954C-EAAE-4BF7-9B85-BAFF61A6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4036E7-8EFA-4157-A6F7-7FB9B251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552679-7F39-4531-B094-018879A7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881E76-DAC4-407D-99D3-856A2B84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2401A3-DD43-4BBE-A0D1-E0D1996B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4D71E8-9DB8-44B6-A37C-F1C88ABA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99C516-1BE3-4F26-A0C9-76E81FB1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DFCD3F-306D-4392-9FBE-C1432590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FC6EA2-D88C-459F-B9F7-F6AACB51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81841F-DA28-478A-AF35-0213C59A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B10344-E718-410A-B75C-6C26E373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8BD1C5-9C72-4A4B-AA53-FF4884BB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0C25D4-DED5-4476-966D-9008D1CE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FC3CF5-DF36-4ACF-8075-243B13C9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966C2AA-A3E6-4BAE-A50F-65B50CA7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9DED91-BDDB-4218-A6C2-739F7289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04B3C4-8CC7-4BE6-8B09-D19082FE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CC6B97-99D1-47B8-A428-2B634E46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7990CDE-A73F-4AEC-8067-63B5E79B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888BE09-1F85-4423-BAA0-569B4BD7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AB2254-92E3-4A97-90F1-F8714D74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ABA0C3B-CA22-4E87-93FC-15F0F5B4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FEA82A-6443-4622-9CDD-75AFE14F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434829A-90A2-4872-80AE-3059A8AB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35C91A-56EE-4F28-B0C6-6FBADEB6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8CB685-5622-4442-AF9A-0A5E1205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0416348-4DAF-4DA8-AECB-3577F812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96916B-E001-4846-BA8E-0097CA91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9F68935-C6BE-4421-A045-02CA6772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F653B0A-96FE-435F-8DF0-EC328E31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B81DB9-6927-46B4-8767-1AB5D07C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C7A7FF6-8626-4078-A6EA-663EBFBA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97B16F4-311D-451F-BAD2-3AF84C43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802EDD2-0E67-40B4-B644-EA40E1BD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6A1A60A-64FF-476A-8447-EE6D217D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A8A767A-DB10-4D0D-8E37-2D18DD4B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855240F-AA55-40CA-A775-9F286B3A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180543-451E-47F1-A2EE-F4BFB501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234778-57D3-4A32-A620-702DDE31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06C44E-342D-40C0-96AD-1A1EC557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B09A92-C905-4BDF-924E-81EEF2A7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1098A6-C286-4AAE-B8F1-BB879004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E38D15-8A94-48B6-8E4B-1581CDA3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98F63EB-56C8-4E46-9192-560C51B9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C9A67C0-4610-4FB4-8302-C7C48594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EF1B05-29EF-4784-8D04-3F0308D6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42A4FC-2955-4732-B117-EE5FD0AE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C69F09-D5D2-4AFB-B2C4-F7F924A5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F850CFA-C7C2-41B2-A133-8ADCC1E0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5D0896-F039-4929-BE24-8AD6C9AA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0CE4D22-D009-44CF-B665-DDF3E46C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803570D-094D-4355-BA01-5A78A1A4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60264D6-96B5-434B-99A2-957DE3C4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C24D49-75D3-4658-8CDA-277AC636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F724164-FF90-459C-ABBA-50C3287E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311F1-F923-4673-8EC6-CE9E8FB00D08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EDE2246-30ED-423B-97C9-1D346204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E33C1F0-72F5-4BC5-88F5-E1BCEF0C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029A707-C400-4895-819E-E32205FB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E1A3DD8-EE2F-4AB2-B87B-8034BAC7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AE701AF-DBF6-42F3-BF1E-8A0ABDD5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FA9CB5A-28CE-4114-A3EE-101F0337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81B809A-D60C-41A3-AF8D-750EB13F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4009FD-BC60-41C1-BD0A-79DA3E8E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FED9F5-2F20-449A-BEF3-C7F88A27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F6F2E80-FB69-404F-AA3F-74C7F853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B663F-051B-43F6-AF45-154E8599D66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EF2A3-2BDF-4874-AF2A-BACDD85B4780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07B5625-4370-4ABE-9C53-02505448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185DADD-6F99-4C72-9B66-24FF6133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F789732-42E4-4F69-9E18-FEB67D62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B5CEC8-E543-4A1A-A3E6-6971E31F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FEC14A6-7BB0-475A-B6B2-F7EBAE48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0AD9680-0BBC-443A-A219-9F575CBE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209B724-79F6-4BE6-87E7-B540FE7D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2FDECDF-CF4A-4B74-8177-802717A7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E75C4D9-D86D-415B-B322-1CB61F1B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F56890D-4F6A-48AB-A49C-BF544FA4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F99D6-CDCC-4F19-87F3-8F81B981969F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12A3D84-A604-40D1-A42C-94EBBA59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81F3996-2DE3-4AF1-AD32-8CC49FD1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3CA7EB2-9A5C-4B19-8C2E-06578B14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7EAA0F0-ADF8-4652-BC03-77EFDDC5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C2E35C-0DD4-4D28-933B-9CDD5226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FE5601D-C4DB-4613-8434-E474CAB2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639E63-68AB-4DA9-8F21-8A57C3A7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0293244-3193-4E94-AFB7-2E1C47037D0A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BD47C1C-0610-4737-AF9F-0F9D31261322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A90D7D7-31E7-4494-9189-36D8046EE24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07AD3-CE48-4EF4-BCF0-B8087D87CB3B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8F53CB2-0AA0-4247-B5C1-96AB59368AEB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4A2F544-1DEC-4C97-91C3-1CC983CCB815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286AA9E-D980-48F2-93B0-48D8AFE6FE1F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9C56528-D64E-4A54-B7FA-D2E15FC95F89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4768A64-4BF8-40F5-92C8-FC87B0559F5B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2535A75-19D2-4C3D-98BD-F507CC44E0D0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5DC26F3-3698-430A-B6D9-0256F7E37616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1ED6FE3-F479-4EE1-9F59-3254CB92E2C0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74C4757-ADEA-40B8-86D7-72E056175A5B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26BFCF2-97A4-4927-86A7-F0F1FDB7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5E489-69A4-46C5-BDF7-140056D351A1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A3C76B5-9067-479C-BEB7-5B728DF0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4022FEF-936B-4FC5-A25D-F14606F4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12C2534-C0D9-49F1-AF89-90BEBEE2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15AADC9-CB47-4150-AB78-DABE0A85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B01EF6D-B919-4763-B4C2-C11CC519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655DD93-ADB4-45A4-907C-EEC881A0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EE73C8F-B882-49A8-9DE1-EB88828F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6F72B46-49DE-48FA-B287-12B0C1EC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0F86324-7258-4C69-A585-8F174119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D932837-E439-4855-9B19-6EC75BA3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B2BF3-37C0-4440-B1B0-0EA6622273DE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64ED7E8-775E-4AEC-A0FA-C01C7345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8F4AD55-A90A-4773-809F-108FF60E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0F9D397-38A2-4682-AA5E-3FED05F8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49BE933-7B23-415A-ADA3-A3AEF959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01215F4-29A8-4272-A128-7D84646F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FF8D6BB-F030-48B3-9F02-505465E0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256CF89-1777-4463-AFAF-F55FDDF1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6932683-6442-4992-A4A3-D46E3123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0DD2FAD-E81F-4921-8A5F-718D4B2B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CC83AED-CFBF-4FCC-822F-9B25C6D1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7A376-3273-4928-A112-EDA9FABDFE82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0958509-B12C-4290-BEDF-99B84723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93D8A21-A8D8-42BB-8529-B2938A4D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4D9BE42-C7C3-4B73-BFC1-CCB14661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46E0D2F-7314-4944-9E26-07A9B0C3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DC9C222-4B5D-48DD-BD7A-5ABADA4F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DBEDEDC-1283-4179-94CE-38D6B1E1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D443DC9-93C7-4838-BC75-2FB06345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6C790D3-949C-4731-B157-A25CB97E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6762243-32E4-4772-9308-582D3AF2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03CAE1C-2E53-47C8-A179-B52BC478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EBF7F-4F07-4A44-9B8D-E5B780C745C6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6BBB1F2-2EC8-4E46-A487-F4F9E3BA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7052CF1-9766-4883-ACAA-60ED84A6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7EE992D-1CDC-4DFA-94FF-396AAA00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FA69FE9-C20D-4847-9120-9F512857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51345EC-522C-4F74-B846-60DDC310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4EABC28-997E-4CDB-BFEC-1B3583B327F1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8555E51-2CC1-4244-896E-46C4E3800232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E4771CA-53DD-4337-B9F6-052BB1989B6F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6911891-E215-4B60-A0D7-E25D935862B1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8846853-D13F-4F98-9471-91CCDC996FF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FB454-940C-42FA-914B-782B6EE0C3E0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4F2960A-1633-4B59-9EF0-63B7BA4FBCD9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B09FA4A7-857D-444D-858D-83FADEF9E6BD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0BE8B71-7190-4B76-B462-3323E186D81A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624B5F9-7B99-4928-811E-7E1C2E2446D7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0219D38-8A5F-4634-B1FC-BA1FE56AC588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DBFC8F2-A714-448A-906B-11611326A126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99BDF3FB-50C4-41F5-BC5B-A6962ABEBD30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74C4A64-F20C-4943-9E02-A63273EFF921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DC89346-9581-4889-8AB3-1C542196339D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09F132F-5597-4593-9069-A7D6B1EDBC7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F2CE6-6C83-418B-BFD5-639B318A7C1A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2C7C96B-9F03-44BE-8093-0C5147E045DD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7D36FD6-1388-4BCD-A130-EF8E0A393DB8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BFABC86-D0E6-4929-AD55-881709DA029C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0AD49F1-B240-47AC-B826-CB514389D91D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1B72257-CF75-4558-80D3-AE4B8925FCBA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EEC07F7-BADE-4D19-8AD7-80E48294BC3E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75CECC4-CF82-40B8-B6FF-419223A9DFA0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4438261-2C14-4E2D-8581-ACF1B07A2497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63E4897-BB6B-438F-9D01-65A1772BD2ED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EA4008C-E57B-4168-B0EE-1CF42E40874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069F8-FED8-4988-A75B-727CC7FA5A8D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41B7E5B-AD1E-402F-A2B8-E2A8E13AD306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60AA2EBF-9F3A-44A1-8BDD-7351A77870C6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6E0DCB2E-3BF5-4CC1-A799-3BAB666C3DF5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9F0017F-B596-4A7E-9833-03342BB258D8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67F3E17-0675-4643-85D7-1A8DA3C5AACE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D6BFF82-E578-4801-AE8C-7A7B21B22DEB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6A9B7A4-1597-4ADD-AF86-7353534D213D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EBA7C12-1495-43EA-ADEF-CE431146455A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83DB6E3-55FE-4810-A7C4-443AC54F0171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57E0705-5E8C-4210-8F00-4EA739D26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3AD8D-9AF7-4ADE-9691-FED996508B7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740FD-AE7C-4522-876F-52198EF5DE8B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0BC7B83-641C-483D-A3AD-A4B9E870E446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60FA9D1-7023-485D-B050-EE1D1DE18DC1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56E5A69-8254-4B6D-9126-A0A8C5632232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061E5A3-E71C-467F-93DA-324BEDAC3162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6D3ADEB-9783-4072-9CB1-602E4F1EF1FE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F391B72-2292-4725-9159-BF7AA54C87A8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C4A302E-A487-4F47-95AB-CA5040E9D9F2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7D346E1-33AC-4370-9BB4-537566CF127F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F67DE3A-0772-427D-8D5F-EB7877286F84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FB901C4-0587-44DD-A5C0-F58BC32CA0D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9E87E4-CF4E-4B7C-9FC3-7824ED85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E442C94-59C3-4EF9-B8B7-C32DD4A026E4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61EDADD-AFE7-4840-B495-3686FA22AD43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9706BFB-A8C4-4422-B70D-CCB79CD7CEF4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0E97A54-F2E8-4ADE-9590-CD5FDC94FA72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FB10F50-21BD-485F-8C3F-ECF740F623B7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73E9483-EDF8-49B3-A9DF-D78AD73DE561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B2EE0E6-F66D-47E4-951B-08222E4E0146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E4F9B68-25E1-4442-9996-B7075C8BD44E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DBFDF4B-9E28-4D3E-9B10-806AD57B04CB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50DDC05-D9B3-4207-8241-BA3C81D6D64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75F677-EEDB-4124-B4B8-615F3D61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383B051-46A8-49CC-8E53-8161B54E8E7B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75824CE-FDBC-48CC-A7AF-AEE5B019F8ED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345A924-FC30-426B-8696-79796DFB034E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AEB22CF-E9CE-44DC-923B-AB25ADFD0957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92614C0-0AA3-4317-960F-53D2ED904BDB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20B77F6-8A45-4AAD-9D54-E9ED426FC258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8C182F8-9471-4214-8176-4F70009B3B63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250EF6F-F8F6-4161-842B-E0237445CA8A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1B450BF-1CB1-48C2-9580-0410AB74EF4C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ABD6F1A-FFBB-43C6-BD90-807244FAADE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785909-92B3-4325-A4A9-45719961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E97F660-4018-4964-B976-42A665FB7B0C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5316F6C-BEC6-44F8-906D-F05B74270A52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0937FBF-04BF-46B3-A096-F06813BB421D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8AE8DBD-A8BF-4BC7-852C-E5C61705141B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70BB1BA-E823-471A-A214-B4A684232C3A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B4A403A-B035-45B4-BCCE-FA2FA658BDB4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0179D64-621B-4474-9E7E-1CE0860FD62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DE12E0-2520-4AE5-A333-A3D2333E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9B47D9-13C0-4AB1-90F7-5E5F2004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348E8E-9290-4AAE-B73F-A1A0A6E3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47AB86-90AC-44C2-B759-6A56FC1E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524063-AF2E-4ECA-9026-55A80FAD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93B76B-CFC2-4F34-B4A8-05567D83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4D2E3-5529-483E-9B20-3329491ECDA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B0D17C-DFF5-48CA-BF11-3A264526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14C78F-2DF1-4078-8EC9-FE05E9AF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A77788-6819-48FF-A5C3-5B0A5F9C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67E22-286E-4F83-AEE7-1DFEE4BD3C8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50A4F-4CF9-49A9-A7F0-2517814C31D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063D9-B335-4CAE-B2F9-DC1B213F87C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9C586-0B46-4F5B-A56B-AA8B094DFF0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02284-DC41-4B3F-9197-95E32FB634D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B960D-5A7E-4BD0-8E34-064AEDAD819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54B24-6942-473F-8D85-6E673D839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F2C58-CB77-46E4-8F75-2DB68DD5AE2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E9855-7CDB-4BF3-AC0D-48387D0BF76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C3345-4945-4690-A22F-89069F8E16B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9287B-63B7-4635-87CC-F786BE0F407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39D2E-14AC-46D6-BBF5-AC190B74800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52DEF-A0FA-4C46-A664-DA244F04123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CFE77-4AFF-43FC-BCEF-7A79956E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82745-959D-4F3D-961E-75D4D118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80E57-7B38-4A0F-BE47-D1ED2DC4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22C47-1AF1-4FC1-BCD6-14794625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08939-EE54-49A5-B134-9BC5A19C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015A0-CDA2-45F3-B9AD-81D791817C3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7501E-12DB-4DDF-AC24-7218C521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411A6-CBFA-4828-9448-ACC3A595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2EB08-4C62-4490-95AF-0F7D5EDC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17AD6-9C79-4744-BF92-019CBC9B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07294-5FA5-4CF3-ACE3-D18EBD96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07675-F403-4A16-B81A-B323A38F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79C41-541F-413E-8BD4-E1094E73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8758A-44C9-4240-8419-F3360FF2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EB888-F963-4ED1-8AC1-52CD01D1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616CE-58E9-4388-87EB-E12D5521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CE287-EF4C-4176-9EC1-85F0CCBD1B5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3109E-83D9-4A9A-BD54-5FA5853B428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1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1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8220D-2741-4703-AA05-55110B794F4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28B38-4574-416C-93FC-E2F63B4E9DD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BE007-AC9F-455C-BEAF-26CEBCBC3E2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23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24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C8B3E-543E-4051-AB5D-4EF71F96B34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25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6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44ACD-B814-45F1-8200-1386DC600C4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5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A2457-A334-498C-94C1-AC217B51702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ftr" idx="2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3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5EA32-372F-4A3B-8537-99B3C529BE2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1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2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03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43FC5-94B7-4F35-A7D0-B705469B225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6A332-92C7-4527-8CCA-31CD65CC698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5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6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47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5CBE32-A475-4FBD-8880-ABC03DD9C7A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57589-D3EB-4CBE-B46A-0D115654F68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9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0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91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714E8-3506-4053-9C9C-47E2551009B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22F7C-6F79-4D27-B254-6A279C00639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2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3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4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35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C4C2D-AC36-4140-ABBA-40105F5BD43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72BD7-6FBE-4303-9FC3-D4377A76AB6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7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8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79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3A09D-62BC-479C-93F6-3DD185ECC47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0D877-393C-4E20-A7B7-10341535D71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1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2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23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03B0AE-E127-40B2-AF69-C02F0A473AE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E0E93-3991-4A55-9054-3BDE8A6598A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5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6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67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2FB35-7B2F-4688-9A44-5524A22F82D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AF6D4-CFC5-427C-8BDD-8BDCEF19F24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9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0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11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0E9BE-71AE-487D-B69D-64B9F64ED8B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1030E-F1D7-4519-A203-8CBE8D754C9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3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4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55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86794-1F28-45E4-A0FE-62A78D5C5AD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26CDD-F72D-4CA3-939F-D899106B30C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7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8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99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35BB6-91EF-4A23-8A80-E3D1ABD7208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2E762-5FDF-448C-81C6-A64CC94086B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1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43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AD473-F7A0-4653-96C4-932CD3593FD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0B284-5DD8-4B8D-85C5-7ED469C05F8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5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86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sp>
        <p:nvSpPr>
          <p:cNvPr id="1187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8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89" name="Picture 11" descr="letras"/>
          <p:cNvPicPr/>
          <p:nvPr/>
        </p:nvPicPr>
        <p:blipFill>
          <a:blip r:embed="rId3"/>
          <a:stretch/>
        </p:blipFill>
        <p:spPr>
          <a:xfrm>
            <a:off x="1619280" y="3525840"/>
            <a:ext cx="1131840" cy="334800"/>
          </a:xfrm>
          <a:prstGeom prst="rect">
            <a:avLst/>
          </a:prstGeom>
          <a:ln w="0">
            <a:noFill/>
          </a:ln>
        </p:spPr>
      </p:pic>
      <p:sp>
        <p:nvSpPr>
          <p:cNvPr id="1190" name="PlaceHolder 1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01F37-379A-45FD-87E3-F0B9EFCD4AC0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0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31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3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34" name="Picture 11" descr="letras"/>
          <p:cNvPicPr/>
          <p:nvPr/>
        </p:nvPicPr>
        <p:blipFill>
          <a:blip r:embed="rId3"/>
          <a:stretch/>
        </p:blipFill>
        <p:spPr>
          <a:xfrm>
            <a:off x="1619280" y="3525840"/>
            <a:ext cx="1131840" cy="334800"/>
          </a:xfrm>
          <a:prstGeom prst="rect">
            <a:avLst/>
          </a:prstGeom>
          <a:ln w="0">
            <a:noFill/>
          </a:ln>
        </p:spPr>
      </p:pic>
      <p:sp>
        <p:nvSpPr>
          <p:cNvPr id="1235" name="PlaceHolder 1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2B3C4-1324-4B4C-B744-EBC9C7B17205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5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76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277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278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E6419-BBC5-4FB8-BDFF-CAB20A2CCBE8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321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322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323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4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F77A9-9680-4DF9-8C3F-6640AD4244FD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5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6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367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1CD19-0512-4824-9472-2465BF6446C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0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1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12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69B80-74A8-4D69-AAB1-F0A36E0BEC3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4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56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B2900-D08D-49EF-A788-4B9308C6906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8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9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00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ABF1C-520A-418B-8A50-13D2B6FDB07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2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3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44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C3581E-91E1-439A-AC20-8B5B1AC0DEF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6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7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88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03653-6104-487D-94AD-036D4F256FA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0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1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32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BE002-91C2-44B6-AE69-F611CF2D704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4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5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76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C09CC-91E5-4204-AD20-E21A0F91C21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12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8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9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20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DD33D-F598-4DA1-988C-089B6CB769A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2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3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64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9975F-4425-497C-9EEC-41D8694082E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6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7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08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6031B-92F0-4CF9-8464-98BA2A67DBF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0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1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2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06ABB-A1EA-4E4B-8A61-33ECDDA3703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 type="ftr" idx="110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 type="sldNum" idx="111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6A6D8-17CA-4FD4-897A-CBBC47FD6E9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5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6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7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 type="ftr" idx="112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 type="sldNum" idx="113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20657-F6BB-468C-93B8-61EFCF860ED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39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0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1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309C0-4624-48C7-AAB8-75F2506CFAC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ftr" idx="115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6" name="PlaceHolder 5"/>
          <p:cNvSpPr>
            <a:spLocks noGrp="1"/>
          </p:cNvSpPr>
          <p:nvPr>
            <p:ph type="sldNum" idx="116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AF032-AC09-41AD-8E1C-7BA3329212C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4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5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6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30B75-F08F-4A98-9D8B-013A01632BD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 type="ftr" idx="118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 type="sldNum" idx="119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C5529-530A-4AF9-A021-03C7A075D7F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29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0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1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9C03E-3C50-4F1C-B7F0-CDE15CAAE4E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 type="ftr" idx="12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 type="sldNum" idx="12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1C47A-AF9C-497A-90DD-037FD42CD0E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4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5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6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 type="ftr" idx="123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0" name="PlaceHolder 4"/>
          <p:cNvSpPr>
            <a:spLocks noGrp="1"/>
          </p:cNvSpPr>
          <p:nvPr>
            <p:ph type="sldNum" idx="124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4F93C-56E1-4040-8B0E-E245870D1F0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18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19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0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ftr" idx="125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sldNum" idx="126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B5232-3E8C-4977-9C2D-E0EA4B1C26C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3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4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CC7AC-74B2-430D-916D-01DBF871263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2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3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4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 type="ftr" idx="12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 type="sldNum" idx="12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970C3-7CAA-4663-9846-D8EB535DE3A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6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7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8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 type="ftr" idx="12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 type="sldNum" idx="13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76FF5-021B-47C3-BD4D-92916B24CF8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0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1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2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 type="ftr" idx="13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 type="sldNum" idx="13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E2194-D2F1-49B6-8873-02F7A977521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4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5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6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 type="ftr" idx="133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 type="sldNum" idx="134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C3AE2-C213-4478-BDAA-0F5B3481F80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09550-FFCC-42ED-A1C3-29F5FDF04C4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6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7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D612E-F998-48F7-BA62-DE351C2BC57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8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9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91809-CA4D-4965-904D-33B03EDE447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87AB6-1E90-4AD4-A59B-4CF5B29A125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C0A164-56B3-4C2D-9DD3-5B995559836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71E5E-74BE-4018-AC61-FE097AE48E0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4224F7-D78F-4516-BCC5-D454F479890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cajta.cl/" TargetMode="External"/><Relationship Id="rId3" Type="http://schemas.openxmlformats.org/officeDocument/2006/relationships/hyperlink" Target="http://www.cajta.cl/" TargetMode="External"/><Relationship Id="rId4" Type="http://schemas.openxmlformats.org/officeDocument/2006/relationships/hyperlink" Target="http://www.cajta.cl/" TargetMode="External"/><Relationship Id="rId5" Type="http://schemas.openxmlformats.org/officeDocument/2006/relationships/hyperlink" Target="http://www.cajbiobio.cl/" TargetMode="External"/><Relationship Id="rId6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6840" y="1484280"/>
            <a:ext cx="80024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SUPERAR LAS BARRERAS DE ACCESO A LA JUSTICIA DE LOS ADULTOS MAYORES EN CHILE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Programa 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EUROsociAL II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2013</a:t>
            </a:r>
            <a:br>
              <a:rPr sz="3200"/>
            </a:br>
            <a:br>
              <a:rPr sz="600"/>
            </a:br>
            <a:br>
              <a:rPr sz="3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98BA5E-1CC2-4331-933D-B45438318D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685800" y="2339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200" spc="-1" strike="noStrike">
                <a:solidFill>
                  <a:srgbClr val="ffffff"/>
                </a:solidFill>
                <a:latin typeface="Verdana"/>
              </a:rPr>
              <a:t>Gracias.</a:t>
            </a:r>
            <a:endParaRPr b="1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2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79F26-E476-4886-9CAC-58AA3BC3A2C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db4144"/>
                </a:solidFill>
                <a:latin typeface="Calibri"/>
              </a:rPr>
              <a:t>Objetivo del Plan de Acció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595959"/>
                </a:solidFill>
                <a:latin typeface="Calibri"/>
              </a:rPr>
              <a:t>Que el sistema judicial cuente con medios más eficaces para </a:t>
            </a:r>
            <a:r>
              <a:rPr b="1" lang="es-ES" sz="2800" spc="-1" strike="noStrike">
                <a:solidFill>
                  <a:srgbClr val="db4144"/>
                </a:solidFill>
                <a:latin typeface="Calibri"/>
              </a:rPr>
              <a:t>prestar asistencia jurídica </a:t>
            </a:r>
            <a:r>
              <a:rPr b="1" lang="es-ES" sz="2800" spc="-1" strike="noStrike">
                <a:solidFill>
                  <a:srgbClr val="595959"/>
                </a:solidFill>
                <a:latin typeface="Calibri"/>
              </a:rPr>
              <a:t>a las personas que se encuentren en condiciones desfavorecidas centrando la actuación en la </a:t>
            </a:r>
            <a:r>
              <a:rPr b="1" lang="es-ES" sz="2800" spc="-1" strike="noStrike">
                <a:solidFill>
                  <a:srgbClr val="db4144"/>
                </a:solidFill>
                <a:latin typeface="Calibri"/>
              </a:rPr>
              <a:t>población adulta mayor </a:t>
            </a:r>
            <a:r>
              <a:rPr b="1" lang="es-ES" sz="2800" spc="-1" strike="noStrike">
                <a:solidFill>
                  <a:srgbClr val="595959"/>
                </a:solidFill>
                <a:latin typeface="Calibri"/>
              </a:rPr>
              <a:t>de Chile en su contacto con las Corporaciones de Asistencia Judicial.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Footer Placeholder 10"/>
          <p:cNvSpPr/>
          <p:nvPr/>
        </p:nvSpPr>
        <p:spPr>
          <a:xfrm>
            <a:off x="19080" y="6527880"/>
            <a:ext cx="2895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Verdana"/>
              </a:rPr>
              <a:t>Gobierno de Chile | Ministerio de Justicia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48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FF7790-A1C2-4ED9-A097-3E8D31FFC5E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49" name=""/>
          <p:cNvSpPr txBox="1"/>
          <p:nvPr/>
        </p:nvSpPr>
        <p:spPr>
          <a:xfrm>
            <a:off x="151920" y="765000"/>
            <a:ext cx="83487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2350" name="13 Imagen" descr="mapa.JPG"/>
          <p:cNvPicPr/>
          <p:nvPr/>
        </p:nvPicPr>
        <p:blipFill>
          <a:blip r:embed="rId1"/>
          <a:stretch/>
        </p:blipFill>
        <p:spPr>
          <a:xfrm>
            <a:off x="395280" y="549360"/>
            <a:ext cx="1403280" cy="6027480"/>
          </a:xfrm>
          <a:prstGeom prst="rect">
            <a:avLst/>
          </a:prstGeom>
          <a:ln w="0">
            <a:noFill/>
          </a:ln>
        </p:spPr>
      </p:pic>
      <p:cxnSp>
        <p:nvCxnSpPr>
          <p:cNvPr id="2351" name="21 Conector recto de flecha"/>
          <p:cNvCxnSpPr/>
          <p:nvPr/>
        </p:nvCxnSpPr>
        <p:spPr>
          <a:xfrm>
            <a:off x="1186920" y="764640"/>
            <a:ext cx="1297800" cy="288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2" name="26 Conector recto de flecha"/>
          <p:cNvCxnSpPr/>
          <p:nvPr/>
        </p:nvCxnSpPr>
        <p:spPr>
          <a:xfrm flipV="1">
            <a:off x="1186920" y="1051920"/>
            <a:ext cx="1297800" cy="432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3" name="28 Conector recto de flecha"/>
          <p:cNvCxnSpPr/>
          <p:nvPr/>
        </p:nvCxnSpPr>
        <p:spPr>
          <a:xfrm>
            <a:off x="1187280" y="2133720"/>
            <a:ext cx="133272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4" name="30 Conector recto de flecha"/>
          <p:cNvCxnSpPr/>
          <p:nvPr/>
        </p:nvCxnSpPr>
        <p:spPr>
          <a:xfrm>
            <a:off x="1042920" y="2636640"/>
            <a:ext cx="144216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5" name="32 Conector recto de flecha"/>
          <p:cNvCxnSpPr/>
          <p:nvPr/>
        </p:nvCxnSpPr>
        <p:spPr>
          <a:xfrm flipV="1">
            <a:off x="1042920" y="2636280"/>
            <a:ext cx="1442160" cy="21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6" name="34 Conector recto de flecha"/>
          <p:cNvCxnSpPr/>
          <p:nvPr/>
        </p:nvCxnSpPr>
        <p:spPr>
          <a:xfrm>
            <a:off x="1042920" y="3068280"/>
            <a:ext cx="1442160" cy="648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7" name="41 Conector recto de flecha"/>
          <p:cNvCxnSpPr/>
          <p:nvPr/>
        </p:nvCxnSpPr>
        <p:spPr>
          <a:xfrm>
            <a:off x="1042920" y="3213000"/>
            <a:ext cx="144216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8" name="43 Conector recto de flecha"/>
          <p:cNvCxnSpPr/>
          <p:nvPr/>
        </p:nvCxnSpPr>
        <p:spPr>
          <a:xfrm>
            <a:off x="899640" y="3357720"/>
            <a:ext cx="1585080" cy="358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9" name="45 Conector recto de flecha"/>
          <p:cNvCxnSpPr/>
          <p:nvPr/>
        </p:nvCxnSpPr>
        <p:spPr>
          <a:xfrm>
            <a:off x="899640" y="3860640"/>
            <a:ext cx="1585080" cy="1369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0" name="47 Conector recto de flecha"/>
          <p:cNvCxnSpPr/>
          <p:nvPr/>
        </p:nvCxnSpPr>
        <p:spPr>
          <a:xfrm>
            <a:off x="863640" y="4076640"/>
            <a:ext cx="1621440" cy="1153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1" name="51 Conector recto de flecha"/>
          <p:cNvCxnSpPr/>
          <p:nvPr/>
        </p:nvCxnSpPr>
        <p:spPr>
          <a:xfrm>
            <a:off x="863640" y="4976640"/>
            <a:ext cx="1621440" cy="253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2" name="57 Conector recto de flecha"/>
          <p:cNvCxnSpPr/>
          <p:nvPr/>
        </p:nvCxnSpPr>
        <p:spPr>
          <a:xfrm flipV="1">
            <a:off x="899640" y="3716280"/>
            <a:ext cx="1585080" cy="216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3" name="63 Conector recto de flecha"/>
          <p:cNvCxnSpPr/>
          <p:nvPr/>
        </p:nvCxnSpPr>
        <p:spPr>
          <a:xfrm>
            <a:off x="1186920" y="1052280"/>
            <a:ext cx="129780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4" name="55 Conector recto de flecha"/>
          <p:cNvCxnSpPr/>
          <p:nvPr/>
        </p:nvCxnSpPr>
        <p:spPr>
          <a:xfrm>
            <a:off x="863640" y="3573360"/>
            <a:ext cx="1621440" cy="1656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5" name="59 Conector recto de flecha"/>
          <p:cNvCxnSpPr/>
          <p:nvPr/>
        </p:nvCxnSpPr>
        <p:spPr>
          <a:xfrm>
            <a:off x="863640" y="4292640"/>
            <a:ext cx="1621440" cy="937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6" name="Rectangle 2"/>
          <p:cNvSpPr/>
          <p:nvPr/>
        </p:nvSpPr>
        <p:spPr>
          <a:xfrm>
            <a:off x="2254320" y="765000"/>
            <a:ext cx="6337080" cy="52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2080" indent="-262080" algn="just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Calibri"/>
              </a:rPr>
              <a:t>Corporación de Asistencia Judicial de las regiones de Tarapacá y Antofagasta (I, II y XV regiones). 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ajta.cl</a:t>
            </a:r>
            <a:r>
              <a:rPr b="0" lang="es-ES_tradnl" sz="2400" spc="-1" strike="noStrike" u="sng">
                <a:solidFill>
                  <a:srgbClr val="ef4144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Calibri"/>
              </a:rPr>
              <a:t>Corporación de Asistencia Judicial de la Región de Valparaíso (III, IV y V regiones)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 www.cajval.cl</a:t>
            </a:r>
            <a:r>
              <a:rPr b="0" lang="es-ES_tradnl" sz="2400" spc="-1" strike="noStrike" u="sng">
                <a:solidFill>
                  <a:srgbClr val="ef4144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Calibri"/>
              </a:rPr>
              <a:t>Corporación de Asistencia Judicial de la Región Metropolitana (regiones: Metropolitana, VI, VII, y  XII)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 www.cajmetro.cl</a:t>
            </a:r>
            <a:r>
              <a:rPr b="0" lang="es-ES_tradnl" sz="2400" spc="-1" strike="noStrike" u="sng">
                <a:solidFill>
                  <a:srgbClr val="ef4144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Calibri"/>
              </a:rPr>
              <a:t>Corporación de Asistencia Judicial de la Región del Biobío (VIII, IX, XIV, X y XI regiones). 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cajbiobio.cl</a:t>
            </a:r>
            <a:r>
              <a:rPr b="0" lang="es-ES_tradnl" sz="2400" spc="-1" strike="noStrike" u="sng">
                <a:solidFill>
                  <a:srgbClr val="ef4144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68" name="Rectangle 3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69" name="Rectangle 2"/>
          <p:cNvSpPr/>
          <p:nvPr/>
        </p:nvSpPr>
        <p:spPr>
          <a:xfrm>
            <a:off x="990720" y="0"/>
            <a:ext cx="70372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db4144"/>
                </a:solidFill>
                <a:latin typeface="Calibri"/>
              </a:rPr>
              <a:t>Cobertura Territorial de las CAJ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370" name=""/>
          <p:cNvGraphicFramePr/>
          <p:nvPr/>
        </p:nvGraphicFramePr>
        <p:xfrm>
          <a:off x="237960" y="1052640"/>
          <a:ext cx="8668080" cy="5205240"/>
        </p:xfrm>
        <a:graphic>
          <a:graphicData uri="http://schemas.openxmlformats.org/drawingml/2006/table">
            <a:tbl>
              <a:tblPr/>
              <a:tblGrid>
                <a:gridCol w="1179720"/>
                <a:gridCol w="1008000"/>
                <a:gridCol w="934920"/>
                <a:gridCol w="865440"/>
                <a:gridCol w="792000"/>
                <a:gridCol w="1079640"/>
                <a:gridCol w="792000"/>
                <a:gridCol w="936720"/>
                <a:gridCol w="1079640"/>
              </a:tblGrid>
              <a:tr h="283320">
                <a:tc gridSpan="9"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BERTURA TERRITORIAL  DE LAS CORPORACIONES DE ASISTENCIA JUDICIAL 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36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Regiones 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N° 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Consultorios fíjos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N° 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Consultorios  Móviles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N° Centros mediación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N° Centros Víctimas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N° Oficinas de Defensa Laboral 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N° Comunas Atendidas 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Total comunas*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% cobertura territorio nacional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2635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Arica y Parinacot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Tarapacá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Antofagast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4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Atacam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Coquimbo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Valparaíso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O´Higgin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Maul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Bíobío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5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Araucaní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Los Río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Los Lago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Aisén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Magallane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7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Metropolitana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6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100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Total nacional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49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9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28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46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95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Rectangle 2"/>
          <p:cNvSpPr/>
          <p:nvPr/>
        </p:nvSpPr>
        <p:spPr>
          <a:xfrm>
            <a:off x="990720" y="0"/>
            <a:ext cx="70372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db4144"/>
                </a:solidFill>
                <a:latin typeface="Calibri"/>
              </a:rPr>
              <a:t>LÍNEAS DE ACCIÓN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72" name="Rectangle 3"/>
          <p:cNvSpPr/>
          <p:nvPr/>
        </p:nvSpPr>
        <p:spPr>
          <a:xfrm>
            <a:off x="395280" y="1197000"/>
            <a:ext cx="8280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866880" indent="-514440" algn="just">
              <a:lnSpc>
                <a:spcPct val="120000"/>
              </a:lnSpc>
              <a:spcBef>
                <a:spcPts val="751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3000" spc="-1" strike="noStrike">
                <a:solidFill>
                  <a:srgbClr val="595959"/>
                </a:solidFill>
                <a:latin typeface="Calibri"/>
                <a:ea typeface="ヒラギノ角ゴ Pro W3"/>
              </a:rPr>
              <a:t>Orientación e información en derechos.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866880" indent="-514440" algn="just">
              <a:lnSpc>
                <a:spcPct val="120000"/>
              </a:lnSpc>
              <a:spcBef>
                <a:spcPts val="751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3000" spc="-1" strike="noStrike">
                <a:solidFill>
                  <a:srgbClr val="595959"/>
                </a:solidFill>
                <a:latin typeface="Calibri"/>
                <a:ea typeface="ヒラギノ角ゴ Pro W3"/>
              </a:rPr>
              <a:t>Solución colaborativa de conflictos.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866880" indent="-514440" algn="just">
              <a:lnSpc>
                <a:spcPct val="120000"/>
              </a:lnSpc>
              <a:spcBef>
                <a:spcPts val="751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3000" spc="-1" strike="noStrike">
                <a:solidFill>
                  <a:srgbClr val="595959"/>
                </a:solidFill>
                <a:latin typeface="Calibri"/>
                <a:ea typeface="ヒラギノ角ゴ Pro W3"/>
              </a:rPr>
              <a:t>Patrocinio en juicios.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866880" indent="-514440" algn="just">
              <a:lnSpc>
                <a:spcPct val="120000"/>
              </a:lnSpc>
              <a:spcBef>
                <a:spcPts val="751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3000" spc="-1" strike="noStrike">
                <a:solidFill>
                  <a:srgbClr val="595959"/>
                </a:solidFill>
                <a:latin typeface="Calibri"/>
                <a:ea typeface="ヒラギノ角ゴ Pro W3"/>
              </a:rPr>
              <a:t>Apoyo psicosociojurídico a víctimas de delitos violentos</a:t>
            </a:r>
            <a:r>
              <a:rPr b="0" i="1" lang="es-ES_tradnl" sz="3000" spc="-1" strike="noStrike">
                <a:solidFill>
                  <a:srgbClr val="595959"/>
                </a:solidFill>
                <a:latin typeface="Calibri"/>
                <a:ea typeface="ヒラギノ角ゴ Pro W3"/>
              </a:rPr>
              <a:t>.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866880" indent="-514440" algn="just">
              <a:lnSpc>
                <a:spcPct val="120000"/>
              </a:lnSpc>
              <a:spcBef>
                <a:spcPts val="751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3000" spc="-1" strike="noStrike">
                <a:solidFill>
                  <a:srgbClr val="595959"/>
                </a:solidFill>
                <a:latin typeface="Calibri"/>
                <a:ea typeface="ヒラギノ角ゴ Pro W3"/>
              </a:rPr>
              <a:t>Prevención de conflictos y promoción de derechos.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595959"/>
                </a:solidFill>
                <a:latin typeface="Calibri"/>
              </a:rPr>
              <a:t>Protocolo de Asistencia Jurídica Especializada para los Adultos Mayores.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Reuniones de coordinación intersectorial: Ministerio de Justicia de Chile, Corporaciones de Asistencia Judicial, Ministerio de Desarrollo Social, Servicio Nacional del Adulto Mayor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Misión de sensibilización con los actores públicos relevantes y los operadores, a través de los talleres de detección de barreras de acceso a la justicia de los adultos mayores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Mesas de trabajo intersectorial, nacional y regional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Misión para la elaboración del Protocolo, asistencia técnica europea y local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74" name="3 Rectángulo"/>
          <p:cNvSpPr/>
          <p:nvPr/>
        </p:nvSpPr>
        <p:spPr>
          <a:xfrm>
            <a:off x="250920" y="40464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db4144"/>
                </a:solidFill>
                <a:latin typeface="Arial"/>
              </a:rPr>
              <a:t>Acciones y Resultados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595959"/>
                </a:solidFill>
                <a:latin typeface="Calibri"/>
              </a:rPr>
              <a:t>2. Operadores jurídicos capacitados para la asistencia jurídica especializada al adulto mayor vulnerable.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831240" indent="-44316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Visita de estudio de funcionarios públicos para conocer experiencias de implementación de sistemas de atención dirigidas a los adultos mayores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31240" indent="-44316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Curso de capacitación on line y presencial a más de 100 funcionarios del sistema público de asistencia jurídica gratuita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marL="4431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4431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595959"/>
                </a:solidFill>
                <a:latin typeface="Calibri"/>
              </a:rPr>
              <a:t>3. Campaña de difusión del Protocolo.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831240" indent="-44316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Lanzamiento del Protocolo a nivel regional y nacional, suscrito por las autoridades del sector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31240" indent="-44316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Socialización del Protocolo entre autoridades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31240" indent="-44316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Difusión y visibilización del Protocolo en portales web y materialmente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76" name="3 Rectángulo"/>
          <p:cNvSpPr/>
          <p:nvPr/>
        </p:nvSpPr>
        <p:spPr>
          <a:xfrm>
            <a:off x="250920" y="40464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db4144"/>
                </a:solidFill>
                <a:latin typeface="Arial"/>
              </a:rPr>
              <a:t>Acciones y Resultados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595959"/>
                </a:solidFill>
                <a:latin typeface="Calibri"/>
              </a:rPr>
              <a:t>Fortalecimiento de la cooperación intersectoria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800" spc="-1" strike="noStrike">
                <a:solidFill>
                  <a:srgbClr val="595959"/>
                </a:solidFill>
                <a:latin typeface="Calibri"/>
              </a:rPr>
              <a:t>Otorgamiento de becas a funcionarios de la asistencia jurídica en gerontología social.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800" spc="-1" strike="noStrike">
                <a:solidFill>
                  <a:srgbClr val="595959"/>
                </a:solidFill>
                <a:latin typeface="Calibri"/>
              </a:rPr>
              <a:t>Seminarios sobre acceso a la justicia y adultos mayores.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800" spc="-1" strike="noStrike">
                <a:solidFill>
                  <a:srgbClr val="595959"/>
                </a:solidFill>
                <a:latin typeface="Calibri"/>
              </a:rPr>
              <a:t>Transferencia de recursos entre el Servicio Nacional del Adulto Mayor y las Corporaciones de Asistencia Judicial que permitirá dotar de un abogado especialista en cada región del país.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0" algn="just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78" name="3 Rectángulo"/>
          <p:cNvSpPr/>
          <p:nvPr/>
        </p:nvSpPr>
        <p:spPr>
          <a:xfrm>
            <a:off x="250920" y="40464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db4144"/>
                </a:solidFill>
                <a:latin typeface="Arial"/>
              </a:rPr>
              <a:t>Resultados no esperados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595959"/>
                </a:solidFill>
                <a:latin typeface="Calibri"/>
              </a:rPr>
              <a:t>1. Pasantía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Experiencia de atención especializada. 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Iniciativas de la sociedad civil y la judicatura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595959"/>
                </a:solidFill>
                <a:latin typeface="Calibri"/>
              </a:rPr>
              <a:t>2. Protocolo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Escasas referencias normativas y reglamentarias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Creciente importancia a nivel nacional e internacional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595959"/>
                </a:solidFill>
                <a:latin typeface="Calibri"/>
              </a:rPr>
              <a:t>2. Capacitación y especialización de operadores jurídicos.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Valoración de la formación on line y presencial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0" algn="just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0" algn="just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80" name="3 Rectángulo"/>
          <p:cNvSpPr/>
          <p:nvPr/>
        </p:nvSpPr>
        <p:spPr>
          <a:xfrm>
            <a:off x="250920" y="40464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db4144"/>
                </a:solidFill>
                <a:latin typeface="Arial"/>
              </a:rPr>
              <a:t>Valoración de la Metodologí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9:44:20Z</dcterms:created>
  <dc:creator>Executive Director</dc:creator>
  <dc:description/>
  <dc:language>en-US</dc:language>
  <cp:lastModifiedBy>Karina</cp:lastModifiedBy>
  <cp:lastPrinted>2013-07-08T21:32:56Z</cp:lastPrinted>
  <dcterms:modified xsi:type="dcterms:W3CDTF">2013-11-18T14:03:47Z</dcterms:modified>
  <cp:revision>78</cp:revision>
  <dc:subject/>
  <dc:title>Slide 1</dc:title>
</cp:coreProperties>
</file>