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A9B-CA9E-4F89-B803-A485D51F07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F85-B719-4871-A106-9477A6072B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B30-2281-4725-A090-D94221C9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CC3-CE9B-4CC9-A3ED-ADE406CE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BAD-CEB3-4FAE-8213-58490E10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B81-6D1D-41DC-B009-68E0510F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43F-0FAF-4BE5-A796-93B55B4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CF0-2E97-4481-8A2C-AD5F13BF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B40-573C-40CE-B422-A93D780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C1C-54FB-40FF-98E8-5F19760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F1F-63F5-4AF2-A643-4E55BAFA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E0B-5885-4F2D-A521-6373E4B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49C-F15B-4892-880E-3315540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27B-E589-4A6C-B4BF-0F9744E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1E5-6F73-4BFE-A775-D069E26A08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17244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L MARCO SOCIOPOLÍTICO QUE INFLUYEN EN 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79280" y="1628640"/>
            <a:ext cx="87138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rco constitucional que potencia el papel de los agentes sociales y la participación social (reconocimiento agentes sociales, libertad sindical, negociación colectiva, participación, Estado Social y Democrático de Derecho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in mandato constitucional directo de creación del 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olidación de agentes sociales representativos (concentración de representatividad), autónomos, con reconocimiento mutuo y práctica de negociación bipartita y tripar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de la transición a la democracia, una evolución sociopolítica en la que la concertación social ha tenido un papel relevantes, aunque irregular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Relación con consolidación democracia, estructuración del sistema de relaciones laborales, situación socio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álogo social bipartito y tripartito /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Mayor continuidad del bipartito, estructura y cobertura de la negociación colectiva, dificultades en el diálogo social tripartito en torno a reformas laborales y de Seguridad Social (con alternativ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yección del diálogo social en distintos ámbitos: concertación social, participación institucional en el ámbito sociolaboral y en otros ámbitos. Diversidad de ámbitos territoriales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El CES como diálogo social institucion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 CuadroTexto"/>
          <p:cNvSpPr/>
          <p:nvPr/>
        </p:nvSpPr>
        <p:spPr>
          <a:xfrm>
            <a:off x="544680" y="988920"/>
            <a:ext cx="8380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la Igualdad de Oportunidades entre Mujeres y Homb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de muj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Personas May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persona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istema de Autonomía y Atención a la Depend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la Juven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jóvenes / secciones de jóvenes de otras organizaciones asoci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nsumidores y usuar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l Trabajo Autón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trabajadores autónomo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Responsabilidad Social de l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rganizaciones con representatividad e interés en 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Consumo, Seguridad Alimentaria y Nutri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/ organizaciones empresariales / colegios profes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544680" y="1087560"/>
            <a:ext cx="838008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Nacional de Seguridad y Salud en 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Sostenibilidad, Innovación y Calidad de la Edific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colegio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Rector de la Agencia Española del Medic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Estad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 / univers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d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s Indust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colar del Est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Familia / representantes de alumnos / organiz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AGENTES SOCIALES EN ÓRGAN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573120" y="1844640"/>
            <a:ext cx="7628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la Seguridad Social (IN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de Mayores y Servicios Sociales (IMSER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utualidad de Funcionarios Civiles del Estado (MU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Social de la Marina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Seguridad e Higiene en el Trabajo (INS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ndo de Garantía Salarial (FOGA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Formación Profesional (CG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la Función Pú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ervicio Público de Empleo Estatal (SP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135864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179280" y="1332000"/>
            <a:ext cx="8856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istintas posibilidades de modelos de CES: consultivo y ámbito de concertación social; relación con ejecutivo y con legislativo; con y sin presencia del Gobierno; interlocutores sociales, agentes socioeconómicos, sociedad civil organizada; materias laborales y materias socioeconómicas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gulación por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ultivo d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smo institucional público y autóno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interlocutores sociales y agentes socioeconó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n presencia del Gobierno, aunque con expertos designados por é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terias socioeconómicas y labo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ctámenes de proyectos de ley, informes socioeconómicos y laborales generales       (Memoria) y especí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uación a petición del Gobierno y por propia iniciativa (infor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tribución de espacios entre concertación social y 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tros ámbitos de participación institu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177012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 LA ORGANIZACIÓN Y FUNCIONAMIENTO DEL CES MÁS INFLUIDOS POR EL MODELO DE CONSEJO (AUTONOMÍA Y COM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2 CuadroTexto"/>
          <p:cNvSpPr/>
          <p:nvPr/>
        </p:nvSpPr>
        <p:spPr>
          <a:xfrm>
            <a:off x="324000" y="206064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orgánic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finición legal; designación de Consejeros, Presidencia y Secretaría General; elaboración de Regl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funcional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apacidad de elaboración de informes; órganos internos de gobierno; estructura técnica propia; asignaciones económicas a organizaciones represent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presupuestari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signación específica en Ley de Pre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lación entre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ructura técnica y órganos interno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proceso de elaboración de informes y dictámenes / Áreas de Estudios, Documentación; comparec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yección exter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la actividad del CES: comunicación, relacione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RGANIGRAMA CONSEJO ECONÓMICO Y SOCIAL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 Imagen" descr=" "/>
          <p:cNvPicPr/>
          <p:nvPr/>
        </p:nvPicPr>
        <p:blipFill>
          <a:blip r:embed="rId1"/>
          <a:stretch/>
        </p:blipFill>
        <p:spPr>
          <a:xfrm>
            <a:off x="934920" y="1413000"/>
            <a:ext cx="727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CIÓN DE LAS FUNCIONES DE LOS ÓRGANOS DEL CES EN LA ACTIVIDAD DEL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666880" y="167652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666880" y="228600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289548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rea Estu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685960" y="4070520"/>
            <a:ext cx="2286000" cy="13341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b Publicaciones  Jornadas y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685960" y="583236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04920" y="2971800"/>
            <a:ext cx="1752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72200" y="28954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i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6248520" y="434340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248520" y="56386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505320" y="990720"/>
            <a:ext cx="2209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28600" y="990720"/>
            <a:ext cx="23623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cretaría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6629400" y="990720"/>
            <a:ext cx="220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j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952880" y="3048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50292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56386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4952880" y="1828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502884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78476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800600" y="3478320"/>
            <a:ext cx="167652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754380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 flipH="1">
            <a:off x="251424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251460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 flipH="1">
            <a:off x="23623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2362320" y="2514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 flipH="1">
            <a:off x="2209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8"/>
          <p:cNvSpPr/>
          <p:nvPr/>
        </p:nvSpPr>
        <p:spPr>
          <a:xfrm>
            <a:off x="2209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9"/>
          <p:cNvSpPr/>
          <p:nvPr/>
        </p:nvSpPr>
        <p:spPr>
          <a:xfrm>
            <a:off x="70102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7010280" y="4876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718400" y="3801960"/>
            <a:ext cx="66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731520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arec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3"/>
          <p:cNvSpPr/>
          <p:nvPr/>
        </p:nvSpPr>
        <p:spPr>
          <a:xfrm flipH="1">
            <a:off x="70862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2685960" y="4070520"/>
            <a:ext cx="228600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-19080" y="6491160"/>
            <a:ext cx="26859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Téc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132000" y="6488280"/>
            <a:ext cx="27273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292800" y="6485040"/>
            <a:ext cx="28512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rganismo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ROCESO DE ELABORACIÓN DE DICTÁMENES E INF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2 Objeto"/>
          <p:cNvGraphicFramePr/>
          <p:nvPr/>
        </p:nvGraphicFramePr>
        <p:xfrm>
          <a:off x="95400" y="1628640"/>
          <a:ext cx="90486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28640"/>
                    <a:ext cx="9048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VIDAD Y 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426960" y="1125360"/>
            <a:ext cx="86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ALIDADES DE 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presentación de intereses / Participación en Organismo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zaciones de promoción de derechos e intereses / Agentes Socioeconómicos / Generales y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2 CuadroTexto"/>
          <p:cNvSpPr/>
          <p:nvPr/>
        </p:nvSpPr>
        <p:spPr>
          <a:xfrm>
            <a:off x="539640" y="4869000"/>
            <a:ext cx="77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CEDIMIENTOS DE MEDICIÓN DE LA REPRESENTA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resultados electo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reditación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6960" y="2708280"/>
            <a:ext cx="86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RITERIOS DE REPRESENTATIVIDAD DE ORGANIZACIO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ctora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ociativ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 y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Afiliación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mpla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539640" y="1149480"/>
            <a:ext cx="8202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Cli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sesor del Medio Amb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/organizaciones empresariales/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para el Patrimonio Natural y la Biodivers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medioambientales / organizaciones empresariales / sindicatos/organizaciones profesionales agrarias / asociaciones de consumidores y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gra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ector Pesq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Corporaciones del sector pesquero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Agu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ecologistas / asociaciones de gestión y defensa del agua / organizaciones empresariales / sindicatos / 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operación al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organizaciones empresariales / sindicatos / organizaciones de economí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485640" y="1197000"/>
            <a:ext cx="82630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Promoción de la Igualdad de Trato y no Discriminación por origen Racial o Ét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y asociaciones de promoción de la igualdad / organizaciones empresariales / sindicato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para el Diálogo Civil con la Plataforma del Tercer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ONGs de Ac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de acción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ro para la Integración Social de los Inmigr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inmigrantes / ONG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y Observatorio Estatal de Famil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asociaciones de familias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Participación d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Violencia sobr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/ 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57:41Z</dcterms:created>
  <dc:creator>ces</dc:creator>
  <dc:description/>
  <dc:language>en-US</dc:language>
  <cp:lastModifiedBy>ces</cp:lastModifiedBy>
  <cp:lastPrinted>2014-04-22T07:55:12Z</cp:lastPrinted>
  <dcterms:modified xsi:type="dcterms:W3CDTF">2014-04-22T07:58:45Z</dcterms:modified>
  <cp:revision>23</cp:revision>
  <dc:subject/>
  <dc:title>Presentación de PowerPoint</dc:title>
</cp:coreProperties>
</file>