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E120-EEE1-4898-86D4-1946E1823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9365-E80D-4761-9CD4-312AC839218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D3AE8-96DD-4C99-A52E-2533741A73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ACF62-1952-46CC-8179-2B2C26F48E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E3F63-B073-4243-9E84-1B8E4870200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A4EDC-A6C7-472E-9599-11F3AEC5550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CA1CB-169A-4D2D-A8D1-ADCBAD22D74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B53DB-B73D-471B-BAB2-E34BC2C6F9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15084-2C8D-4029-8B0C-E4FD0591878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7D796-248B-4BE2-81F5-1341E1E1098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DD10F-0B1F-4D30-9F5F-317D3413BE4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9224E9-3FF7-471E-BC59-A5775C823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15F7-C5F7-4247-BC32-F3823749D39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00A67E-61F0-4765-B077-0A8AEF2F065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168210-8A28-4A06-9EB8-91FDFB4C599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596F3-3284-4C29-BD85-362A08494D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F56FE5-180D-4D92-A6BF-FA115D51AE5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E61B60-9644-4830-9C3C-40472C09C48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1ABED3-33D3-47D2-BDA6-DFDEF57E99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F902E-543E-4921-99E1-5D89DE4C99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0F2609-4A85-4352-83BA-81AAC9F52F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EE5C02-2138-4DC4-AC44-55B24C3C18B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89EB5-6BF7-497F-A982-6E19B8F4E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9E4D-4B38-4EBB-9951-09490CEBEBE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3F0F4D-B728-4561-A1E8-0B7693FE162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449A7-8BB1-4112-9204-65AD9763DB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97330-D583-4E14-9D51-CF263D243BF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B3DF8-30F1-4B75-8601-506BADD0427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21A7D-E731-458B-A47B-5ACB72DCBE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681B-9DA9-48E3-83DD-6F4DC316363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CCDD-3B72-4754-AAC1-E72FA4D7CEC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8E5E6-94EA-4FD1-AB83-0B0D8523D6A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ECE32-65CB-48FA-A47A-730DB541EA4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740AB-1F1C-4A33-A622-2F672018D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162-CD9A-44CC-9A7E-D54D2559D7D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BA55-0AE2-4064-B6D4-4C9237EB50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F1936-B3E9-4B51-B9D7-FD1A544D70A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09985-649B-4BB7-9BA3-CF98175C6A3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063A5-9B1F-468A-AA9C-D8AF144029A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5A57B-5B08-464C-A992-C06F5DE26E6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43D2C-EF54-4568-8592-541CCDB8643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059B4-6CE1-4C48-BD0A-75E0F8DC681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BFC6B-278A-4AE2-92E4-36202AE048C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AFF8A-4DA6-4A4F-A63A-D3AFCE73CBD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A3CC5-7D02-47C2-AACC-BA252F2338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70B-A276-4A30-9FC3-7417E8F56FF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BC6D4-FDD9-4323-B721-069B3B55A1C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89F74-4404-4BF9-88AE-82BEFBC2714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D626AE-0FB7-4A73-98C6-3884A4DDAC8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FC331-F1CA-4B32-B9EF-C4C9E88A120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35EBB-B735-4DB4-AB28-0351E965C58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33675-6584-4560-A6A4-01EC8D2B2B8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F9CC88-D2AD-4158-A1FF-F626DD5B2B7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843666-D53A-4E28-818C-48B8D42D423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F9BCD2-18AC-4C19-9E8E-91B16C45022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443EF2-FC81-4981-B7C2-77635A31D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963-A32B-4ED2-9739-C3CFD2C3329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3186B9-4F86-49A1-8E7E-CFBFE9313AA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788287-C49A-490C-B383-8E9ED328009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67249-7E88-4F7A-A05E-83D55BDBD7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838CF0-B1DB-4D6D-8DCD-0EE85C70F1F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0DD61-5B4A-4C70-902A-FF4AE691822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2B3D5-00F6-40F7-BECA-5A7731C075C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3A6306-3121-4583-8B49-4980B5CDEBA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D19E5-E35B-4EE6-9AC3-51FC6C66192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9FE1D-A70F-4474-B55C-685C92DEAD4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A9310-5FAB-49DB-A9B4-B7A2F98C64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61B-47EB-47D4-9FEA-9CACD229CCB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6A188-DDA5-447E-88E0-2026AE89DD6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0B1BB-9DAE-4BCF-A73F-FEB87A8BF4B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B5881-40CC-4D94-B38A-D82F4BE81BB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48008-206F-4220-A67E-944B6975AD7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1F3F2-6934-4965-A351-7C7FEBED6BA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9A6A3-5C2D-4C50-A2F1-42E0A62E725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2627E-18A9-44B3-BB67-507FF50C559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51C3E-5E66-46F4-A615-26EA0E86DE3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C71BF-7A06-4F90-9537-67C98236308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7042E-B415-4027-9A6F-D3F877C6FC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729-0668-4172-93DD-B94E39FBB01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6C0F5-837F-4B4B-9E5D-7BB86B3DFE1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C0F78B-2E09-4A88-B6C4-01905EC88F6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C8C36B-9FA9-477A-BC5F-4C2D561A4E4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4FE9CE-17C4-4633-BE7D-51504E432A1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B21EBD-AFA1-478F-B4A0-F513FD193B9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24D86B-50CB-4944-8BC8-4C0375054C3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601965-ED0D-4D74-8AF6-EE1B6F18429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74F9F5-8F8A-4378-B916-CAC8034553E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63C3D5-3873-4478-B978-6A2165522A0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B3BB4A-0888-4393-9F8E-72D333091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66E-441C-4C82-AFF9-CA0582F2315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C808A1-B2CA-4D7A-86F2-32CD7970E01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24F1A-5A49-4199-B809-966204AA2B5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308BA-0F6C-4FA7-A706-72FE4968B74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27DC2-9741-4289-A692-27BF274335A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F8CFD-E48D-4F65-BC6D-C93E0573313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CA72F-A791-48D9-A6DE-4055A799C1B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0EDB6-F1E2-4F5C-8B3C-D670BD6EA0F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02CEC-4CD9-47CE-BD60-0DAA01291E5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BF3B9-8DFE-4769-93F0-0B51067C326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9AD54-81D2-402A-A8FB-2C9F14491C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810-7763-4D50-BDCD-B5712AC8201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4ECDE-494D-4DB5-B7A7-A685933ADE4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D1340-1F84-4BAD-BCDB-E775A09920E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C108F-DA55-4B54-929B-9E26883AE51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A7AD-4203-40BF-8065-C03B3E093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2A5-F77E-41B4-99BD-5DAB6A75B39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A21-95E6-4770-B988-7C2F9F0F7BC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35E-A281-4B6D-B41C-2F5EC4559FF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00E8F-3889-4900-9F8D-55020B0BA3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C9B-D908-4E74-BF98-0B39842B9A8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8AC18-0479-439D-ACB2-3F02164570C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DE341-6859-4F42-9D37-487C73C0CCA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DC3AB-A2FF-4E58-8E21-21C25C9F176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92960-D1EA-4A2E-BD22-6A5CD2FF383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EBC7E-BBF2-41B8-AD2A-334CE50D7FC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B36FE-98C0-4772-B1AD-9D78C09F078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4230D-1FE3-4E0B-82F7-F6E7D2FF049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A4494-4C5D-4029-90AC-C1916C0142D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F2978-7228-48C6-A799-2D2F58165F8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47F29-5543-4365-AFA0-F22F70EB3C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6EA-BB1E-4330-BF13-22149E8E661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79097-BE07-4737-A011-3ED818F8F73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CA6EB8-1463-456E-A881-7A5EB654C1C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D8B103-9FA9-4E3D-A91F-3C410AE7B07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FABEEB-C146-4F9D-A361-469369BD161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DB747C-C785-416A-B21A-D66FB9016B1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368590-7DF7-4D56-BE16-C8E65D25A4E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DFB283-5266-4B63-BEBF-4033CC288FC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2C248D-6EBC-4D21-862A-A15487D049A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ECF7E6-B3D9-444F-A075-FB165522C97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E72BE9-E9CB-457D-8BB4-C7CA6DFC94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7DE04-53EB-4756-AAF9-8F8F1B73B62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BB805E-A2D9-4266-8CBD-DE264D76FA2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2BE46A-CD7C-444B-96CF-4411001C549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C0ACCF-9453-4C6F-B053-519BE212CC0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BF5B4-0AFF-41D3-B39D-41CF53AA7D0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19C82-5B79-4E0D-BD8C-C2693C341F7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C8AE9-212F-46EB-8599-E506B5015DE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9CA2A-2916-4F9E-B0B4-C68F9C90F72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A3D5F-C606-4DFA-96D6-5A84E2F5F6D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3E8BB-4E42-40F4-9AE4-4514089157A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A6EAB-D1BA-4BEF-A1A3-1157EBCBFE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C1835-0CA9-40FD-B519-6EC726ABD09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224BE-4C88-45FF-ACD2-361432259E3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5EC4A-750F-4985-8E6E-0FC38F686B1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3A116-5680-4CBA-B9C8-BAE4AB1890A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8A9F7-8829-47A7-8B9B-509C697F1E0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ADC33-8DFE-4648-BAC3-A509B96A2A8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DE2FD-213D-4A57-A83C-A9572D6FEB4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90798-D450-4FBA-B740-43696901038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A400E-8D93-4249-882B-86D5B08C722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5D5C7-9B95-47BA-AE60-82BE6691528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596A7-7AF1-4562-AB48-6888458A66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54634-185B-4A19-80C4-5B2C48D9E9D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3A205-3711-4B4B-9C94-0D75B72FBC8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BB4C1-DC84-4E13-B202-6F5AF322014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D37FA-452C-4DE7-AB2F-34223D85226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76A38-9C86-4081-83CB-79865B343BA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EF4F0-4BE3-4F9C-83E0-32774E62B25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BA4B9-AF3B-4BF4-BE6E-F97FBC046A4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BEE09-4935-49D4-9BD3-AC1CBB7A9C1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457FD8-3E37-40DD-A0E6-B332AB09563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377D0C-614A-4349-8F64-8A0E2DD8740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C4EBD9-1AFB-4C93-AC36-F635B3D98D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915B2-4551-4265-B06A-234A513DD6D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D581F8-291F-46AE-8F40-985DC5FDC0B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63C31C-0C61-4503-85EC-0A0F1D6E15B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0984DD-AB02-47CD-870D-2EBE875F089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3DD8E9-3781-4C12-87A5-EBC539F1F85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6139C2-D649-441E-B66E-8CE970E96D4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D7EEFA-D13C-4C89-8F13-2CE44DCEB0C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B4C8C7-D886-492C-AD17-AA8E925AC6C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7C6090-58D1-4F80-8945-355737136E1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4205EC-3019-4348-B000-DC5EE706572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3C66C3-C193-41B2-8909-6A2F68C22A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6D090-DE39-4A86-9FBF-60CD50247D7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DEFA1B-2568-450C-9F95-AE780771E31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3DC6F4-4D7F-41E9-9FB9-71CD60C29F3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468450-27CD-4C34-B1E6-C0B124C13F1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CA191E-2BE2-48D8-B5A5-4ADE5E4647C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DF916F-225F-46C7-9D7E-3E3B6EB41FF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274DC1-35FF-497D-9F8F-1EB03DA3FF1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DEB549-8CDF-4E60-9214-A554397C4CD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C6DE7E-7F7C-444F-B05A-F2377B0A0DF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0E398E-364D-460D-930D-46591A6EF71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8825E0-BB67-44BF-BA7D-314FD5C8B7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B30AE-F85B-4A55-86FA-139DD84D8D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16E87-1EBB-45BD-8C6B-41B1F96B367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FF24D1-7A45-472B-9DAE-C84A16762C0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EBF45-6946-4CBA-9596-B210FC2DFEC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055DA-3864-4066-9AD0-38B78BC6C01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B3B01-1A87-41D9-9971-213F60108E1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451A2-AFF0-4715-89DF-C90BABA1A70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9186D-90AD-4CC2-928D-698BFA6C011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99B89-189B-4924-8DB5-180FA03B0DB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D6511-282A-4225-9544-DA8B072EC28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C8F88-F532-4208-8867-0DE0D0CCC49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7C43E-2773-4B89-8A4B-2317E55D68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3E18F-7066-485E-B629-81944F30414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62ECD-A06F-48F3-8941-35A13232AB6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83106-EF83-4601-95AE-3866084F5A9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AAC99-9361-4FB6-B96D-5600A521624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21D05E-AD57-4257-92A6-3D6B5E6CFFE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7CA854-5723-4161-9D13-553A4B32107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43AB34-4856-465A-9074-BCA26B194CF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37FB9F-E4B7-4A13-B4F6-0E1ACEC7A9F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33DA4A-95AE-4EF4-A2D3-9C9859611B9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A69D51-1755-4E56-871F-7602F3B629E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C4483A-7656-475E-A65D-A164AEF350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24383-8707-4180-8D94-8F14B9256C8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927AC2-8EAC-4A25-9799-FCD17E8FDBA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9A6DF1-0F46-48C1-94D2-CCD10233479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CCD99D-D7FA-4551-B5CA-B891B4B4870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F20E06-ABFB-455E-A27B-D7BE56D3168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1B4036-C84D-4518-A066-20566C3F774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8E40FE-51E9-4685-8C7D-7AA5FB10894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1FA0FA-DCF3-44D4-A69B-F678D406522A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7E5D68-A6B5-4674-B7BE-AC8BCCCE4345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5B92B6-B720-4B0F-A56C-1B3516E7C95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959490-900B-4B0A-A99D-EB08E63364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003E7-D4E6-43E0-B807-BA7D677B0572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3443E5-C954-4C8C-B246-B476A60A64E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3DFFA8-AFF4-4D00-84A8-BB79EC4C847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0F1DB4-39F7-4F5B-8B9B-99F9FA4ACF0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F26E06-C519-4E0B-8660-73FC12E0EAD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F3B220-748C-4FA5-A11C-E01913C3DE7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A16B02E-897F-4D86-99E2-FD6727F821E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A30793-0B69-4384-BB2D-DC769CAB716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428A2-3B47-42F5-86C1-E904C1012A2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27A67-D659-4657-A7F7-7B20B48090D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4D60CD-1C68-402E-A429-6181E31838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3D487-BF04-492B-ABD6-E389B26775BF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91F58-57B4-4973-A61A-FA1693EF01B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79C2E-BEE3-47CC-8A48-597C58B5E28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48511-05D3-4111-A71C-7A0C8F3C003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06706-FC4E-44D8-B4AD-FE3125939A4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DBB7D-9BD4-48BE-94CA-11BA463ECCF5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1761E-73BB-4EAC-A860-91C047C22DD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63350-3CCF-47F6-8F06-C0D5097F3C5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496E2-C0B7-4B08-A694-BA88EE7E943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CF819-D767-4937-B372-3FB15958A10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6290D5-8D0D-402A-84FD-9AF0AFB188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D0988-1F48-455B-86CB-80ED7C61727C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7837A7-86AE-47AF-9FB3-3D6B21E4DEAF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D830BB-353D-49A6-B248-475E0C38F679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69CB72-F7F6-45C3-8C0D-3CC07BC60AFD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056400-ED84-4316-BC8E-8568DBA96B8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DDAAB4-FE2A-4CEB-BF35-C6C8AF5FE022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9DD2C6-0698-40AC-AEB5-848AD661C336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F83C3B-5D3F-44DF-B112-BFCEB4791F8D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7015D7-D2DB-488C-941F-26A9C7B5EBF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6185C8-5081-4DE6-AF83-26A73462504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7D528C-4F56-42C3-9F94-4AC74F7D86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3D17B-86A0-4894-9F56-FD893A0B486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F1E8A4-2B7B-4E98-BD14-CA743995882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BC0B-033E-4722-97B3-61371CCA832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0F9A-A8C6-467E-8081-6894A1192D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AEE6-AC68-4D1D-A470-502DEF7B9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2089-7B6A-40B1-811C-C01F687C4C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2323-DCD8-487A-9CB5-49B6C7EB6E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84AD-5A8F-4C70-AFD0-27F59B6E8D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C3AD-6385-46DC-A1F9-7C6B051178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6D98-7E0E-4716-87B9-1D73BDC72F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B33C-7926-4AD5-BB73-9C59AC129C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DA6-8FF4-4C0E-A8BA-E7C90EB419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0866-AC6B-4764-9B8C-F629FD7794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92B7-311D-40C0-8C98-0A2D570A8D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91BC-192F-457A-83F8-EACC749911B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548B-334A-4D27-9852-40CF97B2A8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6E16-6190-4EB3-9209-E398BE24AFD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8AFCC-F08B-4A44-BC85-A8ADE6A0AA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CC703-9AD3-4A47-BCC4-05FBD21E12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66D02-7819-499E-B200-45AD410653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9147F-1545-4614-AB89-B341863F3A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3E43E-3ED6-49B4-9C01-DABA8E1E5B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9B92A-3128-4D41-922B-1A56D7CB7F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E6DCE-849C-4407-8333-7F0FB6256F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C9B04-473B-4C43-92C4-C1F455BF9E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E9853-9B12-4650-8A3A-A51576E17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2B5D-5A6D-4041-A5FA-3F48D2E36AB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FC708-A313-462A-9EFC-109C99858E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9866F-DD59-4BB2-9E4E-CE27467DAF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63D52-DBAE-4BDC-8158-5EAFF45518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3A0EA-0175-4690-A3AB-AD6FB9B512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836C9-5C8F-4952-8A89-C6E7D16004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F0357-3650-4907-AC8E-AACE7A9901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CCD5C-2556-4B39-B928-5545B9ADEB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9BDB5-DF68-4D62-A180-F19FA6F784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5EDAB-235C-4C74-ADA9-AA3A5DFB56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F1375-83F4-4B47-A24C-E967174B7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09B0-1B3D-4641-AEC7-ED246EBE9CA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83805-356E-476D-AE43-7F0A92118D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D6A14-92F3-4494-93C8-F59358FCBE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E55F1-8DFF-4CAC-BC27-8E9989FE585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1CC5B-2345-4566-9729-46BA730C2B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0B694-6DCC-4352-BF8D-669AAE1A337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52DE-E9A9-428B-BED0-E4E2C94DA5A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2982-10EE-4015-9DFA-E5755180501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0D43-4174-4742-A082-B7F8C93A84B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73FF-EEA9-4E13-9D74-27BF2E9F978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6AD5-85E7-472B-BC64-CDDBA4D76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F2F5-D2AF-4F9B-84DB-5FDAEC640FA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ACABD-7508-4EC4-B1A3-4E9D115BB4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905F-FAE0-4F35-8F77-8B790FD9FD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CBD35-F324-433E-8D26-9F6A8A4FD49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5B3D-2EC3-4A65-B714-8771CAB9F3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E4DC-BCDD-4EDA-9A72-C8AA09BE935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E58B-1897-45C7-9572-7E55E7573D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CF549-D408-4C39-B71F-0C28FBAC193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69C5D-0312-4181-9A9F-760CFCE0BA2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CEE59-ADDC-42C1-BAB0-9254F6DB0CA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E0D8D-5A16-4496-8D44-0442587E9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9429F-43AB-42A7-B994-2F196C7D3E00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387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1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16404-8211-43B8-9FF9-69761C2ACEF0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43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1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977F4-24F3-445C-B8B2-671B8947A93C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473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2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BC0F3-20B7-4048-888B-D1A688BAE497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516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2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D71D5-8FAC-4082-ADBC-2A734DB55E37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559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2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2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EAE43-64C9-4740-A065-3F1AE91E2CCE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60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ftr" idx="2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sldNum" idx="2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DB722-090F-42EC-8729-B916BD4AA7AD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645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2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2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C783C-6F1D-4363-AC54-C1186D61D7B8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68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7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0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731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7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0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77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0" descr="EPD-PPT_cover_forMS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3" descr="EPD-PPT_cover-LOGO_PNG24.png"/>
          <p:cNvPicPr/>
          <p:nvPr/>
        </p:nvPicPr>
        <p:blipFill>
          <a:blip r:embed="rId6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9FB4E-C52E-4ED6-94E9-A151C9BA8E72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1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ftr" idx="2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3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EE045-DF4C-40EA-80C4-0F331EDFE204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6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ftr" idx="3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sldNum" idx="3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F76C8-6954-4EFB-92FD-25B18CFEF44B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906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ftr" idx="3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3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970E5-9170-4CA6-8B32-5E65544EAC68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95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3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3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7D533-CB43-412E-A6B0-58423A8C0FD1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99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ftr" idx="3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sldNum" idx="3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46298-2CE8-4BF1-9081-26B84F8B1438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3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3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sldNum" idx="4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827F9-9816-4F8B-A900-C87D9631BE57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8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4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4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9F350-FAAE-4897-AB1F-7DBCF1494BA9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126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ftr" idx="4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sldNum" idx="4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D0036-B974-4557-8F36-AE682A6C9DB9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17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ftr" idx="4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sldNum" idx="4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77339-2053-460D-B0DD-A85BA6742489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21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ftr" idx="4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sldNum" idx="4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98C92-47CC-461A-AB4D-DE87D016694F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58533-01DF-416A-9FAB-FBB2EF11BCDC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25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ftr" idx="4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sldNum" idx="5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F35FF-3E19-4D81-95F2-E1610F0C0310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30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7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8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61CC1-2083-43F5-9A8E-A662605322AA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60256-C628-4877-A5F1-8BC552B37CBA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25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10BC5-F403-49E1-AB8A-927642322081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DE8DC-9D99-4F36-86FC-16957F2EB1FD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34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F6CCB-4939-429A-BF91-58AE2E3E450A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69640" y="3951000"/>
            <a:ext cx="708156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XPERIENCIAS EN LOS PROCESOS DE DIÁLOGO PARA LA COHESIÓN SOCIAL: EUROPA CENTRAL Y ORIEN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269640" y="4671720"/>
            <a:ext cx="868356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ENCUENTRO DE INTERCAMBIO Y PROGRAMACIÓN: CONSTRUCCIÓN DE CONSENSOS PARA LA COHESIÓN SOCIAL , ASUNCIÓN 15 – 17 DE NOVIEMBRE D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contexto de progresiva perdida de legitimidad del régi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fícil situación soci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do de excepción y golpe militar a mediados de los años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vilización y contest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vimiento Solidar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glesia cató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sa de negociación se constituye en 1988 cuando el gobierno del General Jaruzelsky reconoce como contraparte política al Comité Cívico establecido por Solida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B5FA2-A4B4-46F4-8838-796F8FF3676B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sa redonda se concentra en tres áreas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lización económica – propiedad privada, abolición del control estatal de las ex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 política – elecciones y nuevas estructuras institucionales (separación de poderes), calendario de tránsito hacia un sistema de plenas garantías democ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ica social – derechos de los trabajadores (asociación y sindicación) – ruptura del papel central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1466B-5981-4F75-ADFE-7E962D267681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representantes de Solidaridad juegan un papel ambiguo en el marco de estas mesas de negociación: por un lado tratan de defender nuevas conquistas para los trabajadores, al tiempo que abren la puerta a las reformas liberalizadoras que arrinconan el papel de los actore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 tensión se pone de manifiesto tras las primeras elecciones democráticas. Dureza de los ajustes estructurales empuja a la base a manifestarse y de esta manera se rompe el equilibrio inestable entre el rol político y el rol de actor social de la oposición que había mantenido el liderazgo de Solidar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resultado es la creación de una mesa de diálogo tripartita (Gobierno, Sindicatos, Empresarios), que permite articular un modelo de diálogo social permanente y más efectivo en el contexto de las políticas de transformación económicas de los años noventa (comienza a funcionar a partir de 1994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9A8DA-61EF-4F95-BC47-F1FD087646C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xperiencia polaca de las mesas redondas durante la transición representan un modelo híbrido a medio camino ent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sa de diálogo po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Órgano de pilotaje del proceso 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to Asamblea constit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 de concertac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 funcionamiento responde a las necesidades de una coyuntura política muy específica -  su funcionamiento pone en contradicción las estrategias de los actores y acaba por romper el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establece una primera praxis que permite la construcción de institucionalidad en torno al diálog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cionalidad, sin embargo, no necesariamente significa una potenciación del diálogo social a partir de 1990. Por el contrario asistimos a un paulatino proceso de desmovilización ciudad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 – ALGUNAS 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8CDBD-C488-4C74-BDD2-1DFBDF277299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163440" indent="-1634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los años noventa se produce una desconexión efectiva entre la ciudadanía y los actores sociales, así como entre estos y las instituciones políticas. Varios mo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reformas (muy duras) son percibidas en muchos casos como un mal necesario – al menos desde la retó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iudadanía se retira del espacio público para concentrarse en la articulación del espacio privado (paliar las consecuencias individuales del proceso de transformación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cionalización de practicas corporatistas (como en el caso de Polon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gresiva tecnificación de los procesos de reforma: la forma predominante de incorporación de actores sociales es a través de la movilización de expertise (nacional o internacional), mengua el carácter político del proceso – fuerte influencia de actores externos: IMF, WB, UN, NATO,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minución de la capacidad de las organizaciones sociales: movilización, recursos financieros – dificultades para transform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¿DEMOCRACIA SIN CIUDADA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6FD95-21C3-48B5-B021-8E94CA94BFFE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68840" indent="-1688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l año 1997 se produce la revitalización de los espacios de diálogo social en el marco de las políticas públicas. Varios mo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incorporación paulatina de una cultura de gobernanza: incorporación horizontal de actores frente a la integración vertical – desarrollo de experiencias piloto (de la mano de la cooperación internac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lementación de los programas comunitarios inyecta nuevas capacidades y recursos (económicos) al tercer sector en estos países. Fortalecimiento de su papel en el ciclo de la rendición de cuentas y como socio de las administraciones públicas en el marco del diseño y ejecución de las política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eminación del conocimiento y expertise en estructuras endóge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ctores sociales completan el ciclo de transformación desde el momento transicional: nuevas competencias en una sociedad abierta y pl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vos mecanismos de institucionalización de la participación de los agentes sociales en el diseño de políticas públicas – respuestas secto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GOBERNANZA, POLÍTICAS PÚBLICAS Y MECANISMOS DE PARTICIP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FBC6C-7A91-4E42-806B-7A25AFECCAA9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ón de los espacios de concertación social: Comisión tripartita en Po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nuevos mecanismos para articular la participación de la sociedad civil en el ciclo de políticas públicas: Establecimiento del Centro de ONGs en Let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vos mecanismos de concertación y participación de actores en el marco de la reforma de políticas sociales: la experiencia de la reforma de los sistemas de educación vocacional y formación profesional en la República Chec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Y DIÁLOGO SO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66277-B38B-43E3-88E8-05D92C5A8042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ito desde la política a un modelo de articulación corpora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s construido para enfrentar las huelgas de 1992 –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la articulación de un mecanismo permanente de diálogo social y concertación – se consolida institucionalmente sólo en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indicatos se disocian de su papel durante la transición política -  transformación de los sindicatos en una estructura de agregación de intereses colectivos más allá de la geometría de los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resentación relativamente amplia en un contexto con gran pluralidad de organizaciones: Cuatro sindicatos principales; Empresarios;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gue reducir sistemáticamente la conflictividad social – mejoran las condiciones de pilotaje del proceso de reforma política, económica e instituc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1120" indent="-1569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- COMISIÓN TRIPART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6AD0F-CE1E-49DF-A940-357BEB205041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1187280" y="2144880"/>
            <a:ext cx="72453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rea en el año 1994 en el marco de un programa internacional (Fundación Soros, UNDP, Gobierno de Dinamarca) para el fortalecimiento de las capacidades de las 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miento en dos dimen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mensión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visión de servicios especializados a ONGs – recursos y capacidades / coordinación de posiciones comu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ategia de cabildeo hacia el Gobierno para mejorar el marco institucional de funcionamiento del tercer 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mensión geográfica – apoyo a las ONGs fuera de la capital a través de centros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CENTRO DE 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FD7C9-28E1-4780-9BF8-C39201F644F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s impactos positivos a partir del año 2002 – reforma de la legislación para garantizar la participación de las ONGs en el marco del proceso de articulación de las políticas públicas: Reuniones regulares a nivel del Secretario de Estado – Vicemin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ón del Centro de ONGs como coordinador de la participación de las ONGs en estos for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2004 se extienden los mecanismos de consulta y los espacios de diálogo entre las instituciones y las 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nivel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nivel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la incorporación efectiva de estas estructuras al acervo de gobernanza en el país – sostenibilidad del mode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 de la financiación y las ayud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tenciación del liderazgo de las ONGs locales sobre su propio proceso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CENTRO DE 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1081B-4AF0-4A0C-8527-361BAD6A58DE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IAS EN LOS PROCESOS DE DIÁLOGO PARA LA COHESIÓN SOCIAL: EUROPA CENTRAL Y ORIENT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1187280" y="2030040"/>
            <a:ext cx="7245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3d596c"/>
                </a:solidFill>
                <a:latin typeface="Arial"/>
              </a:rPr>
              <a:t>CONTENIDOS DE LA PRES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roducción y algunas precis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6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xperiencia centroeurop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ementos de par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momento transicional y las experiencias de diálogo social y político en torno a los grandes ejes de la transición política (Polon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¿Democracias sin ciudadano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periencias recientes en la consolidación de la participación a lo largo del ciclo de las políticas públ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9AD9C-2DB0-4239-8103-33ED9B8E0951}" type="slidenum">
              <a:rPr b="0" lang="en-U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 destinada a mejorar la articulación entre el currículo de la formación profesional y vocacional y las necesidades del mercado de trabajo en la República Ch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se articula a partir de la creación de espacios de concertación ent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uelas de formación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es y expertos en formación profesional y vo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ociaciones de Padres d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resarios y emple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opera a escala nacional pero a través de una implementación descentralizada -  las escuelas tienen el liderazgo del proceso dentro de lo establecido por el Programa-Marco de Educa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REFORMA FORMACIÓN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7AEEA-9FC9-492A-B981-F1CBD58EA025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modelo de reforma ha enfrentado algunas resistencias iniciales por parte de las escuelas y de los padre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mente se trabaja en la implementación de más de 30 Programas de Educación Piloto. Los resultados de dichas experiencias piloto marcarán el éxito de este proceso de reforma participativa y 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sultados de la experiencia, sin embargo han arrojado un saldo positivo desde el punto de vista de la participación de los actore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REFORMA FORMACIÓN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29D39-9FC1-4570-9425-9D0EF96F2220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67040" indent="-1670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1997 se produce un proceso paulatino de concretización del papel de la sociedad civil y de los actores sociales en el marco del proceso de las políticas públ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486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un tránsito desde un modelo originario de diálogo político (visión de país) hacia un modelo de diálogo en el marco de la política y de las políticas públicas (normal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486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un proceso que corre en paralelo a la modernización de la gestión pública y de la administración pública en el marco de la incorporación de estos países a la Unión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este momento se produce una diverisificación de las instancias de diálogo: consolidación de las comisiones de diálogo social, establecimiento de mecanismos de participación y coordinación e incorporación de los actores sociales en el marco de políticas pública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Y DIÁLOGO SOCIAL - 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821CA-AADF-4B19-B791-20771549A722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sultado es una incorporación efectiva de los actores sociales a las estructuras de gobernanza: propuesta y diseño de las políticas, rendición de cuentas  transparencia, provis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roceso de normalización, sin embargo, convive con la extensión del desencanto de la ciudadanía frente al funcionamiento del sistema político: desmovilización y transformación de los mecanismos de liderazgo público. Una dinámica que se transformará en la medida en la que la crisis financiera global exija la construcción de un nuevo pact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Y DIÁLOGO SOCIAL - 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93BAA-5B78-4EAD-BF96-18EC144BB67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CLUSIONES DE LA PRESENT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163440" indent="-1634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xperiencias de participación y diálogo social se estructura a través de dos niveles diferenciad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trucción de grandes consensos políticos – momento trans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1199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periencia de modernización de los modelos de gobern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Aft>
                <a:spcPts val="1199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procesos en cierta medida interdependientes pero que se desarrollan en marcos políticos, sociales y de política pública muy diferenciados (transición vs. adhe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Aft>
                <a:spcPts val="1199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primeros años de la transición la dureza de las reformas estructurales limita la capacidad de los actores sociales y por tanto la efectividad de los mecanismo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ceso de adhesión a la UE es fundamental para entender la consolidación de los actores sociales en el marco de las políticas públicas y del proceso de incorporación del acervo comu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BE72A-FEFD-4626-8979-366C586D5C84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CLUSIONES DE LA PRESENT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ún así las experiencias de estos países han sabido construir sobre las fortalezas originarias de su tejido asociativo – no hay que olvidar que fueron los actores sociales los que consiguieron el derrocamiento de los regímenes comu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1199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se ha avanzado hacia la constitución de modelos de interacción complejos que muestran la madurez de los actores sociales y las administraciones para trabajar de manera conjunta tanto desde un punto de vista estructural como desde un punto de vista se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4CC2D-2D6F-436B-B88C-606D5F09BD38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269640" y="3951000"/>
            <a:ext cx="708156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Box 14"/>
          <p:cNvSpPr/>
          <p:nvPr/>
        </p:nvSpPr>
        <p:spPr>
          <a:xfrm>
            <a:off x="282600" y="5257800"/>
            <a:ext cx="5105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d596c"/>
                </a:solidFill>
                <a:latin typeface="Arial"/>
              </a:rPr>
              <a:t>CARLOS HERNÁNDEZ FERREIRO</a:t>
            </a: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_ </a:t>
            </a:r>
            <a:r>
              <a:rPr b="1" lang="en-US" sz="1200" spc="-1" strike="noStrike">
                <a:solidFill>
                  <a:srgbClr val="3d596c"/>
                </a:solidFill>
                <a:latin typeface="Arial"/>
              </a:rPr>
              <a:t>DIRECTOR </a:t>
            </a:r>
            <a:r>
              <a:rPr b="1" lang="es-ES" sz="1200" spc="-1" strike="noStrike">
                <a:solidFill>
                  <a:srgbClr val="3d596c"/>
                </a:solidFill>
                <a:latin typeface="Arial"/>
              </a:rPr>
              <a:t>EJ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d596c"/>
                </a:solidFill>
                <a:latin typeface="Arial"/>
              </a:rPr>
              <a:t>EUROPEAN PARTNERSHIP FOR DEMOC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Avenue des Celtes, 20/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B-1040 Brussels - Belg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+32 2 733 22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carloshernandez@epd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www.epd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TRODUCCIÓN Y ALGUNAS PRECISION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1187280" y="239184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frecer insumos para el debate sobre la mejora de los mecanismos de incorporación de los actores sociales y políticos a lo largo del ciclo de las políticas públicas para la cohesión soci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r algunas líneas básicas de la experiencia de los Estados Miembros de la UE de Europa Central y Or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OBJETIVOS DE LA PRES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66585-7B6E-4A42-9C1A-CFBC0E574E0C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TRODUCCIÓN Y ALGUNAS PRECISION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artir un proces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9 países de Europa Central y Oriental conforman un rico “vivero” de experiencias de cambio institucional y político – muy difícil de resumir en una pres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ecesidad de ajustar las experiencias a la demanda real a lo largo de las discusiones de este seminario – (esta presentación es sólo un primer insu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ecesidad de habilitar un diálogo entre pares para asegurar la transmisión de experiencias de manera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entación de algunas respuestas institucionale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PRECISIONES INI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E99CF-0BA7-4BDC-9B45-07AFE0546878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80000" indent="-1800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s encontramos ante un proceso de cambio profundo que afectó a todos los órdenes: social, político, económico, institucional, cultural de estos países – transito entre dos cosmovisiones antag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procesos en los que las dinámicas políticas y de cambio domésticas han coexistido (no siempre de manera sencilla) con la influencia de procesos/actores regionales/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720" indent="-16020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mantelamiento de la Unión Soviética (a partir de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720" indent="-16020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de integración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720" indent="-16020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luencia directa de la comunidad internacional, de manera particular en el marco del proceso de desarrollo de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00C11-B9A9-4779-AF88-D24E711C8380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momentos cl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a etapa (1989 – 1997): Construcción del andamiaje de los nuevos sistemas democrát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es individuales y col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stitucionalidad democrática y separación de pod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básicas de una economía 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alineamiento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a etapa (1997 – 2004): Proceso de integración europea – implementación de los Criterios de Copenh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ineamiento de las políticas públicas y de los procesos con el “acervo” de la 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arrollo de las capacidades políticas y administr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9BEF2-D866-410C-B285-6CB78BEDE3BE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174600" indent="-1746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ito en un plazo muy corto de tiempo (20 años) de la condición de países receptores de asistencia internacional hasta convertirse en “donantes emergentes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ria histórica muy viva sobre las dificultades que han jalonado los procesos de trans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eriencia reciente de implementación de programas de cooperación internacional y de asistencia técn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muy joven de activistas que pilotaron los procesos de cambio. Hay un trasvase entre el mundo del activismo social y político hacia el mundo de la administración pública y viceversa. Ejemplo: República Che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untad clara de transformar estos procesos de transición en un valor de la acción exterior (a nivel individual y a nivel europ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B833F-A167-4292-AB46-090B3AFAF3DC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de el punto de vista de la articulación del diálogo político y social los procesos de transición en Europa Central y Oriental se han articulado en tres fases (fechas aproximadas) y por tanto en tres niveles de experiencias diferenci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89 – 1990: Inicio de los procesos de transición – experiencias de las mesas redondas de concertación en Hungría, Polonia o República Checa - diseño de las grandes líneas de política y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90 – 1997: Segunda fase: enfriamiento de la participación y la movilización de los actores sociales y políticos – la política queda en manos de los políticos /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97 – : nuevos modelos de gobernanza reactivación de los canales de participación en el marco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FDD74-EB54-4B23-A13F-66E4A6387127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esas redondas articulan el tránsito entre el nuevo y el antiguo régimen en Polonia, Hungría y Checoslovaquia. Establecen un espacio de concertación entre las autoridades de los regímenes comunistas y los representantes de las fuerzas democratizador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rticulan como un espacio constituyente: establecen el marco básico sobre el que se va a construir el andamiaje institucional de las nuevas democracias en algunos casos (Polonia) se incluye el modelo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mismo tiempo son un espacio fundamental para articular los tiempos y los procesos de la transición política e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MESAS REDONDAS Y DIÁLOG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04D91-8D33-4361-8B0C-ABB4F22DEDC4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22:47:22Z</dcterms:created>
  <dc:creator>D N</dc:creator>
  <dc:description/>
  <dc:language>en-US</dc:language>
  <cp:lastModifiedBy>Maria Eugenia Cebrian</cp:lastModifiedBy>
  <dcterms:modified xsi:type="dcterms:W3CDTF">2011-11-16T11:26:09Z</dcterms:modified>
  <cp:revision>104</cp:revision>
  <dc:subject/>
  <dc:title>Slide 1</dc:title>
</cp:coreProperties>
</file>