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C84E-3E0A-489C-9B2B-E65F233E18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0% of workers in the market sector are employed by members of VNO-NC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E703-4C1C-4D5E-B261-4A84BD16B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B8CD-D675-49B1-8CEE-010858D53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DEE9-AF62-4E02-8E1A-891D56D85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936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1544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4292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936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1544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5F54-4D20-48CE-9EFE-32005EBD3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756-A48E-4C9F-BA10-1882AE8192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410-6918-46C8-B79C-11F9E6794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C00-3282-4386-BA4D-DBCC0A5CB0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278-08C3-4D49-8D41-8DEAC1053A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791-A683-44FF-AEFF-28C9FDCD40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56D-EFED-41F7-952F-F6761E3DA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F1B-DD97-4613-A497-AB484D156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1ACB-78B3-4768-84A3-D8DA8B1BA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2FF-5083-4FE1-8B30-282E1D63AF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33A-3715-490B-A8F6-04E10FAF9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1ED-F873-48E0-A12C-DEEFAD7526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341-AA10-4A77-920A-DFB5F64A9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936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1544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4292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2936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1544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BA0-2016-4093-93F7-30EEBFD691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6E9D-71EF-4E2E-9D47-E383ACE01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3082-861D-410F-A4CC-2B71924B6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F7F1-58CB-4C0E-8A81-E734A3669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9213-5B9A-487B-A0BD-036EDC188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E45D-51E5-4CF5-9E7E-8EC8F37F7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6B3A-5B14-4CF8-AC89-508ACEC57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52FE-C205-473C-9861-CF46BFB18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39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44000" y="6381360"/>
            <a:ext cx="9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1E6-D6C2-4281-AF4F-B74066B74F22}" type="slidenum">
              <a:rPr b="0" lang="nl-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95280" y="6381360"/>
            <a:ext cx="55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Afbeelding 7" descr="__MKB.gif"/>
          <p:cNvPicPr/>
          <p:nvPr/>
        </p:nvPicPr>
        <p:blipFill>
          <a:blip r:embed="rId2"/>
          <a:stretch/>
        </p:blipFill>
        <p:spPr>
          <a:xfrm>
            <a:off x="7885080" y="6265800"/>
            <a:ext cx="719280" cy="471600"/>
          </a:xfrm>
          <a:prstGeom prst="rect">
            <a:avLst/>
          </a:prstGeom>
          <a:ln w="0">
            <a:noFill/>
          </a:ln>
        </p:spPr>
      </p:pic>
      <p:pic>
        <p:nvPicPr>
          <p:cNvPr id="5" name="Afbeelding 6" descr="__VNO-NCW.jpg"/>
          <p:cNvPicPr/>
          <p:nvPr/>
        </p:nvPicPr>
        <p:blipFill>
          <a:blip r:embed="rId3"/>
          <a:stretch/>
        </p:blipFill>
        <p:spPr>
          <a:xfrm>
            <a:off x="468360" y="6308640"/>
            <a:ext cx="1655640" cy="3398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69040"/>
            <a:ext cx="194472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732720" y="6269040"/>
            <a:ext cx="19447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ack nw Intranet"/>
          <p:cNvPicPr/>
          <p:nvPr/>
        </p:nvPicPr>
        <p:blipFill>
          <a:blip r:embed="rId2"/>
          <a:stretch/>
        </p:blipFill>
        <p:spPr>
          <a:xfrm>
            <a:off x="-4680" y="11160"/>
            <a:ext cx="9136080" cy="6831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cfd8e1"/>
          </a:solidFill>
          <a:ln w="9360">
            <a:solidFill>
              <a:srgbClr val="a0a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692360" y="0"/>
            <a:ext cx="5761080" cy="612720"/>
          </a:xfrm>
          <a:custGeom>
            <a:avLst/>
            <a:gdLst>
              <a:gd name="textAreaLeft" fmla="*/ 1200240 w 5761080"/>
              <a:gd name="textAreaRight" fmla="*/ 4560840 w 5761080"/>
              <a:gd name="textAreaTop" fmla="*/ 127440 h 612720"/>
              <a:gd name="textAreaBottom" fmla="*/ 4852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fd8e1"/>
          </a:solidFill>
          <a:ln w="9360">
            <a:solidFill>
              <a:srgbClr val="cfd8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7" descr="__MKB.gif"/>
          <p:cNvPicPr/>
          <p:nvPr/>
        </p:nvPicPr>
        <p:blipFill>
          <a:blip r:embed="rId3"/>
          <a:stretch/>
        </p:blipFill>
        <p:spPr>
          <a:xfrm>
            <a:off x="7885080" y="6265800"/>
            <a:ext cx="719280" cy="471600"/>
          </a:xfrm>
          <a:prstGeom prst="rect">
            <a:avLst/>
          </a:prstGeom>
          <a:ln w="0">
            <a:noFill/>
          </a:ln>
        </p:spPr>
      </p:pic>
      <p:sp>
        <p:nvSpPr>
          <p:cNvPr id="48" name="Line 10"/>
          <p:cNvSpPr/>
          <p:nvPr/>
        </p:nvSpPr>
        <p:spPr>
          <a:xfrm>
            <a:off x="468360" y="6269040"/>
            <a:ext cx="194472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6732720" y="6269040"/>
            <a:ext cx="19447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VNO-NCW"/>
          <p:cNvPicPr/>
          <p:nvPr/>
        </p:nvPicPr>
        <p:blipFill>
          <a:blip r:embed="rId4"/>
          <a:stretch/>
        </p:blipFill>
        <p:spPr>
          <a:xfrm>
            <a:off x="468360" y="6308640"/>
            <a:ext cx="1728720" cy="3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39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8532720" y="6308640"/>
            <a:ext cx="61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49B-6C14-4161-99D2-99C5E63DD604}" type="slidenum">
              <a:rPr b="0" lang="nl-NL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178920" y="6244920"/>
            <a:ext cx="820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NO-NCW &amp; MKB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31 August 2009: merge of secretari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es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but coordinated communication with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NO-NC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ederation of Netherlands Industry and Emplo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0 branch associations (115.000 compan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all companies &gt;5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2% of companies 100 – 5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% of companies 10 – 1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KB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deration of small and medium sized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branch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.000 sm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1640" y="1557360"/>
            <a:ext cx="6553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ieving a good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vironment and investment climat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 boost the competitiveness of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tch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ities tow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00000" y="1267920"/>
            <a:ext cx="712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cal market: promotion of the interests of NL business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mbers: service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ety as a whole: soci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/Labou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l Economic Council and Labour Foundation play important role in our lobby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ement in SER or LF creates broad support for policy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 Energy Agreement for Sustainable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ur Foundation: Soci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cial Partners negot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ur Foundatio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tor/Bran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± 200 sector CLA’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an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± 500 company CL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rmation and consultation: works counc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28:05Z</dcterms:created>
  <dc:creator>JeanetteH</dc:creator>
  <dc:description/>
  <dc:language>en-US</dc:language>
  <cp:lastModifiedBy>loesh</cp:lastModifiedBy>
  <dcterms:modified xsi:type="dcterms:W3CDTF">2013-09-23T08:07:05Z</dcterms:modified>
  <cp:revision>12</cp:revision>
  <dc:subject/>
  <dc:title>Dia 1</dc:title>
</cp:coreProperties>
</file>