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CE7-FC82-48C1-B8D9-3E359150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131-7CA1-451E-B4FA-E270288E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F51A6-3305-4C42-9507-D437508D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C0BBA-7BF4-485C-8796-808EEFD8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C2A70-ACE1-42FE-ACCF-250A9563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3D49C-8B3C-4A08-9FDF-4DB23EC4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2F89C-6BA9-4638-8A3A-4294D408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E5095-8C8D-42BA-BFAC-F0AD7E55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52157-92F1-420C-A59C-1E78ECA7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985A1-A911-4A50-9245-93B4D1DC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F1548-05C0-4A7E-90BD-82698EAC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4B1F3-6C3E-4AAB-AE09-52FEAD65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F22-73BC-4239-84B4-DBCAB5FD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ABC00-D780-4A61-8DAE-7CF62CC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D64A7-E2F7-4CF0-A003-7DBFB600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7E192-9746-43EB-B804-77ABE649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AC56E-2AFE-4223-9E31-F057B9C1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09CE2-1AA3-4AC3-B257-963DF977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4BD69-92CF-4874-839C-DF5B2999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05E06-C7B3-4F0D-BAA8-781BA326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BB6F9-AD16-4587-960E-015506DA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D7DDC-2BCA-4FD9-AF20-29CB7559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6445B-AB8F-4548-9019-47FF429C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3D3-14D3-4F30-99E3-F0C792AF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55559-0CDA-481C-8B58-1699C61B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AF947-3596-4AAE-99E0-65DB1637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AAA82-80D3-4187-8D40-A0659220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1EDF1-9BB6-4212-BC35-BB8C6AAE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3DEDA-4D13-4294-A775-A2155A40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80683-49A8-440A-B592-656C4A1C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12364-2E09-4CEA-84F1-3D96AA70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3B559-7C69-4A75-8A4D-CCE6FB4C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5FDC2-F226-4E90-89CD-1EB31A2B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B90D3-6CBC-4A97-9041-710AEC82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2054-73A5-4E80-8614-EB2A826E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3C11C-BC86-40D4-9404-2E2AE015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79DCA-D1CD-4ADC-918B-CF919CAD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55ACC-EE87-40FC-BF67-274F2347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516D5-4202-4254-9F29-27CC5F93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DB57D-A11D-452B-9793-DF11DE20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8EFE9-6C78-439C-9838-1363CE5A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5BDB8-E15E-4CC5-A5AD-D21AA20E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F5EA5-1347-41B9-BDE9-22315B1B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0B965-E16A-46DE-B135-813E1CB3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4E777-98E4-4707-BD95-7A51214F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7DD2-3F71-4BFA-B4AF-95C6173A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9D57E-A2F8-4736-B2A6-D89AEF94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5ABA0-BE0C-457F-AB6D-1F39E9BA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EECD6-5FDD-4254-B083-8DA49613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B5900-4C58-4193-B1E5-D69FE22B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25383-52C5-4DAD-A116-5556D618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941ED-BD30-4547-AF20-D5309C6E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CFDC7-DA29-496E-94A7-A800258C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34028-58C7-4572-86F3-0406B659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5CD89-224D-415F-8752-C2B63AED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DD923-FA02-4B96-B197-C136E5C1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906C-E890-4EB6-81FD-E8A28781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CAA1C-499B-4B41-A1F2-AD98BD5E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3186A-024E-40AF-9722-EF7780AF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CCD5A-346B-46B8-A0B3-A9350173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58B6C-3A1C-44D1-80E6-6A6878F2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31099-94BE-4663-A394-5167F7E7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0440C-2A35-4819-B765-5D3F2C47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9D0C2-7F74-40B4-A63B-27D332FE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3955-E3B1-4350-B838-742ED218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F6C5-3CD3-4CBC-B39F-EC402713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5951-EEE4-4AE0-8FA3-DC66A480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E1A5-F965-478C-805E-1FD0C58E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91A-E328-4A09-BD3A-2579BC6D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DAC2-ED57-474D-9DDC-DD5563C3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93B9-D9B6-4CC0-AE89-6D8729FB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05D8-0755-4F8A-81EB-3FBBAB32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CDD0-FA6B-4878-85B1-3EAC9E3E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EE61-C3A7-491F-8705-A44D73BB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0307-6CD6-40A9-8CFF-526A9CA3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3766-6952-48DC-AD26-4A39531D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289BB-6286-4627-B384-4FD2BC2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1F00-1732-4C31-98DF-F9E76CF6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0E3DD-3DF6-4CB0-A8B8-72B91C42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F7A-A061-4F19-ACE9-412A0BB2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516A-887E-4933-98A0-D176E44C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701C-46C4-4203-A192-8B0F37B1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35667-0919-428D-8473-295B38E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A0D86-65A6-422B-913D-0661A90C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8127-AE55-4B22-9582-1C94023D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A294-3A92-4128-9D92-896A0EAA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BC01-1123-4552-BB57-B8B0780F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7F08-8AB9-44E5-99E8-0AEEEC1F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6B680-AEEC-46C0-AE6D-3540AE1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96066-9B72-4BEA-BF75-A9D61FC3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167-3F0C-4262-B293-E967DA68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A553-FE7E-4188-B3EE-E8DC0FD2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48655-2487-4BA5-BB63-C470D70D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9DAB-0C1B-4886-A40A-6A9C7E25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A1EC3-BAF1-4637-913C-709956C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4117C-7627-46E0-BBE7-6CA99F57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DCE74-6BFB-41DC-9B72-9B61932C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D2316-438A-43E5-99F0-5C623ADD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7364-149D-47F3-AA35-0900D8C0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0E46-2F0F-4F77-A373-E67AD367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2682E-BE74-440F-8FE5-D58D4815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FC1-3C80-4A43-A093-B7697F2A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54DB0-257B-4D48-83D4-D2B48198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354E-AA1B-4E1A-A9DB-900A6B09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3AAE7-2D0F-427A-BB1B-A1AE6FFD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2CADE-2F55-4CF8-9CCC-5035637D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BE4AF-66AA-4B8F-B4FF-89006280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F1704-10E4-4D93-9C6B-83D479CC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48D64-03C9-4B1B-B71C-02C889A4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6C820-8DEB-4643-B91C-D6810EC1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57CE6-A376-4A6F-9B01-94097BC1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C5B19-853B-4444-8251-CA833700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D21-8F03-4BFF-B0ED-0BA3253F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A8EDB-93DA-4795-AE6D-367670E4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71EEF-AB2C-4169-B753-F48F1E60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AE433-7671-4CAD-9275-6B593C50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CCBC2-E93C-45FA-852D-5215F386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C2D97-C7CC-48CA-A334-71DE8D9D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A5484-3413-4EAA-BB64-EBAAC8AB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3F715-F6AC-4319-8EB8-04BFACB5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C3D6-E824-4A92-A216-E6A5C805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0ABEF-2DE5-42B4-96E8-E774C95C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DC2EF-67EC-40E7-89F1-9FE4FF4F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D5B-630B-47F7-81B1-A5C589FE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C2021-9F9D-4128-8928-B16515C8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FE845-5193-4193-9838-6B0F0FE4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40AAA-5461-465D-B5A1-88570281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249A3-0797-4CCB-8DED-8036413B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2EF61-5255-44C8-9A6E-8976314E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B9F5E-229B-4563-8576-8CFABDA8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2B651-252F-476E-A8F4-8425EAB8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C84B2-F3E3-4C95-B3D4-EA01CA75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6964B-2CF5-40AA-9222-87D11A9F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0F5F7-6C55-4FD5-B877-8AE61CEC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004-EB7D-45D4-9D98-9DF9FFDA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F724B-7462-4614-9205-98016BCF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6A601-3204-42B0-8248-A8E4239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D991D-2FC0-4C94-972A-9EB0452C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513AF-E057-4DB9-B2EA-470B0217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7797B-E210-43F7-9F4B-BF246250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97A1C-5D17-4701-877D-B5E10899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4A4DF-956B-4A39-B1E9-21C9C25B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D98F0-CA9E-4861-9705-9FE618B7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ABD6A-676C-444A-BFB9-F7C48984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681EB-2C52-4F90-BAB8-226681D1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789-9A20-4790-81EE-5D7C42A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E4C22-67AF-446B-9C1F-4A725CD5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B4E42-34DB-4BF7-B8E6-5EC2E5EA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DA207-BC05-410C-B8C7-CACFE08C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C54B-67F4-43DA-A768-79E9002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6A2EA-DAD1-47E2-A6E8-2A70F500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2CACA-1511-478A-8BD5-1270A74F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A401F-6EDF-42EC-BD41-2DC76456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CF5AC-9726-494A-9242-1DB623D1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82643-B2A9-40EB-B433-302BDEB7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65088-C5EE-41E8-9D2B-6FFE4790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C15B-6757-45CB-9142-768E9F96FE40}" type="slidenum">
              <a:rPr b="0" lang="es-G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844B-D6A2-4BBE-9FB5-07C040AB6B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8FF1-020B-48AA-A09E-B6A9466902E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6CE6-FC79-4401-9ABC-CF0DB54611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7638-FBE2-4758-AD44-051ABC9945B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3927-A72F-46A5-8A5A-77BE88D53E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6F83-37F1-4746-8E98-31AECE92B7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712E-52B0-49E2-878E-62E0D831E9E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75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D179-D491-4E7F-90E1-22F3A715C00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96C-7430-4039-97CD-572F5B1DE56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4A01-93F9-4BA2-B2EC-59F8E5A4E3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8F3C-65C9-4A19-BA70-98906CAC0E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F9A6-CC4F-4493-A2A0-8FC4D5FDE0F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.png"/><Relationship Id="rId29" Type="http://schemas.openxmlformats.org/officeDocument/2006/relationships/image" Target="../media/image31.png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GT" sz="2800" spc="-1" strike="noStrike">
              <a:solidFill>
                <a:srgbClr val="c00000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2400" spc="-1" strike="noStrike">
              <a:solidFill>
                <a:srgbClr val="898989"/>
              </a:solidFill>
              <a:latin typeface="Perpetua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Imagen 1" descr="ces"/>
          <p:cNvPicPr/>
          <p:nvPr/>
        </p:nvPicPr>
        <p:blipFill>
          <a:blip r:embed="rId1"/>
          <a:stretch/>
        </p:blipFill>
        <p:spPr>
          <a:xfrm>
            <a:off x="1258920" y="3284640"/>
            <a:ext cx="6553080" cy="295272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101916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4 Rectángulo redondeado"/>
          <p:cNvGrpSpPr/>
          <p:nvPr/>
        </p:nvGrpSpPr>
        <p:grpSpPr>
          <a:xfrm>
            <a:off x="3481560" y="115920"/>
            <a:ext cx="2217600" cy="669960"/>
            <a:chOff x="3481560" y="115920"/>
            <a:chExt cx="2217600" cy="669960"/>
          </a:xfrm>
        </p:grpSpPr>
        <p:pic>
          <p:nvPicPr>
            <p:cNvPr id="577" name="4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481560" y="115920"/>
              <a:ext cx="22176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3525840" y="168120"/>
              <a:ext cx="20304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ASAMBL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Presidente del Consej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5 Rectángulo redondeado"/>
          <p:cNvGrpSpPr/>
          <p:nvPr/>
        </p:nvGrpSpPr>
        <p:grpSpPr>
          <a:xfrm>
            <a:off x="6267600" y="762120"/>
            <a:ext cx="1785960" cy="596880"/>
            <a:chOff x="6267600" y="762120"/>
            <a:chExt cx="1785960" cy="596880"/>
          </a:xfrm>
        </p:grpSpPr>
        <p:pic>
          <p:nvPicPr>
            <p:cNvPr id="580" name="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6267600" y="762120"/>
              <a:ext cx="17859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308640" y="808200"/>
              <a:ext cx="1598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alibri"/>
                </a:rPr>
                <a:t>Presid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alibri"/>
                </a:rPr>
                <a:t>Comisión Perman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6 Rectángulo redondeado"/>
          <p:cNvGrpSpPr/>
          <p:nvPr/>
        </p:nvGrpSpPr>
        <p:grpSpPr>
          <a:xfrm>
            <a:off x="6626160" y="1547640"/>
            <a:ext cx="1152720" cy="598680"/>
            <a:chOff x="6626160" y="1547640"/>
            <a:chExt cx="1152720" cy="598680"/>
          </a:xfrm>
        </p:grpSpPr>
        <p:pic>
          <p:nvPicPr>
            <p:cNvPr id="583" name="6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626160" y="1547640"/>
              <a:ext cx="11527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6665760" y="1593720"/>
              <a:ext cx="963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Vicepresid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Sector Cooperativo                                     </a:t>
              </a:r>
              <a:r>
                <a:rPr b="1" lang="es-MX" sz="10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19 Conector recto"/>
          <p:cNvSpPr/>
          <p:nvPr/>
        </p:nvSpPr>
        <p:spPr>
          <a:xfrm>
            <a:off x="1643040" y="3571920"/>
            <a:ext cx="5357880" cy="1440"/>
          </a:xfrm>
          <a:prstGeom prst="line">
            <a:avLst/>
          </a:prstGeom>
          <a:ln w="442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37 Conector recto"/>
          <p:cNvSpPr/>
          <p:nvPr/>
        </p:nvSpPr>
        <p:spPr>
          <a:xfrm flipH="1">
            <a:off x="7071840" y="1285920"/>
            <a:ext cx="1800" cy="2858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40 Conector recto"/>
          <p:cNvSpPr/>
          <p:nvPr/>
        </p:nvSpPr>
        <p:spPr>
          <a:xfrm>
            <a:off x="6084720" y="184464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27 Conector recto"/>
          <p:cNvSpPr/>
          <p:nvPr/>
        </p:nvSpPr>
        <p:spPr>
          <a:xfrm flipH="1" flipV="1">
            <a:off x="6000840" y="1428840"/>
            <a:ext cx="107136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44 Rectángulo redondeado"/>
          <p:cNvGrpSpPr/>
          <p:nvPr/>
        </p:nvGrpSpPr>
        <p:grpSpPr>
          <a:xfrm>
            <a:off x="1054080" y="3687840"/>
            <a:ext cx="1219320" cy="598320"/>
            <a:chOff x="1054080" y="3687840"/>
            <a:chExt cx="1219320" cy="598320"/>
          </a:xfrm>
        </p:grpSpPr>
        <p:pic>
          <p:nvPicPr>
            <p:cNvPr id="590" name="4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105408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1093680" y="3736800"/>
              <a:ext cx="1036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ia  Sector  Cooper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52 Rectángulo redondeado"/>
          <p:cNvGrpSpPr/>
          <p:nvPr/>
        </p:nvGrpSpPr>
        <p:grpSpPr>
          <a:xfrm>
            <a:off x="2109960" y="676440"/>
            <a:ext cx="1109520" cy="622080"/>
            <a:chOff x="2109960" y="676440"/>
            <a:chExt cx="1109520" cy="622080"/>
          </a:xfrm>
        </p:grpSpPr>
        <p:pic>
          <p:nvPicPr>
            <p:cNvPr id="593" name="52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2109960" y="676440"/>
              <a:ext cx="11095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2165400" y="736560"/>
              <a:ext cx="893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alibri"/>
                </a:rPr>
                <a:t>Auditoria Inte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69 Conector recto"/>
          <p:cNvSpPr/>
          <p:nvPr/>
        </p:nvSpPr>
        <p:spPr>
          <a:xfrm>
            <a:off x="4500720" y="3000240"/>
            <a:ext cx="0" cy="214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70 Conector recto"/>
          <p:cNvSpPr/>
          <p:nvPr/>
        </p:nvSpPr>
        <p:spPr>
          <a:xfrm flipH="1">
            <a:off x="4500360" y="1357200"/>
            <a:ext cx="2592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5 Conector recto"/>
          <p:cNvSpPr/>
          <p:nvPr/>
        </p:nvSpPr>
        <p:spPr>
          <a:xfrm flipH="1" flipV="1">
            <a:off x="3499920" y="3214800"/>
            <a:ext cx="108756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9 Conector recto"/>
          <p:cNvSpPr/>
          <p:nvPr/>
        </p:nvSpPr>
        <p:spPr>
          <a:xfrm>
            <a:off x="4500720" y="692280"/>
            <a:ext cx="0" cy="1879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90 Conector recto"/>
          <p:cNvSpPr/>
          <p:nvPr/>
        </p:nvSpPr>
        <p:spPr>
          <a:xfrm>
            <a:off x="3071880" y="928800"/>
            <a:ext cx="144288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94 Rectángulo redondeado"/>
          <p:cNvGrpSpPr/>
          <p:nvPr/>
        </p:nvGrpSpPr>
        <p:grpSpPr>
          <a:xfrm>
            <a:off x="7765920" y="1547640"/>
            <a:ext cx="1086120" cy="598680"/>
            <a:chOff x="7765920" y="1547640"/>
            <a:chExt cx="1086120" cy="598680"/>
          </a:xfrm>
        </p:grpSpPr>
        <p:pic>
          <p:nvPicPr>
            <p:cNvPr id="601" name="94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7765920" y="1547640"/>
              <a:ext cx="1086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7808760" y="1593720"/>
              <a:ext cx="892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Calibri"/>
                </a:rPr>
                <a:t>Vicepresidente  Sector Labor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91 Rectángulo redondeado"/>
          <p:cNvGrpSpPr/>
          <p:nvPr/>
        </p:nvGrpSpPr>
        <p:grpSpPr>
          <a:xfrm>
            <a:off x="5479920" y="1547640"/>
            <a:ext cx="1158840" cy="598680"/>
            <a:chOff x="5479920" y="1547640"/>
            <a:chExt cx="1158840" cy="598680"/>
          </a:xfrm>
        </p:grpSpPr>
        <p:pic>
          <p:nvPicPr>
            <p:cNvPr id="604" name="91 Rectángulo redondeado" descr=""/>
            <p:cNvPicPr/>
            <p:nvPr/>
          </p:nvPicPr>
          <p:blipFill>
            <a:blip r:embed="rId7"/>
            <a:stretch/>
          </p:blipFill>
          <p:spPr>
            <a:xfrm>
              <a:off x="5479920" y="1547640"/>
              <a:ext cx="115884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5522760" y="1593720"/>
              <a:ext cx="963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Vicepresid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Sector Empresar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92 Conector recto"/>
          <p:cNvSpPr/>
          <p:nvPr/>
        </p:nvSpPr>
        <p:spPr>
          <a:xfrm flipH="1" flipV="1">
            <a:off x="7071840" y="1428840"/>
            <a:ext cx="108756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111 Conector recto"/>
          <p:cNvSpPr/>
          <p:nvPr/>
        </p:nvSpPr>
        <p:spPr>
          <a:xfrm>
            <a:off x="8143920" y="142884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127 Rectángulo redondeado"/>
          <p:cNvGrpSpPr/>
          <p:nvPr/>
        </p:nvGrpSpPr>
        <p:grpSpPr>
          <a:xfrm>
            <a:off x="3913200" y="1835280"/>
            <a:ext cx="1420920" cy="596880"/>
            <a:chOff x="3913200" y="1835280"/>
            <a:chExt cx="1420920" cy="596880"/>
          </a:xfrm>
        </p:grpSpPr>
        <p:pic>
          <p:nvPicPr>
            <p:cNvPr id="609" name="127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3913200" y="1835280"/>
              <a:ext cx="14209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3951360" y="1879560"/>
              <a:ext cx="1241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SECRETARIO TECNICO                                     </a:t>
              </a:r>
              <a:r>
                <a:rPr b="1" lang="es-MX" sz="10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133 Rectángulo redondeado"/>
          <p:cNvGrpSpPr/>
          <p:nvPr/>
        </p:nvGrpSpPr>
        <p:grpSpPr>
          <a:xfrm>
            <a:off x="4913280" y="3687840"/>
            <a:ext cx="1219320" cy="598320"/>
            <a:chOff x="4913280" y="3687840"/>
            <a:chExt cx="1219320" cy="598320"/>
          </a:xfrm>
        </p:grpSpPr>
        <p:pic>
          <p:nvPicPr>
            <p:cNvPr id="612" name="133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491328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4951440" y="3736800"/>
              <a:ext cx="1036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í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Financiera </a:t>
              </a: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135 Rectángulo redondeado"/>
          <p:cNvGrpSpPr/>
          <p:nvPr/>
        </p:nvGrpSpPr>
        <p:grpSpPr>
          <a:xfrm>
            <a:off x="2341440" y="3687840"/>
            <a:ext cx="1219320" cy="598320"/>
            <a:chOff x="2341440" y="3687840"/>
            <a:chExt cx="1219320" cy="598320"/>
          </a:xfrm>
        </p:grpSpPr>
        <p:pic>
          <p:nvPicPr>
            <p:cNvPr id="615" name="135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234144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2379600" y="3736800"/>
              <a:ext cx="1036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ia  Sector  Empresar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136 Rectángulo redondeado"/>
          <p:cNvGrpSpPr/>
          <p:nvPr/>
        </p:nvGrpSpPr>
        <p:grpSpPr>
          <a:xfrm>
            <a:off x="3627360" y="3687840"/>
            <a:ext cx="1219320" cy="598320"/>
            <a:chOff x="3627360" y="3687840"/>
            <a:chExt cx="1219320" cy="598320"/>
          </a:xfrm>
        </p:grpSpPr>
        <p:pic>
          <p:nvPicPr>
            <p:cNvPr id="618" name="136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362736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3665520" y="3736800"/>
              <a:ext cx="1036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ía  Sector  Labo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137 Rectángulo redondeado"/>
          <p:cNvGrpSpPr/>
          <p:nvPr/>
        </p:nvGrpSpPr>
        <p:grpSpPr>
          <a:xfrm>
            <a:off x="6413400" y="3687840"/>
            <a:ext cx="1150920" cy="598320"/>
            <a:chOff x="6413400" y="3687840"/>
            <a:chExt cx="1150920" cy="598320"/>
          </a:xfrm>
        </p:grpSpPr>
        <p:pic>
          <p:nvPicPr>
            <p:cNvPr id="621" name="137 Rectángulo redondeado" descr=""/>
            <p:cNvPicPr/>
            <p:nvPr/>
          </p:nvPicPr>
          <p:blipFill>
            <a:blip r:embed="rId12"/>
            <a:stretch/>
          </p:blipFill>
          <p:spPr>
            <a:xfrm>
              <a:off x="6413400" y="3687840"/>
              <a:ext cx="11509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451560" y="3736800"/>
              <a:ext cx="963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ía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Arial"/>
                </a:rPr>
                <a:t>Administrati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138 Conector recto"/>
          <p:cNvSpPr/>
          <p:nvPr/>
        </p:nvSpPr>
        <p:spPr>
          <a:xfrm>
            <a:off x="550080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141 Conector recto"/>
          <p:cNvSpPr/>
          <p:nvPr/>
        </p:nvSpPr>
        <p:spPr>
          <a:xfrm>
            <a:off x="1643040" y="421488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145 Rectángulo redondeado"/>
          <p:cNvGrpSpPr/>
          <p:nvPr/>
        </p:nvGrpSpPr>
        <p:grpSpPr>
          <a:xfrm>
            <a:off x="2554200" y="2975040"/>
            <a:ext cx="1067040" cy="596880"/>
            <a:chOff x="2554200" y="2975040"/>
            <a:chExt cx="1067040" cy="596880"/>
          </a:xfrm>
        </p:grpSpPr>
        <p:pic>
          <p:nvPicPr>
            <p:cNvPr id="626" name="145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2554200" y="2975040"/>
              <a:ext cx="1067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593800" y="3022560"/>
              <a:ext cx="8766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ía Leg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166 Rectángulo redondeado"/>
          <p:cNvGrpSpPr/>
          <p:nvPr/>
        </p:nvGrpSpPr>
        <p:grpSpPr>
          <a:xfrm>
            <a:off x="1122480" y="4327560"/>
            <a:ext cx="1157040" cy="512640"/>
            <a:chOff x="1122480" y="4327560"/>
            <a:chExt cx="1157040" cy="512640"/>
          </a:xfrm>
        </p:grpSpPr>
        <p:pic>
          <p:nvPicPr>
            <p:cNvPr id="629" name="166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1122480" y="4327560"/>
              <a:ext cx="11570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160640" y="4375080"/>
              <a:ext cx="973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168 Rectángulo redondeado"/>
          <p:cNvGrpSpPr/>
          <p:nvPr/>
        </p:nvGrpSpPr>
        <p:grpSpPr>
          <a:xfrm>
            <a:off x="5048280" y="4322880"/>
            <a:ext cx="950760" cy="523800"/>
            <a:chOff x="5048280" y="4322880"/>
            <a:chExt cx="950760" cy="523800"/>
          </a:xfrm>
        </p:grpSpPr>
        <p:pic>
          <p:nvPicPr>
            <p:cNvPr id="632" name="168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5048280" y="4322880"/>
              <a:ext cx="9507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5089680" y="437508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Contabilid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169 Rectángulo redondeado"/>
          <p:cNvGrpSpPr/>
          <p:nvPr/>
        </p:nvGrpSpPr>
        <p:grpSpPr>
          <a:xfrm>
            <a:off x="2341440" y="4327560"/>
            <a:ext cx="1150920" cy="512640"/>
            <a:chOff x="2341440" y="4327560"/>
            <a:chExt cx="1150920" cy="512640"/>
          </a:xfrm>
        </p:grpSpPr>
        <p:pic>
          <p:nvPicPr>
            <p:cNvPr id="635" name="169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2341440" y="4327560"/>
              <a:ext cx="11509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2374920" y="4375080"/>
              <a:ext cx="973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171 Rectángulo redondeado"/>
          <p:cNvGrpSpPr/>
          <p:nvPr/>
        </p:nvGrpSpPr>
        <p:grpSpPr>
          <a:xfrm>
            <a:off x="3627360" y="4327560"/>
            <a:ext cx="1152720" cy="512640"/>
            <a:chOff x="3627360" y="4327560"/>
            <a:chExt cx="1152720" cy="512640"/>
          </a:xfrm>
        </p:grpSpPr>
        <p:pic>
          <p:nvPicPr>
            <p:cNvPr id="638" name="171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3627360" y="4327560"/>
              <a:ext cx="11527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660840" y="4375080"/>
              <a:ext cx="973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174 Conector recto"/>
          <p:cNvSpPr/>
          <p:nvPr/>
        </p:nvSpPr>
        <p:spPr>
          <a:xfrm>
            <a:off x="2928960" y="421488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175 Conector recto"/>
          <p:cNvSpPr/>
          <p:nvPr/>
        </p:nvSpPr>
        <p:spPr>
          <a:xfrm>
            <a:off x="4214880" y="421488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176 Conector recto"/>
          <p:cNvSpPr/>
          <p:nvPr/>
        </p:nvSpPr>
        <p:spPr>
          <a:xfrm>
            <a:off x="5429160" y="4143240"/>
            <a:ext cx="0" cy="1447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181 Conector recto"/>
          <p:cNvSpPr/>
          <p:nvPr/>
        </p:nvSpPr>
        <p:spPr>
          <a:xfrm>
            <a:off x="700092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204 Rectángulo redondeado"/>
          <p:cNvGrpSpPr/>
          <p:nvPr/>
        </p:nvGrpSpPr>
        <p:grpSpPr>
          <a:xfrm>
            <a:off x="6199200" y="4327560"/>
            <a:ext cx="927000" cy="512640"/>
            <a:chOff x="6199200" y="4327560"/>
            <a:chExt cx="927000" cy="512640"/>
          </a:xfrm>
        </p:grpSpPr>
        <p:pic>
          <p:nvPicPr>
            <p:cNvPr id="645" name="204 Rectángulo redondeado" descr=""/>
            <p:cNvPicPr/>
            <p:nvPr/>
          </p:nvPicPr>
          <p:blipFill>
            <a:blip r:embed="rId18"/>
            <a:stretch/>
          </p:blipFill>
          <p:spPr>
            <a:xfrm>
              <a:off x="6199200" y="4327560"/>
              <a:ext cx="9270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6232680" y="4375080"/>
              <a:ext cx="7506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Recursos Human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206 Rectángulo redondeado"/>
          <p:cNvGrpSpPr/>
          <p:nvPr/>
        </p:nvGrpSpPr>
        <p:grpSpPr>
          <a:xfrm>
            <a:off x="5048280" y="5321160"/>
            <a:ext cx="950760" cy="525600"/>
            <a:chOff x="5048280" y="5321160"/>
            <a:chExt cx="950760" cy="525600"/>
          </a:xfrm>
        </p:grpSpPr>
        <p:pic>
          <p:nvPicPr>
            <p:cNvPr id="648" name="206 Rectángulo redondeado" descr=""/>
            <p:cNvPicPr/>
            <p:nvPr/>
          </p:nvPicPr>
          <p:blipFill>
            <a:blip r:embed="rId19"/>
            <a:stretch/>
          </p:blipFill>
          <p:spPr>
            <a:xfrm>
              <a:off x="5048280" y="5321160"/>
              <a:ext cx="9507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089680" y="537516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Tesore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208 Rectángulo redondeado"/>
          <p:cNvGrpSpPr/>
          <p:nvPr/>
        </p:nvGrpSpPr>
        <p:grpSpPr>
          <a:xfrm>
            <a:off x="7053120" y="5407200"/>
            <a:ext cx="938520" cy="572760"/>
            <a:chOff x="7053120" y="5407200"/>
            <a:chExt cx="938520" cy="572760"/>
          </a:xfrm>
        </p:grpSpPr>
        <p:pic>
          <p:nvPicPr>
            <p:cNvPr id="651" name="208 Rectángulo redondeado" descr=""/>
            <p:cNvPicPr/>
            <p:nvPr/>
          </p:nvPicPr>
          <p:blipFill>
            <a:blip r:embed="rId20"/>
            <a:stretch/>
          </p:blipFill>
          <p:spPr>
            <a:xfrm>
              <a:off x="7053120" y="5407200"/>
              <a:ext cx="93852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7093080" y="5450040"/>
              <a:ext cx="750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Servicios Generale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209 Rectángulo redondeado"/>
          <p:cNvGrpSpPr/>
          <p:nvPr/>
        </p:nvGrpSpPr>
        <p:grpSpPr>
          <a:xfrm>
            <a:off x="5048280" y="4821120"/>
            <a:ext cx="950760" cy="525600"/>
            <a:chOff x="5048280" y="4821120"/>
            <a:chExt cx="950760" cy="525600"/>
          </a:xfrm>
        </p:grpSpPr>
        <p:pic>
          <p:nvPicPr>
            <p:cNvPr id="654" name="209 Rectángulo redondeado" descr=""/>
            <p:cNvPicPr/>
            <p:nvPr/>
          </p:nvPicPr>
          <p:blipFill>
            <a:blip r:embed="rId21"/>
            <a:stretch/>
          </p:blipFill>
          <p:spPr>
            <a:xfrm>
              <a:off x="5048280" y="4821120"/>
              <a:ext cx="9507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089680" y="487512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Presupues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210 Rectángulo redondeado"/>
          <p:cNvGrpSpPr/>
          <p:nvPr/>
        </p:nvGrpSpPr>
        <p:grpSpPr>
          <a:xfrm>
            <a:off x="7047000" y="4322880"/>
            <a:ext cx="950760" cy="523800"/>
            <a:chOff x="7047000" y="4322880"/>
            <a:chExt cx="950760" cy="523800"/>
          </a:xfrm>
        </p:grpSpPr>
        <p:pic>
          <p:nvPicPr>
            <p:cNvPr id="657" name="210 Rectángulo redondeado" descr=""/>
            <p:cNvPicPr/>
            <p:nvPr/>
          </p:nvPicPr>
          <p:blipFill>
            <a:blip r:embed="rId22"/>
            <a:stretch/>
          </p:blipFill>
          <p:spPr>
            <a:xfrm>
              <a:off x="7047000" y="4322880"/>
              <a:ext cx="9507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089840" y="437508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Arial"/>
                </a:rPr>
                <a:t>Informát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211 Rectángulo redondeado"/>
          <p:cNvGrpSpPr/>
          <p:nvPr/>
        </p:nvGrpSpPr>
        <p:grpSpPr>
          <a:xfrm>
            <a:off x="7047000" y="4827600"/>
            <a:ext cx="950760" cy="585720"/>
            <a:chOff x="7047000" y="4827600"/>
            <a:chExt cx="950760" cy="585720"/>
          </a:xfrm>
        </p:grpSpPr>
        <p:pic>
          <p:nvPicPr>
            <p:cNvPr id="660" name="211 Rectángulo redondeado" descr=""/>
            <p:cNvPicPr/>
            <p:nvPr/>
          </p:nvPicPr>
          <p:blipFill>
            <a:blip r:embed="rId23"/>
            <a:stretch/>
          </p:blipFill>
          <p:spPr>
            <a:xfrm>
              <a:off x="7047000" y="4827600"/>
              <a:ext cx="950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093080" y="4878360"/>
              <a:ext cx="750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lmacé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212 Rectángulo redondeado"/>
          <p:cNvGrpSpPr/>
          <p:nvPr/>
        </p:nvGrpSpPr>
        <p:grpSpPr>
          <a:xfrm>
            <a:off x="6199200" y="4834080"/>
            <a:ext cx="933480" cy="573120"/>
            <a:chOff x="6199200" y="4834080"/>
            <a:chExt cx="933480" cy="573120"/>
          </a:xfrm>
        </p:grpSpPr>
        <p:pic>
          <p:nvPicPr>
            <p:cNvPr id="663" name="212 Rectángulo redondeado" descr=""/>
            <p:cNvPicPr/>
            <p:nvPr/>
          </p:nvPicPr>
          <p:blipFill>
            <a:blip r:embed="rId24"/>
            <a:stretch/>
          </p:blipFill>
          <p:spPr>
            <a:xfrm>
              <a:off x="6199200" y="4834080"/>
              <a:ext cx="9334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6235560" y="4878360"/>
              <a:ext cx="7509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Adquisic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215 Conector recto"/>
          <p:cNvSpPr/>
          <p:nvPr/>
        </p:nvSpPr>
        <p:spPr>
          <a:xfrm>
            <a:off x="6000840" y="142884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228 Rectángulo"/>
          <p:cNvSpPr/>
          <p:nvPr/>
        </p:nvSpPr>
        <p:spPr>
          <a:xfrm>
            <a:off x="9085320" y="603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229 Rectángulo redondeado"/>
          <p:cNvGrpSpPr/>
          <p:nvPr/>
        </p:nvGrpSpPr>
        <p:grpSpPr>
          <a:xfrm>
            <a:off x="6199200" y="5407200"/>
            <a:ext cx="933480" cy="572760"/>
            <a:chOff x="6199200" y="5407200"/>
            <a:chExt cx="933480" cy="572760"/>
          </a:xfrm>
        </p:grpSpPr>
        <p:pic>
          <p:nvPicPr>
            <p:cNvPr id="668" name="229 Rectángulo redondeado" descr=""/>
            <p:cNvPicPr/>
            <p:nvPr/>
          </p:nvPicPr>
          <p:blipFill>
            <a:blip r:embed="rId25"/>
            <a:stretch/>
          </p:blipFill>
          <p:spPr>
            <a:xfrm>
              <a:off x="6199200" y="5407200"/>
              <a:ext cx="9334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6235560" y="5450040"/>
              <a:ext cx="7509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Acceso  a la Información  Public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257 Conector recto"/>
          <p:cNvSpPr/>
          <p:nvPr/>
        </p:nvSpPr>
        <p:spPr>
          <a:xfrm>
            <a:off x="6072120" y="457200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282 Conector recto"/>
          <p:cNvSpPr/>
          <p:nvPr/>
        </p:nvSpPr>
        <p:spPr>
          <a:xfrm flipH="1" flipV="1">
            <a:off x="6275160" y="4785840"/>
            <a:ext cx="1116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286 Rectángulo"/>
          <p:cNvSpPr/>
          <p:nvPr/>
        </p:nvSpPr>
        <p:spPr>
          <a:xfrm>
            <a:off x="684360" y="5516640"/>
            <a:ext cx="3240000" cy="360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Estructura  Orgá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290 Conector recto"/>
          <p:cNvSpPr/>
          <p:nvPr/>
        </p:nvSpPr>
        <p:spPr>
          <a:xfrm>
            <a:off x="4929120" y="450072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66 Conector recto"/>
          <p:cNvSpPr/>
          <p:nvPr/>
        </p:nvSpPr>
        <p:spPr>
          <a:xfrm flipH="1" flipV="1">
            <a:off x="4500720" y="3214800"/>
            <a:ext cx="108720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67 Rectángulo redondeado"/>
          <p:cNvGrpSpPr/>
          <p:nvPr/>
        </p:nvGrpSpPr>
        <p:grpSpPr>
          <a:xfrm>
            <a:off x="5553000" y="2975040"/>
            <a:ext cx="1067040" cy="596880"/>
            <a:chOff x="5553000" y="2975040"/>
            <a:chExt cx="1067040" cy="596880"/>
          </a:xfrm>
        </p:grpSpPr>
        <p:pic>
          <p:nvPicPr>
            <p:cNvPr id="676" name="67 Rectángulo redondeado" descr=""/>
            <p:cNvPicPr/>
            <p:nvPr/>
          </p:nvPicPr>
          <p:blipFill>
            <a:blip r:embed="rId26"/>
            <a:stretch/>
          </p:blipFill>
          <p:spPr>
            <a:xfrm>
              <a:off x="5553000" y="2975040"/>
              <a:ext cx="1067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594400" y="3022560"/>
              <a:ext cx="876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Comunicación Soc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78 Conector recto"/>
          <p:cNvSpPr/>
          <p:nvPr/>
        </p:nvSpPr>
        <p:spPr>
          <a:xfrm flipH="1" flipV="1">
            <a:off x="7000920" y="4285800"/>
            <a:ext cx="100008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100 Conector recto"/>
          <p:cNvSpPr/>
          <p:nvPr/>
        </p:nvSpPr>
        <p:spPr>
          <a:xfrm>
            <a:off x="292896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101 Conector recto"/>
          <p:cNvSpPr/>
          <p:nvPr/>
        </p:nvSpPr>
        <p:spPr>
          <a:xfrm>
            <a:off x="421488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103 Conector recto"/>
          <p:cNvSpPr/>
          <p:nvPr/>
        </p:nvSpPr>
        <p:spPr>
          <a:xfrm>
            <a:off x="164304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107 Rectángulo redondeado"/>
          <p:cNvGrpSpPr/>
          <p:nvPr/>
        </p:nvGrpSpPr>
        <p:grpSpPr>
          <a:xfrm>
            <a:off x="5048280" y="5821200"/>
            <a:ext cx="950760" cy="524160"/>
            <a:chOff x="5048280" y="5821200"/>
            <a:chExt cx="950760" cy="524160"/>
          </a:xfrm>
        </p:grpSpPr>
        <p:pic>
          <p:nvPicPr>
            <p:cNvPr id="683" name="107 Rectángulo redondeado" descr=""/>
            <p:cNvPicPr/>
            <p:nvPr/>
          </p:nvPicPr>
          <p:blipFill>
            <a:blip r:embed="rId27"/>
            <a:stretch/>
          </p:blipFill>
          <p:spPr>
            <a:xfrm>
              <a:off x="5048280" y="5821200"/>
              <a:ext cx="95076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5089680" y="587520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Inventari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5" name="71 Imagen" descr="C:\Users\Noe\Desktop\ces.PNG"/>
          <p:cNvPicPr/>
          <p:nvPr/>
        </p:nvPicPr>
        <p:blipFill>
          <a:blip r:embed="rId28"/>
          <a:stretch/>
        </p:blipFill>
        <p:spPr>
          <a:xfrm>
            <a:off x="684360" y="5950080"/>
            <a:ext cx="3244680" cy="407880"/>
          </a:xfrm>
          <a:prstGeom prst="rect">
            <a:avLst/>
          </a:prstGeom>
          <a:ln w="0">
            <a:noFill/>
          </a:ln>
        </p:spPr>
      </p:pic>
      <p:sp>
        <p:nvSpPr>
          <p:cNvPr id="686" name="110 Conector recto"/>
          <p:cNvSpPr/>
          <p:nvPr/>
        </p:nvSpPr>
        <p:spPr>
          <a:xfrm>
            <a:off x="4929120" y="6072120"/>
            <a:ext cx="14292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117 Conector recto"/>
          <p:cNvSpPr/>
          <p:nvPr/>
        </p:nvSpPr>
        <p:spPr>
          <a:xfrm>
            <a:off x="4929120" y="4286160"/>
            <a:ext cx="50004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74 Rectángulo redondeado"/>
          <p:cNvGrpSpPr/>
          <p:nvPr/>
        </p:nvGrpSpPr>
        <p:grpSpPr>
          <a:xfrm>
            <a:off x="4054320" y="2475000"/>
            <a:ext cx="1067040" cy="596880"/>
            <a:chOff x="4054320" y="2475000"/>
            <a:chExt cx="1067040" cy="596880"/>
          </a:xfrm>
        </p:grpSpPr>
        <p:pic>
          <p:nvPicPr>
            <p:cNvPr id="689" name="74 Rectángulo redondeado" descr=""/>
            <p:cNvPicPr/>
            <p:nvPr/>
          </p:nvPicPr>
          <p:blipFill>
            <a:blip r:embed="rId29"/>
            <a:stretch/>
          </p:blipFill>
          <p:spPr>
            <a:xfrm>
              <a:off x="4054320" y="2475000"/>
              <a:ext cx="1067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4094280" y="2522520"/>
              <a:ext cx="876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Sub Secretaría  Técnic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102 Conector recto"/>
          <p:cNvSpPr/>
          <p:nvPr/>
        </p:nvSpPr>
        <p:spPr>
          <a:xfrm>
            <a:off x="4929120" y="5572080"/>
            <a:ext cx="14292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126 Conector recto"/>
          <p:cNvSpPr/>
          <p:nvPr/>
        </p:nvSpPr>
        <p:spPr>
          <a:xfrm flipH="1" flipV="1">
            <a:off x="6072120" y="4285800"/>
            <a:ext cx="92880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129 Conector recto"/>
          <p:cNvSpPr/>
          <p:nvPr/>
        </p:nvSpPr>
        <p:spPr>
          <a:xfrm>
            <a:off x="7858080" y="450072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139 Conector recto"/>
          <p:cNvSpPr/>
          <p:nvPr/>
        </p:nvSpPr>
        <p:spPr>
          <a:xfrm flipH="1">
            <a:off x="4928760" y="4286160"/>
            <a:ext cx="1800" cy="17859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143 Conector recto"/>
          <p:cNvSpPr/>
          <p:nvPr/>
        </p:nvSpPr>
        <p:spPr>
          <a:xfrm flipH="1">
            <a:off x="6071760" y="4286160"/>
            <a:ext cx="1800" cy="1357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147 Conector recto"/>
          <p:cNvSpPr/>
          <p:nvPr/>
        </p:nvSpPr>
        <p:spPr>
          <a:xfrm flipH="1">
            <a:off x="8001000" y="4286160"/>
            <a:ext cx="1440" cy="1357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149 Conector recto"/>
          <p:cNvSpPr/>
          <p:nvPr/>
        </p:nvSpPr>
        <p:spPr>
          <a:xfrm>
            <a:off x="7858080" y="507204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150 Conector recto"/>
          <p:cNvSpPr/>
          <p:nvPr/>
        </p:nvSpPr>
        <p:spPr>
          <a:xfrm>
            <a:off x="7858080" y="564372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151 Conector recto"/>
          <p:cNvSpPr/>
          <p:nvPr/>
        </p:nvSpPr>
        <p:spPr>
          <a:xfrm>
            <a:off x="6072120" y="564372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154 Conector recto"/>
          <p:cNvSpPr/>
          <p:nvPr/>
        </p:nvSpPr>
        <p:spPr>
          <a:xfrm>
            <a:off x="7000920" y="4143240"/>
            <a:ext cx="0" cy="1447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179 Conector recto"/>
          <p:cNvSpPr/>
          <p:nvPr/>
        </p:nvSpPr>
        <p:spPr>
          <a:xfrm>
            <a:off x="6072120" y="507204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184 Conector recto"/>
          <p:cNvSpPr/>
          <p:nvPr/>
        </p:nvSpPr>
        <p:spPr>
          <a:xfrm>
            <a:off x="4929120" y="507204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1 Rectángulo"/>
          <p:cNvSpPr/>
          <p:nvPr/>
        </p:nvSpPr>
        <p:spPr>
          <a:xfrm>
            <a:off x="755640" y="1268280"/>
            <a:ext cx="1512720" cy="8654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Asambl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24 Miembros Titulares 12 suplentes , 1 Presiden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17 Elipse"/>
          <p:cNvSpPr/>
          <p:nvPr/>
        </p:nvSpPr>
        <p:spPr>
          <a:xfrm>
            <a:off x="3203640" y="1197000"/>
            <a:ext cx="1224000" cy="11523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900" spc="-1" strike="noStrike">
                <a:solidFill>
                  <a:srgbClr val="000000"/>
                </a:solidFill>
                <a:latin typeface="Calibri"/>
              </a:rPr>
              <a:t>24 Consejeros Titulares  (8 por cada sector)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900" spc="-1" strike="noStrike">
                <a:solidFill>
                  <a:srgbClr val="000000"/>
                </a:solidFill>
                <a:latin typeface="Calibri"/>
              </a:rPr>
              <a:t>1 presidente  con voz, no vo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33 Conector recto de flecha"/>
          <p:cNvCxnSpPr/>
          <p:nvPr/>
        </p:nvCxnSpPr>
        <p:spPr>
          <a:xfrm>
            <a:off x="2268000" y="1699920"/>
            <a:ext cx="791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6" name="42 Rectángulo redondeado"/>
          <p:cNvSpPr/>
          <p:nvPr/>
        </p:nvSpPr>
        <p:spPr>
          <a:xfrm>
            <a:off x="826920" y="3357720"/>
            <a:ext cx="1297080" cy="7696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Comisión Perman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(Presidente, 3 Vicepresidentes, Secretario Técnic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44 Rectángulo redondeado"/>
          <p:cNvSpPr/>
          <p:nvPr/>
        </p:nvSpPr>
        <p:spPr>
          <a:xfrm>
            <a:off x="3276720" y="3789360"/>
            <a:ext cx="1150920" cy="503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Secretaría Téc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45 Rectángulo redondeado"/>
          <p:cNvSpPr/>
          <p:nvPr/>
        </p:nvSpPr>
        <p:spPr>
          <a:xfrm>
            <a:off x="826920" y="5157720"/>
            <a:ext cx="1368720" cy="792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800" spc="-1" strike="noStrike">
                <a:solidFill>
                  <a:srgbClr val="000000"/>
                </a:solidFill>
                <a:latin typeface="Calibri"/>
              </a:rPr>
              <a:t>Comisiones Especiales que se creen a partir de temas de trabaj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800" spc="-1" strike="noStrike">
                <a:solidFill>
                  <a:srgbClr val="000000"/>
                </a:solidFill>
                <a:latin typeface="Calibri"/>
              </a:rPr>
              <a:t>(6 Consejeros, 2 por sector y el Secretario Técnic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102 Pentágono"/>
          <p:cNvSpPr/>
          <p:nvPr/>
        </p:nvSpPr>
        <p:spPr>
          <a:xfrm>
            <a:off x="3419640" y="4869000"/>
            <a:ext cx="1008000" cy="504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1" y="0"/>
                </a:lnTo>
                <a:lnTo>
                  <a:pt x="21600" y="10800"/>
                </a:lnTo>
                <a:lnTo>
                  <a:pt x="16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24 miembros con vo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109 Conector recto de flecha"/>
          <p:cNvCxnSpPr/>
          <p:nvPr/>
        </p:nvCxnSpPr>
        <p:spPr>
          <a:xfrm>
            <a:off x="3058920" y="515736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1" name="115 Abrir llave"/>
          <p:cNvSpPr/>
          <p:nvPr/>
        </p:nvSpPr>
        <p:spPr>
          <a:xfrm>
            <a:off x="4643280" y="465300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116 Rectángulo"/>
          <p:cNvSpPr/>
          <p:nvPr/>
        </p:nvSpPr>
        <p:spPr>
          <a:xfrm>
            <a:off x="4859280" y="4869000"/>
            <a:ext cx="914400" cy="43164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100" spc="-1" strike="noStrike">
                <a:solidFill>
                  <a:srgbClr val="000000"/>
                </a:solidFill>
                <a:latin typeface="Calibri"/>
              </a:rPr>
              <a:t>Consejo  Ple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141 Conector recto"/>
          <p:cNvSpPr/>
          <p:nvPr/>
        </p:nvSpPr>
        <p:spPr>
          <a:xfrm>
            <a:off x="1476360" y="2205000"/>
            <a:ext cx="0" cy="1079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152 Conector recto"/>
          <p:cNvSpPr/>
          <p:nvPr/>
        </p:nvSpPr>
        <p:spPr>
          <a:xfrm>
            <a:off x="1476360" y="4149720"/>
            <a:ext cx="0" cy="1079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175 Conector angular"/>
          <p:cNvCxnSpPr/>
          <p:nvPr/>
        </p:nvCxnSpPr>
        <p:spPr>
          <a:xfrm flipH="1" rot="16200000">
            <a:off x="1008000" y="3033000"/>
            <a:ext cx="2951640" cy="1152000"/>
          </a:xfrm>
          <a:prstGeom prst="bentConnector3">
            <a:avLst>
              <a:gd name="adj1" fmla="val 37411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6" name="201 Conector angular"/>
          <p:cNvCxnSpPr/>
          <p:nvPr/>
        </p:nvCxnSpPr>
        <p:spPr>
          <a:xfrm flipH="1" rot="16200000">
            <a:off x="2122200" y="2277000"/>
            <a:ext cx="1585080" cy="1440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717" name="205 Rectángulo"/>
          <p:cNvSpPr/>
          <p:nvPr/>
        </p:nvSpPr>
        <p:spPr>
          <a:xfrm>
            <a:off x="611280" y="260280"/>
            <a:ext cx="3673440" cy="28908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Estructura Funcional del 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6 Conector recto de flecha"/>
          <p:cNvCxnSpPr>
            <a:stCxn id="706" idx="3"/>
            <a:endCxn id="707" idx="1"/>
          </p:cNvCxnSpPr>
          <p:nvPr/>
        </p:nvCxnSpPr>
        <p:spPr>
          <a:xfrm>
            <a:off x="2124000" y="3741480"/>
            <a:ext cx="115344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9" name="10 Conector recto de flecha"/>
          <p:cNvCxnSpPr/>
          <p:nvPr/>
        </p:nvCxnSpPr>
        <p:spPr>
          <a:xfrm flipV="1">
            <a:off x="2306160" y="4292280"/>
            <a:ext cx="9738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720" name="12 Rectángulo redondeado"/>
          <p:cNvSpPr/>
          <p:nvPr/>
        </p:nvSpPr>
        <p:spPr>
          <a:xfrm>
            <a:off x="4932360" y="12906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ffffff"/>
                </a:solidFill>
                <a:latin typeface="Calibri"/>
              </a:rPr>
              <a:t>Presidencia: relaciones  con otros Organismos de Es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c00000"/>
                </a:solidFill>
                <a:latin typeface="Calibri"/>
              </a:rPr>
              <a:t>Plan de Trabajo y Actividades a desarrollar en el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Asambleas: 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Reuniones de Comisión Permanente: 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Reuniones de Comisiones Específicas: 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Dictámene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Informe anual sobre el estado económico y social: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Jornadas de capacitación: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Estudio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Opiniones y Recomendacione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Conformación e integración de Comisiones Específica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1800" spc="-1" strike="noStrike">
                <a:solidFill>
                  <a:srgbClr val="002060"/>
                </a:solidFill>
                <a:latin typeface="Calibri"/>
              </a:rPr>
              <a:t>Actualmente (al 9 de abril de 2013) se encuentran conformadas y en funcionamiento 2 Comisiones Específicas: Desarrollo Rural y Empleo; ambas deberán generar dictáme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1800" spc="-1" strike="noStrike">
                <a:solidFill>
                  <a:srgbClr val="002060"/>
                </a:solidFill>
                <a:latin typeface="Calibri"/>
              </a:rPr>
              <a:t>Se han formulado dos opiniones y recomendaciones: sobre la crisis ocasionada por la Roya del Café y sobre la Reforma Educ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5:05:25Z</dcterms:created>
  <dc:creator>blinares</dc:creator>
  <dc:description/>
  <dc:language>en-US</dc:language>
  <cp:lastModifiedBy>Bernardo</cp:lastModifiedBy>
  <dcterms:modified xsi:type="dcterms:W3CDTF">2013-04-09T22:58:55Z</dcterms:modified>
  <cp:revision>63</cp:revision>
  <dc:subject/>
  <dc:title>Diapositiva 1</dc:title>
</cp:coreProperties>
</file>