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dt" idx="9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ftr" idx="9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 type="sldNum" idx="9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C9A9-AF7F-482E-9734-4EA57EE77D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Marcador de número de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9301-7904-46A3-86BE-829952983C8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3BF3-954F-4085-8BB5-119A2EC5829F}" type="slidenum"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A3B5-DCB8-4198-921A-42E277C6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2C13-6B85-4A14-804F-000CFC6F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9DD4D8-793C-40BD-8A95-91D38ED8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0C1BD7-FFA1-49D9-BBF9-139923D9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6D7F4-2C71-4644-8871-E6CACD2F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4B370-26C8-4640-A5E1-6C38ACBB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FF1B91-3B33-48EB-92B3-EBC0D7C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59E3F-811F-4E65-B6B1-F0979A74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3A28C-60D7-4C46-AF43-DC3121B2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EE832A-6CC7-43C4-9BEE-96448AA8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83727-FFF6-4B4D-98FA-0631AA57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78F08B-66B2-4DEE-B76F-F77EBB64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75B9-466B-480E-9F53-AB70D447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B35623-9ED2-413B-BEBD-FECBE49D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D9706A-D75D-4441-B66D-FF5C8C90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8E5418-0420-41EE-86E5-2C9DE57C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D383B7-6EB5-44CA-80D2-7BC23803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A5AE52-80C8-4E7A-9100-BA2722D8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FE2B65-1A75-4063-A7B2-2D1ABBE2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449E44-6E50-4BC4-BA9D-ACF19EE4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ED3E73-94CC-40DE-A3F6-78A4E089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0EA965-1915-4E8F-8DB7-C1475CD1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C2CD31-2062-409E-B67E-FDCC9FC9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756C-353C-4442-A05A-F0B62B22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26EEAA-8D9B-4EA8-B28E-96ED7279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B89E64-17E5-4CE6-B8B6-0B971DDC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910BE0-397C-4495-8146-30D5B6A4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95F53F-7329-47C9-8086-6548637B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5CA36B-CD79-4BFC-B0C9-B7B885C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3A4419-A900-4166-B477-6F647FED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90A5F4-6727-4AF6-8E34-08C09B4E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240959-71C4-40B5-B441-76FBE5E2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04FF66-4642-4311-9F95-736E7EF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C731B6-489C-44DB-A6F3-33B26E39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C6B02-AE24-447F-89BD-8F2CBC99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7CF42C-7ACA-41B7-9581-D6F32035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F6F7D6-75AD-4402-8054-9272D319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EE8DE1-4898-484D-890A-7AC76441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22AF4C-5A70-41C6-883C-01ADA06B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D3428F-8854-451D-AE6D-441666F8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D7F18F-9156-4904-B891-6A570FD4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DDCA8D-6427-49BD-9BCB-D3E301AC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AC1A3E-3F1B-41BB-84EF-0F2055EA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6CA34F-61D0-421D-BB2E-DC88FBDF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862E32-DCAA-4A84-B37F-A2B668E3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487B6-457A-4CCC-B472-74C5FC74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4D07BC-A5FB-4FE2-AD8B-0FD83EFE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767080-2DDE-4796-ACF6-127EDFA3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494F20-BB25-480D-A777-754F6237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F2775B-A514-4028-A404-A57472D7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B8B26F-9910-4407-B264-539CA43E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F2BEE3-2557-49EE-A8D2-91316268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E828FB-DF67-45E4-B649-F3800CD7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C0775D-0EAD-4939-B444-206D01A0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EE6E39-7CE4-4812-9A07-8C04C085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F5D353-2D72-40E3-BE6E-D5DC527E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D57A0-0CB3-4161-8A1E-703B928A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15B94C-AC0D-449C-9382-C247D4B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AC64EE-D284-49C4-93F6-2544843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5D3B19-C083-48AE-9132-D4319E4E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2E0450-2F27-4253-94AF-47361190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102FAD-02B3-4B46-ADEA-BCDB0C70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98B526-AD4E-4F58-B0BC-B45F1380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C548CF-784C-414C-9C5B-2F4D3F77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9D5041-4B83-4DC3-A65C-25FCAEA5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67D9BB-7F8A-4F54-BF7F-22A6B24D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563F3D-E6A8-45CC-BDA5-783F1EE1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E1A4E-858C-4B58-BC9C-D7CF3241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BB0889-30BE-45A5-BF02-136E7988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1BEBC1-E4AD-4A74-A9BA-14FBBE5F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E96506-09AC-4735-9A28-CACF10A9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B8E8F3-FC0F-4144-B7D1-AFEE901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189D15-261F-49B0-B0F2-CA487D5B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901156-DB95-4E0C-9C5B-E276E2F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D31C1C-133B-44CA-A6BA-86409EC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7AD36C-C67C-4259-9577-8DFD6CE9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14897D-D4EE-45DE-904D-C2692E50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A7A0CD-3D7A-4911-AA92-1C5417FB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74C55-7BB6-43AF-87D1-61584E0A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6F1012-6A6F-4773-811C-7B5649DF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A82C6D-EEEC-492C-B51E-42B6412D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CF734B-C11D-4E4C-A203-CE74C037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48F7A9-9403-4ED4-9D1C-C26DACB8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FE644A-43DF-4F22-9356-0755ACEA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F55588-2C74-4577-9B35-2C43BE7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6CB35F-231F-4BA9-9A0B-90E1371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CC9B18-C9A3-463B-92A5-BFF7D001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C2E647-98A5-4CE5-A0E6-6C765010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97C733-E5CC-49BF-B787-0FA09563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05F11-B61E-4DAF-BF4F-CD3A9910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ECBE5D-FAF9-4150-914A-BFCD16D8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6EF107-F8AC-4743-B728-96E20EC0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DCDE1D-EBB1-4A4F-8A8E-B7D322D9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8872B2-C466-4E21-B6A8-64A8440F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CCB46E-B9CA-4F59-9C81-45C7701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8492A0-C8E9-4F75-A563-352B330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0D421C-F41F-4263-850E-5CA7CB64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5F3E8A-835B-489B-ABC5-B2D6515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CA6D83-FFE0-4447-8323-50BA407C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5C6AA6-8F8C-43E6-A973-55B1A54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F5C64-9536-4C56-BA3A-4EC73F93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9A9A10-A9AB-4400-91FD-631A73EC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5F3B9A-2C85-4183-89CD-5387AC62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DF6707-AC31-49C3-AAE5-478801B0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84CC51-210C-48EE-BFEA-10F25715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3E878F-38CF-47B1-82E6-7F3F2FE9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D7A98A-1954-499F-9E76-DBE5EC71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C5780F-8782-4092-86EA-79B37A45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A3EBB6-9FDE-46F2-9921-4ED5B077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9D06A0-9E0D-4000-B485-F25F1977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6E2607-D23A-4993-9ED2-83BCDFB9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5066-1714-42BE-950F-6B8D99AB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9AAAF-C6B7-40F2-B643-0053DF9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6CFDC7-E234-40CB-9DDD-E2CFB8F7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A1353E-CA9D-43E5-BA5D-E62CA1E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8FE19A-5229-4536-BECD-FA5A4C14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8B9154-93D3-4691-AEC6-CFECA987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1A24F5-E969-4394-933F-24E18814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78177-5CCA-44CC-BA3F-D5EEA8F0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E68F9-59B5-41BB-AC2A-F151F5D7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57D8F-9904-48DB-8CE1-2AFCD039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8CD4C-C698-431C-833C-3DCAB934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4E6EA-01BC-408E-BEB1-DF99BB1A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C5DF4-7CED-4F19-A82E-5933345B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399EC-16E4-4232-8B56-E8813808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4D8CA-480B-47BB-B15D-8BEA76B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105A2-8FF4-4332-97A0-073B8453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56C2F-8CB8-43D5-B74E-0D626BF8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7E040-B7E6-4F89-B866-AC7901EA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5AA3C-05A1-44EE-8561-A6AB1E06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FF453-4C06-4727-9D08-AFFA0FB3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467B0E-72A5-47BC-885D-4DA4CB24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8163631-CADE-43B8-AEB6-EEA44989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133229-FBDA-4B9B-9140-7C7575D8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FBBE1-5A9F-4975-982A-E9149316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FBEAC6-AC35-487E-9B07-5CE7CCD8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F48F90-CC2F-42BB-BF3B-8C7B4E3A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DDF5CD-0198-4420-9821-07EEE4FC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BEAD5B-B9ED-43E5-9B5D-0A9E93F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1B4743-11C4-47C2-BB08-7BD2B0C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8DE777-CB17-479B-A751-E5749CE3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ED6C6C-3131-42DC-BD57-508DD8F0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96A5C8-6ACF-49E5-B449-F0F0866A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7E9537-9AFD-48B4-B705-C02FD4E3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132A4C-0B90-4790-BA7A-DDD79005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C1D15-70F4-43E9-9E8F-24D573CE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3E4C3A-D7C3-45CD-ADDA-AA5CBDD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D8535A-B2E0-43AD-A1B3-DC1530C1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8A9593-EE67-4B35-8CA2-45D39176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4697BFA-F2E6-4FF7-8E48-22EA34A0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4D4537-49A4-4EB0-BFFE-91604096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E1D9AC-CD97-4729-A043-C4765E56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A18FEE9-6D8D-4B18-A090-BB076CFD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685548-3B51-4289-B681-2D90179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46D856-838E-4282-9A1B-9B8E507A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F51898-7026-4761-929B-D4E398F6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1AF00-15D1-4EC0-8DA6-33DBABBF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29C8EE-2DE7-40ED-A9B4-B67E8699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65042F-4CDB-433F-B413-D8441073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F1B04C0-180E-4BDA-B17B-2C776F20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044620-503C-4450-BCDE-EB9D2488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5FBDE5-558C-4AAC-9A40-A869C9C8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071847-7601-46C5-9E02-281A50EC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C33AA6-38BE-47B6-9FF2-D2BB588B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269D5C-D4B5-40BA-8FA8-12C836F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0B3FA34-88D2-43BE-B8B3-53CC4FD8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A5FF34-8EB9-4556-9E26-C24DE0A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951CD-9A76-41E8-A6BA-5D4F9570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F5AC6E3-FBAC-4A1B-B503-2C7A6D33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EEF200-F30B-4275-B8DC-4FC9F5D3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C6A20F-8320-4E64-B28B-2F2CC3BA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A6F4150-313B-4631-8C6A-D9E0EE50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102696E-ED06-4354-B256-73BDBE02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50B3F79-3FC0-4558-948F-BB968E9A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F2DBE50-EC28-4004-BCC7-D9324963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C54FC0-450B-49F1-A281-1AB28FA6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B726E45-FD6C-48E8-ABF9-ED859FB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F7B6D10-5754-413A-AC73-908337BF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86BE6-5EC6-42D4-BB25-DC10A015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F97BFC8-B819-4B7E-B47E-2A0AE3FC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118DF65-7883-4781-8094-DC8AFA03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A3EBFC-3DF1-4378-95C7-9B7EF1A2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65A69DD-3F7E-4796-9611-21A98ECD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908C52-93CA-4BF4-A882-09BE328B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5185ACB-A900-4093-B960-7491531F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80BE58-F3F0-46E1-AFF0-B4A43F76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ADB2A1-ACBF-40DA-816B-BA32A796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93A142F-C806-4D9C-A08F-F638B592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BC4BF34-6004-46B4-B8E8-4E15BDCF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78DC8-8475-4943-8250-393FDE18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91D9328-F098-48EE-A2F5-554EF05A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A69DFC-00B3-4B29-AE00-E842850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3A2AEA-7D55-423D-8043-551E6C1F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1B5FF8-4DC2-4B0C-A93D-7A67C1D3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5ACA7AD-8E8C-46DA-AFE1-2D995B02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92CD16-D538-463A-A74F-78A513E9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47DC0B-A728-4794-8A01-604A063D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E8927C-033B-4AF7-B3E5-5EB4E11D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9B3D458-8F7A-4F9C-9990-AD5C9E49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93F096-5176-459F-BBA9-90CCDA77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1DA5A-9F40-45AD-870C-31A978C5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AA9C1D-E3EF-446E-A587-9E989E5B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20B73CA-9366-43F0-ABA0-2840F04E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0BF6BB-79A3-4E73-83EA-A30120C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E595F8-2A8C-4041-B3DC-1A69AD4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49CE085-DED7-48E6-B9EF-481B8C3B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038623-25EB-46F6-BFC0-CB6FD09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11D7137-4273-4B0E-AD96-013D22E2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0C5384-4900-40BF-A85F-91EFB29C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72C952A-FB4F-401E-9691-CAA9006D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7C64312-7660-497E-8223-51C9B004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83AB5-B5FD-4D45-8E9D-7D3ECDF8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95423D-E5EF-4AEF-B213-54BBA8CC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DD2C3AC-5C0E-48CD-8014-C949592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C4ECA98-8B3F-44F1-98EA-0B1F850A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3B8CF2-7321-4206-9B35-033E3023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D86344-4D80-4DFC-A5A0-C86428D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49B5C1B-D1C8-481A-971F-45DE436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91C4268-F834-4B9F-AFCE-918AC1E6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682D36A-F32F-426D-9F33-F8DE9F5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0C31FF-5A54-4CE0-AC36-AC3AD5BD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3EE336-DFBB-4077-9A67-833FF3C0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CF4F-90C9-4F38-81E7-D3698729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88257-9526-43FD-A0BD-5CD6F27E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967DDF8-D68A-49B4-97FA-5019C40C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01A1B1-8245-4945-B427-9B61BE0A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43F0E81-4892-49E0-BD77-9482C885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2313C8B-C599-4C01-A0E7-F4141669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9D71DB8-A426-4255-8E66-C00BA3F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C53BEF4-2268-4D53-991E-4B90C26F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6E1D89C-DA1A-4BB5-A664-CE5090C5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C6AE456-29AE-4D0A-BBFC-787FFFF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16EB3B-5A7E-480D-B442-EE33213F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13256B6-B72E-449B-9CE3-A027C3E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82481-E797-4468-99A1-B9055D62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EC936E-5F7A-4CC8-BF82-A22F545B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AFD628C-2725-4AF2-9541-BAEA7B1B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7A9B80C-39FA-41A6-8A2F-8FA69DBE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67490A2-E040-4DE0-8EE8-77E2EABB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F809D3D-15B7-4D2B-B076-C0471DA1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0C1A8C4-F46D-46C0-A1F4-D019E818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2E2E4ED-E1E2-4386-A7AA-48A3DA14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A746847-30AE-4A48-AD3C-3B0E4A22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9BED757-B5EE-4EEA-847D-41153A08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B547FC8-5D76-467F-8EF1-7B542DE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4577B-A8E8-41AB-A170-B8354B0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F73D272-5320-47D8-98C4-B01E29F3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FF759A5-544C-43AC-977A-7599D6EB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2FEA05A-5DFF-4691-8497-54C9860E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D7A83CF-A7BD-46A3-A3FE-267345C4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25A222-FD89-4FC6-9DF8-E6669A50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BEC9EFE-B69E-403D-8D82-AA4329AB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DCAEC0D-D27C-4A54-97A8-A1F47BA3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119D66A-4B86-4336-A75D-1268E32E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032B242-0284-4D8F-83C0-C71CC106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BD7AF88-B62B-4F43-9AAB-3AB03745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D22A1-56FF-4DA9-B461-3B023EF5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2FDCEA2-2D5A-48BC-B277-2DF89AD7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7967221-62F9-4C47-835B-DC8BC94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CFCBD6D-4DBE-4AD3-AE56-B2285FF7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CA3F3D9-E42E-42C6-81D0-8DE37CB3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01DBAD5-7D43-45AE-B769-DD08ABC6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E2B5D48-26CA-4DDB-994F-FC454C76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25EA9E5-C827-4A22-9CF9-B921E02F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D18C555-BBED-4F5D-8312-9A002FAB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B1D7F8A-9863-4DAB-8B9F-7C3D6676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76EA3FC-EC2C-407A-85CA-D9F614EF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5E8DB-A77F-43B0-8E4D-2F7E418E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1B396D-AF07-41C3-AF8B-B8F81DB4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54F2C10-5DB3-43E5-AB78-2F670F5E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058C1B5-4D21-4111-A3E1-FDD550A3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CC72310-CCE7-42DD-88CB-D953C31F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642A066-E8E9-4002-8212-DC667B8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B837949-9061-4C25-8C25-2AA7BD47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FDF853D-1E84-479C-865C-488A3A84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0E93071-0298-4401-AB43-E21E4A1C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351FFDB-1310-4ED5-81EF-7BF179C9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0F856BF-D834-4320-8EAA-0F78A58D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0DA40-8F6C-4363-8735-6993EE26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2AD7B47-81D1-4DD6-892A-CFD583C8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83FE04B-7818-427A-83A3-872A0F32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F76AA6B-4340-4C59-ACEB-08F97686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1911CAC-7DA0-42A8-A4E1-1A619DB2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1579FC7-99D8-4D6A-B95D-B20E1CF2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B4D6827-EDFC-40AF-A0B3-EF82845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35FEF3D-196C-41B7-BE4F-BBFDE8E6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A62DC17-211B-4411-9044-14BEA596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81FDB9B-BD12-42FD-9437-324F07E6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10593B3-9C1A-4E47-B5CA-79D8863E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AC081-245A-42AC-81C0-42840EF0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D2469B0-B367-4E30-BFA4-A789AFEF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33EB-BA9D-4C43-BD54-AA9C00E3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C03C4-0682-413E-ADD5-4284BCED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9F4E4-CC6A-4DEA-9339-94529915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1DD9-F509-4401-AA73-55A9D4E8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AD12-9442-436E-BBC2-D273FEC7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85C8-D585-4695-A927-87211210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21821-71A2-49C7-8F62-E1C0D975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233A-79B2-4C0A-B6AD-E70AAEA2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448D6-716F-4102-A37F-797DFF3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2B92-EE75-49B1-AD6F-74E850F6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9513-DB3D-40E6-8D1E-C65DACE4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18D8-D1B6-4D3C-94ED-B3D03A29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9BAD-5688-4390-940F-CEC46D2E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31D4-B911-43F7-AE69-072E0EB9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0288-74C2-42F2-AF23-48ADA50F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1F159-9A83-45FF-A398-F24969CC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CE7D3-0A6A-41A0-A9F3-90AD0F23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B94F1-7190-4AF4-8CB8-DBB1C610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46B7A-8326-43C6-8048-C60ECC6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90D2B-4045-49E0-B11D-78C33775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4B62-E8E8-4BA8-A73B-8D37843B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5EA87-DDA1-4FF8-A107-B909229D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53BCC-0632-420B-8C8A-9B975697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B674-98E6-4701-B187-AB3EFFD2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2694-E2FE-49E2-9809-60277CBD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B0BD-79B9-489F-BD35-B52AD1F0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712F9-2C88-4850-A531-BFA40B1A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9F9B1-A2AD-435F-BB84-68404FA4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87A20-6D6E-4914-AD2B-6A8BC860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80C92-932D-427C-943D-4264BC64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8577E-210F-475F-BE19-C38D75B5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16174-5053-4D22-9F45-14A23606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69216-3681-4F0C-87F4-B31D588B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73736-0FC4-488A-AB95-2D258EB9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E627A-8CA6-4163-9F76-AA5E107D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55BB3-7BE8-4B45-B060-C8EAE3CD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4630-F2E8-4AB8-BF12-24D95FE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5A128-E1D1-4B5D-97F5-9AF9C0A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67E94-3A17-4769-852C-8A4A2EC2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EB77A-5856-40F1-A131-406ED2D7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DE94C-D261-43E0-8242-B7967095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B17D0-B44C-4EBA-92DA-5E263DEC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40ED3-9FC5-41F5-A635-18820C98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BEB28-7721-4467-94AA-FC415E69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FE9DC-91C5-4A8B-804D-A3DE0723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359E0-C831-40B1-AAAB-73A06FD7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F0910-F701-4AAA-AD1A-7EC42A9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7876-BCD8-4F95-A153-4B1B9D41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3FCA14-174A-4E84-9788-E6A94928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D2879-4029-4A0A-99B0-EE7C713A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3A167-741D-4EBB-900F-BDBBEB6C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9844A-91FF-4A4F-ACF9-88F75D4C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BE2F7-8DB6-443C-8B9E-5B6A316E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59FF17-1066-4D99-B173-AC9BB6C3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04CE36-228D-4814-BD66-1D2CC820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D5B3B9-7E41-4F19-9BD5-76CC936D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D0B593-9D09-4738-A10F-008C42C7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D27AE3-61A8-4ECD-B038-3A4AD7BC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1854-448C-45BB-9793-3897944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47BB7-082B-4017-B547-5CABA2E1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8CBA5-B1BC-492C-BCFE-5DB5B0C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266A96-3AA4-45DC-8203-93669BB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551C2D-D966-420B-AD2F-A83DB584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81E533-D549-4956-8D31-EDF5769B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57F9E6-65BE-4EE4-AAB6-19922462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62CB22-CC7D-4473-8C22-823BD92F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496407-96E2-426B-9A28-3A225B80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3E43A7-B25C-4DA7-8E2E-F7259E3F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938D5A-319F-46B2-9CA7-7BBA964D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5252-3724-4BED-A328-EA1673975E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A045-3058-4577-A697-7E2456BA03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2CAB-CEB1-4FAF-9CF7-928BD5A6C81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A56-6E72-46E2-A172-09C5EAE787E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957-846F-41AE-AD18-81FC5FC9956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F21E-21B3-40A0-87D8-473EEFE96F5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7AE4-00C1-4FD1-B46E-D707042113C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4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0C93-80A4-433D-9F2C-DB2F6C49032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4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A267-889D-48A2-8C66-24670AC9836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ftr" idx="5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7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8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5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5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222A-DB92-460A-BCF1-59AAFA2E6EA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9A63-4D82-424B-A388-DDE2FA04A6D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3E63-8E94-4741-86D3-9C0C2B8EA32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5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9C5C-71F9-4291-BC63-A5B580DF269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ftr" idx="6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6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11F4-7358-4AE5-8658-28833967369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6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6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A450-0915-44E4-A810-6F05BD3A102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ftr" idx="6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25BC-F305-458A-9864-2AA3F3248BB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ftr" idx="6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7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008A-59D1-4D39-9DC3-9F8EA2F7F6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ftr" idx="7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7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795A-98AA-4E02-9370-BAB8CDD8014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ftr" idx="7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90A5-F82D-4349-9161-471D0132498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7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8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86A6-968F-4099-9532-251CA15F4DA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ftr" idx="8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dt" idx="8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8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842D-CD1C-44DB-8F2B-5B3BB5C687F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 type="ftr" idx="8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8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4BA4-1D3A-4448-8A5F-508D99971D9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ftr" idx="8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5551-50F1-4677-9FCC-1C97EE17C11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dt" idx="8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E3BA-C04D-444E-8349-002D09AD3D3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 type="ftr" idx="9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5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C759-9CF8-412A-88E2-82436B2798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1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1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5FB3-8934-43AF-9A48-C4C8E6A6BA4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7FA3-41B5-4049-A749-A42DD53BC7F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7DE-2DB6-4613-B4C3-7149E1E4235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6CDE-3BE9-4F46-A333-C88433F0777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C29E-BA8D-4760-B910-C1ADBA51170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/>
          </p:nvPr>
        </p:nvSpPr>
        <p:spPr>
          <a:xfrm>
            <a:off x="323640" y="227160"/>
            <a:ext cx="8569080" cy="64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Garamond"/>
              </a:rPr>
              <a:t>La Formación Profesional en España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Garamond"/>
              </a:rPr>
              <a:t>JAVIER FERRER DUFO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Consejero grupo II  (Empresarios ) CES de Españ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Vicepresidente CEO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Tegucigalpa 8 Julio 201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5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0560"/>
          </a:xfrm>
          <a:prstGeom prst="rect">
            <a:avLst/>
          </a:prstGeom>
          <a:ln w="0">
            <a:noFill/>
          </a:ln>
        </p:spPr>
      </p:pic>
      <p:pic>
        <p:nvPicPr>
          <p:cNvPr id="1536" name="Imagen 9" descr=""/>
          <p:cNvPicPr/>
          <p:nvPr/>
        </p:nvPicPr>
        <p:blipFill>
          <a:blip r:embed="rId2"/>
          <a:stretch/>
        </p:blipFill>
        <p:spPr>
          <a:xfrm>
            <a:off x="731520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3300"/>
                </a:solidFill>
                <a:latin typeface="Garamond"/>
              </a:rPr>
              <a:t>La cultura del aprendizaje permanente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base de la política social y la estrategia de crecimiento y de empleo de la U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Formación</a:t>
            </a: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inicial</a:t>
            </a: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 aprender para aprender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Formación adaptada a las </a:t>
            </a: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necesidades de las empresas y de la Socieda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Con la </a:t>
            </a: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participación de los interlocutores sociales y la colaboración de las empresas.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Promover que las </a:t>
            </a:r>
            <a:r>
              <a:rPr b="1" lang="es-ES" sz="3000" spc="-1" strike="noStrike">
                <a:solidFill>
                  <a:srgbClr val="ff3300"/>
                </a:solidFill>
                <a:latin typeface="Garamond"/>
              </a:rPr>
              <a:t>competencias profesionales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puedan ser </a:t>
            </a:r>
            <a:r>
              <a:rPr b="1" lang="es-ES" sz="3000" spc="-1" strike="noStrike">
                <a:solidFill>
                  <a:srgbClr val="ff3300"/>
                </a:solidFill>
                <a:latin typeface="Garamond"/>
              </a:rPr>
              <a:t>acreditada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95" name="Imagen 2" descr=""/>
          <p:cNvPicPr/>
          <p:nvPr/>
        </p:nvPicPr>
        <p:blipFill>
          <a:blip r:embed="rId2"/>
          <a:stretch/>
        </p:blipFill>
        <p:spPr>
          <a:xfrm>
            <a:off x="7324560" y="4680"/>
            <a:ext cx="181944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Financi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Formación inic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3-16 años, obligatoria, financiada por P. G. Es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16 -18 voluntaria, gratuita P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Universitaria pública, 75 % del cos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n todos los niveles hay educación privada, concertada o pag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8" name="Imagen 3" descr=""/>
          <p:cNvPicPr/>
          <p:nvPr/>
        </p:nvPicPr>
        <p:blipFill>
          <a:blip r:embed="rId1"/>
          <a:stretch/>
        </p:blipFill>
        <p:spPr>
          <a:xfrm>
            <a:off x="0" y="-14400"/>
            <a:ext cx="1762200" cy="792360"/>
          </a:xfrm>
          <a:prstGeom prst="rect">
            <a:avLst/>
          </a:prstGeom>
          <a:ln w="0">
            <a:noFill/>
          </a:ln>
        </p:spPr>
      </p:pic>
      <p:pic>
        <p:nvPicPr>
          <p:cNvPr id="1599" name="Imagen 4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ticipació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En Educ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Consejo Escolar del Es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Otros organismos del Estad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En F. P. para el emple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ialogo Soc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Fundación Triparti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2" name="Imagen 3" descr=""/>
          <p:cNvPicPr/>
          <p:nvPr/>
        </p:nvPicPr>
        <p:blipFill>
          <a:blip r:embed="rId1"/>
          <a:stretch/>
        </p:blipFill>
        <p:spPr>
          <a:xfrm>
            <a:off x="-1440" y="0"/>
            <a:ext cx="1761840" cy="792000"/>
          </a:xfrm>
          <a:prstGeom prst="rect">
            <a:avLst/>
          </a:prstGeom>
          <a:ln w="0">
            <a:noFill/>
          </a:ln>
        </p:spPr>
      </p:pic>
      <p:pic>
        <p:nvPicPr>
          <p:cNvPr id="1603" name="Imagen 4" descr=""/>
          <p:cNvPicPr/>
          <p:nvPr/>
        </p:nvPicPr>
        <p:blipFill>
          <a:blip r:embed="rId2"/>
          <a:stretch/>
        </p:blipFill>
        <p:spPr>
          <a:xfrm>
            <a:off x="7327800" y="-1440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Financi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Formación para el Emple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0.7% de los salarios para financiar la FP de desempleados y ocupados: 0.6% a cargo de la empresa / 0.1% a cargo del trabajad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. S. 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portaciones del Es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6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607" name="Imagen 4" descr=""/>
          <p:cNvPicPr/>
          <p:nvPr/>
        </p:nvPicPr>
        <p:blipFill>
          <a:blip r:embed="rId2"/>
          <a:stretch/>
        </p:blipFill>
        <p:spPr>
          <a:xfrm>
            <a:off x="7324560" y="2376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9" name="Text Box 6"/>
          <p:cNvSpPr/>
          <p:nvPr/>
        </p:nvSpPr>
        <p:spPr>
          <a:xfrm>
            <a:off x="5219640" y="3933720"/>
            <a:ext cx="3240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PROFESIONAL PARA EL EMPL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39640" y="3933720"/>
            <a:ext cx="345600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FORMACION PROFESIONAL REGLA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1" name="Text Box 8"/>
          <p:cNvSpPr/>
          <p:nvPr/>
        </p:nvSpPr>
        <p:spPr>
          <a:xfrm>
            <a:off x="539640" y="3068640"/>
            <a:ext cx="3384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º DE EDUC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2" name="Text Box 9"/>
          <p:cNvSpPr/>
          <p:nvPr/>
        </p:nvSpPr>
        <p:spPr>
          <a:xfrm>
            <a:off x="5003640" y="3068640"/>
            <a:ext cx="3384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º DE EMPL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3" name="Rectangle 10"/>
          <p:cNvSpPr/>
          <p:nvPr/>
        </p:nvSpPr>
        <p:spPr>
          <a:xfrm>
            <a:off x="179280" y="4797360"/>
            <a:ext cx="1800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P DE GRADO SUP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4" name="Rectangle 11"/>
          <p:cNvSpPr/>
          <p:nvPr/>
        </p:nvSpPr>
        <p:spPr>
          <a:xfrm>
            <a:off x="2050920" y="4797360"/>
            <a:ext cx="201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P DE GRADO MED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5" name="Rectangle 12"/>
          <p:cNvSpPr/>
          <p:nvPr/>
        </p:nvSpPr>
        <p:spPr>
          <a:xfrm>
            <a:off x="4572000" y="4869000"/>
            <a:ext cx="2160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 OCUPACION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6" name="Rectangle 13"/>
          <p:cNvSpPr/>
          <p:nvPr/>
        </p:nvSpPr>
        <p:spPr>
          <a:xfrm>
            <a:off x="6948360" y="4869000"/>
            <a:ext cx="1944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CONTINU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7" name="Rectangle 14"/>
          <p:cNvSpPr/>
          <p:nvPr/>
        </p:nvSpPr>
        <p:spPr>
          <a:xfrm>
            <a:off x="611280" y="1268280"/>
            <a:ext cx="77770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Garamond"/>
                <a:ea typeface="Arial"/>
              </a:rPr>
              <a:t>LEY DE LAS CUALIFICACIONES Y LA FORMACIÓN PROFES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8" name="Oval 15"/>
          <p:cNvSpPr/>
          <p:nvPr/>
        </p:nvSpPr>
        <p:spPr>
          <a:xfrm>
            <a:off x="0" y="3645000"/>
            <a:ext cx="8748720" cy="2950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9" name="Oval 16"/>
          <p:cNvSpPr/>
          <p:nvPr/>
        </p:nvSpPr>
        <p:spPr>
          <a:xfrm>
            <a:off x="324000" y="3573360"/>
            <a:ext cx="8820000" cy="309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0" name="Line 17"/>
          <p:cNvSpPr/>
          <p:nvPr/>
        </p:nvSpPr>
        <p:spPr>
          <a:xfrm>
            <a:off x="4427640" y="2060640"/>
            <a:ext cx="0" cy="143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1" name="AutoShape 18"/>
          <p:cNvSpPr/>
          <p:nvPr/>
        </p:nvSpPr>
        <p:spPr>
          <a:xfrm rot="736200">
            <a:off x="5651280" y="3573360"/>
            <a:ext cx="360360" cy="7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2" name="AutoShape 19"/>
          <p:cNvSpPr/>
          <p:nvPr/>
        </p:nvSpPr>
        <p:spPr>
          <a:xfrm>
            <a:off x="2916360" y="364500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3" name="AutoShape 20"/>
          <p:cNvSpPr/>
          <p:nvPr/>
        </p:nvSpPr>
        <p:spPr>
          <a:xfrm rot="765600">
            <a:off x="2771280" y="645336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4" name="AutoShape 21"/>
          <p:cNvSpPr/>
          <p:nvPr/>
        </p:nvSpPr>
        <p:spPr>
          <a:xfrm rot="10330800">
            <a:off x="5795640" y="645336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5" name="AutoShape 22"/>
          <p:cNvSpPr/>
          <p:nvPr/>
        </p:nvSpPr>
        <p:spPr>
          <a:xfrm rot="10184400">
            <a:off x="2916000" y="364464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El Diálogo Soci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Garamond"/>
              </a:rPr>
              <a:t>1984 Acuerdo Económico y Socia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uota de Formación Profesional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8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629" name="Imagen 2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Formación Profesional para el Empleo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Fa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1992 – 1996 Gestión y concesión de fondos de los Interlocutores So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1996 – 2004 Gestión de fondos Interlocutores Sociales y concesión Administración Públ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2004 - 2012 Bonificaciones, Autonomías, e Interlocutores Sociales  y Administración Públ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2" name="Imagen 3" descr=""/>
          <p:cNvPicPr/>
          <p:nvPr/>
        </p:nvPicPr>
        <p:blipFill>
          <a:blip r:embed="rId1"/>
          <a:stretch/>
        </p:blipFill>
        <p:spPr>
          <a:xfrm>
            <a:off x="-11160" y="-25560"/>
            <a:ext cx="838080" cy="378000"/>
          </a:xfrm>
          <a:prstGeom prst="rect">
            <a:avLst/>
          </a:prstGeom>
          <a:ln w="0">
            <a:noFill/>
          </a:ln>
        </p:spPr>
      </p:pic>
      <p:pic>
        <p:nvPicPr>
          <p:cNvPr id="1633" name="Imagen 4" descr="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Formación Profesional para el Empleo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686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avorecer la formación a lo largo de la vi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porcionar conoc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ejorar la empleabilida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mover que las competencias profesionales puedan ser acredita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6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1637" name="Imagen 2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 </a:t>
            </a:r>
            <a:br>
              <a:rPr sz="4000"/>
            </a:br>
            <a:r>
              <a:rPr b="1" lang="es-ES" sz="2800" spc="-1" strike="noStrike">
                <a:solidFill>
                  <a:srgbClr val="e5e5ff"/>
                </a:solidFill>
                <a:latin typeface="Garamond"/>
              </a:rPr>
              <a:t>EL SISTEMA DE FORMACION CONTINUA 1992-2003: LOS RESULTADOS DEL DIALOGO SOCIAL</a:t>
            </a:r>
            <a:br>
              <a:rPr sz="2800"/>
            </a:br>
            <a:r>
              <a:rPr b="1" lang="es-ES" sz="2000" spc="-1" strike="noStrike">
                <a:solidFill>
                  <a:srgbClr val="ff3300"/>
                </a:solidFill>
                <a:latin typeface="Garamond"/>
              </a:rPr>
              <a:t>Participantes formado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39" name="Object 4"/>
          <p:cNvGraphicFramePr/>
          <p:nvPr/>
        </p:nvGraphicFramePr>
        <p:xfrm>
          <a:off x="0" y="2317680"/>
          <a:ext cx="863280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17680"/>
                    <a:ext cx="863280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74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PARTICIPANTES EN EL SUBSISTEMA DE FORMACIÓN PARA EL EMPLEO 2004-2011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2" name="2 Gráfico" descr=""/>
          <p:cNvPicPr/>
          <p:nvPr/>
        </p:nvPicPr>
        <p:blipFill>
          <a:blip r:embed="rId1"/>
          <a:stretch/>
        </p:blipFill>
        <p:spPr>
          <a:xfrm>
            <a:off x="536400" y="1122480"/>
            <a:ext cx="80712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/>
          </p:nvPr>
        </p:nvSpPr>
        <p:spPr>
          <a:xfrm>
            <a:off x="-17640" y="7920"/>
            <a:ext cx="9144000" cy="68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Cuest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Garamond"/>
              </a:rPr>
              <a:t>Área de mas fáciles consenso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8" name="Text Box 4"/>
          <p:cNvSpPr/>
          <p:nvPr/>
        </p:nvSpPr>
        <p:spPr>
          <a:xfrm>
            <a:off x="543564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9" name="Imagen 1" descr=""/>
          <p:cNvPicPr/>
          <p:nvPr/>
        </p:nvPicPr>
        <p:blipFill>
          <a:blip r:embed="rId1"/>
          <a:stretch/>
        </p:blipFill>
        <p:spPr>
          <a:xfrm>
            <a:off x="792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40" name="Imagen 2" descr=""/>
          <p:cNvPicPr/>
          <p:nvPr/>
        </p:nvPicPr>
        <p:blipFill>
          <a:blip r:embed="rId2"/>
          <a:stretch/>
        </p:blipFill>
        <p:spPr>
          <a:xfrm>
            <a:off x="7307280" y="44280"/>
            <a:ext cx="181908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FINANCIACIÓN DEL SUBSISTEMA DE FORMACIÓN PARA EL EMPLEO</a:t>
            </a:r>
            <a:br>
              <a:rPr sz="1600"/>
            </a:b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 2004-2012 (Mill. Euros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4" name="1 Gráfico" descr=""/>
          <p:cNvPicPr/>
          <p:nvPr/>
        </p:nvPicPr>
        <p:blipFill>
          <a:blip r:embed="rId1"/>
          <a:stretch/>
        </p:blipFill>
        <p:spPr>
          <a:xfrm>
            <a:off x="249120" y="2054160"/>
            <a:ext cx="85708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Problemas de nuestro Sistema Educativ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Sucesión de reforma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Reparto de competencia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Fracaso escolar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Pocos titulados en FP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La Universidad y FP, conexión con el mundo profesional y produc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7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598320"/>
          </a:xfrm>
          <a:prstGeom prst="rect">
            <a:avLst/>
          </a:prstGeom>
          <a:ln w="0">
            <a:noFill/>
          </a:ln>
        </p:spPr>
      </p:pic>
      <p:pic>
        <p:nvPicPr>
          <p:cNvPr id="1648" name="Imagen 2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Garamond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0" name="Imagen 1" descr=""/>
          <p:cNvPicPr/>
          <p:nvPr/>
        </p:nvPicPr>
        <p:blipFill>
          <a:blip r:embed="rId1"/>
          <a:stretch/>
        </p:blipFill>
        <p:spPr>
          <a:xfrm>
            <a:off x="-20520" y="-6480"/>
            <a:ext cx="1761840" cy="792360"/>
          </a:xfrm>
          <a:prstGeom prst="rect">
            <a:avLst/>
          </a:prstGeom>
          <a:ln w="0">
            <a:noFill/>
          </a:ln>
        </p:spPr>
      </p:pic>
      <p:pic>
        <p:nvPicPr>
          <p:cNvPr id="1651" name="Imagen 2" descr=""/>
          <p:cNvPicPr/>
          <p:nvPr/>
        </p:nvPicPr>
        <p:blipFill>
          <a:blip r:embed="rId2"/>
          <a:stretch/>
        </p:blipFill>
        <p:spPr>
          <a:xfrm>
            <a:off x="7324560" y="792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/>
          </p:nvPr>
        </p:nvSpPr>
        <p:spPr>
          <a:xfrm>
            <a:off x="-17640" y="7920"/>
            <a:ext cx="9144000" cy="68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Cuest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alidad Educativ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Nivel de conocimien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mplea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Renovación de conocimien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 u="sng">
                <a:solidFill>
                  <a:srgbClr val="ff0000"/>
                </a:solidFill>
                <a:uFillTx/>
                <a:latin typeface="Garamond"/>
              </a:rPr>
              <a:t>Competitividad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2" name="Text Box 4"/>
          <p:cNvSpPr/>
          <p:nvPr/>
        </p:nvSpPr>
        <p:spPr>
          <a:xfrm>
            <a:off x="543564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3" name="Imagen 1" descr=""/>
          <p:cNvPicPr/>
          <p:nvPr/>
        </p:nvPicPr>
        <p:blipFill>
          <a:blip r:embed="rId1"/>
          <a:stretch/>
        </p:blipFill>
        <p:spPr>
          <a:xfrm>
            <a:off x="-38160" y="-2700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44" name="Imagen 2" descr=""/>
          <p:cNvPicPr/>
          <p:nvPr/>
        </p:nvPicPr>
        <p:blipFill>
          <a:blip r:embed="rId2"/>
          <a:stretch/>
        </p:blipFill>
        <p:spPr>
          <a:xfrm>
            <a:off x="7324560" y="15840"/>
            <a:ext cx="181944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lfabetización univer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ducación básica (enseña normas básicas) obligatoria y gratu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ducación 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ducación secundaria (prepara para la Universida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mación Profes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iversidad y F. P. superi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7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48" name="Imagen 4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722160" y="522900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98400" y="92376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Formación a lo largo de toda la vid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Mantenimiento conocimientos profesion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mpleabilida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Adaptación nuevas tecnologí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1" name="Imagen 3" descr=""/>
          <p:cNvPicPr/>
          <p:nvPr/>
        </p:nvPicPr>
        <p:blipFill>
          <a:blip r:embed="rId1"/>
          <a:stretch/>
        </p:blipFill>
        <p:spPr>
          <a:xfrm>
            <a:off x="0" y="-9360"/>
            <a:ext cx="1243080" cy="558720"/>
          </a:xfrm>
          <a:prstGeom prst="rect">
            <a:avLst/>
          </a:prstGeom>
          <a:ln w="0">
            <a:noFill/>
          </a:ln>
        </p:spPr>
      </p:pic>
      <p:pic>
        <p:nvPicPr>
          <p:cNvPr id="1552" name="Imagen 4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Formación y Educación equilibrad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Universitarios superior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Universitarios medios y F. P. superi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F. P. primer gr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5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56" name="Imagen 4" descr=""/>
          <p:cNvPicPr/>
          <p:nvPr/>
        </p:nvPicPr>
        <p:blipFill>
          <a:blip r:embed="rId2"/>
          <a:stretch/>
        </p:blipFill>
        <p:spPr>
          <a:xfrm>
            <a:off x="7324560" y="-3492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Adaptada en cada momento a las necesidades de las empresas y de la socie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9" name="Imagen 3" descr=""/>
          <p:cNvPicPr/>
          <p:nvPr/>
        </p:nvPicPr>
        <p:blipFill>
          <a:blip r:embed="rId1"/>
          <a:stretch/>
        </p:blipFill>
        <p:spPr>
          <a:xfrm>
            <a:off x="-6480" y="-20520"/>
            <a:ext cx="1762200" cy="793800"/>
          </a:xfrm>
          <a:prstGeom prst="rect">
            <a:avLst/>
          </a:prstGeom>
          <a:ln w="0">
            <a:noFill/>
          </a:ln>
        </p:spPr>
      </p:pic>
      <p:pic>
        <p:nvPicPr>
          <p:cNvPr id="1560" name="Imagen 4" descr=""/>
          <p:cNvPicPr/>
          <p:nvPr/>
        </p:nvPicPr>
        <p:blipFill>
          <a:blip r:embed="rId2"/>
          <a:stretch/>
        </p:blipFill>
        <p:spPr>
          <a:xfrm>
            <a:off x="7324560" y="2376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étodo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studios continuos de necesida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Complementados por la opinión de los interlocutores sociales y de la sociedad civi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3" name="Imagen 3" descr=""/>
          <p:cNvPicPr/>
          <p:nvPr/>
        </p:nvPicPr>
        <p:blipFill>
          <a:blip r:embed="rId1"/>
          <a:stretch/>
        </p:blipFill>
        <p:spPr>
          <a:xfrm>
            <a:off x="17640" y="0"/>
            <a:ext cx="1761840" cy="792000"/>
          </a:xfrm>
          <a:prstGeom prst="rect">
            <a:avLst/>
          </a:prstGeom>
          <a:ln w="0">
            <a:noFill/>
          </a:ln>
        </p:spPr>
      </p:pic>
      <p:pic>
        <p:nvPicPr>
          <p:cNvPr id="1564" name="Imagen 4" descr=""/>
          <p:cNvPicPr/>
          <p:nvPr/>
        </p:nvPicPr>
        <p:blipFill>
          <a:blip r:embed="rId2"/>
          <a:stretch/>
        </p:blipFill>
        <p:spPr>
          <a:xfrm>
            <a:off x="7307280" y="0"/>
            <a:ext cx="18190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6" name="Text Box 4"/>
          <p:cNvSpPr/>
          <p:nvPr/>
        </p:nvSpPr>
        <p:spPr>
          <a:xfrm>
            <a:off x="1835280" y="5157720"/>
            <a:ext cx="3241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EDUCACIÓN SECUNDARIA OBLIGATOR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7" name="Rectangle 6"/>
          <p:cNvSpPr/>
          <p:nvPr/>
        </p:nvSpPr>
        <p:spPr>
          <a:xfrm>
            <a:off x="250920" y="3284640"/>
            <a:ext cx="208908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BACHILLERAT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8" name="Rectangle 8"/>
          <p:cNvSpPr/>
          <p:nvPr/>
        </p:nvSpPr>
        <p:spPr>
          <a:xfrm>
            <a:off x="2987640" y="3429000"/>
            <a:ext cx="20876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PROFESIONAL DE GRADO MED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2843280" y="2060640"/>
            <a:ext cx="23050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ÓN PROFESIONAL DE GRADO SUP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0" name="Rectangle 12"/>
          <p:cNvSpPr/>
          <p:nvPr/>
        </p:nvSpPr>
        <p:spPr>
          <a:xfrm>
            <a:off x="250920" y="1844640"/>
            <a:ext cx="1944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UNIVERSIDA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1" name="Rectangle 14"/>
          <p:cNvSpPr/>
          <p:nvPr/>
        </p:nvSpPr>
        <p:spPr>
          <a:xfrm rot="5400000">
            <a:off x="3547800" y="3883320"/>
            <a:ext cx="5111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Garamond"/>
                <a:ea typeface="Arial"/>
              </a:rPr>
              <a:t>MERCADO  DE TRABAJ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2" name="Text Box 15"/>
          <p:cNvSpPr/>
          <p:nvPr/>
        </p:nvSpPr>
        <p:spPr>
          <a:xfrm>
            <a:off x="7020000" y="3141720"/>
            <a:ext cx="1584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PARA EL EMPLE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3" name="Text Box 16"/>
          <p:cNvSpPr/>
          <p:nvPr/>
        </p:nvSpPr>
        <p:spPr>
          <a:xfrm>
            <a:off x="519120" y="5621400"/>
            <a:ext cx="20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4" name="Text Box 17"/>
          <p:cNvSpPr/>
          <p:nvPr/>
        </p:nvSpPr>
        <p:spPr>
          <a:xfrm>
            <a:off x="2679840" y="475776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5" name="Line 19"/>
          <p:cNvSpPr/>
          <p:nvPr/>
        </p:nvSpPr>
        <p:spPr>
          <a:xfrm flipV="1">
            <a:off x="3419640" y="580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6" name="Line 20"/>
          <p:cNvSpPr/>
          <p:nvPr/>
        </p:nvSpPr>
        <p:spPr>
          <a:xfrm flipV="1">
            <a:off x="1908000" y="4581360"/>
            <a:ext cx="0" cy="5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7" name="Line 21"/>
          <p:cNvSpPr/>
          <p:nvPr/>
        </p:nvSpPr>
        <p:spPr>
          <a:xfrm flipV="1">
            <a:off x="4067280" y="47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8" name="Line 22"/>
          <p:cNvSpPr/>
          <p:nvPr/>
        </p:nvSpPr>
        <p:spPr>
          <a:xfrm>
            <a:off x="5003640" y="537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9" name="Line 23"/>
          <p:cNvSpPr/>
          <p:nvPr/>
        </p:nvSpPr>
        <p:spPr>
          <a:xfrm flipV="1">
            <a:off x="1187280" y="2852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0" name="Line 24"/>
          <p:cNvSpPr/>
          <p:nvPr/>
        </p:nvSpPr>
        <p:spPr>
          <a:xfrm flipV="1">
            <a:off x="3924360" y="299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1" name="Line 25"/>
          <p:cNvSpPr/>
          <p:nvPr/>
        </p:nvSpPr>
        <p:spPr>
          <a:xfrm>
            <a:off x="5219640" y="2565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2" name="Line 26"/>
          <p:cNvSpPr/>
          <p:nvPr/>
        </p:nvSpPr>
        <p:spPr>
          <a:xfrm>
            <a:off x="5148360" y="4076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3" name="Line 27"/>
          <p:cNvSpPr/>
          <p:nvPr/>
        </p:nvSpPr>
        <p:spPr>
          <a:xfrm flipH="1">
            <a:off x="6372360" y="36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4" name="Line 28"/>
          <p:cNvSpPr/>
          <p:nvPr/>
        </p:nvSpPr>
        <p:spPr>
          <a:xfrm>
            <a:off x="2411280" y="256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5" name="Line 29"/>
          <p:cNvSpPr/>
          <p:nvPr/>
        </p:nvSpPr>
        <p:spPr>
          <a:xfrm flipH="1">
            <a:off x="2339640" y="2276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6" name="Line 30"/>
          <p:cNvSpPr/>
          <p:nvPr/>
        </p:nvSpPr>
        <p:spPr>
          <a:xfrm>
            <a:off x="2268360" y="1916280"/>
            <a:ext cx="3422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7" name="Line 31"/>
          <p:cNvSpPr/>
          <p:nvPr/>
        </p:nvSpPr>
        <p:spPr>
          <a:xfrm>
            <a:off x="1692360" y="5157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0" y="554976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Garamond"/>
                <a:ea typeface="Arial"/>
              </a:rPr>
              <a:t>EDUCAC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Garamond"/>
                <a:ea typeface="Arial"/>
              </a:rPr>
              <a:t>BASIC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Garamond"/>
                <a:ea typeface="Arial"/>
              </a:rPr>
              <a:t>OBLIGATOR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9" name="Line 35"/>
          <p:cNvSpPr/>
          <p:nvPr/>
        </p:nvSpPr>
        <p:spPr>
          <a:xfrm>
            <a:off x="2484360" y="328464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0" name="Line 36"/>
          <p:cNvSpPr/>
          <p:nvPr/>
        </p:nvSpPr>
        <p:spPr>
          <a:xfrm flipV="1">
            <a:off x="1908000" y="2707920"/>
            <a:ext cx="863640" cy="4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1" name="Rectangle 37"/>
          <p:cNvSpPr/>
          <p:nvPr/>
        </p:nvSpPr>
        <p:spPr>
          <a:xfrm>
            <a:off x="1835280" y="6093000"/>
            <a:ext cx="331128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EDUCACION PRIMAR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2" name="Imagen 1" descr=""/>
          <p:cNvPicPr/>
          <p:nvPr/>
        </p:nvPicPr>
        <p:blipFill>
          <a:blip r:embed="rId1"/>
          <a:stretch/>
        </p:blipFill>
        <p:spPr>
          <a:xfrm>
            <a:off x="7702560" y="0"/>
            <a:ext cx="1415880" cy="54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8:12:59Z</dcterms:created>
  <dc:creator>monicamp</dc:creator>
  <dc:description/>
  <dc:language>en-US</dc:language>
  <cp:lastModifiedBy>Javier</cp:lastModifiedBy>
  <dcterms:modified xsi:type="dcterms:W3CDTF">2013-07-07T14:13:03Z</dcterms:modified>
  <cp:revision>60</cp:revision>
  <dc:subject/>
  <dc:title>Diapositiva 1</dc:title>
</cp:coreProperties>
</file>