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072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076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46600" y="-360"/>
            <a:ext cx="296064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04680" y="733320"/>
            <a:ext cx="4997160" cy="374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888840" y="4728960"/>
            <a:ext cx="50292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0" y="9454680"/>
            <a:ext cx="296064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46600" y="9454680"/>
            <a:ext cx="296064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65502-3633-4097-8BB4-5AA410663B8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46600" y="9455040"/>
            <a:ext cx="29606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D467A-8DB0-45A4-B5C2-172177BAAA9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05040" y="73332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888840" y="4728960"/>
            <a:ext cx="50292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arco legal – missã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nselhei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unciona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rodu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articipação internacional – AIC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Rede latino-americ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46600" y="9455040"/>
            <a:ext cx="29606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BE3D9-07D2-4BC9-BFF3-44072AC67E4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05040" y="73332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888840" y="4728960"/>
            <a:ext cx="50292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ahoma"/>
                <a:ea typeface="Tahoma"/>
              </a:rPr>
              <a:t>Febrero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  <a:ea typeface="Tahoma"/>
              </a:rPr>
              <a:t>/</a:t>
            </a:r>
            <a:r>
              <a:rPr b="0" lang="es-ES" sz="2600" spc="-1" strike="noStrike">
                <a:solidFill>
                  <a:srgbClr val="000000"/>
                </a:solidFill>
                <a:latin typeface="Tahoma"/>
                <a:ea typeface="Tahoma"/>
              </a:rPr>
              <a:t>2003: Acción Política para el Cambio y la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  <a:ea typeface="Tahoma"/>
              </a:rPr>
              <a:t>Concertación  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ahoma"/>
                <a:ea typeface="Tahoma"/>
              </a:rPr>
              <a:t>abril 2003: Acción para el Progreso y la Inclusión Social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Tahoma"/>
                <a:ea typeface="Tahoma"/>
              </a:rPr>
              <a:t>junio de 2003: Bases para un Nuevo Contrato Social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Tahoma"/>
                <a:ea typeface="Tahoma"/>
              </a:rPr>
              <a:t>septiembre de 2003: El Reto de la Transición y el Papel de la Sociedad: la recuperación del crecimien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ahoma"/>
                <a:ea typeface="Tahoma"/>
              </a:rPr>
              <a:t>diciembre de 2003: Caminos Hacia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  <a:ea typeface="Tahoma"/>
              </a:rPr>
              <a:t>u</a:t>
            </a:r>
            <a:r>
              <a:rPr b="0" lang="es-ES" sz="2600" spc="-1" strike="noStrike">
                <a:solidFill>
                  <a:srgbClr val="000000"/>
                </a:solidFill>
                <a:latin typeface="Tahoma"/>
                <a:ea typeface="Tahoma"/>
              </a:rPr>
              <a:t>n Nuevo Contrato Social: El Documento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r>
              <a:rPr b="0" lang="es-ES" sz="2600" spc="-1" strike="noStrike">
                <a:solidFill>
                  <a:srgbClr val="000000"/>
                </a:solidFill>
                <a:latin typeface="Tahoma"/>
                <a:ea typeface="Tahoma"/>
              </a:rPr>
              <a:t>e Referencia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  <a:ea typeface="Tahoma"/>
              </a:rPr>
              <a:t>p</a:t>
            </a:r>
            <a:r>
              <a:rPr b="0" lang="es-ES" sz="2600" spc="-1" strike="noStrike">
                <a:solidFill>
                  <a:srgbClr val="000000"/>
                </a:solidFill>
                <a:latin typeface="Tahoma"/>
                <a:ea typeface="Tahoma"/>
              </a:rPr>
              <a:t>ara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  <a:ea typeface="Tahoma"/>
              </a:rPr>
              <a:t>e</a:t>
            </a:r>
            <a:r>
              <a:rPr b="0" lang="es-ES" sz="2600" spc="-1" strike="noStrike">
                <a:solidFill>
                  <a:srgbClr val="000000"/>
                </a:solidFill>
                <a:latin typeface="Tahoma"/>
                <a:ea typeface="Tahoma"/>
              </a:rPr>
              <a:t>l Debate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Tahoma"/>
                <a:ea typeface="Tahoma"/>
              </a:rPr>
              <a:t>Marzo 2004: La política industrial como un programa de desarroll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46600" y="9455040"/>
            <a:ext cx="29606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FAC22-C03E-409D-9B7A-21D9224C814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05040" y="73332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888840" y="4728960"/>
            <a:ext cx="50292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constituido por el Instituto Brasileño de Geografía y Estadística (IBGE), Instituto de Investigación Económica Aplicada (IPEA), el Departamento de Estadística y Estudios Socioeconómicos (DIEESE) y la Secretaría del Consejo de Desarrollo Económico y Social (SEDES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Para contribuir con sus ideas en el Observatorio también está atrayendo a una red de observación, formado por la adhesión y se compone de expertos y organizaciones no gubernamentales y las organizaciones no gubernamentales. El objetivo de interactuar con una red de organizaciones es ampliar el debate y obtener insumos para la preparación de análisis y recomendaciones sobre políticas públicas y su aplicación, en términos de equ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De cada informe de observación, el resultado técnico del proceso de observación, desarrollado por el Comité Técnico y enriquecido por los aportes del debate y de observación, el CDES elabora un dictamen de observación, un resultado político, presentando puntos de vista y propuestas sobre la situación analizada y recomendaciones para políticas y acciones, que es debatido y aprobado en el Pleno del Conse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05040" y="73332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888840" y="4728960"/>
            <a:ext cx="50292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etivo de 10 pessoas na Logistica e 3 gerentes em cada diretori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Espaço Reservado para Número de Slide 3"/>
          <p:cNvSpPr/>
          <p:nvPr/>
        </p:nvSpPr>
        <p:spPr>
          <a:xfrm>
            <a:off x="3846600" y="9455040"/>
            <a:ext cx="29606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D461A-24CF-485D-9E8A-2897E9C5191F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05040" y="73332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888840" y="4728960"/>
            <a:ext cx="50292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ger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Espaço Reservado para Número de Slide 3"/>
          <p:cNvSpPr/>
          <p:nvPr/>
        </p:nvSpPr>
        <p:spPr>
          <a:xfrm>
            <a:off x="3846600" y="9455040"/>
            <a:ext cx="29606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CB521-5061-4D62-B43D-413184FE2742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46600" y="9455040"/>
            <a:ext cx="29606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0AADD-13C6-4D88-87DA-A99DD019428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05040" y="73332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888840" y="4728960"/>
            <a:ext cx="50292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ahoma"/>
              </a:rPr>
              <a:t>Diversidad de actores sociales y gubernamentales invitados por el Presidente de la Republic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240" y="72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902880"/>
            <a:ext cx="838224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296880"/>
            <a:ext cx="838224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240" y="72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902880"/>
            <a:ext cx="40903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040" y="902880"/>
            <a:ext cx="40903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296880"/>
            <a:ext cx="40903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040" y="3296880"/>
            <a:ext cx="40903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240" y="72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902880"/>
            <a:ext cx="26989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5160" y="902880"/>
            <a:ext cx="26989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9440" y="902880"/>
            <a:ext cx="26989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296880"/>
            <a:ext cx="26989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5160" y="3296880"/>
            <a:ext cx="26989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9440" y="3296880"/>
            <a:ext cx="26989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527D-4971-4EE7-B95A-DF488F7B5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240" y="72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880" y="902880"/>
            <a:ext cx="838224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FFE4-6DA8-42FB-98C3-64281A5F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240" y="72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902880"/>
            <a:ext cx="838224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F5D1-2856-458B-BD7A-2AC2A1871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240" y="72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902880"/>
            <a:ext cx="409032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6040" y="902880"/>
            <a:ext cx="409032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8D89-7120-45F2-97EA-431C39F09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240" y="72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D0B5-ACF8-4628-A11C-B11352561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240" y="727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0840-C648-4A4B-975E-7580427A4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240" y="72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902880"/>
            <a:ext cx="40903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040" y="902880"/>
            <a:ext cx="409032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880" y="3296880"/>
            <a:ext cx="40903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6975-84B7-4B1D-983F-981D8DF3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240" y="72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902880"/>
            <a:ext cx="838224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240" y="72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902880"/>
            <a:ext cx="409032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040" y="902880"/>
            <a:ext cx="40903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6040" y="3296880"/>
            <a:ext cx="40903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DEF4-4259-4C0C-ABFA-E29E02E4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240" y="72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902880"/>
            <a:ext cx="40903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040" y="902880"/>
            <a:ext cx="40903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880" y="3296880"/>
            <a:ext cx="838224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175D-17A6-4399-A294-E3A0D408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240" y="72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902880"/>
            <a:ext cx="838224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880" y="3296880"/>
            <a:ext cx="838224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0D19-A608-46D4-A5A8-621430405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240" y="72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902880"/>
            <a:ext cx="40903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040" y="902880"/>
            <a:ext cx="40903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296880"/>
            <a:ext cx="40903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6040" y="3296880"/>
            <a:ext cx="40903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B06C-5C6F-4382-A2DA-112249334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240" y="72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902880"/>
            <a:ext cx="26989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15160" y="902880"/>
            <a:ext cx="26989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9440" y="902880"/>
            <a:ext cx="26989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880" y="3296880"/>
            <a:ext cx="26989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15160" y="3296880"/>
            <a:ext cx="26989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9440" y="3296880"/>
            <a:ext cx="26989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5A44-0637-4975-9979-A02851A03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240" y="72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02880"/>
            <a:ext cx="838224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240" y="72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902880"/>
            <a:ext cx="409032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040" y="902880"/>
            <a:ext cx="409032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240" y="72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240" y="727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240" y="72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902880"/>
            <a:ext cx="40903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902880"/>
            <a:ext cx="409032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296880"/>
            <a:ext cx="40903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240" y="72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902880"/>
            <a:ext cx="409032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040" y="902880"/>
            <a:ext cx="40903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040" y="3296880"/>
            <a:ext cx="40903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240" y="72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902880"/>
            <a:ext cx="40903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040" y="902880"/>
            <a:ext cx="40903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296880"/>
            <a:ext cx="838224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68"/>
          <p:cNvGraphicFramePr/>
          <p:nvPr/>
        </p:nvGraphicFramePr>
        <p:xfrm>
          <a:off x="-6480" y="6095880"/>
          <a:ext cx="9150480" cy="76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6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6480" y="6095880"/>
                    <a:ext cx="915048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240" y="72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902880"/>
            <a:ext cx="838224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32" descr="C:\Documents and Settings\RosaMN\Meus documentos\Marca Gov Federal.jpg"/>
          <p:cNvPicPr/>
          <p:nvPr/>
        </p:nvPicPr>
        <p:blipFill>
          <a:blip r:embed="rId4"/>
          <a:stretch/>
        </p:blipFill>
        <p:spPr>
          <a:xfrm>
            <a:off x="5562720" y="6095880"/>
            <a:ext cx="1600200" cy="534960"/>
          </a:xfrm>
          <a:prstGeom prst="rect">
            <a:avLst/>
          </a:prstGeom>
          <a:ln w="0">
            <a:noFill/>
          </a:ln>
        </p:spPr>
      </p:pic>
      <p:sp>
        <p:nvSpPr>
          <p:cNvPr id="5" name="Text Box 33"/>
          <p:cNvSpPr/>
          <p:nvPr/>
        </p:nvSpPr>
        <p:spPr>
          <a:xfrm>
            <a:off x="1752480" y="6172200"/>
            <a:ext cx="304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onselho de Desenvolv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Econômico e So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240" y="72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902880"/>
            <a:ext cx="838224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34228-10CA-4BB0-9727-FFF3298E429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cdes.gov.br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26"/>
          <p:cNvSpPr/>
          <p:nvPr/>
        </p:nvSpPr>
        <p:spPr>
          <a:xfrm>
            <a:off x="685800" y="1523880"/>
            <a:ext cx="7924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66"/>
                </a:solidFill>
                <a:latin typeface="Tahoma"/>
              </a:rPr>
              <a:t>Consejo de Desarrollo Económico y Social – C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66"/>
                </a:solidFill>
                <a:latin typeface="Tahoma"/>
              </a:rPr>
              <a:t>La experiencia brasileñ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7772400" cy="42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ahoma"/>
              </a:rPr>
              <a:t>CDES – El Proyecto de Desarrollo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610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275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Cartas de Concertación</a:t>
            </a:r>
            <a:r>
              <a:rPr b="1" lang="pt-BR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(2003/2004):</a:t>
            </a:r>
            <a:r>
              <a:rPr b="1" lang="es-E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abordaron perspectivas y puntos fundamentales al desarrollo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80000"/>
              </a:lnSpc>
              <a:spcBef>
                <a:spcPts val="1925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Agenda Nacional de Desarrollo </a:t>
            </a:r>
            <a:r>
              <a:rPr b="0" lang="es-E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(2005): presenta la visión de futuro, valores, objetivos y directivas para el desarrollo del Brasil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80000"/>
              </a:lnSpc>
              <a:spcBef>
                <a:spcPts val="1925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Enunciados Estratégicos </a:t>
            </a:r>
            <a:r>
              <a:rPr b="0" lang="es-E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(2006): </a:t>
            </a:r>
            <a:r>
              <a:rPr b="0" lang="es-E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proponen</a:t>
            </a:r>
            <a:r>
              <a:rPr b="0" lang="es-E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 metas concretas sobre diversas dimensiones, ofertando una base a un movimiento de concertación estratégica para el desarrollo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80000"/>
              </a:lnSpc>
              <a:spcBef>
                <a:spcPts val="1925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Agenda para el Nuevo Ciclo de Desarrollo</a:t>
            </a:r>
            <a:r>
              <a:rPr b="0" lang="es-E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 (2010): presenta nueve desafíos complementarios y interrelacionados para llevar a cabo u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n</a:t>
            </a:r>
            <a:r>
              <a:rPr b="0" lang="es-E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a trayectoria de largo plazo para el desarrollo sostenible a partir de un nuevo nivel de crecimiento económico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838080" y="4724280"/>
            <a:ext cx="7848720" cy="1052280"/>
          </a:xfrm>
          <a:prstGeom prst="rect">
            <a:avLst/>
          </a:prstGeom>
          <a:solidFill>
            <a:srgbClr val="35cb72">
              <a:alpha val="50000"/>
            </a:srgbClr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0800" bIns="190800" anchor="t">
            <a:spAutoFit/>
          </a:bodyPr>
          <a:p>
            <a:pPr algn="ctr">
              <a:lnSpc>
                <a:spcPct val="100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El desarrollo es responsabilidad colectiva de los gobiernos y de la socie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78026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ahoma"/>
              </a:rPr>
              <a:t>CDES – el valor del Diálogo Social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El CDES disemina informaciones sobre la acción gubernamental para actores sociales relevantes, evaluando posiciones y captando sugerencias para perfeccionamiento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ibuye </a:t>
            </a:r>
            <a:r>
              <a:rPr b="1" lang="es-E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par</a:t>
            </a:r>
            <a:r>
              <a:rPr b="1" lang="es-E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a la construcción de relaciones de confianza entre el Gobierno y la sociedad civil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es-E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ibuye </a:t>
            </a:r>
            <a:r>
              <a:rPr b="1" lang="es-E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para el</a:t>
            </a:r>
            <a:r>
              <a:rPr b="1" lang="es-E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 fortalecimiento de la relación de Brasil con América Latina, Europa, Asia, África y Organismos Internacionale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En los momentos de crisis</a:t>
            </a:r>
            <a:r>
              <a:rPr b="1" lang="es-E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,</a:t>
            </a:r>
            <a:r>
              <a:rPr b="1" lang="es-E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 constituye un espacio de diálogo cualificado del Gobierno con la Sociedad, para informar, evaluar posiciones y lograr apoy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772400" cy="47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ahoma"/>
              </a:rPr>
              <a:t>CDES – el valor del Diálogo Social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4000" y="1295280"/>
            <a:ext cx="8439120" cy="45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s una experiencia de participación política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 educación para el diálogo social, por permiti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a circulación de diferentes discursos políticos en igualdad de condicion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 aprendizaje de la capacidad de la sociedad civil en pactar y en dialogar  con el Gobiern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  <a:ea typeface="Tahoma"/>
              </a:rPr>
              <a:t>el fortalecimiento de la democracia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  <a:ea typeface="Tahoma"/>
              </a:rPr>
              <a:t>con una amplia participación de la sociedad civ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ahoma"/>
              </a:rPr>
              <a:t>CDES – El Proyecto de Desarrollo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762120" y="2286000"/>
            <a:ext cx="7543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ahoma"/>
              </a:rPr>
              <a:t>E</a:t>
            </a:r>
            <a:r>
              <a:rPr b="1" lang="es-ES" sz="2000" spc="-1" strike="noStrike">
                <a:solidFill>
                  <a:srgbClr val="000099"/>
                </a:solidFill>
                <a:latin typeface="Tahoma"/>
              </a:rPr>
              <a:t>l mayor desafío</a:t>
            </a:r>
            <a:br>
              <a:rPr sz="2000"/>
            </a:br>
            <a:r>
              <a:rPr b="1" lang="es-ES" sz="2200" spc="-1" strike="noStrike">
                <a:solidFill>
                  <a:srgbClr val="000000"/>
                </a:solidFill>
                <a:latin typeface="Tahoma"/>
              </a:rPr>
              <a:t>Superar la extrema desigualdad social y regi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762120" y="3124080"/>
            <a:ext cx="73911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ahoma"/>
              </a:rPr>
              <a:t>L</a:t>
            </a:r>
            <a:r>
              <a:rPr b="1" lang="es-ES" sz="2000" spc="-1" strike="noStrike">
                <a:solidFill>
                  <a:srgbClr val="000099"/>
                </a:solidFill>
                <a:latin typeface="Tahoma"/>
              </a:rPr>
              <a:t>a orientación estratégica principal</a:t>
            </a:r>
            <a:br>
              <a:rPr sz="2000"/>
            </a:b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Construir una</a:t>
            </a:r>
            <a:r>
              <a:rPr b="1" lang="es-ES" sz="2200" spc="-1" strike="noStrike">
                <a:solidFill>
                  <a:srgbClr val="000000"/>
                </a:solidFill>
                <a:latin typeface="Tahoma"/>
              </a:rPr>
              <a:t> sociedad más igualitaria y equita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457200" y="838080"/>
            <a:ext cx="8153280" cy="12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Tahoma"/>
              </a:rPr>
              <a:t>Los val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ahoma"/>
              </a:rPr>
              <a:t>Democracia, Libertad, Equidad, Identidad Nacional, Sustentabilidad, Respeto a la Diversidad, Soberaní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228600" y="4343400"/>
            <a:ext cx="86868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0800" bIns="154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Tahoma"/>
                <a:ea typeface="Times New Roman"/>
              </a:rPr>
              <a:t>Criterio para proponer</a:t>
            </a:r>
            <a:r>
              <a:rPr b="1" lang="pt-BR" sz="2000" spc="-1" strike="noStrike">
                <a:solidFill>
                  <a:srgbClr val="000099"/>
                </a:solidFill>
                <a:latin typeface="Tahoma"/>
                <a:ea typeface="Times New Roman"/>
              </a:rPr>
              <a:t> y </a:t>
            </a:r>
            <a:r>
              <a:rPr b="1" lang="es-ES" sz="2000" spc="-1" strike="noStrike">
                <a:solidFill>
                  <a:srgbClr val="000099"/>
                </a:solidFill>
                <a:latin typeface="Tahoma"/>
                <a:ea typeface="Times New Roman"/>
              </a:rPr>
              <a:t>evaluar las políticas y las medidas</a:t>
            </a:r>
            <a:r>
              <a:rPr b="1" lang="pt-BR" sz="2000" spc="-1" strike="noStrike">
                <a:solidFill>
                  <a:srgbClr val="000099"/>
                </a:solidFill>
                <a:latin typeface="Tahom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99"/>
                </a:solidFill>
                <a:latin typeface="Tahoma"/>
                <a:ea typeface="Times New Roman"/>
              </a:rPr>
              <a:t>gubernament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Equidad</a:t>
            </a:r>
            <a:r>
              <a:rPr b="1" lang="pt-BR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240" y="72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ahoma"/>
              </a:rPr>
              <a:t>Observatorio de la Equid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228600" y="762120"/>
            <a:ext cx="2514600" cy="1522800"/>
          </a:xfrm>
          <a:prstGeom prst="rect">
            <a:avLst/>
          </a:prstGeom>
          <a:solidFill>
            <a:srgbClr val="ffff00">
              <a:alpha val="50000"/>
            </a:srgbClr>
          </a:solidFill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99"/>
                </a:solidFill>
                <a:latin typeface="Tahoma"/>
              </a:rPr>
              <a:t>Pleno del C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Arial"/>
              </a:rPr>
              <a:t>Establece los te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prueba y entrega recomendaciones a la Presidencia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3200400" y="685800"/>
            <a:ext cx="5715000" cy="1537200"/>
          </a:xfrm>
          <a:prstGeom prst="rect">
            <a:avLst/>
          </a:prstGeom>
          <a:solidFill>
            <a:srgbClr val="99ccff">
              <a:alpha val="50000"/>
            </a:srgbClr>
          </a:solidFill>
          <a:ln w="64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C</a:t>
            </a:r>
            <a:r>
              <a:rPr b="1" i="1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omité Directivo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  <a:ea typeface="Arial Unicode MS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Arial Unicode MS"/>
              </a:rPr>
              <a:t>Realiza la gestión del Observato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Arial Unicode MS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Arial Unicode MS"/>
              </a:rPr>
              <a:t>Examina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Arial Unicode MS"/>
              </a:rPr>
              <a:t> y recomienda a los consejeros posiciones políticas a partir del análisis técnico de los resultados de la observ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228600" y="3352680"/>
            <a:ext cx="3124080" cy="1797120"/>
          </a:xfrm>
          <a:prstGeom prst="rect">
            <a:avLst/>
          </a:prstGeom>
          <a:solidFill>
            <a:srgbClr val="ccffcc"/>
          </a:solidFill>
          <a:ln w="64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99"/>
                </a:solidFill>
                <a:latin typeface="Tahoma"/>
                <a:ea typeface="Tahoma"/>
              </a:rPr>
              <a:t>Red de Observ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  <a:ea typeface="Tahoma"/>
              </a:rPr>
              <a:t>E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xpertos y organizaciones</a:t>
            </a:r>
            <a:r>
              <a:rPr b="0" lang="es-ES" sz="1800" spc="-1" strike="noStrike">
                <a:solidFill>
                  <a:srgbClr val="ff0000"/>
                </a:solidFill>
                <a:latin typeface="Tahoma"/>
                <a:ea typeface="Tahoma"/>
              </a:rPr>
              <a:t>: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amplia el debate y aporta información para la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  <a:ea typeface="Tahoma"/>
              </a:rPr>
              <a:t>s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anál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3581280" y="2768760"/>
            <a:ext cx="5334120" cy="3614040"/>
          </a:xfrm>
          <a:prstGeom prst="rect">
            <a:avLst/>
          </a:prstGeom>
          <a:solidFill>
            <a:srgbClr val="ffa953">
              <a:alpha val="50000"/>
            </a:srgbClr>
          </a:solidFill>
          <a:ln w="64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Comité Técn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IPEA, IBGE, DIEESE, SE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Evalúa los datos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y orienta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los procedimientos técn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Junta/propone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otros insumos técnicos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exter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Prepara el </a:t>
            </a:r>
            <a:r>
              <a:rPr b="0" lang="es-ES" sz="1800" spc="-1" strike="noStrike">
                <a:solidFill>
                  <a:srgbClr val="ff0000"/>
                </a:solidFill>
                <a:latin typeface="Tahoma"/>
                <a:ea typeface="Tahoma"/>
              </a:rPr>
              <a:t>i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nforme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anual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 de observación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99"/>
                </a:solidFill>
                <a:latin typeface="Tahoma"/>
                <a:ea typeface="Arial"/>
              </a:rPr>
              <a:t>Secretaría Ejecutiva</a:t>
            </a:r>
            <a:r>
              <a:rPr b="1" i="1" lang="pt-BR" sz="1800" spc="-1" strike="noStrike">
                <a:solidFill>
                  <a:srgbClr val="000099"/>
                </a:solidFill>
                <a:latin typeface="Tahoma"/>
                <a:ea typeface="Arial"/>
              </a:rPr>
              <a:t> - SE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 Unicode MS"/>
                <a:ea typeface="Arial"/>
              </a:rPr>
              <a:t>Administra la Red de Observaci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Arial"/>
              </a:rPr>
              <a:t>ó</a:t>
            </a:r>
            <a:r>
              <a:rPr b="0" lang="es-ES" sz="1800" spc="-1" strike="noStrike">
                <a:solidFill>
                  <a:srgbClr val="000000"/>
                </a:solidFill>
                <a:latin typeface="Arial Unicode MS"/>
                <a:ea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 Unicode MS"/>
                <a:ea typeface="Arial"/>
              </a:rPr>
              <a:t>Organiza reuniones y otros ev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segura un soporte operativo y financiero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7"/>
          <p:cNvSpPr/>
          <p:nvPr/>
        </p:nvSpPr>
        <p:spPr>
          <a:xfrm>
            <a:off x="1676520" y="2514600"/>
            <a:ext cx="5790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9"/>
          <p:cNvSpPr/>
          <p:nvPr/>
        </p:nvSpPr>
        <p:spPr>
          <a:xfrm>
            <a:off x="2819520" y="1523880"/>
            <a:ext cx="304560" cy="76320"/>
          </a:xfrm>
          <a:prstGeom prst="leftRightArrow">
            <a:avLst>
              <a:gd name="adj1" fmla="val 50000"/>
              <a:gd name="adj2" fmla="val 7944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0"/>
          <p:cNvSpPr/>
          <p:nvPr/>
        </p:nvSpPr>
        <p:spPr>
          <a:xfrm>
            <a:off x="2819520" y="1447920"/>
            <a:ext cx="304560" cy="75960"/>
          </a:xfrm>
          <a:prstGeom prst="leftRightArrow">
            <a:avLst>
              <a:gd name="adj1" fmla="val 50000"/>
              <a:gd name="adj2" fmla="val 7981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1"/>
          <p:cNvSpPr/>
          <p:nvPr/>
        </p:nvSpPr>
        <p:spPr>
          <a:xfrm>
            <a:off x="2743200" y="1371600"/>
            <a:ext cx="457200" cy="152280"/>
          </a:xfrm>
          <a:prstGeom prst="leftRightArrow">
            <a:avLst>
              <a:gd name="adj1" fmla="val 50000"/>
              <a:gd name="adj2" fmla="val 597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2"/>
          <p:cNvSpPr/>
          <p:nvPr/>
        </p:nvSpPr>
        <p:spPr>
          <a:xfrm>
            <a:off x="5257800" y="2209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5"/>
          <p:cNvSpPr/>
          <p:nvPr/>
        </p:nvSpPr>
        <p:spPr>
          <a:xfrm>
            <a:off x="746748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6"/>
          <p:cNvSpPr/>
          <p:nvPr/>
        </p:nvSpPr>
        <p:spPr>
          <a:xfrm>
            <a:off x="1676520" y="2514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6"/>
          <p:cNvSpPr/>
          <p:nvPr/>
        </p:nvSpPr>
        <p:spPr>
          <a:xfrm>
            <a:off x="838080" y="1143000"/>
            <a:ext cx="7772400" cy="395280"/>
          </a:xfrm>
          <a:prstGeom prst="rect">
            <a:avLst/>
          </a:prstGeom>
          <a:solidFill>
            <a:srgbClr val="ff9349">
              <a:alpha val="50000"/>
            </a:srgbClr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ahoma"/>
              </a:rPr>
              <a:t>Las dos máquinas que generan desigual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656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ahoma"/>
              </a:rPr>
              <a:t>Observatorio de la Equidad</a:t>
            </a:r>
            <a:br>
              <a:rPr sz="2800"/>
            </a:br>
            <a:r>
              <a:rPr b="1" i="1" lang="es-ES" sz="2400" spc="-1" strike="noStrike">
                <a:solidFill>
                  <a:srgbClr val="000099"/>
                </a:solidFill>
                <a:latin typeface="Tahoma"/>
              </a:rPr>
              <a:t>Temas en el proceso de monitoreo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304920" y="1752480"/>
            <a:ext cx="85341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Edu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ahoma"/>
              </a:rPr>
              <a:t>Identifica y controla los factores relacionados con las desigualdades en educación y 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  <a:ea typeface="Tahoma"/>
              </a:rPr>
              <a:t>formula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ahoma"/>
              </a:rPr>
              <a:t> propuestas para promover un mayor nivel  de educación y mejorar el rendimiento del sistema educativ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304920" y="4038480"/>
            <a:ext cx="8534160" cy="20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imes New Roman"/>
              </a:rPr>
              <a:t>Sistema Tributario Nacional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  <a:ea typeface="Arial"/>
              </a:rPr>
              <a:t>Identifica y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Arial"/>
              </a:rPr>
              <a:t> acompaña indicadores de iniquidad en la recaudación tributaria y reparto de los recursos. La importancia del tema 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  <a:ea typeface="Arial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Arial"/>
              </a:rPr>
              <a:t>injusticia fiscal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  <a:ea typeface="Arial"/>
              </a:rPr>
              <a:t>”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Arial"/>
              </a:rPr>
              <a:t> puede ser medido por la amplia red movilizada para el deb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6598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Secretaría del Consejo de Desarrollo Económico y Social - SED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9640" y="76500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80"/>
                </a:solidFill>
                <a:latin typeface="Arial"/>
                <a:ea typeface="Times New Roman"/>
              </a:rPr>
              <a:t>Objetivo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476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La SEDES se encarga de las funciones secretariales y de asesoría del Consejo de </a:t>
            </a:r>
            <a:r>
              <a:rPr b="0" lang="es-ES" sz="1900" spc="-1" strike="noStrike">
                <a:solidFill>
                  <a:srgbClr val="0d0d0d"/>
                </a:solidFill>
                <a:latin typeface="Arial"/>
              </a:rPr>
              <a:t>Desarrollo Económico 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y Social - CDES, así como de coordinar y supervisar la ejecución de las directivas y decisiones del Consej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80"/>
                </a:solidFill>
                <a:latin typeface="Arial"/>
                <a:ea typeface="Times New Roman"/>
              </a:rPr>
              <a:t>Metodología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476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La SEDES ha desarrollado experticia para apoyar el proceso de concertación llevado a cabo por el CDES, buscando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476"/>
              </a:spcBef>
              <a:buClr>
                <a:srgbClr val="00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Construir una amplia idea sobre desarrollo que aborde las dimensiones necesarias: económica, social, ambiental, cultural y política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476"/>
              </a:spcBef>
              <a:buClr>
                <a:srgbClr val="00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Llevar el diálogo social y político al centro de las decisiones estratégicas sobre desarrollo, 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recuperando la noción de interés público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476"/>
              </a:spcBef>
              <a:buClr>
                <a:srgbClr val="00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Construir la agenda de acción a medio y largo plazo, que se realizará por el gobierno y la sociedad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Line 32"/>
          <p:cNvSpPr/>
          <p:nvPr/>
        </p:nvSpPr>
        <p:spPr>
          <a:xfrm>
            <a:off x="6154560" y="411948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56"/>
          <p:cNvSpPr/>
          <p:nvPr/>
        </p:nvSpPr>
        <p:spPr>
          <a:xfrm>
            <a:off x="8172360" y="2714760"/>
            <a:ext cx="0" cy="5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13040" y="70920"/>
            <a:ext cx="5302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Arial"/>
              </a:rPr>
              <a:t>Organigrama de la SED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23"/>
          <p:cNvSpPr/>
          <p:nvPr/>
        </p:nvSpPr>
        <p:spPr>
          <a:xfrm>
            <a:off x="4543560" y="1527120"/>
            <a:ext cx="28440" cy="118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8"/>
          <p:cNvSpPr/>
          <p:nvPr/>
        </p:nvSpPr>
        <p:spPr>
          <a:xfrm>
            <a:off x="5162400" y="1843200"/>
            <a:ext cx="1752840" cy="6426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cretario Adju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8"/>
          <p:cNvSpPr/>
          <p:nvPr/>
        </p:nvSpPr>
        <p:spPr>
          <a:xfrm flipH="1">
            <a:off x="2174760" y="2724120"/>
            <a:ext cx="601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0"/>
          <p:cNvSpPr/>
          <p:nvPr/>
        </p:nvSpPr>
        <p:spPr>
          <a:xfrm>
            <a:off x="5194440" y="3276720"/>
            <a:ext cx="1919160" cy="8240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sesoría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e Políticas de Desarro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7"/>
          <p:cNvSpPr/>
          <p:nvPr/>
        </p:nvSpPr>
        <p:spPr>
          <a:xfrm>
            <a:off x="5486400" y="4743360"/>
            <a:ext cx="1368360" cy="3373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Gerenc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8"/>
          <p:cNvSpPr/>
          <p:nvPr/>
        </p:nvSpPr>
        <p:spPr>
          <a:xfrm>
            <a:off x="1278000" y="3276720"/>
            <a:ext cx="1692360" cy="8240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sesoría de Comunicación y Gest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0"/>
          <p:cNvSpPr/>
          <p:nvPr/>
        </p:nvSpPr>
        <p:spPr>
          <a:xfrm>
            <a:off x="3241800" y="3276720"/>
            <a:ext cx="1728720" cy="8240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sesoría de Tecnología de Diálogo So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31"/>
          <p:cNvSpPr/>
          <p:nvPr/>
        </p:nvSpPr>
        <p:spPr>
          <a:xfrm>
            <a:off x="2184480" y="2714760"/>
            <a:ext cx="0" cy="5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41"/>
          <p:cNvSpPr/>
          <p:nvPr/>
        </p:nvSpPr>
        <p:spPr>
          <a:xfrm>
            <a:off x="4199040" y="2724120"/>
            <a:ext cx="0" cy="5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5"/>
          <p:cNvSpPr/>
          <p:nvPr/>
        </p:nvSpPr>
        <p:spPr>
          <a:xfrm>
            <a:off x="3490920" y="4757760"/>
            <a:ext cx="1366920" cy="3373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Gerenc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6"/>
          <p:cNvSpPr/>
          <p:nvPr/>
        </p:nvSpPr>
        <p:spPr>
          <a:xfrm>
            <a:off x="1573200" y="4743360"/>
            <a:ext cx="1368360" cy="3373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Gerenc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48"/>
          <p:cNvSpPr/>
          <p:nvPr/>
        </p:nvSpPr>
        <p:spPr>
          <a:xfrm>
            <a:off x="4165560" y="4118040"/>
            <a:ext cx="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50"/>
          <p:cNvSpPr/>
          <p:nvPr/>
        </p:nvSpPr>
        <p:spPr>
          <a:xfrm>
            <a:off x="2257560" y="4103640"/>
            <a:ext cx="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58"/>
          <p:cNvSpPr/>
          <p:nvPr/>
        </p:nvSpPr>
        <p:spPr>
          <a:xfrm>
            <a:off x="730080" y="2155680"/>
            <a:ext cx="0" cy="234000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61"/>
          <p:cNvSpPr/>
          <p:nvPr/>
        </p:nvSpPr>
        <p:spPr>
          <a:xfrm flipH="1">
            <a:off x="726840" y="2143080"/>
            <a:ext cx="3816360" cy="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63"/>
          <p:cNvSpPr/>
          <p:nvPr/>
        </p:nvSpPr>
        <p:spPr>
          <a:xfrm>
            <a:off x="6194520" y="2724120"/>
            <a:ext cx="0" cy="5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5"/>
          <p:cNvSpPr/>
          <p:nvPr/>
        </p:nvSpPr>
        <p:spPr>
          <a:xfrm>
            <a:off x="55440" y="4527720"/>
            <a:ext cx="1373400" cy="8240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Logística y Control Inter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7"/>
          <p:cNvSpPr/>
          <p:nvPr/>
        </p:nvSpPr>
        <p:spPr>
          <a:xfrm>
            <a:off x="7524720" y="4714920"/>
            <a:ext cx="1368360" cy="3373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Gerenc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4"/>
          <p:cNvSpPr/>
          <p:nvPr/>
        </p:nvSpPr>
        <p:spPr>
          <a:xfrm>
            <a:off x="7327800" y="3262320"/>
            <a:ext cx="1559160" cy="5806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sesoría Interna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32"/>
          <p:cNvSpPr/>
          <p:nvPr/>
        </p:nvSpPr>
        <p:spPr>
          <a:xfrm>
            <a:off x="8156520" y="3846600"/>
            <a:ext cx="0" cy="86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Conector reto 29"/>
          <p:cNvSpPr/>
          <p:nvPr/>
        </p:nvSpPr>
        <p:spPr>
          <a:xfrm>
            <a:off x="4571280" y="21430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271680" y="1127520"/>
            <a:ext cx="2571840" cy="398880"/>
          </a:xfrm>
          <a:prstGeom prst="rect">
            <a:avLst/>
          </a:prstGeom>
          <a:solidFill>
            <a:srgbClr val="f1fc8c">
              <a:alpha val="5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ecret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Arial"/>
              </a:rPr>
              <a:t>Asesoría Internacional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95280" y="836280"/>
            <a:ext cx="84009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ordinación de las relaciones del CDES con organismos internacional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erencia de los acuerdos de cooperación bilateral entre el CDES e instituciones internacionales similar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sesoría y apoyo a las actividades internacionales del CDES y de sus Consejeros, en temas relacionados al Consej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ctuación como apoyo a la participación del CDES en la Asociación Internacional de Consejos Económicos y Sociales e Instituciones Similares – AICESI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onitoreo de las Mesas – redondas, acuerdos de cooperació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stematización de los debates y proposiciones, organización de los relatos y documentos internacional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ordinación de la Red de los CESs de AL y Carib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1143000" y="1752480"/>
            <a:ext cx="70866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Nuestros documentos están disponibles en la página web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e4005c"/>
                </a:solidFill>
                <a:uFillTx/>
                <a:latin typeface="Arial"/>
                <a:hlinkClick r:id="rId1"/>
              </a:rPr>
              <a:t>http://www.cdes.gov.br</a:t>
            </a:r>
            <a:r>
              <a:rPr b="1" lang="pt-BR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240" y="73080"/>
            <a:ext cx="878976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Arial"/>
              </a:rPr>
              <a:t>El CDES y el diálogo para el desarrollo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4000" y="691920"/>
            <a:ext cx="518472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“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ste Consejo tiene la oportunidad de decir el tipo de Brasil que deseamos y el tipo de cosas que podemos hacer en el país."</a:t>
            </a:r>
            <a:r>
              <a:rPr b="0" i="1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i="1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Presidente Lula, </a:t>
            </a:r>
            <a:r>
              <a:rPr b="0" lang="es-E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13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0" lang="es-E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02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0" lang="es-E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2003</a:t>
            </a:r>
            <a:r>
              <a:rPr b="0" i="1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Object 74"/>
          <p:cNvGraphicFramePr/>
          <p:nvPr/>
        </p:nvGraphicFramePr>
        <p:xfrm>
          <a:off x="5769000" y="620640"/>
          <a:ext cx="3276720" cy="261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7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69000" y="620640"/>
                    <a:ext cx="3276720" cy="2616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5" name="Retângulo 1"/>
          <p:cNvSpPr/>
          <p:nvPr/>
        </p:nvSpPr>
        <p:spPr>
          <a:xfrm>
            <a:off x="179280" y="3394080"/>
            <a:ext cx="878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reconocimiento de la dimensión política del desarrollo calificó el dialogo social como la expresión de la síntesis posible de los valores y proyectos que prevalecen en la socie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tângulo 2"/>
          <p:cNvSpPr/>
          <p:nvPr/>
        </p:nvSpPr>
        <p:spPr>
          <a:xfrm>
            <a:off x="324000" y="4941720"/>
            <a:ext cx="864072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Ley nº 10.683 de 28 de mayo de 2003 crea el C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Decreto 4.744, de 16 de junio de 2003 reglamenta la composición y el funcionamiento del C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5"/>
          <p:cNvSpPr/>
          <p:nvPr/>
        </p:nvSpPr>
        <p:spPr>
          <a:xfrm>
            <a:off x="239760" y="3292560"/>
            <a:ext cx="8726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ahoma"/>
              </a:rPr>
              <a:t>Quiero decirles que este foro es muy importante como foro para la crítica, sugerencia y propuesta para nosotros y para Brasil. Tenemos esta misión común, y (...) Estoy segura de que ustedes nos ayudarán a dar un paso más en la construcción del Brasil que querem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"/>
          <p:cNvPicPr/>
          <p:nvPr/>
        </p:nvPicPr>
        <p:blipFill>
          <a:blip r:embed="rId1"/>
          <a:stretch/>
        </p:blipFill>
        <p:spPr>
          <a:xfrm>
            <a:off x="5207040" y="744480"/>
            <a:ext cx="3887640" cy="2305080"/>
          </a:xfrm>
          <a:prstGeom prst="rect">
            <a:avLst/>
          </a:prstGeom>
          <a:ln w="0">
            <a:noFill/>
          </a:ln>
        </p:spPr>
      </p:pic>
      <p:sp>
        <p:nvSpPr>
          <p:cNvPr id="99" name="Retângulo 1"/>
          <p:cNvSpPr/>
          <p:nvPr/>
        </p:nvSpPr>
        <p:spPr>
          <a:xfrm>
            <a:off x="239760" y="615960"/>
            <a:ext cx="4789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ahoma"/>
              </a:rPr>
              <a:t>Creo que los análisis realizados por este Consejo a lo largo de estos 10 años y las recomendaciones tuvieron un papel importante en todo lo que hemos construido hasta el momento (..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tângulo 2"/>
          <p:cNvSpPr/>
          <p:nvPr/>
        </p:nvSpPr>
        <p:spPr>
          <a:xfrm>
            <a:off x="4270320" y="5157720"/>
            <a:ext cx="45720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4927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Presidente Dilma Rousse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4927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40ª Reunión Ordinaria del CDES, feb/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30240" y="73080"/>
            <a:ext cx="87897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Arial"/>
              </a:rPr>
              <a:t>El CDES y el diálogo para el desarro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240" y="72720"/>
            <a:ext cx="91137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9"/>
                </a:solidFill>
                <a:latin typeface="Tahoma"/>
              </a:rPr>
              <a:t>CDES como un instrumento para el Estado Democrático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344520" y="817560"/>
            <a:ext cx="3456000" cy="1008720"/>
          </a:xfrm>
          <a:prstGeom prst="rect">
            <a:avLst/>
          </a:prstGeom>
          <a:solidFill>
            <a:srgbClr val="ff6600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esoramiento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direct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la Presidencia de la Repúb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4052880" y="879480"/>
            <a:ext cx="4724280" cy="1022760"/>
          </a:xfrm>
          <a:prstGeom prst="rect">
            <a:avLst/>
          </a:prstGeom>
          <a:solidFill>
            <a:srgbClr val="99ff99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Discutir y </a:t>
            </a:r>
            <a:r>
              <a:rPr b="1" lang="es-ES" sz="2300" spc="-1" strike="noStrike">
                <a:solidFill>
                  <a:srgbClr val="000000"/>
                </a:solidFill>
                <a:latin typeface="Tahoma"/>
                <a:ea typeface="Times New Roman"/>
              </a:rPr>
              <a:t>proponer</a:t>
            </a:r>
            <a:r>
              <a:rPr b="1" lang="es-ES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 políticas para el desarrollo sustentabl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tângulo 3"/>
          <p:cNvSpPr/>
          <p:nvPr/>
        </p:nvSpPr>
        <p:spPr>
          <a:xfrm>
            <a:off x="324000" y="2509920"/>
            <a:ext cx="8343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Retângulo 10"/>
          <p:cNvGrpSpPr/>
          <p:nvPr/>
        </p:nvGrpSpPr>
        <p:grpSpPr>
          <a:xfrm>
            <a:off x="1200240" y="2189160"/>
            <a:ext cx="7615080" cy="4022640"/>
            <a:chOff x="1200240" y="2189160"/>
            <a:chExt cx="7615080" cy="4022640"/>
          </a:xfrm>
        </p:grpSpPr>
        <p:pic>
          <p:nvPicPr>
            <p:cNvPr id="107" name="Retângulo 10" descr=""/>
            <p:cNvPicPr/>
            <p:nvPr/>
          </p:nvPicPr>
          <p:blipFill>
            <a:blip r:embed="rId1"/>
            <a:stretch/>
          </p:blipFill>
          <p:spPr>
            <a:xfrm>
              <a:off x="1200240" y="2189160"/>
              <a:ext cx="7615080" cy="402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1217520" y="2205000"/>
              <a:ext cx="7580520" cy="39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Presidente </a:t>
              </a:r>
              <a:r>
                <a:rPr b="0" lang="es-E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es el </a:t>
              </a:r>
              <a:r>
                <a:rPr b="1" lang="es-E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Presidente de la Republica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ecretario Ejecutivo </a:t>
              </a:r>
              <a:r>
                <a:rPr b="0" lang="es-E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es un </a:t>
              </a:r>
              <a:r>
                <a:rPr b="1" lang="es-E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Ministro de Estad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ecretaria do CDES - SED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Consejeros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 algn="just"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90 ciudadanos brasileños de </a:t>
              </a:r>
              <a:r>
                <a:rPr b="1" lang="es-E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reconocido liderazgo y representatividad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 algn="just"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8 </a:t>
              </a:r>
              <a:r>
                <a:rPr b="1" lang="es-E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Ministros de Estado de los ámbitos económicos, sociales, ambientales y del asesoramiento directo a la Presidencia de la Repúbli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(l</a:t>
              </a:r>
              <a:r>
                <a:rPr b="0" i="1" lang="pt-BR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a composición ministerial ha variado com el </a:t>
              </a:r>
              <a:r>
                <a:rPr b="0" i="1" lang="pt-BR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tiempo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" name="CaixaDeTexto 1" descr=""/>
          <p:cNvPicPr/>
          <p:nvPr/>
        </p:nvPicPr>
        <p:blipFill>
          <a:blip r:embed="rId2"/>
          <a:stretch/>
        </p:blipFill>
        <p:spPr>
          <a:xfrm>
            <a:off x="500040" y="2273400"/>
            <a:ext cx="779400" cy="38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971640" y="1125360"/>
          <a:ext cx="6985080" cy="1930680"/>
        </p:xfrm>
        <a:graphic>
          <a:graphicData uri="http://schemas.openxmlformats.org/drawingml/2006/table">
            <a:tbl>
              <a:tblPr/>
              <a:tblGrid>
                <a:gridCol w="6297480"/>
                <a:gridCol w="687600"/>
              </a:tblGrid>
              <a:tr h="31176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posi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>
                        <a:alpha val="1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1760">
                <a:tc>
                  <a:txBody>
                    <a:bodyPr lIns="6480" rIns="6480" tIns="648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mpresa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760">
                <a:tc>
                  <a:txBody>
                    <a:bodyPr lIns="6480" rIns="6480" tIns="648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abo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6680">
                <a:tc>
                  <a:txBody>
                    <a:bodyPr lIns="6480" rIns="6480" tIns="648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NGs, movimientos sociales, academia, personal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760">
                <a:tc>
                  <a:txBody>
                    <a:bodyPr lIns="6480" rIns="6480" tIns="648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ubernamen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760">
                <a:tc>
                  <a:txBody>
                    <a:bodyPr lIns="6480" rIns="6480" tIns="648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1" name="Rectangle 2"/>
          <p:cNvSpPr/>
          <p:nvPr/>
        </p:nvSpPr>
        <p:spPr>
          <a:xfrm>
            <a:off x="30240" y="73080"/>
            <a:ext cx="828684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ahoma"/>
              </a:rPr>
              <a:t>CDES – La lógica del funcion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tângulo 6"/>
          <p:cNvSpPr/>
          <p:nvPr/>
        </p:nvSpPr>
        <p:spPr>
          <a:xfrm>
            <a:off x="468360" y="4005360"/>
            <a:ext cx="8351640" cy="1769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  <a:ea typeface="Tahoma"/>
              </a:rPr>
              <a:t>Los consejeros son invitados y nombrados oficialmente por el Presidente para un mandato de dos años, con posibilidad de nuevo nombramien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  <a:ea typeface="Tahoma"/>
              </a:rPr>
              <a:t>La participación de los consejeros se considera honorífica y no es remunerad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tângulo 3"/>
          <p:cNvSpPr/>
          <p:nvPr/>
        </p:nvSpPr>
        <p:spPr>
          <a:xfrm>
            <a:off x="468360" y="3541680"/>
            <a:ext cx="8351640" cy="459720"/>
          </a:xfrm>
          <a:prstGeom prst="rect">
            <a:avLst/>
          </a:prstGeom>
          <a:solidFill>
            <a:srgbClr val="000099">
              <a:alpha val="1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Forma de acc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240" y="72720"/>
            <a:ext cx="91137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9"/>
                </a:solidFill>
                <a:latin typeface="Tahoma"/>
              </a:rPr>
              <a:t>CDES como instrumento para el Estado Democrático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Retângulo 2"/>
          <p:cNvSpPr/>
          <p:nvPr/>
        </p:nvSpPr>
        <p:spPr>
          <a:xfrm>
            <a:off x="336600" y="692280"/>
            <a:ext cx="8424720" cy="50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mposición heterogéne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con participación de los empresarios, trabajadores, movimientos sociales, academia y otros actores sociales relevant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presentatividad de los consejer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son sujetos políticos de comprobada capacidad para movilizar a las grandes redes sociales para la discusión de las directrices prioritarias para el paí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nfoque en temas de desarrollo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s permite analizar los aspectos coyunturales y estratégic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  <a:ea typeface="Tahoma"/>
              </a:rPr>
              <a:t>El </a:t>
            </a:r>
            <a:r>
              <a:rPr b="1" lang="pt-BR" sz="2200" spc="-1" strike="noStrike">
                <a:solidFill>
                  <a:srgbClr val="000000"/>
                </a:solidFill>
                <a:latin typeface="Tahoma"/>
                <a:ea typeface="Tahoma"/>
              </a:rPr>
              <a:t>diálogo 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  <a:ea typeface="Tahoma"/>
              </a:rPr>
              <a:t>en la </a:t>
            </a:r>
            <a:r>
              <a:rPr b="0" lang="es-ES" sz="2200" spc="-1" strike="noStrike">
                <a:solidFill>
                  <a:srgbClr val="000000"/>
                </a:solidFill>
                <a:latin typeface="Tahoma"/>
                <a:ea typeface="Tahoma"/>
              </a:rPr>
              <a:t>búsqueda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  <a:ea typeface="Tahoma"/>
              </a:rPr>
              <a:t> de las síntesis posibles de los valores y proyectos predominantes en la socieda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240" y="72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ahoma"/>
              </a:rPr>
              <a:t>CDES – </a:t>
            </a:r>
            <a:r>
              <a:rPr b="1" lang="es-ES" sz="2800" spc="-1" strike="noStrike">
                <a:solidFill>
                  <a:srgbClr val="008000"/>
                </a:solidFill>
                <a:latin typeface="Tahoma"/>
              </a:rPr>
              <a:t>Seminario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7" name="Picture 13" descr=""/>
          <p:cNvPicPr/>
          <p:nvPr/>
        </p:nvPicPr>
        <p:blipFill>
          <a:blip r:embed="rId1"/>
          <a:stretch/>
        </p:blipFill>
        <p:spPr>
          <a:xfrm>
            <a:off x="4843440" y="836640"/>
            <a:ext cx="4032360" cy="267984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15"/>
          <p:cNvSpPr/>
          <p:nvPr/>
        </p:nvSpPr>
        <p:spPr>
          <a:xfrm>
            <a:off x="4538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6" descr=""/>
          <p:cNvPicPr/>
          <p:nvPr/>
        </p:nvPicPr>
        <p:blipFill>
          <a:blip r:embed="rId2"/>
          <a:stretch/>
        </p:blipFill>
        <p:spPr>
          <a:xfrm>
            <a:off x="390600" y="3068640"/>
            <a:ext cx="428472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Object 127"/>
          <p:cNvGraphicFramePr/>
          <p:nvPr/>
        </p:nvGraphicFramePr>
        <p:xfrm>
          <a:off x="1143000" y="914400"/>
          <a:ext cx="6095880" cy="209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1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14400"/>
                    <a:ext cx="6095880" cy="2095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2" name="Object 128"/>
          <p:cNvGraphicFramePr/>
          <p:nvPr/>
        </p:nvGraphicFramePr>
        <p:xfrm>
          <a:off x="3581280" y="2590920"/>
          <a:ext cx="4572000" cy="337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Object 12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2590920"/>
                    <a:ext cx="4572000" cy="3371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240" y="72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ahoma"/>
              </a:rPr>
              <a:t>CDES – </a:t>
            </a:r>
            <a:r>
              <a:rPr b="1" lang="es-ES" sz="2800" spc="-1" strike="noStrike">
                <a:solidFill>
                  <a:srgbClr val="008000"/>
                </a:solidFill>
                <a:latin typeface="Tahoma"/>
              </a:rPr>
              <a:t>Grupos de trabajo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tângulo 2"/>
          <p:cNvSpPr/>
          <p:nvPr/>
        </p:nvSpPr>
        <p:spPr>
          <a:xfrm>
            <a:off x="395280" y="40464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ahoma"/>
              </a:rPr>
              <a:t>CDES - El producto del diá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tângulo 3"/>
          <p:cNvSpPr/>
          <p:nvPr/>
        </p:nvSpPr>
        <p:spPr>
          <a:xfrm>
            <a:off x="533520" y="1413000"/>
            <a:ext cx="8208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  <a:ea typeface="Tahoma"/>
              </a:rPr>
              <a:t>Documentos estratégicos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ahoma"/>
              </a:rPr>
              <a:t>que abordan el proyecto de desarroll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  <a:ea typeface="Tahoma"/>
              </a:rPr>
              <a:t>Acuerdos, Propuestas, Peticiones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ahoma"/>
              </a:rPr>
              <a:t>: pareceres  de los Grupos de Trabajo, aprobado por el Plenario del CDES y entregados a la Presidencia de la Repúblic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  <a:ea typeface="Tahoma"/>
              </a:rPr>
              <a:t>Acta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ahoma"/>
              </a:rPr>
              <a:t>: documento descriptivo de la sesión plenari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ahoma"/>
              </a:rPr>
              <a:t>Los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  <a:ea typeface="Tahoma"/>
              </a:rPr>
              <a:t>documentos de base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  <a:ea typeface="Tahoma"/>
              </a:rPr>
              <a:t>Recuerdos, Síntesis, Inform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  <a:ea typeface="Tahoma"/>
              </a:rPr>
              <a:t>Anal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  <a:ea typeface="Tahoma"/>
              </a:rPr>
              <a:t>Plataforma virtual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ahoma"/>
              </a:rPr>
              <a:t>para la difusión de contenidos y comunicación con los concejer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5T19:32:07Z</dcterms:created>
  <dc:creator>RosaMN</dc:creator>
  <dc:description/>
  <dc:language>en-US</dc:language>
  <cp:lastModifiedBy>Usuario sala</cp:lastModifiedBy>
  <dcterms:modified xsi:type="dcterms:W3CDTF">2013-11-18T19:03:34Z</dcterms:modified>
  <cp:revision>816</cp:revision>
  <dc:subject/>
  <dc:title>Apresentação do PowerPoint</dc:title>
</cp:coreProperties>
</file>