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89A19-F092-40EC-83E9-EE78D42E68A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D66E8-73EF-42CD-A339-E44BE2DA65D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14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5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A9D8E0-CFB9-4CD9-8B3D-F87E51C8D575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EB900231-3DCC-461D-9B08-4B01FAAB872C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A820A-9D8E-4C7C-8524-B1B11EF654B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BF428-E363-4711-8FB1-11B8B8A8EF3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580C7-63C3-4044-927F-CF2CE1A1EA2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B54AF-24CD-4BB8-AE39-EFBDD5E4323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7760" y="0"/>
            <a:ext cx="14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77760" y="144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554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C3F886-FFCC-4839-9E06-531B7D9D52AD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B5BE13B5-F9EB-40B2-A29D-852FEC1B8C1C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57040" y="1549440"/>
            <a:ext cx="861876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La valutazione di efficacia secondo il paradigma “misurazione degli effetti”delle po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del lav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Verso la costruzione del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«protocollo sperimentale» per la misurazione degli effetti delle politiche passive-attive de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Roberto De Vince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IS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604602-15C3-42D4-8FDF-B101318DFCA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1628640"/>
            <a:ext cx="88200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nitoraggio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raccolta sistematica di informazioni standard su attuazione (finanziaria e fisica) di politiche / programmi / prog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lut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n processo di “conoscenza” svolto in modo inten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ientato alla costruzione di un supporto informativo coerente, utile a dare risposte alla collettività (valutazione investimenti pubbli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olto ad esprimere un “giudizio” relativo ad un sistema di effetti-obiettivi attraverso metodi e strumenti tipici delle scienze sociali, codificati e rigoro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lutazion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ccountabilit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(Rendicont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lutazion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earn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(Apprend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20720" y="888840"/>
            <a:ext cx="472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Definizioni di carattere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539640" y="900000"/>
            <a:ext cx="827892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ctr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Due assun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Esiste un nesso di causalità tra effetto e trattamento (Inferenza caus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Effetto  = differenza tra due valori variabile risultato misurati con trattamento e senza trat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La valutazione di efficacia richiede l’individuazione e la definizione di una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situazione controfattuale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la più verosimile possibile),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ovvero la verifica di cosa sarebbe successo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in assenza di intervento o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mediante realizzazione di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interventi alternativi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(sugli individui più simili possibil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Metodi quasi-sperimen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pportunità e limiti del </a:t>
            </a:r>
            <a:r>
              <a:rPr b="0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quasi-experimental design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anche dati esist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zionamento-selezione e soglia esistente (per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egression discontinuity 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i integrabili e confrontabili su gruppo trattati e non trattati prima, durante e dopo intervento (per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  <a:ea typeface="Calibri"/>
              </a:rPr>
              <a:t>e metodi sperimental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'oggettiva superiorità dell'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experimental desig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è il metodo che meglio approssima la situazione controfattuale (assegnazione random e controllata a due gruppi di trattati e non tratta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116000" y="333360"/>
            <a:ext cx="472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 marL="1071720" algn="ctr">
              <a:lnSpc>
                <a:spcPct val="96000"/>
              </a:lnSpc>
              <a:tabLst>
                <a:tab algn="l" pos="0"/>
                <a:tab algn="l" pos="88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La valutazione di efficacia delle po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619280" y="179280"/>
            <a:ext cx="7920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L’esperimento sociale su vasta scala e la interdiscipliar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25892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720720" y="900000"/>
            <a:ext cx="80215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✓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Accompagnement renforcé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(individualizzato, patto di servizio sottoscritto tra operatore e utente, durata max 6 +2 mesi difficoltà famil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-  Unédic OPP Operatori Privati di Placement 41.000 tra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-  Anpe CVE “Cap Vers L’Entreprise” 40.000 tra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✓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Accompagnement classique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(poco individualizzato, senza sottoscrizione patto di servizio durata max 8 mesi , ex Anpe 120.000 tra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Coinvolgimento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 strutture dedicate agli aspetti gestionali, informativi e metodologici (DARES – CREST – ECOLE d’ECONOMIE PARIS) – 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interdisciplinarità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“orizzontale e vertica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L’adozione di un </a:t>
            </a:r>
            <a:r>
              <a:rPr b="1" lang="it-IT" sz="1600" spc="-1" strike="noStrike">
                <a:solidFill>
                  <a:srgbClr val="ff0000"/>
                </a:solidFill>
                <a:latin typeface="Century Gothic"/>
              </a:rPr>
              <a:t>protocollo sperimentale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applicato a monte della realizzazione</a:t>
            </a:r>
            <a:r>
              <a:rPr b="0" lang="it-IT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ha consentito il 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raffronto degli effetti prodotti dai diversi tipi di intervento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 sul reinserimento occupazionale dei disoccupati coinvol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Maggiore consapevolezza nelle decisioni seguenti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8040" y="5219640"/>
            <a:ext cx="85327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ccord national interprofessionnel du 31 mai 2011 relatif au contrat de sécurisation 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vention du 19 juillet 2011 relative au Contrat de sécurisation 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Loi n° 2011-893 du 28 juillet 2011 pour le développement de l'alternance et la sécurisation des parcours professio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50920" y="0"/>
            <a:ext cx="86184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Verso la costruzione del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«protocollo sperimentale» per la misurazione degli effetti delle politiche passive-attive del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'analisi valutativa realizzata in Francia (esperimento sociale controllato su circa 200 mila persone) dimostra come la valutazione (adeguatamente progettata e supportata) rappresenti lo strumento migliore per l'adozione di programmi, politiche o misure d'intervento più rispondenti ai reali bisogni della collettività (efficacia dell'investimento pubblic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'esperimento sociale controllato può (deve) adottare u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gruppo di controllo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scientifico diverso dal cosiddetto “gruppo non trattato” dall'interven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u cui si concentra la valut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a misurazione degli effetti prodotti d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interventi alternativi rivolti alla stessa categoria di destinatari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(differenziali di efficacia)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nsente di superare i tradizionali problemi etici giuridici connessi all'assegnazione di  individui bisognosi del trattamento (ad esempio, disoccupati) ad un gruppo al quale non è consentito partecipa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in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enza un buon sistema di raccolta sistematica, periodica e standardizzata delle informazioni su destinatari e interventi, non può esserci buona valut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progettazione operativa a monte dell'avvio del programma/ polit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Interdisciplinarità – coinvolgimento orizzontale e verticale degli attori coinvo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 Vincenzi Roberto</dc:creator>
  <dc:description/>
  <dc:language>en-US</dc:language>
  <cp:lastModifiedBy>r.devincenzi</cp:lastModifiedBy>
  <dcterms:modified xsi:type="dcterms:W3CDTF">2013-05-20T07:19:34Z</dcterms:modified>
  <cp:revision>1</cp:revision>
  <dc:subject/>
  <dc:title>Diapositiva 1</dc:title>
</cp:coreProperties>
</file>