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EA25-6032-4540-8AE1-806D7B5671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0677-BD6A-4955-89C1-FB6F3E106A4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6C3D-2709-4EDE-9DF9-5ACFD51D11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2997-C246-439F-B70B-F9405C442E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2B57-B720-4E4D-B8E6-84EFDE2337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1992-3CF7-483A-BE4F-6AA84B1F9A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575F-9FB7-4B43-A71B-78A9B9C7CF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B3DF-076F-46E6-8D99-0EA3CFF225B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4050360"/>
            <a:ext cx="822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405036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405036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264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4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197000"/>
            <a:ext cx="264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4050360"/>
            <a:ext cx="264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4050360"/>
            <a:ext cx="264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4050360"/>
            <a:ext cx="264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42560" y="142920"/>
            <a:ext cx="71866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405036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405036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4050360"/>
            <a:ext cx="822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9700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untitled"/>
          <p:cNvPicPr/>
          <p:nvPr/>
        </p:nvPicPr>
        <p:blipFill>
          <a:blip r:embed="rId3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071720" y="3643200"/>
            <a:ext cx="720864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07960" indent="-507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14493"/>
                </a:solidFill>
                <a:latin typeface="Arial"/>
              </a:rPr>
              <a:t>Taller Plan - Presu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31204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100" spc="-1" strike="noStrike">
                <a:solidFill>
                  <a:srgbClr val="333399"/>
                </a:solidFill>
                <a:latin typeface="Arial"/>
              </a:rPr>
              <a:t>República del Ecuador</a:t>
            </a:r>
            <a:endParaRPr b="1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8" name="Object 4"/>
          <p:cNvGraphicFramePr/>
          <p:nvPr/>
        </p:nvGraphicFramePr>
        <p:xfrm>
          <a:off x="3962520" y="1066680"/>
          <a:ext cx="115416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066680"/>
                    <a:ext cx="11541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itleMasterSubHeading"/>
          <p:cNvSpPr/>
          <p:nvPr/>
        </p:nvSpPr>
        <p:spPr>
          <a:xfrm>
            <a:off x="2286000" y="2857680"/>
            <a:ext cx="4357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7960" indent="-50796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182a80"/>
                </a:solidFill>
                <a:latin typeface="Arial"/>
              </a:rPr>
              <a:t>MINISTERIO DE FINAN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059280" y="5661000"/>
            <a:ext cx="30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08 de mayo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179280" y="549360"/>
            <a:ext cx="5832720" cy="6048360"/>
            <a:chOff x="179280" y="549360"/>
            <a:chExt cx="5832720" cy="6048360"/>
          </a:xfrm>
        </p:grpSpPr>
        <p:sp>
          <p:nvSpPr>
            <p:cNvPr id="126" name="Rectangle 3"/>
            <p:cNvSpPr/>
            <p:nvPr/>
          </p:nvSpPr>
          <p:spPr>
            <a:xfrm>
              <a:off x="179280" y="549360"/>
              <a:ext cx="5832720" cy="6048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4"/>
            <p:cNvSpPr/>
            <p:nvPr/>
          </p:nvSpPr>
          <p:spPr>
            <a:xfrm>
              <a:off x="250920" y="62064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LANIFICAC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5"/>
          <p:cNvGrpSpPr/>
          <p:nvPr/>
        </p:nvGrpSpPr>
        <p:grpSpPr>
          <a:xfrm>
            <a:off x="6012000" y="549360"/>
            <a:ext cx="2881080" cy="6048360"/>
            <a:chOff x="6012000" y="549360"/>
            <a:chExt cx="2881080" cy="6048360"/>
          </a:xfrm>
        </p:grpSpPr>
        <p:sp>
          <p:nvSpPr>
            <p:cNvPr id="129" name="Rectangle 6"/>
            <p:cNvSpPr/>
            <p:nvPr/>
          </p:nvSpPr>
          <p:spPr>
            <a:xfrm>
              <a:off x="6012000" y="549360"/>
              <a:ext cx="2881080" cy="6048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7"/>
            <p:cNvSpPr/>
            <p:nvPr/>
          </p:nvSpPr>
          <p:spPr>
            <a:xfrm>
              <a:off x="6227640" y="62064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PRESUPU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2887560" y="1125360"/>
            <a:ext cx="2881440" cy="5256360"/>
            <a:chOff x="2887560" y="1125360"/>
            <a:chExt cx="2881440" cy="5256360"/>
          </a:xfrm>
        </p:grpSpPr>
        <p:sp>
          <p:nvSpPr>
            <p:cNvPr id="132" name="Rectangle 9"/>
            <p:cNvSpPr/>
            <p:nvPr/>
          </p:nvSpPr>
          <p:spPr>
            <a:xfrm>
              <a:off x="2887560" y="1125360"/>
              <a:ext cx="2881440" cy="525636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2987640" y="1197000"/>
              <a:ext cx="26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Ámbito Institu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1"/>
          <p:cNvGrpSpPr/>
          <p:nvPr/>
        </p:nvGrpSpPr>
        <p:grpSpPr>
          <a:xfrm>
            <a:off x="3203640" y="1628640"/>
            <a:ext cx="2271600" cy="505080"/>
            <a:chOff x="3203640" y="1628640"/>
            <a:chExt cx="2271600" cy="505080"/>
          </a:xfrm>
        </p:grpSpPr>
        <p:sp>
          <p:nvSpPr>
            <p:cNvPr id="135" name="Rectangle 12"/>
            <p:cNvSpPr/>
            <p:nvPr/>
          </p:nvSpPr>
          <p:spPr>
            <a:xfrm>
              <a:off x="3203640" y="1628640"/>
              <a:ext cx="75888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br>
                <a:rPr sz="1800"/>
              </a:b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3957480" y="1628640"/>
              <a:ext cx="75888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Mi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4716360" y="1628640"/>
              <a:ext cx="75888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Vi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5"/>
          <p:cNvSpPr/>
          <p:nvPr/>
        </p:nvSpPr>
        <p:spPr>
          <a:xfrm>
            <a:off x="3303720" y="2492280"/>
            <a:ext cx="2058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Obj. Estraté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6"/>
          <p:cNvGrpSpPr/>
          <p:nvPr/>
        </p:nvGrpSpPr>
        <p:grpSpPr>
          <a:xfrm>
            <a:off x="339840" y="1125360"/>
            <a:ext cx="2376360" cy="5256360"/>
            <a:chOff x="339840" y="1125360"/>
            <a:chExt cx="2376360" cy="5256360"/>
          </a:xfrm>
        </p:grpSpPr>
        <p:sp>
          <p:nvSpPr>
            <p:cNvPr id="140" name="Rectangle 17"/>
            <p:cNvSpPr/>
            <p:nvPr/>
          </p:nvSpPr>
          <p:spPr>
            <a:xfrm>
              <a:off x="339840" y="1125360"/>
              <a:ext cx="2376360" cy="5256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8"/>
            <p:cNvSpPr/>
            <p:nvPr/>
          </p:nvSpPr>
          <p:spPr>
            <a:xfrm>
              <a:off x="395280" y="119700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Ámbito N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9"/>
          <p:cNvSpPr/>
          <p:nvPr/>
        </p:nvSpPr>
        <p:spPr>
          <a:xfrm>
            <a:off x="482760" y="2492280"/>
            <a:ext cx="205884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Obj. Plan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482760" y="3606840"/>
            <a:ext cx="2058840" cy="50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Metas Plan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21"/>
          <p:cNvGrpSpPr/>
          <p:nvPr/>
        </p:nvGrpSpPr>
        <p:grpSpPr>
          <a:xfrm>
            <a:off x="6288120" y="1125360"/>
            <a:ext cx="2460600" cy="5256360"/>
            <a:chOff x="6288120" y="1125360"/>
            <a:chExt cx="2460600" cy="5256360"/>
          </a:xfrm>
        </p:grpSpPr>
        <p:sp>
          <p:nvSpPr>
            <p:cNvPr id="145" name="Rectangle 22"/>
            <p:cNvSpPr/>
            <p:nvPr/>
          </p:nvSpPr>
          <p:spPr>
            <a:xfrm>
              <a:off x="6288120" y="1125360"/>
              <a:ext cx="2376360" cy="525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3"/>
            <p:cNvSpPr/>
            <p:nvPr/>
          </p:nvSpPr>
          <p:spPr>
            <a:xfrm>
              <a:off x="6372360" y="119700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Ámbito Presupu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24"/>
          <p:cNvSpPr/>
          <p:nvPr/>
        </p:nvSpPr>
        <p:spPr>
          <a:xfrm>
            <a:off x="6432480" y="3274920"/>
            <a:ext cx="2059200" cy="505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5"/>
          <p:cNvSpPr/>
          <p:nvPr/>
        </p:nvSpPr>
        <p:spPr>
          <a:xfrm>
            <a:off x="3298680" y="4776840"/>
            <a:ext cx="20592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6"/>
          <p:cNvSpPr/>
          <p:nvPr/>
        </p:nvSpPr>
        <p:spPr>
          <a:xfrm>
            <a:off x="6432480" y="5591160"/>
            <a:ext cx="2059200" cy="504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</a:rPr>
              <a:t>Ítem, geográfico, </a:t>
            </a:r>
            <a:br>
              <a:rPr sz="1400"/>
            </a:br>
            <a:r>
              <a:rPr b="0" lang="es-EC" sz="1400" spc="-1" strike="noStrike">
                <a:solidFill>
                  <a:srgbClr val="000000"/>
                </a:solidFill>
                <a:latin typeface="Arial"/>
              </a:rPr>
              <a:t>fuente y mo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4356000" y="2997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>
            <a:off x="4356000" y="43657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29"/>
          <p:cNvGrpSpPr/>
          <p:nvPr/>
        </p:nvGrpSpPr>
        <p:grpSpPr>
          <a:xfrm>
            <a:off x="5364000" y="3500280"/>
            <a:ext cx="1079640" cy="720720"/>
            <a:chOff x="5364000" y="3500280"/>
            <a:chExt cx="1079640" cy="720720"/>
          </a:xfrm>
        </p:grpSpPr>
        <p:sp>
          <p:nvSpPr>
            <p:cNvPr id="153" name="Line 30"/>
            <p:cNvSpPr/>
            <p:nvPr/>
          </p:nvSpPr>
          <p:spPr>
            <a:xfrm>
              <a:off x="5364000" y="3716280"/>
              <a:ext cx="6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1"/>
            <p:cNvSpPr/>
            <p:nvPr/>
          </p:nvSpPr>
          <p:spPr>
            <a:xfrm>
              <a:off x="6012000" y="3500280"/>
              <a:ext cx="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2"/>
            <p:cNvSpPr/>
            <p:nvPr/>
          </p:nvSpPr>
          <p:spPr>
            <a:xfrm>
              <a:off x="6012000" y="350028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3"/>
            <p:cNvSpPr/>
            <p:nvPr/>
          </p:nvSpPr>
          <p:spPr>
            <a:xfrm>
              <a:off x="6012000" y="422100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Line 34"/>
          <p:cNvSpPr/>
          <p:nvPr/>
        </p:nvSpPr>
        <p:spPr>
          <a:xfrm flipH="1">
            <a:off x="2556000" y="2708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5"/>
          <p:cNvSpPr/>
          <p:nvPr/>
        </p:nvSpPr>
        <p:spPr>
          <a:xfrm>
            <a:off x="7451640" y="436572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6"/>
          <p:cNvSpPr/>
          <p:nvPr/>
        </p:nvSpPr>
        <p:spPr>
          <a:xfrm flipH="1">
            <a:off x="2556000" y="400536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7"/>
          <p:cNvSpPr/>
          <p:nvPr/>
        </p:nvSpPr>
        <p:spPr>
          <a:xfrm>
            <a:off x="7451640" y="37893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8"/>
          <p:cNvSpPr/>
          <p:nvPr/>
        </p:nvSpPr>
        <p:spPr>
          <a:xfrm>
            <a:off x="7451640" y="5229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9"/>
          <p:cNvSpPr/>
          <p:nvPr/>
        </p:nvSpPr>
        <p:spPr>
          <a:xfrm>
            <a:off x="6432480" y="3922560"/>
            <a:ext cx="2059200" cy="505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6432480" y="4759200"/>
            <a:ext cx="2059200" cy="505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41"/>
          <p:cNvGrpSpPr/>
          <p:nvPr/>
        </p:nvGrpSpPr>
        <p:grpSpPr>
          <a:xfrm>
            <a:off x="3276720" y="3446640"/>
            <a:ext cx="2201760" cy="954000"/>
            <a:chOff x="3276720" y="3446640"/>
            <a:chExt cx="2201760" cy="954000"/>
          </a:xfrm>
        </p:grpSpPr>
        <p:sp>
          <p:nvSpPr>
            <p:cNvPr id="165" name="Rectangle 42"/>
            <p:cNvSpPr/>
            <p:nvPr/>
          </p:nvSpPr>
          <p:spPr>
            <a:xfrm>
              <a:off x="3419640" y="3895920"/>
              <a:ext cx="205884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000000"/>
                  </a:solidFill>
                  <a:latin typeface="Arial"/>
                </a:rPr>
                <a:t>Indicad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3"/>
            <p:cNvSpPr/>
            <p:nvPr/>
          </p:nvSpPr>
          <p:spPr>
            <a:xfrm>
              <a:off x="3348000" y="3659400"/>
              <a:ext cx="205920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000000"/>
                  </a:solidFill>
                  <a:latin typeface="Arial"/>
                </a:rPr>
                <a:t>Me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4"/>
            <p:cNvSpPr/>
            <p:nvPr/>
          </p:nvSpPr>
          <p:spPr>
            <a:xfrm>
              <a:off x="3276720" y="3446640"/>
              <a:ext cx="205884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Obj. Opera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45"/>
          <p:cNvSpPr/>
          <p:nvPr/>
        </p:nvSpPr>
        <p:spPr>
          <a:xfrm>
            <a:off x="5364000" y="5013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46"/>
          <p:cNvGrpSpPr/>
          <p:nvPr/>
        </p:nvGrpSpPr>
        <p:grpSpPr>
          <a:xfrm>
            <a:off x="395280" y="2349360"/>
            <a:ext cx="8209080" cy="2159280"/>
            <a:chOff x="395280" y="2349360"/>
            <a:chExt cx="8209080" cy="2159280"/>
          </a:xfrm>
        </p:grpSpPr>
        <p:sp>
          <p:nvSpPr>
            <p:cNvPr id="170" name="Rectangle 47"/>
            <p:cNvSpPr/>
            <p:nvPr/>
          </p:nvSpPr>
          <p:spPr>
            <a:xfrm>
              <a:off x="395280" y="2349360"/>
              <a:ext cx="2664000" cy="792360"/>
            </a:xfrm>
            <a:prstGeom prst="rect">
              <a:avLst/>
            </a:prstGeom>
            <a:solidFill>
              <a:srgbClr val="80808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8"/>
            <p:cNvSpPr/>
            <p:nvPr/>
          </p:nvSpPr>
          <p:spPr>
            <a:xfrm>
              <a:off x="3059280" y="2349360"/>
              <a:ext cx="2592360" cy="2159280"/>
            </a:xfrm>
            <a:prstGeom prst="rect">
              <a:avLst/>
            </a:prstGeom>
            <a:solidFill>
              <a:srgbClr val="80808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49"/>
            <p:cNvSpPr/>
            <p:nvPr/>
          </p:nvSpPr>
          <p:spPr>
            <a:xfrm>
              <a:off x="5651640" y="3141720"/>
              <a:ext cx="2952720" cy="1366920"/>
            </a:xfrm>
            <a:prstGeom prst="rect">
              <a:avLst/>
            </a:prstGeom>
            <a:solidFill>
              <a:srgbClr val="80808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2286000" y="2852640"/>
            <a:ext cx="4713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8080"/>
                </a:solidFill>
                <a:latin typeface="Tahoma"/>
                <a:ea typeface="Tahoma"/>
              </a:rPr>
              <a:t>GRACIAS</a:t>
            </a:r>
            <a:r>
              <a:rPr b="1" lang="es-ES" sz="7200" spc="-1" strike="noStrike">
                <a:solidFill>
                  <a:srgbClr val="008080"/>
                </a:solidFill>
                <a:latin typeface="Arial"/>
              </a:rPr>
              <a:t>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7920" y="2895120"/>
            <a:ext cx="624852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ahoma"/>
              </a:rPr>
              <a:t>El Ciclo Presupuestario 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24000" y="1413000"/>
            <a:ext cx="1366560" cy="76176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gra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763640" y="2276640"/>
            <a:ext cx="1366920" cy="76176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ormul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203640" y="3098880"/>
            <a:ext cx="1366920" cy="76176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Aprob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4716360" y="3860640"/>
            <a:ext cx="1366920" cy="76212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Ejec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596360" y="5589720"/>
            <a:ext cx="1366560" cy="76176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Evalu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6156360" y="4683240"/>
            <a:ext cx="1366920" cy="76176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Liquid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6920" y="2205000"/>
            <a:ext cx="936720" cy="741240"/>
            <a:chOff x="826920" y="2205000"/>
            <a:chExt cx="936720" cy="741240"/>
          </a:xfrm>
        </p:grpSpPr>
        <p:sp>
          <p:nvSpPr>
            <p:cNvPr id="60" name="Rectangle 9"/>
            <p:cNvSpPr/>
            <p:nvPr/>
          </p:nvSpPr>
          <p:spPr>
            <a:xfrm>
              <a:off x="826920" y="2205000"/>
              <a:ext cx="216000" cy="647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826920" y="2565360"/>
              <a:ext cx="936720" cy="380880"/>
            </a:xfrm>
            <a:prstGeom prst="rightArrow">
              <a:avLst>
                <a:gd name="adj1" fmla="val 50000"/>
                <a:gd name="adj2" fmla="val 5291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2268360" y="2997360"/>
            <a:ext cx="936720" cy="741240"/>
            <a:chOff x="2268360" y="2997360"/>
            <a:chExt cx="936720" cy="741240"/>
          </a:xfrm>
        </p:grpSpPr>
        <p:sp>
          <p:nvSpPr>
            <p:cNvPr id="63" name="Rectangle 12"/>
            <p:cNvSpPr/>
            <p:nvPr/>
          </p:nvSpPr>
          <p:spPr>
            <a:xfrm>
              <a:off x="2268360" y="2997360"/>
              <a:ext cx="216000" cy="647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3"/>
            <p:cNvSpPr/>
            <p:nvPr/>
          </p:nvSpPr>
          <p:spPr>
            <a:xfrm>
              <a:off x="2268360" y="3357720"/>
              <a:ext cx="936720" cy="380880"/>
            </a:xfrm>
            <a:prstGeom prst="rightArrow">
              <a:avLst>
                <a:gd name="adj1" fmla="val 50000"/>
                <a:gd name="adj2" fmla="val 5291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3780000" y="3860640"/>
            <a:ext cx="936360" cy="741240"/>
            <a:chOff x="3780000" y="3860640"/>
            <a:chExt cx="936360" cy="741240"/>
          </a:xfrm>
        </p:grpSpPr>
        <p:sp>
          <p:nvSpPr>
            <p:cNvPr id="66" name="Rectangle 15"/>
            <p:cNvSpPr/>
            <p:nvPr/>
          </p:nvSpPr>
          <p:spPr>
            <a:xfrm>
              <a:off x="3780000" y="3860640"/>
              <a:ext cx="215640" cy="647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6"/>
            <p:cNvSpPr/>
            <p:nvPr/>
          </p:nvSpPr>
          <p:spPr>
            <a:xfrm>
              <a:off x="3780000" y="4221000"/>
              <a:ext cx="936360" cy="380880"/>
            </a:xfrm>
            <a:prstGeom prst="rightArrow">
              <a:avLst>
                <a:gd name="adj1" fmla="val 50000"/>
                <a:gd name="adj2" fmla="val 5289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7"/>
          <p:cNvGrpSpPr/>
          <p:nvPr/>
        </p:nvGrpSpPr>
        <p:grpSpPr>
          <a:xfrm>
            <a:off x="5219640" y="4581360"/>
            <a:ext cx="936720" cy="741240"/>
            <a:chOff x="5219640" y="4581360"/>
            <a:chExt cx="936720" cy="741240"/>
          </a:xfrm>
        </p:grpSpPr>
        <p:sp>
          <p:nvSpPr>
            <p:cNvPr id="69" name="Rectangle 18"/>
            <p:cNvSpPr/>
            <p:nvPr/>
          </p:nvSpPr>
          <p:spPr>
            <a:xfrm>
              <a:off x="5219640" y="4581360"/>
              <a:ext cx="216000" cy="647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19"/>
            <p:cNvSpPr/>
            <p:nvPr/>
          </p:nvSpPr>
          <p:spPr>
            <a:xfrm>
              <a:off x="5219640" y="4941720"/>
              <a:ext cx="936720" cy="380880"/>
            </a:xfrm>
            <a:prstGeom prst="rightArrow">
              <a:avLst>
                <a:gd name="adj1" fmla="val 50000"/>
                <a:gd name="adj2" fmla="val 5291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0"/>
          <p:cNvGrpSpPr/>
          <p:nvPr/>
        </p:nvGrpSpPr>
        <p:grpSpPr>
          <a:xfrm>
            <a:off x="6659640" y="5445000"/>
            <a:ext cx="936720" cy="741240"/>
            <a:chOff x="6659640" y="5445000"/>
            <a:chExt cx="936720" cy="741240"/>
          </a:xfrm>
        </p:grpSpPr>
        <p:sp>
          <p:nvSpPr>
            <p:cNvPr id="72" name="Rectangle 21"/>
            <p:cNvSpPr/>
            <p:nvPr/>
          </p:nvSpPr>
          <p:spPr>
            <a:xfrm>
              <a:off x="6659640" y="5445000"/>
              <a:ext cx="216000" cy="647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22"/>
            <p:cNvSpPr/>
            <p:nvPr/>
          </p:nvSpPr>
          <p:spPr>
            <a:xfrm>
              <a:off x="6659640" y="5805360"/>
              <a:ext cx="936720" cy="380880"/>
            </a:xfrm>
            <a:prstGeom prst="rightArrow">
              <a:avLst>
                <a:gd name="adj1" fmla="val 50000"/>
                <a:gd name="adj2" fmla="val 5291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3640" y="476280"/>
            <a:ext cx="482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333399"/>
                </a:solidFill>
                <a:latin typeface="Tahoma"/>
              </a:rPr>
              <a:t>El ciclo presupuestari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04960" y="2971440"/>
            <a:ext cx="556236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PROGRAMACIÓN Y FORMULACIÓN PRESUPUESTARIA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332000" y="1197000"/>
            <a:ext cx="7632720" cy="5472000"/>
          </a:xfrm>
          <a:prstGeom prst="rect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687680" y="2708280"/>
            <a:ext cx="1366560" cy="108108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efinir Polític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Macroeconó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e Deu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e Inver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276720" y="2708280"/>
            <a:ext cx="1368360" cy="50472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efinir Polí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is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687680" y="1916280"/>
            <a:ext cx="1371600" cy="6858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50000">
                <a:srgbClr val="3333ff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efinir E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Macroeconó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 rot="16200000">
            <a:off x="6038640" y="4534920"/>
            <a:ext cx="1800360" cy="308160"/>
          </a:xfrm>
          <a:prstGeom prst="rightArrow">
            <a:avLst>
              <a:gd name="adj1" fmla="val 57500"/>
              <a:gd name="adj2" fmla="val 65455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 rot="5400000">
            <a:off x="3563640" y="2060640"/>
            <a:ext cx="934920" cy="360360"/>
          </a:xfrm>
          <a:prstGeom prst="rightArrow">
            <a:avLst>
              <a:gd name="adj1" fmla="val 50009"/>
              <a:gd name="adj2" fmla="val 41438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4859280" y="6143760"/>
            <a:ext cx="1224000" cy="380880"/>
          </a:xfrm>
          <a:prstGeom prst="rightArrow">
            <a:avLst>
              <a:gd name="adj1" fmla="val 50000"/>
              <a:gd name="adj2" fmla="val 33951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2484360" y="260280"/>
            <a:ext cx="453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PROGRAMACIÓN Y FORMU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1687680" y="3895560"/>
            <a:ext cx="1371600" cy="6858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50000">
                <a:srgbClr val="3333ff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la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Gobie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1687680" y="4724280"/>
            <a:ext cx="1371600" cy="6858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50000">
                <a:srgbClr val="3333ff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lan 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e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108000" y="1197000"/>
            <a:ext cx="1150920" cy="6476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cc66"/>
              </a:gs>
              <a:gs pos="100000">
                <a:srgbClr val="cc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RI, CA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ETROL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108000" y="1916280"/>
            <a:ext cx="1150920" cy="6476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cc66"/>
              </a:gs>
              <a:gs pos="100000">
                <a:srgbClr val="cc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B.C.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104760" y="2708280"/>
            <a:ext cx="1154160" cy="10810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cc66"/>
              </a:gs>
              <a:gs pos="100000">
                <a:srgbClr val="cc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INISTER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INAN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108000" y="3933720"/>
            <a:ext cx="1150920" cy="6476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cc66"/>
              </a:gs>
              <a:gs pos="100000">
                <a:srgbClr val="cc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ESID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RE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108000" y="4724280"/>
            <a:ext cx="1150920" cy="6480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cc66"/>
              </a:gs>
              <a:gs pos="100000">
                <a:srgbClr val="cc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NPL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04760" y="5589720"/>
            <a:ext cx="1154160" cy="10792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cc66"/>
              </a:gs>
              <a:gs pos="100000">
                <a:srgbClr val="cc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NSTIT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3348000" y="1268280"/>
            <a:ext cx="1300320" cy="54288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50000">
                <a:srgbClr val="3333ff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efinir posi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ngre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1619280" y="5589720"/>
            <a:ext cx="3240000" cy="100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3635280" y="5734080"/>
            <a:ext cx="1152720" cy="36036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3635280" y="6164280"/>
            <a:ext cx="1152720" cy="36036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Ac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1619280" y="5589720"/>
            <a:ext cx="2016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Planific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Institu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(Plurianual / Anu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4"/>
          <p:cNvSpPr/>
          <p:nvPr/>
        </p:nvSpPr>
        <p:spPr>
          <a:xfrm>
            <a:off x="3564000" y="4726080"/>
            <a:ext cx="1368360" cy="647640"/>
          </a:xfrm>
          <a:prstGeom prst="flowChartMagneticDrum">
            <a:avLst/>
          </a:prstGeom>
          <a:gradFill rotWithShape="0">
            <a:gsLst>
              <a:gs pos="0">
                <a:srgbClr val="7b8802"/>
              </a:gs>
              <a:gs pos="50000">
                <a:srgbClr val="ffffcc"/>
              </a:gs>
              <a:gs pos="100000">
                <a:srgbClr val="7b8802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lan An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De Inver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788000" y="2708280"/>
            <a:ext cx="1368360" cy="108108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irectr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(Tech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atálogos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lasif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6"/>
          <p:cNvSpPr/>
          <p:nvPr/>
        </p:nvSpPr>
        <p:spPr>
          <a:xfrm>
            <a:off x="6084720" y="5589720"/>
            <a:ext cx="1800360" cy="100800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orm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 for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6373800" y="2708280"/>
            <a:ext cx="1150920" cy="108108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Analiza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Validar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onsoli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fo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7742160" y="2708280"/>
            <a:ext cx="1150920" cy="108108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Gener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Escen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 rot="16200000">
            <a:off x="7992360" y="3751560"/>
            <a:ext cx="647640" cy="1297080"/>
          </a:xfrm>
          <a:prstGeom prst="flowChartMultidocumen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 fo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0"/>
          <p:cNvSpPr/>
          <p:nvPr/>
        </p:nvSpPr>
        <p:spPr>
          <a:xfrm rot="16200000">
            <a:off x="4006080" y="5362920"/>
            <a:ext cx="360360" cy="381240"/>
          </a:xfrm>
          <a:prstGeom prst="leftRightArrow">
            <a:avLst>
              <a:gd name="adj1" fmla="val 49176"/>
              <a:gd name="adj2" fmla="val 28125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1"/>
          <p:cNvSpPr/>
          <p:nvPr/>
        </p:nvSpPr>
        <p:spPr>
          <a:xfrm>
            <a:off x="4643280" y="2852640"/>
            <a:ext cx="287640" cy="381240"/>
          </a:xfrm>
          <a:prstGeom prst="rightArrow">
            <a:avLst>
              <a:gd name="adj1" fmla="val 50000"/>
              <a:gd name="adj2" fmla="val 30389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2"/>
          <p:cNvSpPr/>
          <p:nvPr/>
        </p:nvSpPr>
        <p:spPr>
          <a:xfrm>
            <a:off x="7451640" y="3068640"/>
            <a:ext cx="433440" cy="380880"/>
          </a:xfrm>
          <a:prstGeom prst="rightArrow">
            <a:avLst>
              <a:gd name="adj1" fmla="val 50000"/>
              <a:gd name="adj2" fmla="val 29551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3"/>
          <p:cNvSpPr/>
          <p:nvPr/>
        </p:nvSpPr>
        <p:spPr>
          <a:xfrm>
            <a:off x="2987640" y="2708280"/>
            <a:ext cx="360360" cy="380880"/>
          </a:xfrm>
          <a:prstGeom prst="rightArrow">
            <a:avLst>
              <a:gd name="adj1" fmla="val 50000"/>
              <a:gd name="adj2" fmla="val 10565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4"/>
          <p:cNvSpPr/>
          <p:nvPr/>
        </p:nvSpPr>
        <p:spPr>
          <a:xfrm rot="5400000">
            <a:off x="2123640" y="4508640"/>
            <a:ext cx="360360" cy="360360"/>
          </a:xfrm>
          <a:prstGeom prst="rightArrow">
            <a:avLst>
              <a:gd name="adj1" fmla="val 51546"/>
              <a:gd name="adj2" fmla="val 27755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5"/>
          <p:cNvSpPr/>
          <p:nvPr/>
        </p:nvSpPr>
        <p:spPr>
          <a:xfrm rot="5400000">
            <a:off x="1692000" y="5300640"/>
            <a:ext cx="360360" cy="360360"/>
          </a:xfrm>
          <a:prstGeom prst="rightArrow">
            <a:avLst>
              <a:gd name="adj1" fmla="val 51546"/>
              <a:gd name="adj2" fmla="val 27755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6"/>
          <p:cNvSpPr/>
          <p:nvPr/>
        </p:nvSpPr>
        <p:spPr>
          <a:xfrm rot="5400000">
            <a:off x="2160000" y="2455560"/>
            <a:ext cx="287280" cy="360360"/>
          </a:xfrm>
          <a:prstGeom prst="rightArrow">
            <a:avLst>
              <a:gd name="adj1" fmla="val 51546"/>
              <a:gd name="adj2" fmla="val 27755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7"/>
          <p:cNvGrpSpPr/>
          <p:nvPr/>
        </p:nvGrpSpPr>
        <p:grpSpPr>
          <a:xfrm>
            <a:off x="1403280" y="2060640"/>
            <a:ext cx="360360" cy="3097080"/>
            <a:chOff x="1403280" y="2060640"/>
            <a:chExt cx="360360" cy="3097080"/>
          </a:xfrm>
        </p:grpSpPr>
        <p:sp>
          <p:nvSpPr>
            <p:cNvPr id="111" name="AutoShape 38"/>
            <p:cNvSpPr/>
            <p:nvPr/>
          </p:nvSpPr>
          <p:spPr>
            <a:xfrm>
              <a:off x="1430280" y="4857840"/>
              <a:ext cx="333360" cy="299880"/>
            </a:xfrm>
            <a:prstGeom prst="rightArrow">
              <a:avLst>
                <a:gd name="adj1" fmla="val 50000"/>
                <a:gd name="adj2" fmla="val 11744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39"/>
            <p:cNvSpPr/>
            <p:nvPr/>
          </p:nvSpPr>
          <p:spPr>
            <a:xfrm>
              <a:off x="1430280" y="2060640"/>
              <a:ext cx="333360" cy="288720"/>
            </a:xfrm>
            <a:prstGeom prst="rightArrow">
              <a:avLst>
                <a:gd name="adj1" fmla="val 40333"/>
                <a:gd name="adj2" fmla="val 3247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0"/>
            <p:cNvSpPr/>
            <p:nvPr/>
          </p:nvSpPr>
          <p:spPr>
            <a:xfrm>
              <a:off x="1403280" y="2133720"/>
              <a:ext cx="184320" cy="295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AutoShape 41"/>
          <p:cNvSpPr/>
          <p:nvPr/>
        </p:nvSpPr>
        <p:spPr>
          <a:xfrm rot="5400000">
            <a:off x="8100720" y="3716280"/>
            <a:ext cx="360360" cy="360360"/>
          </a:xfrm>
          <a:prstGeom prst="rightArrow">
            <a:avLst>
              <a:gd name="adj1" fmla="val 51546"/>
              <a:gd name="adj2" fmla="val 27755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2"/>
          <p:cNvGrpSpPr/>
          <p:nvPr/>
        </p:nvGrpSpPr>
        <p:grpSpPr>
          <a:xfrm>
            <a:off x="5292720" y="3789360"/>
            <a:ext cx="792000" cy="2252520"/>
            <a:chOff x="5292720" y="3789360"/>
            <a:chExt cx="792000" cy="2252520"/>
          </a:xfrm>
        </p:grpSpPr>
        <p:sp>
          <p:nvSpPr>
            <p:cNvPr id="116" name="AutoShape 43"/>
            <p:cNvSpPr/>
            <p:nvPr/>
          </p:nvSpPr>
          <p:spPr>
            <a:xfrm>
              <a:off x="5435640" y="5661000"/>
              <a:ext cx="649080" cy="380880"/>
            </a:xfrm>
            <a:prstGeom prst="rightArrow">
              <a:avLst>
                <a:gd name="adj1" fmla="val 50000"/>
                <a:gd name="adj2" fmla="val 3666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4"/>
            <p:cNvSpPr/>
            <p:nvPr/>
          </p:nvSpPr>
          <p:spPr>
            <a:xfrm>
              <a:off x="5292720" y="3789360"/>
              <a:ext cx="216000" cy="2158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45"/>
          <p:cNvGrpSpPr/>
          <p:nvPr/>
        </p:nvGrpSpPr>
        <p:grpSpPr>
          <a:xfrm>
            <a:off x="4859280" y="3789360"/>
            <a:ext cx="1820880" cy="1368360"/>
            <a:chOff x="4859280" y="3789360"/>
            <a:chExt cx="1820880" cy="1368360"/>
          </a:xfrm>
        </p:grpSpPr>
        <p:sp>
          <p:nvSpPr>
            <p:cNvPr id="119" name="AutoShape 46"/>
            <p:cNvSpPr/>
            <p:nvPr/>
          </p:nvSpPr>
          <p:spPr>
            <a:xfrm>
              <a:off x="4859280" y="4776840"/>
              <a:ext cx="1728720" cy="380880"/>
            </a:xfrm>
            <a:prstGeom prst="rightArrow">
              <a:avLst>
                <a:gd name="adj1" fmla="val 56667"/>
                <a:gd name="adj2" fmla="val 1458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47"/>
            <p:cNvSpPr/>
            <p:nvPr/>
          </p:nvSpPr>
          <p:spPr>
            <a:xfrm rot="16200000">
              <a:off x="5878440" y="4282920"/>
              <a:ext cx="1295280" cy="307800"/>
            </a:xfrm>
            <a:prstGeom prst="rightArrow">
              <a:avLst>
                <a:gd name="adj1" fmla="val 57500"/>
                <a:gd name="adj2" fmla="val 4714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04960" y="2971440"/>
            <a:ext cx="556236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  <a:ea typeface="Tahoma"/>
              </a:rPr>
              <a:t>ESTRUCTURA PRESUPUESTARIA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42960" y="1000080"/>
            <a:ext cx="7524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68360" y="969840"/>
            <a:ext cx="785016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04960" y="2971440"/>
            <a:ext cx="556236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VINCULACIÓN PLAN-PRESUPUEST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9:17:13Z</dcterms:created>
  <dc:creator>Hugo Naranjo M.</dc:creator>
  <dc:description/>
  <dc:language>en-US</dc:language>
  <cp:lastModifiedBy>fsoria</cp:lastModifiedBy>
  <dcterms:modified xsi:type="dcterms:W3CDTF">2013-05-08T00:55:21Z</dcterms:modified>
  <cp:revision>127</cp:revision>
  <dc:subject/>
  <dc:title>Ministerio de Finanzas</dc:title>
</cp:coreProperties>
</file>