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EA5-663C-4AFA-8D86-7D1F2F5B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FBF-3516-4A72-8EC1-4E097D2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83D-FC32-4970-8088-D5EC5B6D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660-B175-4F46-BB51-80C355AD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A169-F6D5-428E-A458-DC6B1DF0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E0CA-C7C9-47FE-9CC5-4251F6A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373D-9B94-4337-9E43-AA37D84D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EC92-A62F-4227-BF8C-31FE78C9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3406-D745-4120-AD54-AD8F3CD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25C-0891-4A8A-8CCC-013F28B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B94C-416A-4C40-A1C2-9DC9BD4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11B-B822-428B-A6F3-DE37035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0533-9C1E-4CBF-A91D-CF757B6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ACC6-5DE2-4525-B60D-03D3A4B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31D-AE2A-43D5-9D79-62E5FFB4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96F-346A-49A7-90CA-7FDD3E11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BFE-AD64-4E08-AD8F-569D551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7024-6F1D-4940-BE80-4AB088BC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9008-E246-4B40-AF14-A3B549B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5AEC-DC7F-445D-882D-078E62C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B940-3E50-4DD2-BA8A-8361BF2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55BC-CFA6-439C-8D58-3FE9F09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A56-37E4-4B61-A53E-0989757E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761E-8316-44FA-A280-EA2CCB8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66D5-C3BA-4377-98F4-3BF9455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7E15-8F07-4DB6-8714-5831155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53BC-F1C3-4481-A34A-B3385E1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C270-594C-4640-AACF-F9451004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2A53-BA94-4D42-90F0-83866D28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8638-A1E4-4FF6-9640-C1E03641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4B2E4-6261-4E25-887E-1B0C20EF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8B71-7260-4F8B-BEF5-1DE87883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8099-CC3B-4B63-8CE6-D294A07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9E1-7394-42E4-BAD1-C85CE6A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615E-B88A-4DA7-BF38-05027FD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EE9D-C4FB-43CC-9C3C-F8B7732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2B08-F838-44DD-9317-44F41AF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A088-4DB4-4A1C-89D3-1866EA8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C776-6985-4E9D-BFE0-D87B600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C5AC-E3EA-4E8F-B404-0AD89DA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FDAC-FEE0-4C02-8C54-9A86246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CB66-10E7-4CF0-BD30-0EAC86E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68CD-CCD6-4174-B117-7649181B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210F-6C53-4D9D-91EF-1ED63B7C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AF0-4169-4427-B637-1889FFC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FC00-1C71-41EB-B7A4-C868699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0178-462C-4029-A937-2FD6A18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7A0A-042B-4889-8891-925D877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884E-A86A-4415-8301-C28176C7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99D2-B7C0-43FE-A474-990A47E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AC76-330E-4A06-BC5E-F4B8249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675B-1D2A-43F0-BA18-B59A0F5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C3A2-8FD0-4E12-8F83-477C9E5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8965-6E33-4F02-A44D-0D6093E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92089-E29E-4735-BF5B-1BE1F2C8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F08-C65E-4AB1-9F9A-74BF604D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8B6C-EC80-4670-A9DD-11AF3CA1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2CB-7493-4689-9916-66147F3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1B5-F45A-4130-A73B-F1E2BDE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A5F-50CD-470A-B301-6336F38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A00AB-F857-4348-9BAE-B16251E43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antilla-PP-roja-Plan-de-Nación-.jpg"/>
          <p:cNvPicPr/>
          <p:nvPr/>
        </p:nvPicPr>
        <p:blipFill>
          <a:blip r:embed="rId4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69BDF-F977-4232-98A0-E46B02AF3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lantilla-pp-Plan-de-Nacion-Amarilla-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806EA-9618-48EA-A14E-7BC4CD5A0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lantilla-verd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8D342-7EAE-46F9-BBD5-9171263C6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lantilla-PP-Azul-Plan-de-Nacion-.jpg"/>
          <p:cNvPicPr/>
          <p:nvPr/>
        </p:nvPicPr>
        <p:blipFill>
          <a:blip r:embed="rId4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71B90-1654-40EC-AD4B-A6CDED6E0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1 Título"/>
          <p:cNvSpPr/>
          <p:nvPr/>
        </p:nvSpPr>
        <p:spPr>
          <a:xfrm>
            <a:off x="142920" y="825480"/>
            <a:ext cx="85694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DESARROLLO REGIONAL CON ENFOQUE DE ORDENAMIENTO TERRITORIAL (PDR-OT) DE OCCIDEN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2 CuadroTexto"/>
          <p:cNvSpPr/>
          <p:nvPr/>
        </p:nvSpPr>
        <p:spPr>
          <a:xfrm>
            <a:off x="858960" y="2276640"/>
            <a:ext cx="73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MUCHAS GRACIAS 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PREGUN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3 Rectángulo"/>
          <p:cNvSpPr/>
          <p:nvPr/>
        </p:nvSpPr>
        <p:spPr>
          <a:xfrm>
            <a:off x="231840" y="5634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INSTITUCIONALIDAD MULTI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552600" y="1198080"/>
            <a:ext cx="769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onsejo Regional de Desarrollo (CRD) de Occidente, instancia regional de diálogo y concer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ancomunidad de municipios, fortalece los nexos territoriales la gestión y ejecución de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unicipalidades, la cual se asume como una herramienta de apoyo, de gestión y de ejecución de proyec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Sector Privado de la Región, de cara a la ejecución de iniciativas de inversión que no pueden ser cubiertas con el presupuesto del sector pu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Group 4" descr=""/>
          <p:cNvPicPr/>
          <p:nvPr/>
        </p:nvPicPr>
        <p:blipFill>
          <a:blip r:embed="rId1"/>
          <a:stretch/>
        </p:blipFill>
        <p:spPr>
          <a:xfrm>
            <a:off x="1182600" y="858960"/>
            <a:ext cx="6559560" cy="5486400"/>
          </a:xfrm>
          <a:prstGeom prst="rect">
            <a:avLst/>
          </a:prstGeom>
          <a:ln w="0">
            <a:noFill/>
          </a:ln>
        </p:spPr>
      </p:pic>
      <p:sp>
        <p:nvSpPr>
          <p:cNvPr id="223" name="32 Rectángulo"/>
          <p:cNvSpPr/>
          <p:nvPr/>
        </p:nvSpPr>
        <p:spPr>
          <a:xfrm>
            <a:off x="595440" y="27612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1800" spc="-1" strike="noStrike">
                <a:solidFill>
                  <a:srgbClr val="000000"/>
                </a:solidFill>
                <a:latin typeface="Arial"/>
              </a:rPr>
              <a:t>ESQUEMA INSTITUCIONALIDAD MULTI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84360" y="1608120"/>
          <a:ext cx="7848360" cy="407520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omento a la producción y productividad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4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 técnica y financiera para el fomento de la producción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mento y diversificación del aparato productivo de la R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ción de la Unidad de Inteligencia de Mercados para la Región de Occiden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5" name="2 Rectángulo"/>
          <p:cNvSpPr/>
          <p:nvPr/>
        </p:nvSpPr>
        <p:spPr>
          <a:xfrm flipV="1" rot="10800000">
            <a:off x="2014200" y="428400"/>
            <a:ext cx="52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11280" y="1730520"/>
          <a:ext cx="7921440" cy="39830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o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nservación y regularización de los recursos naturale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ción y Desarrollo del Bosqu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y Mejora de las Áreas Protegi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Regional de Desarrollo de Áreas  Protegidas y biodiversidad con enfoque de adaptación al cambio climátic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2 Rectángulo"/>
          <p:cNvSpPr/>
          <p:nvPr/>
        </p:nvSpPr>
        <p:spPr>
          <a:xfrm>
            <a:off x="2568600" y="498600"/>
            <a:ext cx="40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0280" y="1476360"/>
          <a:ext cx="7943760" cy="4078440"/>
        </p:xfrm>
        <a:graphic>
          <a:graphicData uri="http://schemas.openxmlformats.org/drawingml/2006/table">
            <a:tbl>
              <a:tblPr/>
              <a:tblGrid>
                <a:gridCol w="3971880"/>
                <a:gridCol w="397188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ivienda e infraestructura soc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infraestructura social en la región (salud, educación, recreació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Educación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Salud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ración y/o reconstrucción de al menos 129 centros educativos en  la región de occid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4 Rectángulo"/>
          <p:cNvSpPr/>
          <p:nvPr/>
        </p:nvSpPr>
        <p:spPr>
          <a:xfrm>
            <a:off x="2568600" y="457200"/>
            <a:ext cx="46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ara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1068480"/>
          <a:ext cx="7921440" cy="480996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fraestructura de transp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conectividad de la reg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Red de Carreteras Pavimenta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litación de corredores estratégicos para la mejora de la conectividad terrestr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strucción total de la Carretera CA-4 desde Nueva Arcadia hasta  La Labor y Reconstrucción de carretera  CA-11 (hasta Copán Ruinas) y reparación hasta el puesto fronterizo de El Flor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2" name="2 Rectángulo"/>
          <p:cNvSpPr/>
          <p:nvPr/>
        </p:nvSpPr>
        <p:spPr>
          <a:xfrm>
            <a:off x="1322280" y="41580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3 Rectángulo"/>
          <p:cNvSpPr/>
          <p:nvPr/>
        </p:nvSpPr>
        <p:spPr>
          <a:xfrm>
            <a:off x="671400" y="593640"/>
            <a:ext cx="73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800" spc="-1" strike="noStrike">
                <a:solidFill>
                  <a:srgbClr val="000000"/>
                </a:solidFill>
                <a:latin typeface="Arial"/>
              </a:rPr>
              <a:t>RESULTAD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 Rectángulo"/>
          <p:cNvSpPr/>
          <p:nvPr/>
        </p:nvSpPr>
        <p:spPr>
          <a:xfrm>
            <a:off x="461880" y="1608120"/>
            <a:ext cx="755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MAN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CION PAULATINA DE PRIORIDADES A PRESUPUEST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CION DE ACCIONES POR PARTE DE ORGANIZACIÓN DE LA SOCIEDAD CIVIL (OSC)   ALINEADAS A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ALGUN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GESTIÓN MANCOMUNDA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Calibri"/>
              </a:rPr>
              <a:t>R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4 Rectángulo"/>
          <p:cNvSpPr/>
          <p:nvPr/>
        </p:nvSpPr>
        <p:spPr>
          <a:xfrm>
            <a:off x="858960" y="1244520"/>
            <a:ext cx="7261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QUE SE ORIENTEN Y ARTICULEN LOS POA PRESUPUESTOS SECTORIALES A LAS PRIORIDADES D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INCORPORACION DE ORGANIZACIONES DE LA SOCIEDAD CIVIL  A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LA TRANSFERENCIA DE COMPETENCIAS Y RECURSOS A NIVELES REGIONALES Y MUNICIP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ARTICULACIÓN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QUE LA COOPERACIÓN ORIENTE SU INVERSIÓN A PRIORIDADES IDENTIFICADAS EN 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6:48:51Z</dcterms:created>
  <dc:creator>Angel Orlando Paz</dc:creator>
  <dc:description/>
  <dc:language>en-US</dc:language>
  <cp:lastModifiedBy>DGCRSEPLAN</cp:lastModifiedBy>
  <dcterms:modified xsi:type="dcterms:W3CDTF">2013-04-11T02:57:46Z</dcterms:modified>
  <cp:revision>63</cp:revision>
  <dc:subject/>
  <dc:title>PowerPoint Presentation</dc:title>
</cp:coreProperties>
</file>