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028-637A-4010-A4F7-35E93C21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090-ED7B-46A5-B840-6AB70451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DAD-CA1F-4AEF-883B-BC697C9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A99-2B90-4D23-99D2-5BCA8BF4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651-AA61-497E-A51A-296957E4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58F-65F7-4567-9025-3CA3AB0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5D0-9478-43FD-9663-FA289C6B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14D-53DA-4AD6-9622-E452A70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AC3-5A8F-4A0D-9424-218224C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8C1-E8EC-45CD-9624-5B82BC0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F8D-E606-46EA-AE7C-B8C385E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B90-C347-42CA-B1AC-AF27B5B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40B8-1B79-4196-8AFD-A04C4FF4FE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Limitantes- en el proceso de articulación de Planificación Sectorial -  Regional  en el marco del P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620640"/>
            <a:ext cx="75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Definir y/o actualizar el marco Normativo que identifique y asigne funciones de cabeza de sector a las instituciones pertinentes, a manera de fortalecer el Consejo de Plan de 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Fortalecer la coordinación interna de las distintas Direcciones de la SEPLAN , para consolidar y aplicar los mecanismos e instrumentos para desarrollar una verdadera planificación en todos los niveles, a efecto de articular la asignación presupuestaria y esta responda mejor a la demanda en los diferentes niveles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Generar e implementar estrategias de comunicación y socialización eficientes a nivel nacional, sectorial, regional e institucional que den a conocer los mecanismos e instrumentos mencionados en l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63640" y="1916280"/>
            <a:ext cx="706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400" spc="-1" strike="noStrike">
                <a:solidFill>
                  <a:srgbClr val="000000"/>
                </a:solidFill>
                <a:latin typeface="Arial"/>
              </a:rPr>
              <a:t>Muchas Gracia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57290" t="21000" r="24071" b="43291"/>
          <a:stretch/>
        </p:blipFill>
        <p:spPr>
          <a:xfrm>
            <a:off x="2771640" y="3095640"/>
            <a:ext cx="113688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67168" t="50005" r="27262" b="33799"/>
          <a:stretch/>
        </p:blipFill>
        <p:spPr>
          <a:xfrm>
            <a:off x="468360" y="4025880"/>
            <a:ext cx="1324080" cy="216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479520" y="15811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9387" t="0" r="14858" b="0"/>
          <a:stretch/>
        </p:blipFill>
        <p:spPr>
          <a:xfrm>
            <a:off x="6732720" y="1793880"/>
            <a:ext cx="178884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0" t="0" r="64588" b="28160"/>
          <a:stretch/>
        </p:blipFill>
        <p:spPr>
          <a:xfrm>
            <a:off x="6732720" y="4260960"/>
            <a:ext cx="107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1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jes de análi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 Rectángulo"/>
          <p:cNvGrpSpPr/>
          <p:nvPr/>
        </p:nvGrpSpPr>
        <p:grpSpPr>
          <a:xfrm>
            <a:off x="2457360" y="1962000"/>
            <a:ext cx="2211480" cy="1640160"/>
            <a:chOff x="2457360" y="1962000"/>
            <a:chExt cx="2211480" cy="1640160"/>
          </a:xfrm>
        </p:grpSpPr>
        <p:pic>
          <p:nvPicPr>
            <p:cNvPr id="51" name="2 Rectángulo" descr=""/>
            <p:cNvPicPr/>
            <p:nvPr/>
          </p:nvPicPr>
          <p:blipFill>
            <a:blip r:embed="rId1"/>
            <a:stretch/>
          </p:blipFill>
          <p:spPr>
            <a:xfrm>
              <a:off x="2457360" y="1962000"/>
              <a:ext cx="221148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484360" y="1989000"/>
              <a:ext cx="2158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Rectángulo"/>
          <p:cNvGrpSpPr/>
          <p:nvPr/>
        </p:nvGrpSpPr>
        <p:grpSpPr>
          <a:xfrm>
            <a:off x="5407200" y="1920960"/>
            <a:ext cx="2219040" cy="1639800"/>
            <a:chOff x="5407200" y="1920960"/>
            <a:chExt cx="2219040" cy="1639800"/>
          </a:xfrm>
        </p:grpSpPr>
        <p:pic>
          <p:nvPicPr>
            <p:cNvPr id="54" name="8 Rectángulo" descr=""/>
            <p:cNvPicPr/>
            <p:nvPr/>
          </p:nvPicPr>
          <p:blipFill>
            <a:blip r:embed="rId2"/>
            <a:stretch/>
          </p:blipFill>
          <p:spPr>
            <a:xfrm>
              <a:off x="5407200" y="1920960"/>
              <a:ext cx="22190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35640" y="1947960"/>
              <a:ext cx="21607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9 Rectángulo"/>
          <p:cNvGrpSpPr/>
          <p:nvPr/>
        </p:nvGrpSpPr>
        <p:grpSpPr>
          <a:xfrm>
            <a:off x="2346480" y="4054320"/>
            <a:ext cx="2433600" cy="1640160"/>
            <a:chOff x="2346480" y="4054320"/>
            <a:chExt cx="2433600" cy="1640160"/>
          </a:xfrm>
        </p:grpSpPr>
        <p:pic>
          <p:nvPicPr>
            <p:cNvPr id="57" name="9 Rectángulo" descr=""/>
            <p:cNvPicPr/>
            <p:nvPr/>
          </p:nvPicPr>
          <p:blipFill>
            <a:blip r:embed="rId3"/>
            <a:stretch/>
          </p:blipFill>
          <p:spPr>
            <a:xfrm>
              <a:off x="2346480" y="4054320"/>
              <a:ext cx="24336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76360" y="4084560"/>
              <a:ext cx="237672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Econó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0 Rectángulo"/>
          <p:cNvGrpSpPr/>
          <p:nvPr/>
        </p:nvGrpSpPr>
        <p:grpSpPr>
          <a:xfrm>
            <a:off x="5638680" y="4054320"/>
            <a:ext cx="2127240" cy="1627200"/>
            <a:chOff x="5638680" y="4054320"/>
            <a:chExt cx="2127240" cy="1627200"/>
          </a:xfrm>
        </p:grpSpPr>
        <p:pic>
          <p:nvPicPr>
            <p:cNvPr id="60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638680" y="4054320"/>
              <a:ext cx="21272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668920" y="4084560"/>
              <a:ext cx="207180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voluntad política para la sostenibilidad en la planificación Regional - 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l Plan De Gobierno  actual No tiene enfoque Sectorial 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ficiencia de continuidad de las acciones por cambios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ualidad de funciones (SDP-SE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svinculación del Marco legal vigente con las necesidades ac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trabajo  y comunicación entre las inst. rect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Hay un proceso insipiente en las regiones, falta coordinación entre regiones (ejemplo de Ocotepeque –  zona de Guisayote en la región occidente  producción de cultivo de pa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a planificación regional solo está orientada de forma regional y no en sub regiones, tomando en consideración de  las z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consideración de las situaciones que afectan a las regiones y su actual y  futuro impacto en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Brecha entre la planificación regional y sectorial y las planificaciones instituci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Estado otorga más recursos para otras áreas menos para plan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otorgamiento muchas veces de los presupuestos es de forma incrementalista y no basada en resultados o impactos ob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 producción nacional  no responde a las demandas reales de la soci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a incidencia política en la presupuestación, selección de beneficiarios, planificación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32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Renuencia para la particip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ébil papel de  las UPEG dentro de las instit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confianza en la información estadística presentada por las instit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influencia de las instituciones líderes del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 alrededor de lo que debería ser una planificación sectorial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nocimiento del rol que realmente debe de jugar la institución ( ejemplo DIGIPESCA, está en Tegucigalp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Renuencia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Dualidad de funciones  (SDP debería ser rectora de todos los se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municación de in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apacidades en la investigación  para la plan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ropuestas de 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16000" y="1628640"/>
            <a:ext cx="802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rear un mecanismo que genere y permita los espacios apropiados de articulación entre la Planificación Regional (Mesas temáticas) con la Planificación Sec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49320" y="3141720"/>
            <a:ext cx="8164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uario</cp:lastModifiedBy>
  <dcterms:modified xsi:type="dcterms:W3CDTF">2013-04-12T21:44:03Z</dcterms:modified>
  <cp:revision>201</cp:revision>
  <dc:subject/>
  <dc:title>Diapositiva 1</dc:title>
</cp:coreProperties>
</file>