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384-A0A3-4457-B115-437FAA45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574-2116-4014-902C-347E961F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4C3-2EC0-4875-8C12-140E92B0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A34-F260-44E8-A680-599B6A5C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6BB-21BF-453E-9A6C-CE7899D6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6BD-EB8C-472A-AFD1-8A9B26A1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1C6-CF6B-47EB-910D-3E49B27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799-C45C-41FA-A7D7-35B661B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359-3C76-4A91-BF9E-850D122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84E-9949-4CEA-806C-F989186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591-AAA3-4D33-BA4F-2BA5188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62E-1A77-486F-8303-9E8EC952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E00AE-1180-426A-ABC1-80090C6BC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B3967-132F-44CD-BAA8-33465677A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ondo para presentaciones 1.jpg"/>
          <p:cNvPicPr/>
          <p:nvPr/>
        </p:nvPicPr>
        <p:blipFill>
          <a:blip r:embed="rId2"/>
          <a:stretch/>
        </p:blipFill>
        <p:spPr>
          <a:xfrm>
            <a:off x="0" y="-154080"/>
            <a:ext cx="9144000" cy="7112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333440" y="4038480"/>
            <a:ext cx="6575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e6ca4"/>
                </a:solidFill>
                <a:latin typeface="Calibri"/>
              </a:rPr>
              <a:t>Sistema Nacional de Inversión Pública</a:t>
            </a:r>
            <a:endParaRPr b="0" lang="en-US" sz="32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6ca4"/>
                </a:solidFill>
                <a:latin typeface="Calibri"/>
              </a:rPr>
              <a:t>junio 2013</a:t>
            </a: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538200" y="1784520"/>
            <a:ext cx="228132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olíticas pública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lan de gobiern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lanes de desarroll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29000" y="1784520"/>
            <a:ext cx="226044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Acuerdos de Paz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acto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Metas del Mileni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24480" y="1784520"/>
            <a:ext cx="228600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Descentraliz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oder local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de Consejo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2484360" y="2590920"/>
            <a:ext cx="4032000" cy="533160"/>
            <a:chOff x="2484360" y="2590920"/>
            <a:chExt cx="4032000" cy="533160"/>
          </a:xfrm>
        </p:grpSpPr>
        <p:sp>
          <p:nvSpPr>
            <p:cNvPr id="65" name="Line 9"/>
            <p:cNvSpPr/>
            <p:nvPr/>
          </p:nvSpPr>
          <p:spPr>
            <a:xfrm>
              <a:off x="2484360" y="25909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4572000" y="2590920"/>
              <a:ext cx="1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 flipH="1">
              <a:off x="5754240" y="25909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sp>
        <p:nvSpPr>
          <p:cNvPr id="68" name="Oval 12"/>
          <p:cNvSpPr/>
          <p:nvPr/>
        </p:nvSpPr>
        <p:spPr>
          <a:xfrm>
            <a:off x="3200400" y="2971800"/>
            <a:ext cx="2971800" cy="9270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9d3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Nacional de Planific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4419720" y="3943440"/>
            <a:ext cx="304560" cy="323640"/>
          </a:xfrm>
          <a:prstGeom prst="downArrow">
            <a:avLst>
              <a:gd name="adj1" fmla="val 50000"/>
              <a:gd name="adj2" fmla="val 26566"/>
            </a:avLst>
          </a:prstGeom>
          <a:gradFill rotWithShape="0">
            <a:gsLst>
              <a:gs pos="0">
                <a:srgbClr val="1f497d"/>
              </a:gs>
              <a:gs pos="100000">
                <a:srgbClr val="758fa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3048120" y="4419720"/>
            <a:ext cx="3124080" cy="914400"/>
          </a:xfrm>
          <a:prstGeom prst="ellipse">
            <a:avLst/>
          </a:prstGeom>
          <a:gradFill rotWithShape="0">
            <a:gsLst>
              <a:gs pos="0">
                <a:srgbClr val="96a22b"/>
              </a:gs>
              <a:gs pos="50000">
                <a:srgbClr val="bcca36"/>
              </a:gs>
              <a:gs pos="100000">
                <a:srgbClr val="96a2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Nacional de Inversiones Públicas PIP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741320" y="5670720"/>
            <a:ext cx="2678400" cy="882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d68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resupuesto de inversión del Estad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81480" y="5715000"/>
            <a:ext cx="251460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d68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Negoci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de la cooperación internacional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73" name="Group 17"/>
          <p:cNvGrpSpPr/>
          <p:nvPr/>
        </p:nvGrpSpPr>
        <p:grpSpPr>
          <a:xfrm>
            <a:off x="3225600" y="5257800"/>
            <a:ext cx="2870280" cy="380880"/>
            <a:chOff x="3225600" y="5257800"/>
            <a:chExt cx="2870280" cy="380880"/>
          </a:xfrm>
        </p:grpSpPr>
        <p:sp>
          <p:nvSpPr>
            <p:cNvPr id="74" name="Line 18"/>
            <p:cNvSpPr/>
            <p:nvPr/>
          </p:nvSpPr>
          <p:spPr>
            <a:xfrm>
              <a:off x="5587920" y="5257800"/>
              <a:ext cx="507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>
              <a:off x="3225600" y="5257800"/>
              <a:ext cx="455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1600200" y="1498680"/>
            <a:ext cx="5640480" cy="253800"/>
            <a:chOff x="1600200" y="1498680"/>
            <a:chExt cx="5640480" cy="253800"/>
          </a:xfrm>
        </p:grpSpPr>
        <p:grpSp>
          <p:nvGrpSpPr>
            <p:cNvPr id="77" name="Group 21"/>
            <p:cNvGrpSpPr/>
            <p:nvPr/>
          </p:nvGrpSpPr>
          <p:grpSpPr>
            <a:xfrm>
              <a:off x="1600200" y="1498680"/>
              <a:ext cx="5638680" cy="228600"/>
              <a:chOff x="1600200" y="1498680"/>
              <a:chExt cx="5638680" cy="228600"/>
            </a:xfrm>
          </p:grpSpPr>
          <p:sp>
            <p:nvSpPr>
              <p:cNvPr id="78" name="Line 22"/>
              <p:cNvSpPr/>
              <p:nvPr/>
            </p:nvSpPr>
            <p:spPr>
              <a:xfrm>
                <a:off x="4495680" y="1498680"/>
                <a:ext cx="1800" cy="2286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  <p:sp>
            <p:nvSpPr>
              <p:cNvPr id="79" name="Line 23"/>
              <p:cNvSpPr/>
              <p:nvPr/>
            </p:nvSpPr>
            <p:spPr>
              <a:xfrm>
                <a:off x="1600200" y="1498680"/>
                <a:ext cx="5638680" cy="252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  <p:sp>
            <p:nvSpPr>
              <p:cNvPr id="80" name="Line 24"/>
              <p:cNvSpPr/>
              <p:nvPr/>
            </p:nvSpPr>
            <p:spPr>
              <a:xfrm>
                <a:off x="1600200" y="1498680"/>
                <a:ext cx="1440" cy="2286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</p:grpSp>
        <p:sp>
          <p:nvSpPr>
            <p:cNvPr id="81" name="Line 25"/>
            <p:cNvSpPr/>
            <p:nvPr/>
          </p:nvSpPr>
          <p:spPr>
            <a:xfrm>
              <a:off x="7238880" y="1523880"/>
              <a:ext cx="1800" cy="228600"/>
            </a:xfrm>
            <a:prstGeom prst="line">
              <a:avLst/>
            </a:prstGeom>
            <a:ln w="936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sp>
        <p:nvSpPr>
          <p:cNvPr id="82" name="Text Box 26"/>
          <p:cNvSpPr/>
          <p:nvPr/>
        </p:nvSpPr>
        <p:spPr>
          <a:xfrm>
            <a:off x="1979640" y="1125360"/>
            <a:ext cx="4952880" cy="304920"/>
          </a:xfrm>
          <a:prstGeom prst="rect">
            <a:avLst/>
          </a:prstGeom>
          <a:gradFill rotWithShape="0">
            <a:gsLst>
              <a:gs pos="0">
                <a:srgbClr val="7a7a7a"/>
              </a:gs>
              <a:gs pos="50000">
                <a:srgbClr val="dddddd"/>
              </a:gs>
              <a:gs pos="100000">
                <a:srgbClr val="7a7a7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Constitución Política de la República (Leyes)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83" name="Text Box 18"/>
          <p:cNvGrpSpPr/>
          <p:nvPr/>
        </p:nvGrpSpPr>
        <p:grpSpPr>
          <a:xfrm>
            <a:off x="0" y="-165240"/>
            <a:ext cx="9259920" cy="890640"/>
            <a:chOff x="0" y="-165240"/>
            <a:chExt cx="9259920" cy="890640"/>
          </a:xfrm>
        </p:grpSpPr>
        <p:pic>
          <p:nvPicPr>
            <p:cNvPr id="84" name="Text Box 18" descr=""/>
            <p:cNvPicPr/>
            <p:nvPr/>
          </p:nvPicPr>
          <p:blipFill>
            <a:blip r:embed="rId2"/>
            <a:stretch/>
          </p:blipFill>
          <p:spPr>
            <a:xfrm>
              <a:off x="0" y="-165240"/>
              <a:ext cx="9259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480" y="0"/>
              <a:ext cx="9144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2060"/>
                  </a:solidFill>
                  <a:latin typeface="Calibri"/>
                </a:rPr>
                <a:t>Entorno del SNIP</a:t>
              </a:r>
              <a:endParaRPr b="0" lang="en-US" sz="40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Debilidades de los proyectos presen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002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ocumentos mal formulados, y en algunos casos el documento presentado no respalda la magnitud de la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ncumplir con el requisito de la acreditación de propiedad o posesión de los terrenos (artículo 55 Dcto 30-201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No presentan la Resolución Ambien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Falta del aval del ente rector cuand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esupuesto mal elaborados (falta de renglones de trabajo, sobre valorados o subvalorad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eficiencia en la presentación de los cronogramas de ejecución física y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No se incluye los presupuestos de operación y mantenimi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ncumplimiento de requisitos establecidos por leyes vigentes (discapacidad, áreas protegidas manejo de desechos sólidos, calidad del agu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Los proyectos de arrastre no cumplen con los requisitos específic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as preocup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La distribución no equitativa de la inversió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El rezago de los municipios más pobres por </a:t>
            </a: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tener menos capacidad para formular sus propuest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Las deficiencias se originan desde las propias iniciativas loca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Hay una tendencia a formular más proyectos que forman capital fijo a proyectos que no forman capital fijo; no crece el capital humano; no se hacen inversiones en otras á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42920" y="373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Vincular la</a:t>
            </a:r>
            <a:r>
              <a:rPr b="0" lang="es-GT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planificación del desarrollo con el presupuesto de inversión pública.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3116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Fundamentar la negociación eficaz de la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cooperación internacional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42920" y="2174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Disponer de carteras de proyectos, técnicamente formulados y evaluados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42920" y="11667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Ordenar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y mejorar la calidad de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 la inversión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pública, incluido el aspecto de territorializarla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42920" y="45514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Implementar acciones de seguimiento y evaluación de la inversión pública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71040" y="5492880"/>
            <a:ext cx="59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Propiciar la transparencia y la auditor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í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a social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042920" y="4599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proyecto ha sido evaluado, dictaminado y priorizado (proceso desconcentrado)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42920" y="24922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SNIP tiene registrados cerca de 89,012 proyectos, aproximadamente en el período 2001-2013, no todos se han ejecutado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42920" y="1628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Tenemos una estrategia de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pacitación y asistencia técnica que ha promovido la cultura de proyectos en el paí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42920" y="836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año desde  2001, el SNIP emite normas para formular y evaluar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42920" y="5391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año, desde el 2001 hemos formulado el PIP, base para el presupuesto de inversión del Estado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7151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35020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on asignación de recursos cerca de 41,394 proyectos, aproximadamente en el período 2004-2013, a partir del modulo de seguimiento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1042920" y="19162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A partir del 2003, está a disposición el portal del SNIP con información de proyectos http://snip.segeplan.gob.gt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42920" y="692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Hemos incorporado en nuestras normas, temas transversales, tales como: equidad de género, interculturalidad, medio ambiente, gestión de riesgo, discapacidad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42920" y="285264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opiciamos alianzas estratégicas con centros de enseñanza, universidades  y sectores, para mejorar la capacidad nacional de formulación de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00536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Modernizamos permanentemente el sistema informático y el portal del SNIP (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robustez, conectividad, versatilidad, actualidad y escalabilidad)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042920" y="51577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aboramos guías metodológicas para la formulación del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042920" y="56959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mplementamos el módulo de seguimiento de la inversión pública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44280"/>
            <a:ext cx="7201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o de inversión públ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ril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Proceso de inversion publica TERRITORIAL Abr2013 Pag 1.jpg"/>
          <p:cNvPicPr/>
          <p:nvPr/>
        </p:nvPicPr>
        <p:blipFill>
          <a:blip r:embed="rId2"/>
          <a:stretch/>
        </p:blipFill>
        <p:spPr>
          <a:xfrm>
            <a:off x="34920" y="100080"/>
            <a:ext cx="896472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Imagen" descr="Proceso de inversion publica TERRITORIAL Abr2013 Pag 2.jpg"/>
          <p:cNvPicPr/>
          <p:nvPr/>
        </p:nvPicPr>
        <p:blipFill>
          <a:blip r:embed="rId2"/>
          <a:stretch/>
        </p:blipFill>
        <p:spPr>
          <a:xfrm>
            <a:off x="71280" y="166680"/>
            <a:ext cx="896472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8544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Calibri"/>
                <a:ea typeface="Arial"/>
              </a:rPr>
              <a:t>Que sucedía antes de la implementación del SN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Baja capacidad institucional para formular y evaluar proyectos de inversión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No había proceso de inversión definido que contemplara la evaluación técnica y financiera de proyectos para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la asignación de recursos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Centralización en la toma de decisiones sobre la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Bajo nivel de ejecución de la inversión y ausencia de seguimiento físico y financiero de los proyectos en ejecución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Débil coordinación interinstitucional de las entidades ejecut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Inexistente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vinculación entre la planificación y el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presupues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34920" y="404640"/>
            <a:ext cx="9037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9080" y="674640"/>
            <a:ext cx="8604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48196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2060"/>
                </a:solidFill>
                <a:latin typeface="Calibri"/>
              </a:rPr>
              <a:t>GRACIAS POR SU A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Calibri"/>
                <a:ea typeface="Arial"/>
              </a:rPr>
              <a:t>Que sucedía antes de la implementación del SN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ostulación de proyectos discrecionalmente por la inexistencia de normas y ausencia de planes de desarrol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Los requerimientos de financiamiento únicamente eran respaldados con nombres y cifras, sin contar con documento de proyec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2060"/>
                </a:solidFill>
                <a:latin typeface="Calibri"/>
                <a:ea typeface="Arial"/>
              </a:rPr>
              <a:t>Distorsiones recurrentes en la Inversión Pú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144080"/>
            <a:ext cx="84358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Proyectos divididos en etapas o f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Sustitución de proyectos aprobados, cuyos recursos son transferidos a otros, sin que estos estén sustentados técnic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Incorporación de proyectos en instancias diferentes al SN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Transferencias o modificaciones presupuestarias que permiten trasladar recursos, disminuyendo las asignaciones de los proyectos para aumentárselas a otros o incorporar nuevos proye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Es el conjunto de recursos financieros y técnicos que el Estado dedica a crear, incrementar, modernizar, reponer, reconstruir y mejorar la capacidad del país para producir bienes y servicios, con el propósito de lograr el bienestar de la sociedad y eliminar las carenci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53760" y="295200"/>
            <a:ext cx="629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¿Qué es la inversión pública?</a:t>
            </a:r>
            <a:endParaRPr b="0" lang="en-US" sz="4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Calibri"/>
              </a:rPr>
              <a:t>Conformación de la Inversión Públ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5 Diagrama" descr=""/>
          <p:cNvPicPr/>
          <p:nvPr/>
        </p:nvPicPr>
        <p:blipFill>
          <a:blip r:embed="rId2"/>
          <a:stretch/>
        </p:blipFill>
        <p:spPr>
          <a:xfrm>
            <a:off x="1249200" y="835200"/>
            <a:ext cx="6639120" cy="5284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619280" y="3213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619280" y="3213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versión Pública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Calibri"/>
              </a:rPr>
              <a:t>Importancia de la inversión públ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La tasa de crecimiento de un país está en función de una buena asignación de la invers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Mayor crecimiento económico implica mejorar la programación y administración de inversiones del sector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La inversión pública debe asignarse en función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Su aporte al crecimient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Progres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Reducción de desigual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socio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de gén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étn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etá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Manejo sustentable del medio amb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50292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¿QUÉ ES EL SNIP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El Sistema Nacional de Inversión Pública, se conforma por el conjunto de entidades públicas de inversión, normas técnicas, procedimientos, instrumentos y herramientas informáticas que permiten ordenar adecuadamente el proceso de inversión pública, a efecto de concretar los proyectos con mayor rentabilidad financiera, económica y/o social, en atención a las políticas públicas y en beneficio de la población, dentro del marco del Sistema Nacional de Planificación para Desarrol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44:21Z</dcterms:created>
  <dc:creator>... .</dc:creator>
  <dc:description/>
  <dc:language>en-US</dc:language>
  <cp:lastModifiedBy>Otto Rolando González Mendizabal</cp:lastModifiedBy>
  <dcterms:modified xsi:type="dcterms:W3CDTF">2013-06-25T17:57:32Z</dcterms:modified>
  <cp:revision>81</cp:revision>
  <dc:subject/>
  <dc:title>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  <property fmtid="{D5CDD505-2E9C-101B-9397-08002B2CF9AE}" pid="3" name="Descripción">
    <vt:lpwstr>Plantilla oficial para uso en presentaciones con PowerPoint</vt:lpwstr>
  </property>
</Properties>
</file>