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CFF-1E0E-4002-9EAC-1CCB48D0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18D-ADCA-4CB5-A9BA-18EC626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98D-F60D-40FD-9595-862F6A72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67A-3150-4D52-A42D-643134E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E11-18BE-4DC7-BBB9-B4E222E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1CD-E0D3-4DDF-993F-54907A5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93A-F943-4FF7-90A1-386F48A9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F6E-7BC9-4D23-904F-C4507FF2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629-2868-4CC3-821E-8BA8E4B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175-BEAC-4CD6-970D-B88C33B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019-88F5-4E76-A905-A4ED5D8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9C2-0213-4A20-BFE9-AA657B6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5CD-9879-48AF-A1A5-C2F12E4DDB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oll-up-dgi-01A-20130220"/>
          <p:cNvPicPr/>
          <p:nvPr/>
        </p:nvPicPr>
        <p:blipFill>
          <a:blip r:embed="rId1"/>
          <a:srcRect l="0" t="61573" r="0" b="0"/>
          <a:stretch/>
        </p:blipFill>
        <p:spPr>
          <a:xfrm>
            <a:off x="2195640" y="3092400"/>
            <a:ext cx="4725720" cy="335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746440" y="836640"/>
            <a:ext cx="345132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8 Rectángulo"/>
          <p:cNvSpPr/>
          <p:nvPr/>
        </p:nvSpPr>
        <p:spPr>
          <a:xfrm>
            <a:off x="3434400" y="2577960"/>
            <a:ext cx="207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Impact"/>
              </a:rPr>
              <a:t>Uruguay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a imagen de la enseñanz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Acuerdos? Sí, puramente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Contenidos curriculares? Volvemos en 10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involucramiento de los doc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as que la DGI no puede abar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udios que sustente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1 Rectángulo"/>
          <p:cNvSpPr/>
          <p:nvPr/>
        </p:nvSpPr>
        <p:spPr>
          <a:xfrm>
            <a:off x="663840" y="984240"/>
            <a:ext cx="2236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Debilidades</a:t>
            </a:r>
            <a:r>
              <a:rPr b="0" lang="es-UY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¿Qué quieren los educ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inisterios de Educación exit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os eficaces y at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spi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9" name="1 Rectángulo"/>
          <p:cNvSpPr/>
          <p:nvPr/>
        </p:nvSpPr>
        <p:spPr>
          <a:xfrm>
            <a:off x="710280" y="984240"/>
            <a:ext cx="120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Retos</a:t>
            </a:r>
            <a:r>
              <a:rPr b="0" lang="es-UY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700360" y="1706400"/>
            <a:ext cx="3567240" cy="6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Stock_000020475560_Medium"/>
          <p:cNvPicPr/>
          <p:nvPr/>
        </p:nvPicPr>
        <p:blipFill>
          <a:blip r:embed="rId2"/>
          <a:stretch/>
        </p:blipFill>
        <p:spPr>
          <a:xfrm>
            <a:off x="1422360" y="225756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18:02Z</dcterms:created>
  <dc:creator>3499</dc:creator>
  <dc:description/>
  <dc:language>en-US</dc:language>
  <cp:lastModifiedBy>Sistemas</cp:lastModifiedBy>
  <dcterms:modified xsi:type="dcterms:W3CDTF">2013-06-26T23:35:05Z</dcterms:modified>
  <cp:revision>69</cp:revision>
  <dc:subject/>
  <dc:title>Diapositiva 1</dc:title>
</cp:coreProperties>
</file>