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A970-83FA-4E8D-B9E4-C23047638B79}" type="slidenum">
              <a:rPr b="0" lang="es-EC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9BF5-ECA2-43A9-B339-1BDBF46A0712}" type="slidenum">
              <a:rPr b="0" lang="es-EC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A780-34BA-4768-9A57-F963830F5A1F}" type="slidenum">
              <a:rPr b="0" lang="es-EC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1C42-E8B9-4A11-8A88-41F68CF6A59E}" type="slidenum">
              <a:rPr b="0" lang="es-EC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EF99-5797-4CE3-BA14-47C719A41522}" type="slidenum">
              <a:rPr b="0" lang="es-EC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7A40-E576-4D8E-B033-5CCE98152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6306-8E22-41EE-9084-988D353A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8463-04CC-4D15-A8A5-52CC1457D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F2FD-8FE9-415B-887C-76E4BDAA7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19F4-592F-479D-B823-CA56F0256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0D07-9B1A-403E-944A-ED56F243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CB7D-C856-4172-BE72-7D613ED7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90DCB-04EA-46F0-94B5-C7CCDBC2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2945-0803-43ED-AFD7-AC055185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1A4C-022D-4A10-93E9-61430B85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9CC3-41DF-4896-BC38-F97AEB84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D343-89F3-44F1-8EAA-A7D23E2C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F898-B689-4B11-9211-A9D742C6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C3B2C-3543-4790-A8EE-285DAC66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231DD-217B-4D1B-B731-87769751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47AB-E004-4A0F-880C-E08CC2997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2053-8B68-497B-AD53-D7C0ADD06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488BC-C812-4AC4-AFC0-5A90FA376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315FB-AB06-4A38-B916-3668BBD7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01F15-8F2C-4558-8823-37CA1A96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BD1E5-7082-4BF4-913C-CC9A852B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B3EC4-DE47-4833-99D2-731C8997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AFEA-7C57-4560-A544-E5744133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1FD3E-4CA4-482F-9491-2293920E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ECF70-86E1-4ED8-8B11-0AE8D30D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90377-804B-4B07-9F57-6E6975F3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B7EDD-5BDC-4570-AA87-4A4A9102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3543F-283D-4575-89C8-03AE27097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FF16C-7AC0-40F7-982E-14138718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4F5BA-7C39-491E-B436-348607B93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D1FD3-303E-4B09-8A50-A5741AFE0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B0093-2189-4A2B-9755-1CE1A597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B2D9D-9BB0-4D71-BCA6-6A7C5BAE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4BF1-8676-4026-B206-92E00583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BA159-5FA1-42BF-A675-F1BFCD14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5AFF7-D38F-4554-AA1D-2B2F504F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F759C-D27F-412B-BB5A-3010B21E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ED111-CFDB-4E6B-BA77-7D3CFBF7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3EB09-5E57-4D94-8DE9-20D2DC35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EF100-D79B-48CE-B0BC-4242A381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23CC8-EEA7-42C8-8249-EB9CCBC8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4C38C-FFD1-4375-B7C1-1E10E332D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3F5E3-7C37-4DE1-8FA4-1ACEF6063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F1A1-BB7C-4E1C-BAFF-D4A313FB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C5A8-F06E-45A6-AB92-C8EC0202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CD75-B3B8-48D2-83FC-CBD53AF6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E692-B1D9-4784-B91E-887608D0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7E71-22A4-4A7D-816D-157DFDD0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8A4E-61A9-4F63-B6CD-49D22BD878C5}" type="slidenum">
              <a:rPr b="0" lang="es-EC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A8BD-98A9-48C5-9846-C66174A3C4C8}" type="slidenum">
              <a:rPr b="0" lang="es-EC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823D-D188-47BB-ACAF-07A48D63771B}" type="slidenum">
              <a:rPr b="0" lang="es-EC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7E12-D167-4FEB-8A41-DE14994AE06C}" type="slidenum">
              <a:rPr b="0" lang="es-EC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4086360"/>
            <a:ext cx="8207280" cy="2006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r>
              <a:rPr b="1" i="1" lang="es-ES" sz="4500" spc="-1" strike="noStrike">
                <a:solidFill>
                  <a:srgbClr val="0f6fc6"/>
                </a:solidFill>
                <a:latin typeface="Calibri"/>
                <a:ea typeface="Arial"/>
              </a:rPr>
              <a:t>VISITA DE INTERCAMBIO PARA CONOCER EL PROGRAMA DE EDUCACIÓN FISCAL DE EL SALVADOR</a:t>
            </a:r>
            <a:br>
              <a:rPr sz="4500"/>
            </a:br>
            <a:br>
              <a:rPr sz="4500"/>
            </a:br>
            <a:r>
              <a:rPr b="1" i="1" lang="es-ES" sz="3600" spc="-1" strike="noStrike">
                <a:solidFill>
                  <a:srgbClr val="0f6fc6"/>
                </a:solidFill>
                <a:latin typeface="Calibri"/>
                <a:ea typeface="Arial"/>
              </a:rPr>
              <a:t>Taller F.O.D.A.</a:t>
            </a:r>
            <a:br>
              <a:rPr sz="4500"/>
            </a:br>
            <a:r>
              <a:rPr b="1" i="1" lang="es-ES" sz="2500" spc="-1" strike="noStrike">
                <a:solidFill>
                  <a:srgbClr val="0f6fc6"/>
                </a:solidFill>
                <a:latin typeface="Calibri"/>
                <a:ea typeface="Arial"/>
              </a:rPr>
              <a:t>Ecuador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34920" y="44280"/>
            <a:ext cx="2198520" cy="1341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http://www.larepublica.ec/wp-content/uploads/2011/08/ministerio-de-educaci%C3%B3n-e1314221064578.jpg"/>
          <p:cNvPicPr/>
          <p:nvPr/>
        </p:nvPicPr>
        <p:blipFill>
          <a:blip r:embed="rId2"/>
          <a:stretch/>
        </p:blipFill>
        <p:spPr>
          <a:xfrm>
            <a:off x="6875640" y="44280"/>
            <a:ext cx="2233440" cy="12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1912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5000" spc="-1" strike="noStrike">
                <a:solidFill>
                  <a:srgbClr val="ff0000"/>
                </a:solidFill>
                <a:latin typeface="Calibri"/>
              </a:rPr>
              <a:t>Situación Actu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l Servicio de Rentas Internas y el Ministerio de Educación suscribieron un Convenio de Cooperación Interinstitucional, por el que a partir de enero de 2000 ambas instituciones iniciaron acciones conjuntas orientadas a lograr que la población estudiantil comparta un conjunto de valores, creencias y actitudes orientadas hacia el cumplimiento y observancia de las leyes tributari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600" spc="-1" strike="noStrike">
                <a:solidFill>
                  <a:srgbClr val="000000"/>
                </a:solidFill>
                <a:latin typeface="Constantia"/>
              </a:rPr>
              <a:t>Se lleva a cabo los programas de educación tributaria en educación básica con estudiantes de los 6tos y 7mos años como en bachillerato con estudiantes de 1ro y 2do añ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90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5000" spc="-1" strike="noStrike">
                <a:solidFill>
                  <a:srgbClr val="ff0000"/>
                </a:solidFill>
                <a:latin typeface="Calibri"/>
              </a:rPr>
              <a:t>Fortalez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Constantia"/>
              </a:rPr>
              <a:t>Gozan de la confianza y reconocimiento social por hacerle bien al paí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Constantia"/>
              </a:rPr>
              <a:t>Convenio firmado entre ambas instituciones para crear valores, creencias y aptitudes en la población estudiantil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Constantia"/>
              </a:rPr>
              <a:t>Elaboración anual de Planes Operativos Anual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Constantia"/>
              </a:rPr>
              <a:t>Llega a los estudiantes de los niveles de educación básica y secundari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Constantia"/>
              </a:rPr>
              <a:t>Apoyo para la elaboración de material educativo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5000" spc="-1" strike="noStrike">
                <a:solidFill>
                  <a:srgbClr val="ff0000"/>
                </a:solidFill>
                <a:latin typeface="Calibri"/>
              </a:rPr>
              <a:t>Debilidad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600" spc="-1" strike="noStrike">
                <a:solidFill>
                  <a:srgbClr val="000000"/>
                </a:solidFill>
                <a:latin typeface="Constantia"/>
              </a:rPr>
              <a:t>Falta de recurso humano dedicado exclusivamente a construir ciudadanía fisc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600" spc="-1" strike="noStrike">
                <a:solidFill>
                  <a:srgbClr val="000000"/>
                </a:solidFill>
                <a:latin typeface="Constantia"/>
              </a:rPr>
              <a:t>No existe presupuesto asignado para invertir en proyectos de educación fisc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600" spc="-1" strike="noStrike">
                <a:solidFill>
                  <a:srgbClr val="000000"/>
                </a:solidFill>
                <a:latin typeface="Constantia"/>
              </a:rPr>
              <a:t>No logra alcanzar la demanda de los centros educativos que quieren pertenecer a los programas que oferta la administración tributar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600" spc="-1" strike="noStrike">
                <a:solidFill>
                  <a:srgbClr val="000000"/>
                </a:solidFill>
                <a:latin typeface="Constantia"/>
              </a:rPr>
              <a:t>Falta de medición de resultados de los programas de educación fiscal para tomar las acciones pertinent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5000" spc="-1" strike="noStrike">
                <a:solidFill>
                  <a:srgbClr val="ff0000"/>
                </a:solidFill>
                <a:latin typeface="Calibri"/>
              </a:rPr>
              <a:t>Estrategi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24000" y="1267920"/>
            <a:ext cx="8434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40120" indent="-2401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rear un lugar recreativo para niños, adolescentes y adultos para concientizar la tributación a la población en gener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nstrucción de un material de apoyo que ayude a desarrollar competencias y destrezas a los estudiantes de educación superior para fortalecer los conocimientos adquiridos y para aquellos que  no lo han tratado todaví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Desarrollo de la página web sobre educación fiscal como lugar de consulta y recreación de la ciudadanía fisc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Buscar apoyo de los programas de educación fiscal para crear una red entre los países de América Latina  y Centro América a través de la creación de aulas virtual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5000" spc="-1" strike="noStrike">
                <a:solidFill>
                  <a:srgbClr val="ff0000"/>
                </a:solidFill>
                <a:latin typeface="Calibri"/>
              </a:rPr>
              <a:t>Estrategi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Buscar apoyo pedagógico para los diferentes grupos de formador de formadores de la Administración Tributari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Visitas de intercambio en los países de Latinoamér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laboración de recurso humano para la elaboración de folletos y material de trabajo  para impartir ciudadanía fisc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nstrucción de videos sobre ciudadanía fiscal con la ayuda de ciertas instituciones involucradas en el proces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6T21:12:12Z</dcterms:created>
  <dc:creator>Silvy S</dc:creator>
  <dc:description/>
  <dc:language>en-US</dc:language>
  <cp:lastModifiedBy>Silvy S</cp:lastModifiedBy>
  <dcterms:modified xsi:type="dcterms:W3CDTF">2013-06-26T22:57:32Z</dcterms:modified>
  <cp:revision>16</cp:revision>
  <dc:subject/>
  <dc:title>Situación Actual</dc:title>
</cp:coreProperties>
</file>