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FB0-34BF-4EA2-B2E6-6EC62AC3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03B-26E8-49E5-9661-BA3B11C1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8" descr="Portada2"/>
          <p:cNvPicPr/>
          <p:nvPr/>
        </p:nvPicPr>
        <p:blipFill>
          <a:blip r:embed="rId2"/>
          <a:stretch/>
        </p:blipFill>
        <p:spPr>
          <a:xfrm>
            <a:off x="-96840" y="0"/>
            <a:ext cx="9240840" cy="693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714480" y="1257120"/>
            <a:ext cx="51051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 Narrow"/>
              </a:rPr>
              <a:t>Nuestro trabajo en educación tributaria</a:t>
            </a:r>
            <a:endParaRPr b="1" lang="en-US" sz="44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6" name="2 Elipse"/>
          <p:cNvSpPr/>
          <p:nvPr/>
        </p:nvSpPr>
        <p:spPr>
          <a:xfrm>
            <a:off x="684360" y="981000"/>
            <a:ext cx="244764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855720" y="1805040"/>
            <a:ext cx="979560" cy="903240"/>
          </a:xfrm>
          <a:prstGeom prst="rect">
            <a:avLst/>
          </a:prstGeom>
          <a:ln w="0">
            <a:noFill/>
          </a:ln>
        </p:spPr>
      </p:pic>
      <p:pic>
        <p:nvPicPr>
          <p:cNvPr id="478" name="6 Imagen" descr=""/>
          <p:cNvPicPr/>
          <p:nvPr/>
        </p:nvPicPr>
        <p:blipFill>
          <a:blip r:embed="rId2"/>
          <a:stretch/>
        </p:blipFill>
        <p:spPr>
          <a:xfrm>
            <a:off x="1871640" y="1824120"/>
            <a:ext cx="1260360" cy="863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http://www.worldmapfinder.com/Images/FlagImages/Costa_Rica.gif"/>
          <p:cNvPicPr/>
          <p:nvPr/>
        </p:nvPicPr>
        <p:blipFill>
          <a:blip r:embed="rId3"/>
          <a:stretch/>
        </p:blipFill>
        <p:spPr>
          <a:xfrm>
            <a:off x="1387440" y="960480"/>
            <a:ext cx="124308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2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 un compromiso político que se concreta con una Declaratoria de Interés Público de ambos Minis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 evidencia una demanda de la sociedad al exigir una distribución más equitativa de los recursos, por lo que se reflejó en el currículo (Ed. Cívica y Vida Cotidia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7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emana de Ed. Tributaria (calendario escol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s Des. Profes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nclusión en el currículo en educación me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 básico tributario en Ed.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misión MH –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bertura en la Sem. Ed.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Nueve procesos en 4 años (+/- 180 Docen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 de estudio de Ed. Cívica y Vida Cotidiana, en estudio, prim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600 estudi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esignación oficial de funcionario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2" name="1 Rectángulo redondeado"/>
          <p:cNvSpPr/>
          <p:nvPr/>
        </p:nvSpPr>
        <p:spPr>
          <a:xfrm>
            <a:off x="1332000" y="2276640"/>
            <a:ext cx="6769080" cy="18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ebi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mbios en administración (Gobier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ayor compromiso polí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rencia de recursos humanos y económicos suficientes para mayor cober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5 Rectángulo redondeado"/>
          <p:cNvSpPr/>
          <p:nvPr/>
        </p:nvSpPr>
        <p:spPr>
          <a:xfrm>
            <a:off x="2843280" y="148428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6" name="1 Rectángulo redondeado"/>
          <p:cNvSpPr/>
          <p:nvPr/>
        </p:nvSpPr>
        <p:spPr>
          <a:xfrm>
            <a:off x="395280" y="1844640"/>
            <a:ext cx="849780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ficializar una estrategia didáctica para primaria y secundaria con el fin de ser implementada por los Docentes de TODO el país en la Semana de Educación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pacitación a un grupo de “Formador de Formadores” Docentes del MEP para replicar el proceso durante el 20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aboración de material didáctico complementario para educación cívica en el undécimo año de la educación media (responsabilidad tributaria como práctica y actitud democrátic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ar el curso básico tributario para lograr mayor cobertura con los estudiantes de educación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5 Rectángulo redondeado"/>
          <p:cNvSpPr/>
          <p:nvPr/>
        </p:nvSpPr>
        <p:spPr>
          <a:xfrm>
            <a:off x="2916360" y="1052640"/>
            <a:ext cx="34560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trategias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500" name="1 Rectángulo redondeado"/>
          <p:cNvSpPr/>
          <p:nvPr/>
        </p:nvSpPr>
        <p:spPr>
          <a:xfrm>
            <a:off x="395280" y="2708280"/>
            <a:ext cx="8497800" cy="302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n el fin de consolidar los procesos de concientización y aprendizaje de la educación tributaria se requerirí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sitas de intercambio para conocer buenas prácticas en otros paí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ormación en mediación pedagógica para los funcionarios técnicos de las autoridades de hac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técnico y financiero para la elaboración / implementación de materiales didácticos relacionadas con el 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alleres con las autoridades que deciden para concientizar sobre el tema y su necesidad de imple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Rectángulo redondeado"/>
          <p:cNvSpPr/>
          <p:nvPr/>
        </p:nvSpPr>
        <p:spPr>
          <a:xfrm>
            <a:off x="2124000" y="1700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ferta de cooperación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(neces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CuadroTexto"/>
          <p:cNvSpPr/>
          <p:nvPr/>
        </p:nvSpPr>
        <p:spPr>
          <a:xfrm>
            <a:off x="2916360" y="13399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aniela Chacón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haconbd@hacienda.go.c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2 CuadroTexto"/>
          <p:cNvSpPr/>
          <p:nvPr/>
        </p:nvSpPr>
        <p:spPr>
          <a:xfrm>
            <a:off x="3059280" y="334800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 Ruiz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.ruiz.chaves@mep.go.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332000" y="1211400"/>
            <a:ext cx="1439640" cy="1330200"/>
          </a:xfrm>
          <a:prstGeom prst="rect">
            <a:avLst/>
          </a:prstGeom>
          <a:ln w="0">
            <a:noFill/>
          </a:ln>
        </p:spPr>
      </p:pic>
      <p:pic>
        <p:nvPicPr>
          <p:cNvPr id="505" name="4 Imagen" descr=""/>
          <p:cNvPicPr/>
          <p:nvPr/>
        </p:nvPicPr>
        <p:blipFill>
          <a:blip r:embed="rId2"/>
          <a:stretch/>
        </p:blipFill>
        <p:spPr>
          <a:xfrm>
            <a:off x="1265400" y="3211560"/>
            <a:ext cx="15778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1:52:49Z</dcterms:created>
  <dc:creator>-</dc:creator>
  <dc:description/>
  <dc:language>en-US</dc:language>
  <cp:lastModifiedBy>w@rner</cp:lastModifiedBy>
  <dcterms:modified xsi:type="dcterms:W3CDTF">2013-06-26T21:09:01Z</dcterms:modified>
  <cp:revision>595</cp:revision>
  <dc:subject/>
  <dc:title>No Slide Title</dc:title>
</cp:coreProperties>
</file>