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E62-69C4-4396-B2FD-72B4D617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57B-938B-4108-B56C-56F23AF0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410-D9FB-4C76-BB86-363F349B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3FDE-C6BF-4FAA-B415-B1A8E1A5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CC2-9D0C-4D5B-925B-D788A17B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997-26EA-4D9D-9A9D-82E5C9B9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A2D3-3EEF-4313-B61F-58499A6E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2D4E-D811-454E-AA2C-8E5FD147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185-B1EC-4263-A463-F592B974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32C-6B0A-4BDE-83BF-E6B73FBD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70A-6BA6-410A-B841-96935066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EE4-4945-4A84-90B9-19B8774A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CD64-C969-4720-823C-6ABCA496D70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560" y="4508640"/>
            <a:ext cx="669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Calibri"/>
              </a:rPr>
              <a:t>Programa Nacional de Educação Fisc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http://asimplicidadedascoisas.files.wordpress.com/2011/11/logo-pnef.jpg"/>
          <p:cNvPicPr/>
          <p:nvPr/>
        </p:nvPicPr>
        <p:blipFill>
          <a:blip r:embed="rId1"/>
          <a:stretch/>
        </p:blipFill>
        <p:spPr>
          <a:xfrm>
            <a:off x="2556000" y="333360"/>
            <a:ext cx="36716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8360" y="2204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Resultados da pesquisa. Ausência de análise dos dados obti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rientador para novas ações do PN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ase para apoios institucion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Pesquisa da Percepção da Política Fiscal Brasilei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2060"/>
                </a:solidFill>
                <a:latin typeface="Calibri"/>
              </a:rPr>
              <a:t>ESAF – CEARÁ</a:t>
            </a:r>
            <a:br>
              <a:rPr sz="4800"/>
            </a:br>
            <a:r>
              <a:rPr b="1" lang="pt-BR" sz="4800" spc="-1" strike="noStrike">
                <a:solidFill>
                  <a:srgbClr val="002060"/>
                </a:solidFill>
                <a:latin typeface="Calibri"/>
              </a:rPr>
              <a:t>(Brasil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2060"/>
                </a:solidFill>
                <a:latin typeface="Calibri"/>
              </a:rPr>
              <a:t>CENTRESAF - CEAR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rojeto de Educação Fiscal para Universitá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Curso Tributação e Cidadania Fisc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Disseminar a função social do tributo      e seu papel para a consecução de políticas de melhoria da qualidade de vida dos cidadãos, possibilitando a instrumentalização dos estudantes para o exercício profissional, à participação e o controle socia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2060"/>
                </a:solidFill>
                <a:latin typeface="Calibri"/>
              </a:rPr>
              <a:t>Período: 11/05 a 29/06/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Carga Horária: 32h/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Público alvo: estudantes dos Cursos de Ciências Contábeis (Nível Superio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2060"/>
                </a:solidFill>
                <a:latin typeface="Calibri"/>
              </a:rPr>
              <a:t>Metodolog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alestras interativas – 24 ho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Visita Técnica – 8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SEFAZ – ESAF - RFB – CGU – SEF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Promoção: Conselho de Contabilidade do Ceará (CRC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Realização: Escola de Administração Fazendária (ESAF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Parcerias: RFB, SEFAZ, SEFIN, CGU e TCM-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2060"/>
                </a:solidFill>
                <a:latin typeface="Calibri"/>
              </a:rPr>
              <a:t>Conteudo Programa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904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- Relação-Estado e sociedade: cidadania fisc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2- Sistema Tributário Nacional e a função dos tribu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3- Tributos Federais a Administração Tributária Feder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4- Tributos Estaduais e Administração Tributária Estadu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5- Tributos Municipais e Administração Tributária Municip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6- Gestão Democrática dos recurso públicos e controle soci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2060"/>
                </a:solidFill>
                <a:latin typeface="Calibri"/>
              </a:rPr>
              <a:t>AÇÕES FUTU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1- Criação de Laboratório Social (CRC-CE e ESAF-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2- Trabalho de Conclusão do Curso Superior com temas voltados para Educação Fis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3- Interesse de estudantes em participar de trabalhos voluntários de Educação Fis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4- Realizar o Curso para outros Conselh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276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sponsável pela Coordenação Geral do PN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senvolver pessoas para o aperfeiçoamento da gestão das finanças públicas e a promoção da cidadania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sponsável pela formação dos servidores do quadro do Ministério da Fazenda, a Esaf também promove estudos sobre a política fiscal no paí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2" descr="https://encrypted-tbn0.gstatic.com/images?q=tbn:ANd9GcQMnMhHbuwlXSO1EcjUM39pWIEw5BEiS-nxqo79X6ou4o-GvLZa"/>
          <p:cNvPicPr/>
          <p:nvPr/>
        </p:nvPicPr>
        <p:blipFill>
          <a:blip r:embed="rId1"/>
          <a:stretch/>
        </p:blipFill>
        <p:spPr>
          <a:xfrm>
            <a:off x="6804000" y="260280"/>
            <a:ext cx="2129040" cy="2017800"/>
          </a:xfrm>
          <a:prstGeom prst="rect">
            <a:avLst/>
          </a:prstGeom>
          <a:ln w="0">
            <a:noFill/>
          </a:ln>
        </p:spPr>
      </p:pic>
      <p:sp>
        <p:nvSpPr>
          <p:cNvPr id="48" name="CaixaDeTexto 5"/>
          <p:cNvSpPr/>
          <p:nvPr/>
        </p:nvSpPr>
        <p:spPr>
          <a:xfrm>
            <a:off x="755640" y="765000"/>
            <a:ext cx="587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Escola de Administração Fazendár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Pesquisa da Percepção da Política Fiscal Brasilei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2536560"/>
            <a:ext cx="822960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Identificar o nível de conhecimento dos cidadãos sobre a política fiscal (impostos, recursos e gastos públicos, controle e ação do Estado), bem como captar a percepção dos indivíduos quanto às responsabilidades dos órgãos do Est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" y="249192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Questionário estruturado com 48 questõe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2016 entrevistado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Realizada em abril de 2010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(Nova pesquisa – 2014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Pesquisa da Percepção da Política Fiscal Brasilei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106720" y="404640"/>
            <a:ext cx="7037280" cy="4438800"/>
          </a:xfrm>
          <a:prstGeom prst="rect">
            <a:avLst/>
          </a:prstGeom>
          <a:ln w="0">
            <a:noFill/>
          </a:ln>
        </p:spPr>
      </p:pic>
      <p:sp>
        <p:nvSpPr>
          <p:cNvPr id="54" name="CaixaDeTexto 5"/>
          <p:cNvSpPr/>
          <p:nvPr/>
        </p:nvSpPr>
        <p:spPr>
          <a:xfrm>
            <a:off x="539640" y="476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pt-BR" sz="2800" spc="-1" strike="noStrike">
                <a:solidFill>
                  <a:srgbClr val="000000"/>
                </a:solidFill>
                <a:latin typeface="Calibri"/>
              </a:rPr>
              <a:t>O Sr(a). paga impostos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spaço Reservado para Conteúdo 2"/>
          <p:cNvSpPr/>
          <p:nvPr/>
        </p:nvSpPr>
        <p:spPr>
          <a:xfrm>
            <a:off x="250920" y="5229360"/>
            <a:ext cx="8677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os 1391 entrevistados que declararam pagar imposto, mais de 300 não conseguem citar o nome de nenhum imposto que pa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8360" y="62028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pt-BR" sz="2800" spc="-1" strike="noStrike">
                <a:solidFill>
                  <a:srgbClr val="000000"/>
                </a:solidFill>
                <a:latin typeface="Calibri"/>
              </a:rPr>
              <a:t>Seu nível de imposto está dentro da sua capacidade de pagar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853452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286760" cy="4969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O Sr(a) acha que os cidadãos em geral possuem acesso à orientação e informação sobre a importância de pagar em dia os seus impostos?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O(a) Sr.(a) pagaria mais imposto se fosse para ter mais serviços públicos em troca?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68052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360" y="2276280"/>
            <a:ext cx="822960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ercepção sobre recursos e gastos públ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ntrole das ações do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olítica Fiscal: funções e responsabil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Pesquisa da Percepção da Política Fiscal Brasilei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7T05:33:01Z</dcterms:created>
  <dc:creator>Olivia</dc:creator>
  <dc:description/>
  <dc:language>en-US</dc:language>
  <cp:lastModifiedBy>Borja Diaz</cp:lastModifiedBy>
  <dcterms:modified xsi:type="dcterms:W3CDTF">2013-07-10T09:54:26Z</dcterms:modified>
  <cp:revision>28</cp:revision>
  <dc:subject/>
  <dc:title>Slide 1</dc:title>
</cp:coreProperties>
</file>