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EE2-EF4D-4B49-BA15-8051FE3C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A83-7FCB-45DA-97F7-EF00C8A9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468-16C9-48EA-A60F-F60697E3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39F7-9C77-465F-A6AC-8B65A7BB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1D8-C66B-45A1-91F9-ED253E77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270-F763-42C2-BD98-5AC52CBB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BC1-8981-48F3-ADE2-5DD6F600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9B9-7D94-4AB1-865C-694356AB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752-E00B-42F7-BACF-616D773D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FEA-416D-41A1-AA0C-47AA9BA8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2E4-8B15-4CC1-A144-DD5DF354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400-6FCA-4F0F-9CFC-C91F3F7A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AB9E-B4CC-46A4-89FA-C6519EA4B5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ixaDeTexto 2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e Valoração -  Realidade A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066680"/>
            <a:ext cx="7391520" cy="47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ificul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oucos municípios tem CT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União não tem cadastro nacional de imóveis urba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xistem 2 cadastros de imóveis rurais na União em órgãos diferentes, que não se comunica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ão há conexão central para consolidar informações cadastrais dos Municíp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nvênios de troca de informações entre União e Municípios são feitos pontualmente e sem padronização – 1 web service para cada convêni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ão há conexão entre registro e cadast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Valor venal do IPTU é modificado por lei municipal – descolamento histórico da realidade de mer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066680"/>
            <a:ext cx="7696080" cy="533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aixaDeTexto 2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e Valoração -  Realidade A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739152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icul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 última década o país teve um processo de acelerada expansão imobiliária, com forte valorização dos imóve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gislação não permite reavaliação de bens na Declaração de Imposto de Renda desde 1991 – 22 anos de inflação acumul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ações são declaradas em valores muito abaixo do mercado para sonegação do Ganho de Capi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cado se mantém na informalida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lor de pauta do ITBI acompanha valor das transações, que são feitas abaixo do valor de mercad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ão há conexão entre registro e cadast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Único mecanismo de avaliação razoável é o que acontece no processo de contratação de financiamento para compra e construção de imóve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066680"/>
            <a:ext cx="7696080" cy="533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aixaDeTexto 2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e Valoração -  Propo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066680"/>
            <a:ext cx="739152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ção das informações fisca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s Municípios (IPTU, ITBI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s Estados (ITCD) 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a União (DITR, Declarações de Bens do Imposto sobre a Renda e DIMOB, Declaração de Informação sobre Atividades Imobiliária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terligação entre Registro e Cadastro - SI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rmissão para Reavaliação de Bens na DIRP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avancar a criação de CTM pelos Municíp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r o Índice Nacional de Preços de Imóveis (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creto nº 7.565, de 15 de setembro de 2011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66680"/>
            <a:ext cx="7696080" cy="533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digo Nacional do Imó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m 3" descr=""/>
          <p:cNvPicPr/>
          <p:nvPr/>
        </p:nvPicPr>
        <p:blipFill>
          <a:blip r:embed="rId1"/>
          <a:stretch/>
        </p:blipFill>
        <p:spPr>
          <a:xfrm rot="1753800">
            <a:off x="6374880" y="1831680"/>
            <a:ext cx="1440000" cy="144144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6"/>
          <p:cNvSpPr/>
          <p:nvPr/>
        </p:nvSpPr>
        <p:spPr>
          <a:xfrm rot="1766400">
            <a:off x="5933880" y="3198600"/>
            <a:ext cx="171432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aixaDeTexto 4"/>
          <p:cNvSpPr/>
          <p:nvPr/>
        </p:nvSpPr>
        <p:spPr>
          <a:xfrm>
            <a:off x="2835720" y="346068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1707  -  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7"/>
          <p:cNvSpPr/>
          <p:nvPr/>
        </p:nvSpPr>
        <p:spPr>
          <a:xfrm>
            <a:off x="457200" y="304920"/>
            <a:ext cx="7772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dor Ú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da Imóvel, urbano ou rural, será identificado por um código unívoco em âmbito naci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have esquerda 5"/>
          <p:cNvSpPr/>
          <p:nvPr/>
        </p:nvSpPr>
        <p:spPr>
          <a:xfrm rot="16200000">
            <a:off x="3400920" y="3456360"/>
            <a:ext cx="360360" cy="13716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080 h 1371600"/>
              <a:gd name="textAreaBottom" fmla="*/ 1361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1"/>
          <p:cNvSpPr/>
          <p:nvPr/>
        </p:nvSpPr>
        <p:spPr>
          <a:xfrm>
            <a:off x="2666880" y="4343400"/>
            <a:ext cx="181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ódigo Nacional da Servent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iado pelo CN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have esquerda 12"/>
          <p:cNvSpPr/>
          <p:nvPr/>
        </p:nvSpPr>
        <p:spPr>
          <a:xfrm rot="16200000">
            <a:off x="5077440" y="3608640"/>
            <a:ext cx="360360" cy="1067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440 h 1067040"/>
              <a:gd name="textAreaBottom" fmla="*/ 105660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3"/>
          <p:cNvSpPr/>
          <p:nvPr/>
        </p:nvSpPr>
        <p:spPr>
          <a:xfrm>
            <a:off x="4572000" y="4343400"/>
            <a:ext cx="135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úmero da Matrícula exist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0" y="5943600"/>
            <a:ext cx="85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se código será a chave que permitirá o cruzamento das informações registrais com os dados cadastrais de todos os imóveis do paí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686800" y="61722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4500720"/>
            <a:ext cx="306072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24560" y="4500720"/>
            <a:ext cx="3368520" cy="207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21520" y="876240"/>
            <a:ext cx="1736640" cy="2633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5440" y="4105440"/>
            <a:ext cx="16131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Geo Rural = CNI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482080" y="3807000"/>
            <a:ext cx="30931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Geo Urbano = CTM dos Municíp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rot="1440000">
            <a:off x="1351080" y="3486240"/>
            <a:ext cx="431640" cy="1263600"/>
          </a:xfrm>
          <a:prstGeom prst="upArrow">
            <a:avLst>
              <a:gd name="adj1" fmla="val 50000"/>
              <a:gd name="adj2" fmla="val 73186"/>
            </a:avLst>
          </a:prstGeom>
          <a:gradFill rotWithShape="0">
            <a:gsLst>
              <a:gs pos="0">
                <a:srgbClr val="2e5f99"/>
              </a:gs>
              <a:gs pos="100000">
                <a:srgbClr val="397bca"/>
              </a:gs>
            </a:gsLst>
            <a:lin ang="14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 rot="18960000">
            <a:off x="4430880" y="2598480"/>
            <a:ext cx="431640" cy="3314520"/>
          </a:xfrm>
          <a:prstGeom prst="upArrow">
            <a:avLst>
              <a:gd name="adj1" fmla="val 50000"/>
              <a:gd name="adj2" fmla="val 191972"/>
            </a:avLst>
          </a:prstGeom>
          <a:gradFill rotWithShape="0">
            <a:gsLst>
              <a:gs pos="0">
                <a:srgbClr val="2e5f99"/>
              </a:gs>
              <a:gs pos="100000">
                <a:srgbClr val="397bca"/>
              </a:gs>
            </a:gsLst>
            <a:lin ang="188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611600" y="1171080"/>
            <a:ext cx="431640" cy="2365200"/>
          </a:xfrm>
          <a:prstGeom prst="upArrow">
            <a:avLst>
              <a:gd name="adj1" fmla="val 50000"/>
              <a:gd name="adj2" fmla="val 136989"/>
            </a:avLst>
          </a:prstGeom>
          <a:gradFill rotWithShape="0">
            <a:gsLst>
              <a:gs pos="0">
                <a:srgbClr val="2e5f99"/>
              </a:gs>
              <a:gs pos="100000">
                <a:srgbClr val="397bc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960480" y="900000"/>
            <a:ext cx="2460600" cy="296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55800" y="206280"/>
            <a:ext cx="274104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gistro Eletrônico = Cartór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542880" y="133200"/>
            <a:ext cx="219528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nterligaçã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cessamento Espac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rmazenamen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rtificaç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= SIN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0"/>
          <p:cNvSpPr/>
          <p:nvPr/>
        </p:nvSpPr>
        <p:spPr>
          <a:xfrm>
            <a:off x="2057400" y="5562720"/>
            <a:ext cx="556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anismo de propagação automática de valor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ação da contaminação pelo valor do ITB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roalimentação do ITBI com valor declarado na DIRPF e DIRP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7"/>
          <p:cNvSpPr/>
          <p:nvPr/>
        </p:nvSpPr>
        <p:spPr>
          <a:xfrm>
            <a:off x="152280" y="304920"/>
            <a:ext cx="81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minação de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105520" cy="3849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105520" cy="5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21:32:21Z</dcterms:created>
  <dc:creator>Luigi</dc:creator>
  <dc:description/>
  <dc:language>en-US</dc:language>
  <cp:lastModifiedBy>65697162634</cp:lastModifiedBy>
  <dcterms:modified xsi:type="dcterms:W3CDTF">2013-05-29T15:02:47Z</dcterms:modified>
  <cp:revision>162</cp:revision>
  <dc:subject/>
  <dc:title>RIBRA</dc:title>
</cp:coreProperties>
</file>