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6437-49A6-41FE-ADCB-97644A23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0840" y="3617640"/>
            <a:ext cx="830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FC7F-888B-4FC2-8B92-A47D4ECF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2084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856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763C-8CA1-4E7B-B7DF-F9BD0B6B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0280" y="99072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39360" y="99072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20840" y="361764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0280" y="361764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39360" y="361764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8CD6-772C-47E2-AF0D-BA6334E9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BAAD-F644-477E-90A0-BF39BCD1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88DD-1734-4006-8452-3AA52850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686D-2AB9-4157-B853-E17C571E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DCB4-02CE-44B8-B524-1CC593F3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5CDF-19CC-4482-9580-C536AD0E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2084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1122-8105-436C-8C9D-EB8D77C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856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198C-85B1-4C6F-A6A0-B6CFE4F2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0840" y="3617640"/>
            <a:ext cx="830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8FF3-5B0A-403F-9197-9FB967E2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297000" y="67788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5"/>
          <p:cNvGrpSpPr/>
          <p:nvPr/>
        </p:nvGrpSpPr>
        <p:grpSpPr>
          <a:xfrm>
            <a:off x="6275520" y="6324480"/>
            <a:ext cx="2106000" cy="484200"/>
            <a:chOff x="6275520" y="6324480"/>
            <a:chExt cx="2106000" cy="484200"/>
          </a:xfrm>
        </p:grpSpPr>
        <p:pic>
          <p:nvPicPr>
            <p:cNvPr id="4" name="Picture 16" descr="D:\Documents and Settings\05153030890\Meus documentos\Minhas imagens\Catavento_RFB.bmp"/>
            <p:cNvPicPr/>
            <p:nvPr/>
          </p:nvPicPr>
          <p:blipFill>
            <a:blip r:embed="rId2"/>
            <a:stretch/>
          </p:blipFill>
          <p:spPr>
            <a:xfrm>
              <a:off x="6275520" y="6324480"/>
              <a:ext cx="73008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7" descr="D:\Documents and Settings\05153030890\Meus documentos\Minhas imagens\Receita_2.bmp"/>
            <p:cNvPicPr/>
            <p:nvPr/>
          </p:nvPicPr>
          <p:blipFill>
            <a:blip r:embed="rId3"/>
            <a:stretch/>
          </p:blipFill>
          <p:spPr>
            <a:xfrm>
              <a:off x="6991560" y="6454440"/>
              <a:ext cx="1389960" cy="23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F403-7910-4B89-B223-327986B6207D}" type="slidenum">
              <a:rPr b="1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2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34"/>
          <p:cNvGrpSpPr/>
          <p:nvPr/>
        </p:nvGrpSpPr>
        <p:grpSpPr>
          <a:xfrm>
            <a:off x="0" y="6146640"/>
            <a:ext cx="9144000" cy="88920"/>
            <a:chOff x="0" y="6146640"/>
            <a:chExt cx="9144000" cy="88920"/>
          </a:xfrm>
        </p:grpSpPr>
        <p:sp>
          <p:nvSpPr>
            <p:cNvPr id="9" name="Line 28"/>
            <p:cNvSpPr/>
            <p:nvPr/>
          </p:nvSpPr>
          <p:spPr>
            <a:xfrm>
              <a:off x="0" y="6146640"/>
              <a:ext cx="9144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0" y="6184800"/>
              <a:ext cx="9144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32"/>
            <p:cNvSpPr/>
            <p:nvPr/>
          </p:nvSpPr>
          <p:spPr>
            <a:xfrm>
              <a:off x="0" y="6235560"/>
              <a:ext cx="91440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Imagem 15" descr="brasao.png"/>
          <p:cNvPicPr/>
          <p:nvPr/>
        </p:nvPicPr>
        <p:blipFill>
          <a:blip r:embed="rId4"/>
          <a:stretch/>
        </p:blipFill>
        <p:spPr>
          <a:xfrm>
            <a:off x="152280" y="6248520"/>
            <a:ext cx="433440" cy="609480"/>
          </a:xfrm>
          <a:prstGeom prst="rect">
            <a:avLst/>
          </a:prstGeom>
          <a:ln w="0">
            <a:noFill/>
          </a:ln>
        </p:spPr>
      </p:pic>
      <p:sp>
        <p:nvSpPr>
          <p:cNvPr id="13" name="Text Box 38"/>
          <p:cNvSpPr/>
          <p:nvPr/>
        </p:nvSpPr>
        <p:spPr>
          <a:xfrm>
            <a:off x="609480" y="6400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inistério da Faz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UROsocia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stión del Registro de Contribuy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asília, 5 de junio de 201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Extrato de Processament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998" t="16213" r="9075" b="0"/>
          <a:stretch/>
        </p:blipFill>
        <p:spPr>
          <a:xfrm>
            <a:off x="1066680" y="2133720"/>
            <a:ext cx="7010640" cy="3679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9760" y="1273320"/>
            <a:ext cx="83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lta à declaração mediante chave de a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E32A4D-93F7-423D-916F-006CE88D9D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990720"/>
            <a:ext cx="746748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9600" indent="-309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04920"/>
            <a:ext cx="8153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 indent="-17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roles Especiais – produção de cigarro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a de Controle e Rastreamento da Produção de Cigarros- Scorp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que é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quipamentos contadores de produ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arelhos para o controle, registro, gravação e transmissão dos quantitativos medidos pra a RF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B9B70A-981C-4A8D-BE35-53B36FBEEC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corpio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0568" r="1500" b="898"/>
          <a:stretch/>
        </p:blipFill>
        <p:spPr>
          <a:xfrm>
            <a:off x="660240" y="1308240"/>
            <a:ext cx="7823520" cy="42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22BB41-8C5E-4857-8DCB-7788798CDB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990720"/>
            <a:ext cx="8305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roles Especiais – produção de bebida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a de Controle de Produção de Bebidas - Sico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que é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ta a quantidade de produtos fabri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em está obrigad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rigerantes, cervejas, aguardentes, et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CFA55C-57AB-4C16-8714-D0286CAC3D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1640" y="3100320"/>
            <a:ext cx="180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91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cob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ção de contribuintes – chave primári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uzamento de informações a partir de ferramenta baseada em tecnologi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data warehou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zenas de fontes de informação disponíve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22680" y="3657600"/>
            <a:ext cx="1889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W RFB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791" t="46482" r="11413" b="4886"/>
          <a:stretch/>
        </p:blipFill>
        <p:spPr>
          <a:xfrm>
            <a:off x="533520" y="2617920"/>
            <a:ext cx="8458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ção de contribuinte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acompanhamento do setor econômic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ecadação tributária federal brasileira concentrada nos grandes contribuintes e em alguns set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54320" y="3124080"/>
            <a:ext cx="4633920" cy="2570400"/>
            <a:chOff x="2254320" y="3124080"/>
            <a:chExt cx="4633920" cy="2570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254320" y="3124080"/>
              <a:ext cx="46339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923000" y="5300280"/>
              <a:ext cx="19141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Maiores Contribuintes  0,08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316760" y="5178960"/>
              <a:ext cx="5673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formações cadastrais e o controle tributário exercido pela Fiscaliz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erfil da arrecadação por setor econômic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7280" y="1079640"/>
          <a:ext cx="8640360" cy="4606920"/>
        </p:xfrm>
        <a:graphic>
          <a:graphicData uri="http://schemas.openxmlformats.org/drawingml/2006/table">
            <a:tbl>
              <a:tblPr/>
              <a:tblGrid>
                <a:gridCol w="4917240"/>
                <a:gridCol w="2089440"/>
                <a:gridCol w="1633680"/>
              </a:tblGrid>
              <a:tr h="83628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or Econôm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ecadação Fazendária R$ Bilhões 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Arrecadação Fazendá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3768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ços financei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.365,7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ércio por Ata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371,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ércio varej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259,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ústria automobil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569,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ção Públ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402,8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bricação de combustíve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478,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tricidade e gá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034,7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 Maiores Setores Econôm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2.483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mais Setores Econômicos (8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4.199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soa Fí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541,7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RF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.224,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2546280"/>
            <a:ext cx="457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751" t="26402" r="29097" b="3051"/>
          <a:stretch/>
        </p:blipFill>
        <p:spPr>
          <a:xfrm>
            <a:off x="0" y="925560"/>
            <a:ext cx="9144000" cy="4605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Painel do Setor Econômic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ção de contribuinte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árvores de relacionament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icação de interrelações pessoais, comerciais como subsídio para a atividade de seleção de contribui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rramenta para identificação de interpostas pessoas (“laranjas”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Árvore de relacionament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imagem1" descr=""/>
          <p:cNvPicPr/>
          <p:nvPr/>
        </p:nvPicPr>
        <p:blipFill>
          <a:blip r:embed="rId1"/>
          <a:srcRect l="28702" t="24495" r="22606" b="18481"/>
          <a:stretch/>
        </p:blipFill>
        <p:spPr>
          <a:xfrm>
            <a:off x="1841400" y="1046160"/>
            <a:ext cx="548640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Árvore de relacionamento - legend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0480" y="990720"/>
            <a:ext cx="407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ó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9400" y="990720"/>
            <a:ext cx="407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aciona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imagem1" descr=""/>
          <p:cNvPicPr/>
          <p:nvPr/>
        </p:nvPicPr>
        <p:blipFill>
          <a:blip r:embed="rId1"/>
          <a:srcRect l="0" t="50218" r="79016" b="27419"/>
          <a:stretch/>
        </p:blipFill>
        <p:spPr>
          <a:xfrm>
            <a:off x="228600" y="2133720"/>
            <a:ext cx="4343400" cy="3598920"/>
          </a:xfrm>
          <a:prstGeom prst="rect">
            <a:avLst/>
          </a:prstGeom>
          <a:ln w="0">
            <a:noFill/>
          </a:ln>
        </p:spPr>
      </p:pic>
      <p:pic>
        <p:nvPicPr>
          <p:cNvPr id="120" name="imagem2" descr=""/>
          <p:cNvPicPr/>
          <p:nvPr/>
        </p:nvPicPr>
        <p:blipFill>
          <a:blip r:embed="rId2"/>
          <a:srcRect l="0" t="49650" r="72619" b="18292"/>
          <a:stretch/>
        </p:blipFill>
        <p:spPr>
          <a:xfrm>
            <a:off x="4724280" y="2131920"/>
            <a:ext cx="3954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rimoramento das informações cadastrais (projetos da área de Cadastro da RF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ntores de benefícios fisc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upos econôm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otistas de fundos de investimento (sigilo bancár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câmbio de informações com outras administrações tributári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brigad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dro de Souza de Menezes Bas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secretaria de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ordenação-Geral de Programação e Estu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efe da Divisão de Suporte à Atividade de Program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7"/>
          <p:cNvGrpSpPr/>
          <p:nvPr/>
        </p:nvGrpSpPr>
        <p:grpSpPr>
          <a:xfrm>
            <a:off x="-19080" y="-14400"/>
            <a:ext cx="9172440" cy="6872400"/>
            <a:chOff x="-19080" y="-14400"/>
            <a:chExt cx="9172440" cy="6872400"/>
          </a:xfrm>
        </p:grpSpPr>
        <p:sp>
          <p:nvSpPr>
            <p:cNvPr id="128" name="Forma livre 1"/>
            <p:cNvSpPr/>
            <p:nvPr/>
          </p:nvSpPr>
          <p:spPr>
            <a:xfrm>
              <a:off x="-19080" y="-4680"/>
              <a:ext cx="9163080" cy="1909800"/>
            </a:xfrm>
            <a:custGeom>
              <a:avLst/>
              <a:gdLst>
                <a:gd name="textAreaLeft" fmla="*/ 0 w 9163080"/>
                <a:gd name="textAreaRight" fmla="*/ 9163440 w 9163080"/>
                <a:gd name="textAreaTop" fmla="*/ 0 h 1909800"/>
                <a:gd name="textAreaBottom" fmla="*/ 1910160 h 1909800"/>
              </a:gdLst>
              <a:ahLst/>
              <a:rect l="textAreaLeft" t="textAreaTop" r="textAreaRight" b="textAreaBottom"/>
              <a:pathLst>
                <a:path w="10000" h="8164">
                  <a:moveTo>
                    <a:pt x="10" y="36"/>
                  </a:moveTo>
                  <a:lnTo>
                    <a:pt x="4404" y="0"/>
                  </a:lnTo>
                  <a:cubicBezTo>
                    <a:pt x="4757" y="1870"/>
                    <a:pt x="6632" y="6794"/>
                    <a:pt x="7578" y="6794"/>
                  </a:cubicBezTo>
                  <a:cubicBezTo>
                    <a:pt x="8524" y="6794"/>
                    <a:pt x="9574" y="2814"/>
                    <a:pt x="9990" y="1018"/>
                  </a:cubicBezTo>
                  <a:cubicBezTo>
                    <a:pt x="9993" y="1993"/>
                    <a:pt x="9997" y="2968"/>
                    <a:pt x="10000" y="3943"/>
                  </a:cubicBezTo>
                  <a:cubicBezTo>
                    <a:pt x="9823" y="4758"/>
                    <a:pt x="8690" y="8164"/>
                    <a:pt x="7453" y="8126"/>
                  </a:cubicBezTo>
                  <a:cubicBezTo>
                    <a:pt x="6216" y="8090"/>
                    <a:pt x="3820" y="3054"/>
                    <a:pt x="2578" y="3721"/>
                  </a:cubicBezTo>
                  <a:cubicBezTo>
                    <a:pt x="1299" y="3869"/>
                    <a:pt x="494" y="5869"/>
                    <a:pt x="0" y="7857"/>
                  </a:cubicBezTo>
                  <a:cubicBezTo>
                    <a:pt x="3" y="3822"/>
                    <a:pt x="7" y="4072"/>
                    <a:pt x="10" y="36"/>
                  </a:cubicBezTo>
                  <a:close/>
                </a:path>
              </a:pathLst>
            </a:custGeom>
            <a:gradFill rotWithShape="0">
              <a:gsLst>
                <a:gs pos="0">
                  <a:srgbClr val="4b76aa"/>
                </a:gs>
                <a:gs pos="100000">
                  <a:srgbClr val="edede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orma livre 2"/>
            <p:cNvSpPr/>
            <p:nvPr/>
          </p:nvSpPr>
          <p:spPr>
            <a:xfrm>
              <a:off x="3429000" y="-14400"/>
              <a:ext cx="5715000" cy="1758960"/>
            </a:xfrm>
            <a:custGeom>
              <a:avLst/>
              <a:gdLst>
                <a:gd name="textAreaLeft" fmla="*/ 0 w 5715000"/>
                <a:gd name="textAreaRight" fmla="*/ 5715360 w 571500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76aa"/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orma livre 2"/>
            <p:cNvSpPr/>
            <p:nvPr/>
          </p:nvSpPr>
          <p:spPr>
            <a:xfrm rot="10800000">
              <a:off x="0" y="5486040"/>
              <a:ext cx="9153360" cy="1371600"/>
            </a:xfrm>
            <a:custGeom>
              <a:avLst/>
              <a:gdLst>
                <a:gd name="textAreaLeft" fmla="*/ 0 w 9153360"/>
                <a:gd name="textAreaRight" fmla="*/ 9153720 w 915336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Picture 2" descr="armasnacionais"/>
            <p:cNvPicPr/>
            <p:nvPr/>
          </p:nvPicPr>
          <p:blipFill>
            <a:blip r:embed="rId1"/>
            <a:stretch/>
          </p:blipFill>
          <p:spPr>
            <a:xfrm>
              <a:off x="1609560" y="1854360"/>
              <a:ext cx="1473480" cy="152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2"/>
            <p:cNvGrpSpPr/>
            <p:nvPr/>
          </p:nvGrpSpPr>
          <p:grpSpPr>
            <a:xfrm>
              <a:off x="1457280" y="3611520"/>
              <a:ext cx="1859040" cy="619200"/>
              <a:chOff x="1457280" y="3611520"/>
              <a:chExt cx="1859040" cy="619200"/>
            </a:xfrm>
          </p:grpSpPr>
          <p:pic>
            <p:nvPicPr>
              <p:cNvPr id="133" name="Imagem 5" descr="logo-ministerio-da-fazenda--PT.gif"/>
              <p:cNvPicPr/>
              <p:nvPr/>
            </p:nvPicPr>
            <p:blipFill>
              <a:blip r:embed="rId2"/>
              <a:srcRect l="-5654" t="0" r="0" b="-38128"/>
              <a:stretch/>
            </p:blipFill>
            <p:spPr>
              <a:xfrm>
                <a:off x="1457280" y="3611880"/>
                <a:ext cx="72324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1" descr="AF_Logo_completo_RGB.psd"/>
              <p:cNvPicPr/>
              <p:nvPr/>
            </p:nvPicPr>
            <p:blipFill>
              <a:blip r:embed="rId3"/>
              <a:stretch/>
            </p:blipFill>
            <p:spPr>
              <a:xfrm>
                <a:off x="2179800" y="3611520"/>
                <a:ext cx="1136520" cy="514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oup 10"/>
            <p:cNvGrpSpPr/>
            <p:nvPr/>
          </p:nvGrpSpPr>
          <p:grpSpPr>
            <a:xfrm>
              <a:off x="4282200" y="2693880"/>
              <a:ext cx="3728160" cy="973440"/>
              <a:chOff x="4282200" y="2693880"/>
              <a:chExt cx="3728160" cy="973440"/>
            </a:xfrm>
          </p:grpSpPr>
          <p:sp>
            <p:nvSpPr>
              <p:cNvPr id="136" name="Rectangle 11"/>
              <p:cNvSpPr/>
              <p:nvPr/>
            </p:nvSpPr>
            <p:spPr>
              <a:xfrm>
                <a:off x="4282200" y="3560400"/>
                <a:ext cx="23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7" name="Picture 12" descr="D:\Documents and Settings\05153030890\Meus documentos\Minhas imagens\Catavento_RFB.bmp"/>
              <p:cNvPicPr/>
              <p:nvPr/>
            </p:nvPicPr>
            <p:blipFill>
              <a:blip r:embed="rId4"/>
              <a:stretch/>
            </p:blipFill>
            <p:spPr>
              <a:xfrm>
                <a:off x="4352760" y="2693880"/>
                <a:ext cx="1143000" cy="80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Picture 13" descr="D:\Documents and Settings\05153030890\Meus documentos\Minhas imagens\Receita_2.bmp"/>
              <p:cNvPicPr/>
              <p:nvPr/>
            </p:nvPicPr>
            <p:blipFill>
              <a:blip r:embed="rId5"/>
              <a:stretch/>
            </p:blipFill>
            <p:spPr>
              <a:xfrm>
                <a:off x="5473800" y="2895840"/>
                <a:ext cx="2536560" cy="45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istintas por segment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andes contribuintes (planejamentos tributário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édios contribuintes (auditoria fiscal direcionad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quenos contribuintes (malhas fisca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finição dos setores prioritári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ssoas jurídicas: setores econômico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ssoas físicas: ocupações principai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 – chave primári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uzamento massivo de informações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emplo, nas pessoas físicas, os cruzamentos das malhas fiscais são feitos em um universo de 26 milhões de declaraçõ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confiabilidade das informaçõ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 parâmetros das malhas fiscais podem ser calibrados de acordo com origem das fontes informa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mplo, as informações oriundas de órgãos públicos federais tendem a ser mais confiáve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efetividade da comunic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unicação postal aos contribuintes com indícios de irregularida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ualização do endereço cadastral das pessoas físicas mediante entrega da declaração de imposto de re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21:14:30Z</dcterms:created>
  <dc:creator>71517650100</dc:creator>
  <dc:description/>
  <dc:language>en-US</dc:language>
  <cp:lastModifiedBy>71517650100</cp:lastModifiedBy>
  <dcterms:modified xsi:type="dcterms:W3CDTF">2013-05-24T21:20:51Z</dcterms:modified>
  <cp:revision>43</cp:revision>
  <dc:subject/>
  <dc:title>Apresentação do PowerPoint</dc:title>
</cp:coreProperties>
</file>