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C44-A522-4F6E-B6D0-16EA6B94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07C-215F-4A02-915E-A8401950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DC6-DBBA-4779-A303-A3073CFF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868-A684-46D9-B238-D5B9D78C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A40-CB62-4B7B-A7D4-101BAF36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D3B-214C-4490-AE51-2E81D6E8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F83-C341-472A-9EFE-4DA97FEA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8CF-6852-460C-9C8C-F5BE57C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A47-3806-4D35-8ACE-2A7C5AC9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B27-7E2E-4FB9-925A-88942CF7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DC3-591E-42DC-AD38-3FDE5AC1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DEB-E4E9-488F-88C8-18EBFA9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B78B-D419-4D5A-83D2-81670A1959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image" Target="../media/image12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36360" y="1676520"/>
            <a:ext cx="9107640" cy="464508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2"/>
          <p:cNvSpPr/>
          <p:nvPr/>
        </p:nvSpPr>
        <p:spPr>
          <a:xfrm>
            <a:off x="533520" y="3808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de de Gestão Integrada de Informações Territoria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219320"/>
            <a:ext cx="8077320" cy="45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gerais à economia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Regularização Fundiári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sobre proprietários de terras, nacionais e estrangeir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umento da segurança jurídica nas transações imobiliárias, na garantia do crédito tributário, na garantia dos financiamentos com uma conseqüente redução do spread bancário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umento da formalização da economia e da propriedade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Gestão pública eficiente, com redução de custos de redundância (para todos os Ministérios)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significativo sobre crimes contra a ordem tributária, como os de corrupção, sonegação e lavagem de dinheiro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Impacto na redistribuição da carga tributária efetiva, com aumento significativo da arrecadação do Imposto sobre a Renda, do IPTU, do ITBI, do ITCD e do ITR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diretos aos cidadão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Segurança jurídica da propriedade (transmissão de bens, efetivação do direito de propriedade, garantia inequívoca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Prevenção de lesão a direito de família, de alienação múltipla dos imóveis e de fraudes em registros através da atualização imediata e interligação dos dad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gerais à economia e à socieda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" y="1371600"/>
            <a:ext cx="807732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à Polícia Federal e DRCI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mpla base de informação patrimonial utilizada na apuração de indícios de fraude, lavagem de dinheiro, crime organizado, narcotráfico e corrupçã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Melhora na qualidade da conclusão dos inquéritos, melhor qualidade das provas e das denúncia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à CGU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uditoria patrimonial dos servidores público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à Secretaria de Patrimônio da União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do patrimônio público e rendas (foro e laudêmio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ao IBG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Extensa base de informações territoriais consolidadas em camada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Um completo sistema de valoração de imóveis para composição do Índice Nacional de Preços de Imóvei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Informação mais confiável para planejamento do recenseamento e identificação dos imóveis residenciais e comerciai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s Ministérios da Justiça, do Planejamento e CG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480" y="1447920"/>
            <a:ext cx="807732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gerais ao Poder Judiciári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gilização dos processos de execução fiscal (mais de 70% dos processos em tramitação são execuções fiscais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lta eficiência e baixo custo na identificação e localização de bens sujeitos à penhora (justiça federal, estadual), incluindo execução de dívidas particulare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Levantamento de bens para quitação de dívidas trabalhistas (dação em pagamento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ossibilidade de constrição mais ágil dos bens imóvei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Justiça eleitoral – levantamento efetivo do patrimônio dos candidato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às Corregedorias do CNJ e dos Tribunais de Justiç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Fiscalização mais rápida e eficiente do cumprimento de obrigações pelas serventias (correição eletrônica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eficiente do recolhimento das taxas sobre cada operaçã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umento da formalização de registros e averbações e, por conseguinte, aumento de arrecadação do adicional devid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 Poder Judiciár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28600" y="1371600"/>
            <a:ext cx="8001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rtalecimento do Registro de Imóve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rimoramento do Registro de Imóveis com a visualização do polígono de contorno dos imóveis sobreposto às imagens georreferenciadas,  permitindo a comparação do universo jurídico com a realidade física e cadastral dos imóveis e eliminando a sobreposição de áre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umento da formalização da propriedade e, portanto, do número de registros e averbaçõ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anho pela interligação de informações, reduzindo-se o volume de loteamentos e outras alterações de uso do solo sem o devido registro nos Serviços de Registro de Imóve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ção de custos com burocracia (extinção da DOI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ção (praticamente eliminação) de custos com cumprimento de obrigações não remuneradas a respostas de ofícios, intimações ou requisições de órgãos públic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is segurança aos oficiais de Registro de Imóveis para a prática de atos de sua competência, pelos quais respondem civil, administrativa e criminalm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s Serviços Registrais e Notaria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3520" y="1447920"/>
            <a:ext cx="80769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aos Municíp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Incremento na arrecadação de ITBI e IPTU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Cadastro de proprietários e possuidores atualizado por meio de convênio por adesão em bases permanentes com a RFB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Bloqueio de bens mais ágil, garantia de crédito tributário, agilização na cobrança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ao Ministério das Cidad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Troca de dados em bases permanentes entre a RFB e os municípios no âmbito do SINTER será um atrativo para adesão dos municípios à implantação de cadastros territoriais multifinalitários, algo que vem sendo fomentado há anos pelo Ministério das Cidades e que poderá ganhar impulso com esse projet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Base consolidada de informações dos Cadastros Territoriais Multifinalitários dos municípios para gestão de programas urbanos, saneamento e habitaçã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Ferramenta de apoio na execução da Política Nacional de Desenvolvimento Urbano, com base em princípios que estimulam processos participativos de gestão territorial e ampliam o acesso à terra urbanizada e regularizada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s Municípios e ao Ministério das Cida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7200" y="2286000"/>
            <a:ext cx="8077320" cy="30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Segurança Jurídic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Proteção do mercado imobiliário e dos investimentos a ele inerente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Diminuição de risco de crédito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gilização de comprovação de titularidade de imóveis para liberação de empréstim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Sistema de Registro Eletrônic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gilização dos processos de financiamento bancário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Eliminação do pap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 Sistema Financei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14"/>
          <p:cNvSpPr/>
          <p:nvPr/>
        </p:nvSpPr>
        <p:spPr>
          <a:xfrm>
            <a:off x="2308320" y="6418440"/>
            <a:ext cx="1461960" cy="380880"/>
          </a:xfrm>
          <a:prstGeom prst="ellipse">
            <a:avLst/>
          </a:prstGeom>
          <a:solidFill>
            <a:srgbClr val="17375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2308320" y="1427040"/>
            <a:ext cx="1316880" cy="923400"/>
            <a:chOff x="2308320" y="1427040"/>
            <a:chExt cx="1316880" cy="923400"/>
          </a:xfrm>
        </p:grpSpPr>
        <p:sp>
          <p:nvSpPr>
            <p:cNvPr id="45" name="Oval 14"/>
            <p:cNvSpPr/>
            <p:nvPr/>
          </p:nvSpPr>
          <p:spPr>
            <a:xfrm>
              <a:off x="2308320" y="2007000"/>
              <a:ext cx="1316880" cy="343440"/>
            </a:xfrm>
            <a:prstGeom prst="ellipse">
              <a:avLst/>
            </a:prstGeom>
            <a:solidFill>
              <a:srgbClr val="558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46" name="Picture 16" descr=""/>
            <p:cNvPicPr/>
            <p:nvPr/>
          </p:nvPicPr>
          <p:blipFill>
            <a:blip r:embed="rId1"/>
            <a:stretch/>
          </p:blipFill>
          <p:spPr>
            <a:xfrm>
              <a:off x="2768400" y="1427040"/>
              <a:ext cx="342360" cy="71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7" descr=""/>
            <p:cNvPicPr/>
            <p:nvPr/>
          </p:nvPicPr>
          <p:blipFill>
            <a:blip r:embed="rId2"/>
            <a:stretch/>
          </p:blipFill>
          <p:spPr>
            <a:xfrm>
              <a:off x="2550960" y="1486080"/>
              <a:ext cx="401400" cy="8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8" descr=""/>
            <p:cNvPicPr/>
            <p:nvPr/>
          </p:nvPicPr>
          <p:blipFill>
            <a:blip r:embed="rId3"/>
            <a:stretch/>
          </p:blipFill>
          <p:spPr>
            <a:xfrm>
              <a:off x="3111120" y="1497600"/>
              <a:ext cx="342360" cy="7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47"/>
          <p:cNvSpPr/>
          <p:nvPr/>
        </p:nvSpPr>
        <p:spPr>
          <a:xfrm>
            <a:off x="762120" y="26028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stema de Registro Eletrônic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ulamentação do Capítulo II da Lei 11.977, de 200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47"/>
          <p:cNvSpPr/>
          <p:nvPr/>
        </p:nvSpPr>
        <p:spPr>
          <a:xfrm>
            <a:off x="1600200" y="4800600"/>
            <a:ext cx="23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cepção Eletrônica d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ítulos e Documento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-152280" y="2133720"/>
            <a:ext cx="22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rviços de Registros Públicos emitem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ertidões Eletrônica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Imagem 128" descr=""/>
          <p:cNvPicPr/>
          <p:nvPr/>
        </p:nvPicPr>
        <p:blipFill>
          <a:blip r:embed="rId4"/>
          <a:stretch/>
        </p:blipFill>
        <p:spPr>
          <a:xfrm>
            <a:off x="189000" y="3208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Seta para a esquerda e para a direita 129"/>
          <p:cNvSpPr/>
          <p:nvPr/>
        </p:nvSpPr>
        <p:spPr>
          <a:xfrm rot="19166400">
            <a:off x="1226880" y="2757240"/>
            <a:ext cx="1439640" cy="2127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6" descr="banco do brasil Concurso Banco do Brasil 2012 (BB 2012) Gabarito"/>
          <p:cNvPicPr/>
          <p:nvPr/>
        </p:nvPicPr>
        <p:blipFill>
          <a:blip r:embed="rId5"/>
          <a:stretch/>
        </p:blipFill>
        <p:spPr>
          <a:xfrm>
            <a:off x="3114720" y="566892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http://site.mufight.com.br/images/Logo_CEF.gif"/>
          <p:cNvPicPr/>
          <p:nvPr/>
        </p:nvPicPr>
        <p:blipFill>
          <a:blip r:embed="rId6"/>
          <a:stretch/>
        </p:blipFill>
        <p:spPr>
          <a:xfrm>
            <a:off x="1987560" y="5645160"/>
            <a:ext cx="1352520" cy="1090440"/>
          </a:xfrm>
          <a:prstGeom prst="rect">
            <a:avLst/>
          </a:prstGeom>
          <a:ln w="0">
            <a:noFill/>
          </a:ln>
        </p:spPr>
      </p:pic>
      <p:grpSp>
        <p:nvGrpSpPr>
          <p:cNvPr id="56" name="Rectangle 47"/>
          <p:cNvGrpSpPr/>
          <p:nvPr/>
        </p:nvGrpSpPr>
        <p:grpSpPr>
          <a:xfrm>
            <a:off x="4419720" y="914400"/>
            <a:ext cx="4946400" cy="6129360"/>
            <a:chOff x="4419720" y="914400"/>
            <a:chExt cx="4946400" cy="6129360"/>
          </a:xfrm>
        </p:grpSpPr>
        <p:pic>
          <p:nvPicPr>
            <p:cNvPr id="57" name="Rectangle 47" descr=""/>
            <p:cNvPicPr/>
            <p:nvPr/>
          </p:nvPicPr>
          <p:blipFill>
            <a:blip r:embed="rId7"/>
            <a:stretch/>
          </p:blipFill>
          <p:spPr>
            <a:xfrm>
              <a:off x="4419720" y="914400"/>
              <a:ext cx="4946400" cy="61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52000" y="1259280"/>
              <a:ext cx="4283280" cy="54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 QUE ESTÁ PREVISTO NA LEI: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ço d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epção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de Títulos e Documentos Eletrônicos 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missão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de Certidões Eletrônica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nos padrões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Ping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inatura digi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nos padrões d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P-Brasil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erção d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do o acervo registra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incluindo passivo)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stema de Registro Eletrônico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ópia de Segurança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der Executivo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m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cesso irrestrito e sem ônus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às informações contidas nos bancos de dados dos Serviços de Registros Públicos.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azo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a implementação: até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2014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o será extensível aos Serviços Notariai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Rectangle 47"/>
          <p:cNvSpPr/>
          <p:nvPr/>
        </p:nvSpPr>
        <p:spPr>
          <a:xfrm>
            <a:off x="-304920" y="4343400"/>
            <a:ext cx="181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rviços de Registros Público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eta para a esquerda e para a direita 139"/>
          <p:cNvSpPr/>
          <p:nvPr/>
        </p:nvSpPr>
        <p:spPr>
          <a:xfrm rot="3218400">
            <a:off x="1025280" y="5043240"/>
            <a:ext cx="1989000" cy="163440"/>
          </a:xfrm>
          <a:prstGeom prst="leftRight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79" descr="database_org.png"/>
          <p:cNvPicPr/>
          <p:nvPr/>
        </p:nvPicPr>
        <p:blipFill>
          <a:blip r:embed="rId8"/>
          <a:stretch/>
        </p:blipFill>
        <p:spPr>
          <a:xfrm>
            <a:off x="3182760" y="3371760"/>
            <a:ext cx="782640" cy="733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7"/>
          <p:cNvSpPr/>
          <p:nvPr/>
        </p:nvSpPr>
        <p:spPr>
          <a:xfrm>
            <a:off x="2133720" y="2743200"/>
            <a:ext cx="254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der Executivo Federa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m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esso integral e sem ônu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aos Atos Registrai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Seta para a esquerda e para a direita 142"/>
          <p:cNvSpPr/>
          <p:nvPr/>
        </p:nvSpPr>
        <p:spPr>
          <a:xfrm>
            <a:off x="1424160" y="3738600"/>
            <a:ext cx="1687320" cy="190440"/>
          </a:xfrm>
          <a:prstGeom prst="leftRigh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5"/>
          <p:cNvSpPr/>
          <p:nvPr/>
        </p:nvSpPr>
        <p:spPr>
          <a:xfrm>
            <a:off x="5915160" y="47862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228600" y="260280"/>
            <a:ext cx="86104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elo de Acesso aos Dados Registr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2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 cada Ato Registral, as serventias (cartórios) enviarão um Documento Interoperacional de Registro Eletrônico (DIRE) a um repósitório nacional via HTTPS, de forma semelhante  ao modelo da NF-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533520" y="6019920"/>
            <a:ext cx="81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der Executivo integrará os Atos Registrais de todos os cartórios n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stema Nacional de Gestão de Informações Territoria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NT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8686800" y="61722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Imagem 5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77104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Line 6"/>
          <p:cNvSpPr/>
          <p:nvPr/>
        </p:nvSpPr>
        <p:spPr>
          <a:xfrm>
            <a:off x="5083200" y="3497400"/>
            <a:ext cx="842760" cy="70308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4424400" y="3576240"/>
            <a:ext cx="487440" cy="183996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911320" y="2676600"/>
            <a:ext cx="1657440" cy="59220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Line 10"/>
          <p:cNvSpPr/>
          <p:nvPr/>
        </p:nvSpPr>
        <p:spPr>
          <a:xfrm flipH="1">
            <a:off x="4959000" y="2776680"/>
            <a:ext cx="1219320" cy="69192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2443320" y="4660920"/>
            <a:ext cx="2639160" cy="1097280"/>
            <a:chOff x="2443320" y="4660920"/>
            <a:chExt cx="2639160" cy="1097280"/>
          </a:xfrm>
        </p:grpSpPr>
        <p:sp>
          <p:nvSpPr>
            <p:cNvPr id="74" name="Oval 14"/>
            <p:cNvSpPr/>
            <p:nvPr/>
          </p:nvSpPr>
          <p:spPr>
            <a:xfrm>
              <a:off x="3764520" y="5416560"/>
              <a:ext cx="1317960" cy="341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443320" y="466092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2243160" y="2563920"/>
            <a:ext cx="903960" cy="478080"/>
            <a:chOff x="2243160" y="2563920"/>
            <a:chExt cx="903960" cy="478080"/>
          </a:xfrm>
        </p:grpSpPr>
        <p:sp>
          <p:nvSpPr>
            <p:cNvPr id="77" name="Oval 21"/>
            <p:cNvSpPr/>
            <p:nvPr/>
          </p:nvSpPr>
          <p:spPr>
            <a:xfrm>
              <a:off x="2243160" y="2563920"/>
              <a:ext cx="903960" cy="175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Rectangle 22"/>
            <p:cNvSpPr/>
            <p:nvPr/>
          </p:nvSpPr>
          <p:spPr>
            <a:xfrm>
              <a:off x="2947320" y="276624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5548320" y="2687760"/>
            <a:ext cx="1281960" cy="362520"/>
            <a:chOff x="5548320" y="2687760"/>
            <a:chExt cx="1281960" cy="362520"/>
          </a:xfrm>
        </p:grpSpPr>
        <p:sp>
          <p:nvSpPr>
            <p:cNvPr id="80" name="Oval 27"/>
            <p:cNvSpPr/>
            <p:nvPr/>
          </p:nvSpPr>
          <p:spPr>
            <a:xfrm>
              <a:off x="5926320" y="2687760"/>
              <a:ext cx="903960" cy="1713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Rectangle 28"/>
            <p:cNvSpPr/>
            <p:nvPr/>
          </p:nvSpPr>
          <p:spPr>
            <a:xfrm>
              <a:off x="5548320" y="277704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5589720" y="3645000"/>
            <a:ext cx="1131120" cy="851400"/>
            <a:chOff x="5589720" y="3645000"/>
            <a:chExt cx="1131120" cy="851400"/>
          </a:xfrm>
        </p:grpSpPr>
        <p:sp>
          <p:nvSpPr>
            <p:cNvPr id="83" name="Oval 44"/>
            <p:cNvSpPr/>
            <p:nvPr/>
          </p:nvSpPr>
          <p:spPr>
            <a:xfrm>
              <a:off x="5589720" y="4200480"/>
              <a:ext cx="1131120" cy="2959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Rectangle 45"/>
            <p:cNvSpPr/>
            <p:nvPr/>
          </p:nvSpPr>
          <p:spPr>
            <a:xfrm>
              <a:off x="6177960" y="3645000"/>
              <a:ext cx="3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5" name="Rectangle 47"/>
          <p:cNvSpPr/>
          <p:nvPr/>
        </p:nvSpPr>
        <p:spPr>
          <a:xfrm>
            <a:off x="4071960" y="2030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N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79" descr="database_org.png"/>
          <p:cNvPicPr/>
          <p:nvPr/>
        </p:nvPicPr>
        <p:blipFill>
          <a:blip r:embed="rId2"/>
          <a:stretch/>
        </p:blipFill>
        <p:spPr>
          <a:xfrm>
            <a:off x="4568760" y="3143160"/>
            <a:ext cx="781200" cy="7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www.gaias.com.br/resources/img/layers3.png"/>
          <p:cNvPicPr/>
          <p:nvPr/>
        </p:nvPicPr>
        <p:blipFill>
          <a:blip r:embed="rId3"/>
          <a:stretch/>
        </p:blipFill>
        <p:spPr>
          <a:xfrm>
            <a:off x="4384800" y="2216160"/>
            <a:ext cx="1201680" cy="1093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7"/>
          <p:cNvSpPr/>
          <p:nvPr/>
        </p:nvSpPr>
        <p:spPr>
          <a:xfrm>
            <a:off x="6324480" y="2286000"/>
            <a:ext cx="26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stros de Imóve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6195960" y="3803760"/>
            <a:ext cx="25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stros de Títulos e Document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1630440" y="4946760"/>
            <a:ext cx="24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stros Civis 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ssoas Jurídic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76320" y="2209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ços Notaria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Imagem 128" descr=""/>
          <p:cNvPicPr/>
          <p:nvPr/>
        </p:nvPicPr>
        <p:blipFill>
          <a:blip r:embed="rId4"/>
          <a:stretch/>
        </p:blipFill>
        <p:spPr>
          <a:xfrm>
            <a:off x="2233440" y="2031840"/>
            <a:ext cx="630360" cy="632160"/>
          </a:xfrm>
          <a:prstGeom prst="rect">
            <a:avLst/>
          </a:prstGeom>
          <a:ln w="0">
            <a:noFill/>
          </a:ln>
        </p:spPr>
      </p:pic>
      <p:pic>
        <p:nvPicPr>
          <p:cNvPr id="93" name="Imagem 128" descr=""/>
          <p:cNvPicPr/>
          <p:nvPr/>
        </p:nvPicPr>
        <p:blipFill>
          <a:blip r:embed="rId5"/>
          <a:stretch/>
        </p:blipFill>
        <p:spPr>
          <a:xfrm>
            <a:off x="3962520" y="4722840"/>
            <a:ext cx="966600" cy="966600"/>
          </a:xfrm>
          <a:prstGeom prst="rect">
            <a:avLst/>
          </a:prstGeom>
          <a:ln w="0">
            <a:noFill/>
          </a:ln>
        </p:spPr>
      </p:pic>
      <p:pic>
        <p:nvPicPr>
          <p:cNvPr id="94" name="Imagem 128" descr=""/>
          <p:cNvPicPr/>
          <p:nvPr/>
        </p:nvPicPr>
        <p:blipFill>
          <a:blip r:embed="rId6"/>
          <a:stretch/>
        </p:blipFill>
        <p:spPr>
          <a:xfrm>
            <a:off x="5727600" y="3581280"/>
            <a:ext cx="898560" cy="900360"/>
          </a:xfrm>
          <a:prstGeom prst="rect">
            <a:avLst/>
          </a:prstGeom>
          <a:ln w="0">
            <a:noFill/>
          </a:ln>
        </p:spPr>
      </p:pic>
      <p:pic>
        <p:nvPicPr>
          <p:cNvPr id="95" name="Imagem 128" descr=""/>
          <p:cNvPicPr/>
          <p:nvPr/>
        </p:nvPicPr>
        <p:blipFill>
          <a:blip r:embed="rId7"/>
          <a:stretch/>
        </p:blipFill>
        <p:spPr>
          <a:xfrm>
            <a:off x="5979960" y="2117880"/>
            <a:ext cx="7588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digo Nacional do Imó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Imagem 3" descr=""/>
          <p:cNvPicPr/>
          <p:nvPr/>
        </p:nvPicPr>
        <p:blipFill>
          <a:blip r:embed="rId1"/>
          <a:stretch/>
        </p:blipFill>
        <p:spPr>
          <a:xfrm rot="1753800">
            <a:off x="6374880" y="1831680"/>
            <a:ext cx="1440000" cy="144144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6"/>
          <p:cNvSpPr/>
          <p:nvPr/>
        </p:nvSpPr>
        <p:spPr>
          <a:xfrm rot="1766400">
            <a:off x="5933880" y="3198600"/>
            <a:ext cx="1714320" cy="333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CaixaDeTexto 4"/>
          <p:cNvSpPr/>
          <p:nvPr/>
        </p:nvSpPr>
        <p:spPr>
          <a:xfrm>
            <a:off x="2835720" y="346068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41707  -  50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457200" y="304920"/>
            <a:ext cx="777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icador Únic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ada Imóvel, urbano ou rural, será identificado por um código unívoco em âmbito nacional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Chave esquerda 5"/>
          <p:cNvSpPr/>
          <p:nvPr/>
        </p:nvSpPr>
        <p:spPr>
          <a:xfrm rot="16200000">
            <a:off x="3400920" y="3456360"/>
            <a:ext cx="360360" cy="13716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080 h 1371600"/>
              <a:gd name="textAreaBottom" fmla="*/ 1361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CaixaDeTexto 11"/>
          <p:cNvSpPr/>
          <p:nvPr/>
        </p:nvSpPr>
        <p:spPr>
          <a:xfrm>
            <a:off x="2666880" y="4343400"/>
            <a:ext cx="181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ódigo Nacional da Servent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riado pelo CNJ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Chave esquerda 12"/>
          <p:cNvSpPr/>
          <p:nvPr/>
        </p:nvSpPr>
        <p:spPr>
          <a:xfrm rot="16200000">
            <a:off x="5077440" y="3608640"/>
            <a:ext cx="360360" cy="1067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440 h 1067040"/>
              <a:gd name="textAreaBottom" fmla="*/ 105660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CaixaDeTexto 13"/>
          <p:cNvSpPr/>
          <p:nvPr/>
        </p:nvSpPr>
        <p:spPr>
          <a:xfrm>
            <a:off x="4572000" y="4343400"/>
            <a:ext cx="135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úmero da Matrícula exist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0" y="5943600"/>
            <a:ext cx="85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se código será a chave que permitirá o cruzamento das informações registrais com os dados cadastrais de todos os imóveis do paí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8686800" y="61722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ta para a esquerda e para a direita 32"/>
          <p:cNvSpPr/>
          <p:nvPr/>
        </p:nvSpPr>
        <p:spPr>
          <a:xfrm rot="1906800">
            <a:off x="5160600" y="4061880"/>
            <a:ext cx="1959120" cy="179640"/>
          </a:xfrm>
          <a:prstGeom prst="leftRightArrow">
            <a:avLst>
              <a:gd name="adj1" fmla="val 50000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5900760" y="3798720"/>
            <a:ext cx="785880" cy="615960"/>
          </a:xfrm>
          <a:prstGeom prst="rect">
            <a:avLst/>
          </a:prstGeom>
          <a:ln w="0">
            <a:noFill/>
          </a:ln>
        </p:spPr>
      </p:pic>
      <p:pic>
        <p:nvPicPr>
          <p:cNvPr id="109" name="Imagem 2" descr=""/>
          <p:cNvPicPr/>
          <p:nvPr/>
        </p:nvPicPr>
        <p:blipFill>
          <a:blip r:embed="rId2"/>
          <a:stretch/>
        </p:blipFill>
        <p:spPr>
          <a:xfrm>
            <a:off x="3629160" y="5710320"/>
            <a:ext cx="968400" cy="969840"/>
          </a:xfrm>
          <a:prstGeom prst="rect">
            <a:avLst/>
          </a:prstGeom>
          <a:ln w="0">
            <a:noFill/>
          </a:ln>
        </p:spPr>
      </p:pic>
      <p:sp>
        <p:nvSpPr>
          <p:cNvPr id="110" name="Left-Right Arrow 19"/>
          <p:cNvSpPr/>
          <p:nvPr/>
        </p:nvSpPr>
        <p:spPr>
          <a:xfrm rot="10800000">
            <a:off x="72990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Imagem 3" descr=""/>
          <p:cNvPicPr/>
          <p:nvPr/>
        </p:nvPicPr>
        <p:blipFill>
          <a:blip r:embed="rId3"/>
          <a:stretch/>
        </p:blipFill>
        <p:spPr>
          <a:xfrm>
            <a:off x="6700680" y="4591080"/>
            <a:ext cx="1175040" cy="117468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1"/>
          <p:cNvSpPr/>
          <p:nvPr/>
        </p:nvSpPr>
        <p:spPr>
          <a:xfrm>
            <a:off x="3736440" y="20574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CaixaDeTexto 4"/>
          <p:cNvSpPr/>
          <p:nvPr/>
        </p:nvSpPr>
        <p:spPr>
          <a:xfrm>
            <a:off x="4597560" y="6046920"/>
            <a:ext cx="19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iços Registrais e Notaria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3" descr="C:\Program Files\Microsoft Office\MEDIA\CAGCAT10\j0233312.wmf"/>
          <p:cNvPicPr/>
          <p:nvPr/>
        </p:nvPicPr>
        <p:blipFill>
          <a:blip r:embed="rId4"/>
          <a:stretch/>
        </p:blipFill>
        <p:spPr>
          <a:xfrm>
            <a:off x="7472520" y="2454120"/>
            <a:ext cx="1380960" cy="1408320"/>
          </a:xfrm>
          <a:prstGeom prst="rect">
            <a:avLst/>
          </a:prstGeom>
          <a:ln w="0">
            <a:noFill/>
          </a:ln>
        </p:spPr>
      </p:pic>
      <p:pic>
        <p:nvPicPr>
          <p:cNvPr id="115" name="Imagem 18" descr=""/>
          <p:cNvPicPr/>
          <p:nvPr/>
        </p:nvPicPr>
        <p:blipFill>
          <a:blip r:embed="rId5"/>
          <a:stretch/>
        </p:blipFill>
        <p:spPr>
          <a:xfrm>
            <a:off x="5791320" y="152280"/>
            <a:ext cx="1509480" cy="150984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27"/>
          <p:cNvSpPr/>
          <p:nvPr/>
        </p:nvSpPr>
        <p:spPr>
          <a:xfrm>
            <a:off x="7165800" y="152280"/>
            <a:ext cx="1978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eceita Federa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GFN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NJ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PU e  IBGE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PF e DRCI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GU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inistério da Defes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utros órgãos..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eta para a esquerda e para a direita 21"/>
          <p:cNvSpPr/>
          <p:nvPr/>
        </p:nvSpPr>
        <p:spPr>
          <a:xfrm rot="19881000">
            <a:off x="4952520" y="2057040"/>
            <a:ext cx="1706760" cy="19368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eta para a esquerda e para a direita 33"/>
          <p:cNvSpPr/>
          <p:nvPr/>
        </p:nvSpPr>
        <p:spPr>
          <a:xfrm>
            <a:off x="5541840" y="3068640"/>
            <a:ext cx="1757520" cy="19368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eta para a esquerda e para a direita 34"/>
          <p:cNvSpPr/>
          <p:nvPr/>
        </p:nvSpPr>
        <p:spPr>
          <a:xfrm rot="16200000">
            <a:off x="2963160" y="4685400"/>
            <a:ext cx="2116080" cy="18432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CaixaDeTexto 29"/>
          <p:cNvSpPr/>
          <p:nvPr/>
        </p:nvSpPr>
        <p:spPr>
          <a:xfrm>
            <a:off x="6586560" y="5791320"/>
            <a:ext cx="25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dastros Territoriais Georreferenciados d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unicípios (CTM’s urbano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CaixaDeTexto 36"/>
          <p:cNvSpPr/>
          <p:nvPr/>
        </p:nvSpPr>
        <p:spPr>
          <a:xfrm>
            <a:off x="7774200" y="21337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NI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CaixaDeTexto 31"/>
          <p:cNvSpPr/>
          <p:nvPr/>
        </p:nvSpPr>
        <p:spPr>
          <a:xfrm>
            <a:off x="4267080" y="4419720"/>
            <a:ext cx="14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via Https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Imagem 16" descr=""/>
          <p:cNvPicPr/>
          <p:nvPr/>
        </p:nvPicPr>
        <p:blipFill>
          <a:blip r:embed="rId6"/>
          <a:stretch/>
        </p:blipFill>
        <p:spPr>
          <a:xfrm>
            <a:off x="7893000" y="46450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35" descr=""/>
          <p:cNvPicPr/>
          <p:nvPr/>
        </p:nvPicPr>
        <p:blipFill>
          <a:blip r:embed="rId7"/>
          <a:stretch/>
        </p:blipFill>
        <p:spPr>
          <a:xfrm>
            <a:off x="4295880" y="2549520"/>
            <a:ext cx="1245960" cy="1230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9" descr="database_org.png"/>
          <p:cNvPicPr/>
          <p:nvPr/>
        </p:nvPicPr>
        <p:blipFill>
          <a:blip r:embed="rId8"/>
          <a:stretch/>
        </p:blipFill>
        <p:spPr>
          <a:xfrm>
            <a:off x="3597120" y="2610000"/>
            <a:ext cx="781200" cy="11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/>
          <p:cNvPicPr/>
          <p:nvPr/>
        </p:nvPicPr>
        <p:blipFill>
          <a:blip r:embed="rId9"/>
          <a:stretch/>
        </p:blipFill>
        <p:spPr>
          <a:xfrm>
            <a:off x="3592440" y="4371840"/>
            <a:ext cx="785880" cy="6159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47" descr=""/>
          <p:cNvPicPr/>
          <p:nvPr/>
        </p:nvPicPr>
        <p:blipFill>
          <a:blip r:embed="rId10"/>
          <a:stretch/>
        </p:blipFill>
        <p:spPr>
          <a:xfrm>
            <a:off x="-262080" y="-171360"/>
            <a:ext cx="4069080" cy="7188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380880"/>
            <a:ext cx="3114720" cy="56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UNCIONAMENTO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Os Serviços Notariais e Registrais transmitirão a cópia dos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Documentos Interoperáveis de Registros Eletrônicos (DIRE)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ara um Repositório Nacional, usando a mesma tecnologia da NF-e.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Os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DIR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  ficarão armazenados em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ala Cofr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mo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ópia de Segurança Nacional 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erão processados em um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Banco de Dados Espacial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juntamente com dados cadastrais, fiscais e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imagens georreferenciadas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s imagens de alta resolução das zonas urbanas serão obtidas dos municípios que já fizeram georreferenciamento, por meio de convênio.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s imagens da zona rural serão obtidas no âmbito da Infraestrutura Nacional de Dados Espaciais (INDE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CaixaDeTexto 51"/>
          <p:cNvSpPr/>
          <p:nvPr/>
        </p:nvSpPr>
        <p:spPr>
          <a:xfrm>
            <a:off x="6421320" y="399744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dos e Imagen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ítulo 1" descr=""/>
          <p:cNvPicPr/>
          <p:nvPr/>
        </p:nvPicPr>
        <p:blipFill>
          <a:blip r:embed="rId1"/>
          <a:stretch/>
        </p:blipFill>
        <p:spPr>
          <a:xfrm>
            <a:off x="2309760" y="-231840"/>
            <a:ext cx="4524480" cy="21398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47" descr=""/>
          <p:cNvPicPr/>
          <p:nvPr/>
        </p:nvPicPr>
        <p:blipFill>
          <a:blip r:embed="rId2"/>
          <a:stretch/>
        </p:blipFill>
        <p:spPr>
          <a:xfrm>
            <a:off x="0" y="914400"/>
            <a:ext cx="9193320" cy="5943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4572000"/>
            <a:ext cx="883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istema Nacional de Gestão de Informações Territoriais (SINTER)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erá o inventário oficial e sistemático do território nacional, desenvolvido com tecnologia de banco de dados apropriada para Sistemas de Informações Geográficas (SIG), em uma concepção multifinalitári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SINTER integrará as informações jurídicas de imóveis, provenientes dos Serviços de Registros Públicos, às informações físicas, cadastrais, fiscais, ambientais, fundiárias e de valoração relativas a imóveis urbanos e rurais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gis-layers" descr=""/>
          <p:cNvPicPr/>
          <p:nvPr/>
        </p:nvPicPr>
        <p:blipFill>
          <a:blip r:embed="rId3"/>
          <a:stretch/>
        </p:blipFill>
        <p:spPr>
          <a:xfrm>
            <a:off x="1981080" y="1600200"/>
            <a:ext cx="4953240" cy="30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ítulo 1" descr=""/>
          <p:cNvPicPr/>
          <p:nvPr/>
        </p:nvPicPr>
        <p:blipFill>
          <a:blip r:embed="rId1"/>
          <a:stretch/>
        </p:blipFill>
        <p:spPr>
          <a:xfrm>
            <a:off x="30240" y="115920"/>
            <a:ext cx="1285920" cy="64072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47" descr=""/>
          <p:cNvPicPr/>
          <p:nvPr/>
        </p:nvPicPr>
        <p:blipFill>
          <a:blip r:embed="rId2"/>
          <a:stretch/>
        </p:blipFill>
        <p:spPr>
          <a:xfrm>
            <a:off x="4267080" y="0"/>
            <a:ext cx="4746600" cy="3429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228600"/>
            <a:ext cx="40845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INTER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permitirá aos órgãos d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Poder Executivo Federal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estabelecer critérios de planejamento e gestão territorial na forma de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camadas temáticas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, tais como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Fisca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Fundiár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Infraestrutur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Controle de áreas de risco (defesa civil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egurança públic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Geoambienta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Diagrama 5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4821120" cy="3376440"/>
          </a:xfrm>
          <a:prstGeom prst="rect">
            <a:avLst/>
          </a:prstGeom>
          <a:ln w="0">
            <a:noFill/>
          </a:ln>
        </p:spPr>
      </p:pic>
      <p:pic>
        <p:nvPicPr>
          <p:cNvPr id="138" name="GIS-layers3" descr=""/>
          <p:cNvPicPr/>
          <p:nvPr/>
        </p:nvPicPr>
        <p:blipFill>
          <a:blip r:embed="rId4"/>
          <a:stretch/>
        </p:blipFill>
        <p:spPr>
          <a:xfrm>
            <a:off x="990720" y="304920"/>
            <a:ext cx="337032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0"/>
          <p:cNvSpPr/>
          <p:nvPr/>
        </p:nvSpPr>
        <p:spPr>
          <a:xfrm>
            <a:off x="179280" y="5837400"/>
            <a:ext cx="8472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 Brasil terá um cadastro centralizado de imóveis e um sistema de valoração que permitirá às autoridades ambientais, econômicas e do desenvolvimento de infraestrutura acompanhar a evolução do mercado imobiliário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gistro e Cadastro formarão um conjunto coerente com benefícios mútuos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228600" y="457200"/>
            <a:ext cx="81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mo os imóveis serão visualizados pelo Governo Feder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61024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Diagrama 1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424640" cy="5310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 Ministério da Fazen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21:32:21Z</dcterms:created>
  <dc:creator>Luigi</dc:creator>
  <dc:description/>
  <dc:language>en-US</dc:language>
  <cp:lastModifiedBy>65697162634</cp:lastModifiedBy>
  <dcterms:modified xsi:type="dcterms:W3CDTF">2013-05-15T22:06:03Z</dcterms:modified>
  <cp:revision>160</cp:revision>
  <dc:subject/>
  <dc:title>RIBRA</dc:title>
</cp:coreProperties>
</file>