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1480" cy="340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09587-2A6F-44FB-A94D-A6B557DB014D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7AEAA-66F7-436A-9EE7-8BD554E3F241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01987-DB4F-44D9-82CE-D459EB47FAE5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83164-9D19-4848-BEA2-524798FA8C99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7A612-D702-45CD-90CE-384D705742F0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860E8-875A-4E01-9868-6BBBB0447385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39236-CD0E-49FA-BDF1-F5502367AB33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B91B8-8321-4619-B58F-12A8BA4C0D05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DF772-8A3E-4FD7-9A56-419B48266C26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82B58-4B11-440B-83C7-D25AE15192B8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37DA1-6594-43C1-A612-E33A2E6C2315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8AF79-2891-4662-B3F0-5B4582E63BDE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5CBD7-4781-43A5-A21F-29611D78984D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E8FA2-CE50-4E98-ABAD-1ACAAC8A7C41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5A8D9-BEE0-4D03-81B7-833BC3D20AB5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51820-F742-42DF-946C-9969F06652D8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916BF-D981-4157-BE83-142178FDEBED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E0CFD-D56F-4D1B-8A37-7F443518C043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DA864-13BF-4AF3-AA57-8CA87307FA62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CCC0E-B40D-4EBB-B26F-647A94E725B1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4E977-1AD9-40C2-8FCF-7162F08DF032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B8850-2EF9-4AC2-BEF2-B1993C442580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4AB92-8E53-4AF9-BB41-E5E60904C531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36EC-02CA-4F91-9070-183654B01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D096-C878-495C-9341-AE5DE8945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0DC1-FD65-4595-A1EA-4833951D2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C992-1D0B-402F-8C1F-48618AAAF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123D-1697-4F7D-9BF7-DDC2F6A8A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BF26-6D90-4359-8A9D-4FE75244D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1F82-28DF-4FFE-837A-E6AE1FCED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53A2-9EA7-476F-820F-6D3FDABC8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FE7C-C0BB-42FF-95F8-099F6EE4D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6DBF-D49A-479F-801F-71577023F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E039-710F-4F70-BFEA-93E8DBF9E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9678-29FF-4650-B037-F48586AD7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13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1713F-3CE9-4B41-8647-039F2B7BF895}" type="slidenum">
              <a:rPr b="1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61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8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rcRect l="-5290" t="0" r="0" b="-37435"/>
          <a:stretch/>
        </p:blipFill>
        <p:spPr>
          <a:xfrm>
            <a:off x="762120" y="2197080"/>
            <a:ext cx="1143000" cy="851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9480" y="304920"/>
            <a:ext cx="151920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108400" y="5583240"/>
            <a:ext cx="3726000" cy="970560"/>
            <a:chOff x="5108400" y="5583240"/>
            <a:chExt cx="3726000" cy="970560"/>
          </a:xfrm>
        </p:grpSpPr>
        <p:sp>
          <p:nvSpPr>
            <p:cNvPr id="104" name=""/>
            <p:cNvSpPr/>
            <p:nvPr/>
          </p:nvSpPr>
          <p:spPr>
            <a:xfrm>
              <a:off x="5108400" y="6446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5181480" y="5583240"/>
              <a:ext cx="1140120" cy="8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6302520" y="5784840"/>
              <a:ext cx="2531880" cy="4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3887640" y="4640400"/>
            <a:ext cx="4913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Brasília, 03 de junho de 2013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480000" y="360360"/>
            <a:ext cx="2519640" cy="107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79640" y="2303640"/>
            <a:ext cx="5813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Tahoma"/>
              </a:rPr>
              <a:t>Cadastros de Informações Previdenciári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0FE2-F36C-4B0F-8E50-8E10D904091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9907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6880" y="2354400"/>
            <a:ext cx="3183120" cy="1604880"/>
          </a:xfrm>
          <a:prstGeom prst="ellipse">
            <a:avLst/>
          </a:prstGeom>
          <a:gradFill rotWithShape="0">
            <a:gsLst>
              <a:gs pos="0">
                <a:srgbClr val="666666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94b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Pessoas fís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54160" y="4656240"/>
            <a:ext cx="3022920" cy="1463400"/>
          </a:xfrm>
          <a:prstGeom prst="ellipse">
            <a:avLst/>
          </a:prstGeom>
          <a:gradFill rotWithShape="0">
            <a:gsLst>
              <a:gs pos="0">
                <a:srgbClr val="666666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94b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Imóve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32520" y="2354400"/>
            <a:ext cx="3146400" cy="1604880"/>
          </a:xfrm>
          <a:prstGeom prst="ellipse">
            <a:avLst/>
          </a:prstGeom>
          <a:gradFill rotWithShape="0">
            <a:gsLst>
              <a:gs pos="0">
                <a:srgbClr val="666666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94b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Pessoas juríd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60720" y="104472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Situação Pretend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87480" y="3348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257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60" name=""/>
          <p:cNvCxnSpPr>
            <a:stCxn id="248" idx="6"/>
            <a:endCxn id="250" idx="2"/>
          </p:cNvCxnSpPr>
          <p:nvPr/>
        </p:nvCxnSpPr>
        <p:spPr>
          <a:xfrm>
            <a:off x="3779640" y="3157560"/>
            <a:ext cx="1353240" cy="2160"/>
          </a:xfrm>
          <a:prstGeom prst="straightConnector1">
            <a:avLst/>
          </a:prstGeom>
          <a:ln w="93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61" name=""/>
          <p:cNvCxnSpPr>
            <a:endCxn id="249" idx="0"/>
          </p:cNvCxnSpPr>
          <p:nvPr/>
        </p:nvCxnSpPr>
        <p:spPr>
          <a:xfrm>
            <a:off x="4455720" y="3157200"/>
            <a:ext cx="10440" cy="1500840"/>
          </a:xfrm>
          <a:prstGeom prst="straightConnector1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</p:cxn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37960" y="4896000"/>
            <a:ext cx="1741680" cy="1260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8840" y="2305080"/>
            <a:ext cx="1800360" cy="12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E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008000" y="1332000"/>
            <a:ext cx="1800360" cy="971640"/>
          </a:xfrm>
          <a:prstGeom prst="rect">
            <a:avLst/>
          </a:prstGeom>
          <a:ln w="18000">
            <a:solidFill>
              <a:srgbClr val="ffffff"/>
            </a:solidFill>
            <a:round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020000" y="2952720"/>
            <a:ext cx="19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048360" y="1325520"/>
            <a:ext cx="1871640" cy="10144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2519280" y="5580000"/>
            <a:ext cx="1800360" cy="11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4716360" y="5580000"/>
            <a:ext cx="1800360" cy="1079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73080" y="898560"/>
            <a:ext cx="190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quiparado à empres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5003640"/>
            <a:ext cx="1836720" cy="4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bra de construção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ivil de PF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20000" y="2519280"/>
            <a:ext cx="1979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Produtor rur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0360" y="900000"/>
            <a:ext cx="1979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Segurad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speci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7020000" y="4932360"/>
            <a:ext cx="1836720" cy="1079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946920" y="4354560"/>
            <a:ext cx="2052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onsórcio simplificado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e produtores rurai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19280" y="2844720"/>
            <a:ext cx="54144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360" y="3995640"/>
            <a:ext cx="540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51280" y="3995640"/>
            <a:ext cx="540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59280" y="2881440"/>
            <a:ext cx="540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0920" y="4537080"/>
            <a:ext cx="1728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mpregado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oméstic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280" y="2700360"/>
            <a:ext cx="180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Titular de cartór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0000" y="5003640"/>
            <a:ext cx="1836720" cy="4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bra de construção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ivil de PJ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289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87480" y="3348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216000" y="3132000"/>
            <a:ext cx="1800000" cy="12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6000" y="900000"/>
            <a:ext cx="2340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35000" y="504036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19640" y="3274920"/>
            <a:ext cx="21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itular de cartór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1640" y="2951280"/>
            <a:ext cx="2266920" cy="6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bra de construçã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ivil de P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51640" y="3780000"/>
            <a:ext cx="22669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bra de construçã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ivil de 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4140360"/>
            <a:ext cx="21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gurado espec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1640" y="5616720"/>
            <a:ext cx="2160720" cy="1044360"/>
          </a:xfrm>
          <a:prstGeom prst="roundRect">
            <a:avLst>
              <a:gd name="adj" fmla="val 16667"/>
            </a:avLst>
          </a:prstGeom>
          <a:solidFill>
            <a:srgbClr val="dfdfff">
              <a:alpha val="50000"/>
            </a:srgbClr>
          </a:solidFill>
          <a:ln w="18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320" rIns="943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Criação da “data do primeiro vínculo” no CNPJ/Serpr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5640" y="2016000"/>
            <a:ext cx="1618920" cy="6480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móve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6000" y="3282480"/>
            <a:ext cx="2808360" cy="70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sórcio Simplificad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 Produtores ru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32000" y="4680000"/>
            <a:ext cx="2700360" cy="539640"/>
          </a:xfrm>
          <a:prstGeom prst="downArrowCallout">
            <a:avLst>
              <a:gd name="adj1" fmla="val 125112"/>
              <a:gd name="adj2" fmla="val 125100"/>
              <a:gd name="adj3" fmla="val 16667"/>
              <a:gd name="adj4" fmla="val 66667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tributos específic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43280" y="5435640"/>
            <a:ext cx="1655640" cy="1204920"/>
          </a:xfrm>
          <a:prstGeom prst="can">
            <a:avLst>
              <a:gd name="adj" fmla="val 19638"/>
            </a:avLst>
          </a:prstGeom>
          <a:solidFill>
            <a:srgbClr val="dfdfff">
              <a:alpha val="50000"/>
            </a:srgbClr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Cadastro de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Atividades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Econômicas d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Pessoa Físic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27640" y="4680000"/>
            <a:ext cx="2700360" cy="539640"/>
          </a:xfrm>
          <a:prstGeom prst="downArrowCallout">
            <a:avLst>
              <a:gd name="adj1" fmla="val 125112"/>
              <a:gd name="adj2" fmla="val 125100"/>
              <a:gd name="adj3" fmla="val 16667"/>
              <a:gd name="adj4" fmla="val 66667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tributos específic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4680000"/>
            <a:ext cx="2700360" cy="539640"/>
          </a:xfrm>
          <a:prstGeom prst="downArrowCallout">
            <a:avLst>
              <a:gd name="adj1" fmla="val 125112"/>
              <a:gd name="adj2" fmla="val 125100"/>
              <a:gd name="adj3" fmla="val 16667"/>
              <a:gd name="adj4" fmla="val 66667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gração para o 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0" y="1440000"/>
            <a:ext cx="2556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mpregador doméstic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9280" y="1979640"/>
            <a:ext cx="1439640" cy="720720"/>
          </a:xfrm>
          <a:prstGeom prst="can">
            <a:avLst>
              <a:gd name="adj" fmla="val 25097"/>
            </a:avLst>
          </a:prstGeom>
          <a:solidFill>
            <a:srgbClr val="80808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1280" y="1944720"/>
            <a:ext cx="1368360" cy="75564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P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2808360"/>
            <a:ext cx="2158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Equiparado à empresa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40360" y="5435640"/>
            <a:ext cx="1440000" cy="1204920"/>
          </a:xfrm>
          <a:prstGeom prst="can">
            <a:avLst>
              <a:gd name="adj" fmla="val 18592"/>
            </a:avLst>
          </a:prstGeom>
          <a:solidFill>
            <a:srgbClr val="dfdfff">
              <a:alpha val="50000"/>
            </a:srgbClr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80"/>
                </a:solidFill>
                <a:latin typeface="Arial"/>
              </a:rPr>
              <a:t>Cadast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80"/>
                </a:solidFill>
                <a:latin typeface="Arial"/>
              </a:rPr>
              <a:t>Nacio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80"/>
                </a:solidFill>
                <a:latin typeface="Arial"/>
              </a:rPr>
              <a:t>de Ob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19640" y="3706920"/>
            <a:ext cx="21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dutor ru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326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44360" y="1592280"/>
            <a:ext cx="8820360" cy="4827600"/>
          </a:xfrm>
          <a:prstGeom prst="rect">
            <a:avLst/>
          </a:prstGeom>
          <a:ln w="18000">
            <a:solidFill>
              <a:srgbClr val="808080"/>
            </a:solidFill>
            <a:round/>
          </a:ln>
        </p:spPr>
      </p:pic>
      <p:sp>
        <p:nvSpPr>
          <p:cNvPr id="333" name=""/>
          <p:cNvSpPr/>
          <p:nvPr/>
        </p:nvSpPr>
        <p:spPr>
          <a:xfrm>
            <a:off x="0" y="9907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E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339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2987640"/>
            <a:ext cx="1938240" cy="1944720"/>
          </a:xfrm>
          <a:prstGeom prst="can">
            <a:avLst>
              <a:gd name="adj" fmla="val 23356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1800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dast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 Atividad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conômicas d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essoa Físic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CAEPF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00720" y="3024360"/>
            <a:ext cx="1979640" cy="1904760"/>
          </a:xfrm>
          <a:prstGeom prst="can">
            <a:avLst>
              <a:gd name="adj" fmla="val 23356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1800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dast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acion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 Ob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CN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14400"/>
            <a:ext cx="395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280099"/>
                </a:solidFill>
                <a:latin typeface="Arial"/>
              </a:rPr>
              <a:t>Principais Produtos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59280" y="3527280"/>
            <a:ext cx="1079280" cy="1079640"/>
          </a:xfrm>
          <a:custGeom>
            <a:avLst/>
            <a:gdLst>
              <a:gd name="textAreaLeft" fmla="*/ 444600 w 1079280"/>
              <a:gd name="textAreaRight" fmla="*/ 634680 w 107928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5000b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68560" y="1779480"/>
            <a:ext cx="3041640" cy="1300320"/>
          </a:xfrm>
          <a:prstGeom prst="roundRect">
            <a:avLst>
              <a:gd name="adj" fmla="val 18014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clusão da “data do primeiro vínculo” no 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11400" y="5040360"/>
            <a:ext cx="3000600" cy="1260360"/>
          </a:xfrm>
          <a:prstGeom prst="roundRect">
            <a:avLst>
              <a:gd name="adj" fmla="val 18014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gração do consórcio simplificado de produtores rurais para o 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352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1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1979640"/>
            <a:ext cx="8820360" cy="487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Calibri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Criação de uma base de dados vinculada ao CPF, no SERPRO, na qual o sujeito passivo, pessoa física, será identificado em suas diversas atividade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5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Haverá identificação do contribuinte pessoa física com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SzPct val="100000"/>
              <a:buBlip>
                <a:blip r:embed="rId1"/>
              </a:buBlip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contribuinte individual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SzPct val="100000"/>
              <a:buBlip>
                <a:blip r:embed="rId2"/>
              </a:buBlip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produtor rural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segurado especi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0360" y="1224000"/>
            <a:ext cx="687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de Atividades Econôm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da Pessoa Física - CAEP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-360" y="6697800"/>
            <a:ext cx="9178920" cy="153360"/>
            <a:chOff x="-360" y="6697800"/>
            <a:chExt cx="9178920" cy="153360"/>
          </a:xfrm>
        </p:grpSpPr>
        <p:sp>
          <p:nvSpPr>
            <p:cNvPr id="371" name=""/>
            <p:cNvSpPr/>
            <p:nvPr/>
          </p:nvSpPr>
          <p:spPr>
            <a:xfrm flipH="1" flipV="1">
              <a:off x="-720" y="66978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360" y="1440000"/>
            <a:ext cx="91440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-720720" y="2629080"/>
            <a:ext cx="950436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Calibri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Para cada atividade desempenhada pelo sujeito passivo pessoa física haverá os atributo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-301680">
              <a:lnSpc>
                <a:spcPct val="100000"/>
              </a:lnSpc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Endereço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Tipo da atividade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Código de atividade (CNAE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Data de início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Situação cadastral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Matrícula CEI, quando  houv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7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8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-360" y="6697800"/>
            <a:ext cx="9178920" cy="153360"/>
            <a:chOff x="-360" y="6697800"/>
            <a:chExt cx="9178920" cy="153360"/>
          </a:xfrm>
        </p:grpSpPr>
        <p:sp>
          <p:nvSpPr>
            <p:cNvPr id="386" name=""/>
            <p:cNvSpPr/>
            <p:nvPr/>
          </p:nvSpPr>
          <p:spPr>
            <a:xfrm flipH="1" flipV="1">
              <a:off x="-720" y="66978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260360" y="1260360"/>
            <a:ext cx="687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de Atividades Econôm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da Pessoa Física - CAEP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60360" y="4500720"/>
            <a:ext cx="8099280" cy="1979280"/>
          </a:xfrm>
          <a:prstGeom prst="roundRect">
            <a:avLst>
              <a:gd name="adj" fmla="val 16667"/>
            </a:avLst>
          </a:prstGeom>
          <a:solidFill>
            <a:srgbClr val="c0c0c0">
              <a:alpha val="20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00360" y="2160720"/>
            <a:ext cx="5219640" cy="1979640"/>
          </a:xfrm>
          <a:prstGeom prst="roundRect">
            <a:avLst>
              <a:gd name="adj" fmla="val 16667"/>
            </a:avLst>
          </a:prstGeom>
          <a:solidFill>
            <a:srgbClr val="c0c0c0">
              <a:alpha val="20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60360" y="971640"/>
            <a:ext cx="687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de Atividades Econôm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da Pessoa Física - CAEP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60720" y="2340000"/>
            <a:ext cx="4714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Número identificador da ativida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64000" y="4500720"/>
            <a:ext cx="3455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Base para cálculo do DV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592360" y="2987640"/>
            <a:ext cx="3600360" cy="863640"/>
            <a:chOff x="2592360" y="2987640"/>
            <a:chExt cx="3600360" cy="863640"/>
          </a:xfrm>
        </p:grpSpPr>
        <p:sp>
          <p:nvSpPr>
            <p:cNvPr id="405" name=""/>
            <p:cNvSpPr/>
            <p:nvPr/>
          </p:nvSpPr>
          <p:spPr>
            <a:xfrm>
              <a:off x="2771640" y="2987640"/>
              <a:ext cx="1656000" cy="360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c0c0c0"/>
              </a:solidFill>
              <a:round/>
            </a:ln>
            <a:effectLst>
              <a:outerShdw dist="50911" dir="27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NNN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80000" y="2987640"/>
              <a:ext cx="1079280" cy="360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c0c0c0"/>
              </a:solidFill>
              <a:round/>
            </a:ln>
            <a:effectLst>
              <a:outerShdw dist="50911" dir="27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N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92360" y="3492360"/>
              <a:ext cx="1800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333333"/>
                  </a:solidFill>
                  <a:latin typeface="Arial"/>
                </a:rPr>
                <a:t>Sequenci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92720" y="3492360"/>
              <a:ext cx="1800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333333"/>
                  </a:solidFill>
                  <a:latin typeface="Arial"/>
                </a:rPr>
                <a:t>Dígito Verifica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372360" y="5219640"/>
            <a:ext cx="1079280" cy="539640"/>
          </a:xfrm>
          <a:prstGeom prst="rect">
            <a:avLst/>
          </a:prstGeom>
          <a:solidFill>
            <a:srgbClr val="cccc00"/>
          </a:solidFill>
          <a:ln w="9360">
            <a:solidFill>
              <a:srgbClr val="c0c0c0"/>
            </a:solidFill>
            <a:round/>
          </a:ln>
          <a:effectLst>
            <a:outerShdw dist="50911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83280" y="586728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3333"/>
                </a:solidFill>
                <a:latin typeface="Arial"/>
              </a:rPr>
              <a:t>Dígito Verifica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79640" y="5219640"/>
            <a:ext cx="3240000" cy="539640"/>
          </a:xfrm>
          <a:prstGeom prst="rect">
            <a:avLst/>
          </a:prstGeom>
          <a:solidFill>
            <a:srgbClr val="198a8a"/>
          </a:solidFill>
          <a:ln w="9360">
            <a:solidFill>
              <a:srgbClr val="c0c0c0"/>
            </a:solidFill>
            <a:round/>
          </a:ln>
          <a:effectLst>
            <a:outerShdw dist="50911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NN.NNN.NN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00360" y="594036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3333"/>
                </a:solidFill>
                <a:latin typeface="Arial"/>
              </a:rPr>
              <a:t>CP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00720" y="5219640"/>
            <a:ext cx="1618920" cy="539640"/>
          </a:xfrm>
          <a:prstGeom prst="rect">
            <a:avLst/>
          </a:prstGeom>
          <a:solidFill>
            <a:srgbClr val="cccc00"/>
          </a:solidFill>
          <a:ln w="9360">
            <a:solidFill>
              <a:srgbClr val="c0c0c0"/>
            </a:solidFill>
            <a:round/>
          </a:ln>
          <a:effectLst>
            <a:outerShdw dist="50911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NN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427640" y="594036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3333"/>
                </a:solidFill>
                <a:latin typeface="Arial"/>
              </a:rPr>
              <a:t>Sequenc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1619280"/>
            <a:ext cx="79819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168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ahoma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Será criado, no Serpro, um cadastro de obras. Esse cadastro armazenará os dados de obras de construção civil de pessoas físicas e de pessoas jurídic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-301680" algn="just">
              <a:lnSpc>
                <a:spcPct val="100000"/>
              </a:lnSpc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-301680" algn="just">
              <a:lnSpc>
                <a:spcPct val="100000"/>
              </a:lnSpc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-30168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Será desenvolvido um aplicativo web que será a única ferramenta para atualizar os dados do Cadastro Nacional de Obras, tanto para contribuinte quanto para o servidor da RFB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0360" y="109368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Nacional de Obras - CN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-360" y="6697800"/>
            <a:ext cx="9178920" cy="153360"/>
            <a:chOff x="-360" y="6697800"/>
            <a:chExt cx="9178920" cy="153360"/>
          </a:xfrm>
        </p:grpSpPr>
        <p:sp>
          <p:nvSpPr>
            <p:cNvPr id="428" name=""/>
            <p:cNvSpPr/>
            <p:nvPr/>
          </p:nvSpPr>
          <p:spPr>
            <a:xfrm flipH="1" flipV="1">
              <a:off x="-720" y="66978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2044800"/>
            <a:ext cx="8286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301680" algn="just">
              <a:lnSpc>
                <a:spcPct val="90000"/>
              </a:lnSpc>
              <a:spcBef>
                <a:spcPts val="950"/>
              </a:spcBef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Inclusão do campo no CNPJ/Serpro para coleta de informação necessária ao controle das contribuições previdenciári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556272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0360" y="914400"/>
            <a:ext cx="86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Inclusão da “data do primeiro víncul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3280" y="3781440"/>
            <a:ext cx="86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Migração dos consórcios simplificad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de produtores rur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5040360"/>
            <a:ext cx="8286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301680" algn="just">
              <a:lnSpc>
                <a:spcPct val="90000"/>
              </a:lnSpc>
              <a:spcBef>
                <a:spcPts val="950"/>
              </a:spcBef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Atribuição de um número de identificação no CNPJ e encerramento da matrícula CEI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7040" y="3251160"/>
            <a:ext cx="18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-720" y="0"/>
            <a:ext cx="9180360" cy="72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45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80240" y="81000"/>
            <a:ext cx="2184480" cy="56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17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71640" y="1460520"/>
            <a:ext cx="5013360" cy="1490760"/>
            <a:chOff x="1871640" y="1460520"/>
            <a:chExt cx="5013360" cy="149076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871640" y="1460520"/>
              <a:ext cx="5013360" cy="14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97360" y="1906560"/>
              <a:ext cx="302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400" spc="-1" strike="noStrike">
                  <a:solidFill>
                    <a:srgbClr val="004586"/>
                  </a:solidFill>
                  <a:latin typeface="Arial"/>
                </a:rPr>
                <a:t>Lei n° 11.457/2007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7480" y="104760"/>
            <a:ext cx="1676160" cy="542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716360" y="3527280"/>
            <a:ext cx="3600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6"/>
              </a:gs>
              <a:gs pos="100000">
                <a:srgbClr val="a5a5a5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nistério da Previdência Soc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cretaria da Receit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evidenciári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140360"/>
            <a:ext cx="3600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6"/>
              </a:gs>
              <a:gs pos="100000">
                <a:srgbClr val="a5a5a5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nistério da Fazen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cretaria da Receit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ederal do Brasi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527280"/>
            <a:ext cx="3600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6"/>
              </a:gs>
              <a:gs pos="100000">
                <a:srgbClr val="a5a5a5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nistério da Fazen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cretaria da Receita Fede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87480" y="3348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55556875416068 0 L -0.227295726234476 0 E">
                                      <p:cBhvr>
                                        <p:cTn id="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8439925225174 0 L 0.210445816575086 0 E">
                                      <p:cBhvr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79280" y="1022400"/>
            <a:ext cx="55800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Situação atual do proje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451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55640" y="5003640"/>
            <a:ext cx="575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Sistemas em desenvolvimento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Homologação prevista para 07/10/2013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03240" y="2124000"/>
            <a:ext cx="719784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de Atividades Econôm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da Pessoa Física – CAEP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Nacional de Obras – CN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87640" y="4319640"/>
            <a:ext cx="1260720" cy="539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06400"/>
            <a:ext cx="55800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Situação atual do proje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466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71280" y="2016000"/>
            <a:ext cx="89996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280099"/>
                </a:solidFill>
                <a:latin typeface="Arial"/>
                <a:ea typeface="Times New Roman"/>
              </a:rPr>
              <a:t>Inclusão da Data do Primeiro Vínculo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280099"/>
                </a:solidFill>
                <a:latin typeface="Arial"/>
                <a:ea typeface="Times New Roman"/>
              </a:rPr>
              <a:t>no CNPJ/Serpr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Campo incluído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Povoamento com as informações da Dataprev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previsto para julho de 2013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1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9280" y="3635280"/>
            <a:ext cx="1260360" cy="540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06400"/>
            <a:ext cx="55800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Situação atual do proje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480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71280" y="2340000"/>
            <a:ext cx="8999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Migração dos consórcios simplificados de produtores rurais para o CNPJ/Serp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Produto entregu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1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24360" y="3527280"/>
            <a:ext cx="1260360" cy="540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51040" y="4227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20720" y="1440000"/>
            <a:ext cx="7740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Equi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Ana-paula.sacchi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Carolina.freitas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Celia.rondina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Claudio.pinto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Fernando.Muller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Joao-luiz.bittencourt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Selita.medeiros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Shogo.yamamoto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5040360" y="3456000"/>
            <a:ext cx="28796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Tahoma"/>
              </a:rPr>
              <a:t>Obrigad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6D23-F7E3-44A2-8308-A6F40E641937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2268360"/>
            <a:ext cx="3708360" cy="359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22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620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dastros de Informações Previdenci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38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176720" y="251928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Dataprev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35640" y="2341440"/>
            <a:ext cx="4103640" cy="359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22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8920" y="3059280"/>
            <a:ext cx="1260720" cy="10810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3564000"/>
            <a:ext cx="14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b84700"/>
                </a:solidFill>
                <a:latin typeface="Arial"/>
              </a:rPr>
              <a:t>Atualização Diár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3598920"/>
            <a:ext cx="1260360" cy="10810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9280" y="2411280"/>
            <a:ext cx="12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Serpr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00720" y="4498920"/>
            <a:ext cx="1260360" cy="10810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E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237492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Dataprev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3778200"/>
            <a:ext cx="1008000" cy="901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ut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stem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1260360"/>
            <a:ext cx="6551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280099"/>
                </a:solidFill>
                <a:latin typeface="Arial"/>
              </a:rPr>
              <a:t>Sistemas de Cadastros Previdenciári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5" idx="4"/>
            <a:endCxn id="143" idx="2"/>
          </p:cNvCxnSpPr>
          <p:nvPr/>
        </p:nvCxnSpPr>
        <p:spPr>
          <a:xfrm flipV="1">
            <a:off x="2879640" y="3600000"/>
            <a:ext cx="2520000" cy="5407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56" name=""/>
          <p:cNvCxnSpPr>
            <a:stCxn id="143" idx="4"/>
            <a:endCxn id="149" idx="1"/>
          </p:cNvCxnSpPr>
          <p:nvPr/>
        </p:nvCxnSpPr>
        <p:spPr>
          <a:xfrm>
            <a:off x="6659280" y="3600360"/>
            <a:ext cx="1299240" cy="17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57" name=""/>
          <p:cNvCxnSpPr>
            <a:stCxn id="147" idx="4"/>
            <a:endCxn id="149" idx="3"/>
          </p:cNvCxnSpPr>
          <p:nvPr/>
        </p:nvCxnSpPr>
        <p:spPr>
          <a:xfrm flipV="1">
            <a:off x="6660720" y="4680000"/>
            <a:ext cx="1297800" cy="35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63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0360" y="1800360"/>
            <a:ext cx="77389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Cadastro Nacional da Pessoa Jurídica – CNPJ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Banco de dados réplica do CNPJ/Serpro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Acessado por sistemas que controlam as contribuições previdenciárias, hospedados na Dataprev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Atualização diária por meio de arquivo enviado pelo Serpro com as alterações ocorridas no CNPJ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79640" y="1260360"/>
            <a:ext cx="71992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Sistemas de Cadastros Previdenciári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76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60360" y="2087640"/>
            <a:ext cx="8639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Cadastro Específico do INSS – CE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Equiparados à empresa desobrigados da inscrição no CNPJ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Produtor rural contribuinte individual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Segurado especial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Titular de cartório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Consórcio simplificado de produtores rurais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Empregador doméstico para recolhimento do FGTS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Obras de construção civil (pessoas física e jurídica)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79640" y="1260360"/>
            <a:ext cx="701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Sistemas de Cadastros Previdenciári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620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dastros de Informações Previdenci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90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900000" y="2879640"/>
            <a:ext cx="7559640" cy="2700360"/>
          </a:xfrm>
          <a:prstGeom prst="foldedCorner">
            <a:avLst>
              <a:gd name="adj" fmla="val 12500"/>
            </a:avLst>
          </a:prstGeom>
          <a:solidFill>
            <a:srgbClr val="dfd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41240" indent="-269640"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O objetivo do programa é a unificação do Crédito Previdenciário (contribuição da empresa, contribuição do trabalhador e contribuições para terceiros) e Fazendári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69640"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1147680"/>
            <a:ext cx="79200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Programa de Unificação do Crédito Previdenciário e Fazendário - PU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733320"/>
            <a:ext cx="6300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PUC – Objetivos específ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205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68360" y="1584360"/>
            <a:ext cx="8459640" cy="4967280"/>
          </a:xfrm>
          <a:prstGeom prst="foldedCorner">
            <a:avLst>
              <a:gd name="adj" fmla="val 12500"/>
            </a:avLst>
          </a:prstGeom>
          <a:solidFill>
            <a:srgbClr val="dfd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Criar uma folha de pagamento digital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Criar uma nova declaração previdenciária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Implantar o Projeto Global da Construção Civil - PGCC com a alteração na legislação e a implantação de sistemas de cálculo, controle e lançamento dos créditos previdenciários oriundos de obras de construção civil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Promover o lançamento de ofício no Sief-Processos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- Ajustar o cadastro aos contribuintes previdenciário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 Ambiente de pagamentos ao crédito previdenciári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 Sief-Fiscel ao crédito previdenciário declarad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 Sief-Processos ao crédito previdenciário lançado de ofici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s sistemas de compensação para o crédito previdenciári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s sistemas de cálculo ao crédito previdenciári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Unificar as certidões conjunta e específica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620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dastros de Informações Previdenci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218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942840" y="1039680"/>
            <a:ext cx="7158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Projeto Matrícula CEI –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Ajustes nos Cadastros da RFB - PUC 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2502000"/>
            <a:ext cx="7238880" cy="1447560"/>
          </a:xfrm>
          <a:prstGeom prst="foldedCorner">
            <a:avLst>
              <a:gd name="adj" fmla="val 12500"/>
            </a:avLst>
          </a:prstGeom>
          <a:solidFill>
            <a:srgbClr val="dfd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organizar os cadastros de modo a permitir a correta classificação do sujeito passivo de acordo com sua personalidade jurídic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4313160"/>
            <a:ext cx="7391160" cy="1981440"/>
          </a:xfrm>
          <a:prstGeom prst="foldedCorner">
            <a:avLst>
              <a:gd name="adj" fmla="val 12500"/>
            </a:avLst>
          </a:prstGeom>
          <a:solidFill>
            <a:srgbClr val="dfd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crescentar atributos que permitam registrar os dados do contribuinte de maneira eficiente e concisa, de modo a tornar possível a sua localização e a identificação de suas diversas atividad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7920000" cy="4319640"/>
          </a:xfrm>
          <a:prstGeom prst="rect">
            <a:avLst/>
          </a:prstGeom>
          <a:ln w="9360">
            <a:solidFill>
              <a:srgbClr val="808080"/>
            </a:solidFill>
            <a:round/>
          </a:ln>
        </p:spPr>
      </p:pic>
      <p:sp>
        <p:nvSpPr>
          <p:cNvPr id="235" name=""/>
          <p:cNvSpPr/>
          <p:nvPr/>
        </p:nvSpPr>
        <p:spPr>
          <a:xfrm>
            <a:off x="0" y="914400"/>
            <a:ext cx="575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Programa Cadfis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-360" y="6697800"/>
            <a:ext cx="9178920" cy="153360"/>
            <a:chOff x="-360" y="6697800"/>
            <a:chExt cx="9178920" cy="153360"/>
          </a:xfrm>
        </p:grpSpPr>
        <p:sp>
          <p:nvSpPr>
            <p:cNvPr id="241" name=""/>
            <p:cNvSpPr/>
            <p:nvPr/>
          </p:nvSpPr>
          <p:spPr>
            <a:xfrm flipH="1" flipV="1">
              <a:off x="-720" y="66978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1:36:45Z</dcterms:created>
  <dc:creator>FILIPE VIGLONGO CORREA VILARDO DE FREITAS</dc:creator>
  <dc:description/>
  <dc:language>en-US</dc:language>
  <cp:lastModifiedBy>Carolina</cp:lastModifiedBy>
  <dcterms:modified xsi:type="dcterms:W3CDTF">2012-09-18T23:31:46Z</dcterms:modified>
  <cp:revision>48</cp:revision>
  <dc:subject/>
  <dc:title>Objetivos</dc:title>
</cp:coreProperties>
</file>