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A160-2B5B-4AE2-9C41-A920D9599785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FDF7-50D4-4C21-B3B5-16AFE9DAE6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0A15-EE9B-43BF-930A-7CDB9B062A1E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9A5-ADEA-493E-A733-C568C9CFD4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1E57-8149-4431-BD5F-374D4D3990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6B0-D285-4B76-BB36-186E9335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FD5-33F6-4CAD-8C0A-D62A3329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1E5-7FC7-4EB4-B404-868D49FD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716-7476-4BC4-8308-394D0E06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D9E-CE61-4ABF-A1B1-AA5D0B25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D9F-606A-498D-B5E6-8A4556E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B66-D2A6-4E54-B7F7-C122B32B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BB4-6968-4DCB-9D93-D17E0C7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153-805A-4E4E-9108-F1A280C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80E-344A-461B-BF04-8F0C5DA6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036-31E0-4AFC-87DA-5D1D0A7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577-ECB6-4480-9D12-077A9984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6343-EC63-4E6E-891B-478D1D12BD78}" type="slidenum">
              <a:rPr b="0" lang="es-G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Documents and Settings\atobarbl\Mis documentos\Mis imágenes\Fondo SA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tobarbl\Mis documentos\Mis imágenes\Fondo S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8960" y="691920"/>
            <a:ext cx="8498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Calibri"/>
              </a:rPr>
              <a:t>Visita de Intercambio/ Intercambio de Inform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2708280"/>
            <a:ext cx="770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2060"/>
                </a:solidFill>
                <a:latin typeface="Calibri"/>
              </a:rPr>
              <a:t>SITUACIÓN DE GUATEMALA EN MATERIA DE INTERCAMBIO DE INFORMACIÓN TRIBUT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4716360" y="54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002060"/>
                </a:solidFill>
                <a:latin typeface="Calibri"/>
              </a:rPr>
              <a:t>Guatemala, noviembre de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795760"/>
            <a:ext cx="8229600" cy="10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2060"/>
                </a:solidFill>
                <a:latin typeface="Calibri"/>
              </a:rPr>
              <a:t>Muchas graci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009: EL INICIO DE LOS CAMBIO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981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El G2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Insta a todas las jurisdicciones a implementar el estándar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Recomienda la reestructuración y fortalecimiento del Foro Glo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El Secretariado General de la OCDE hace pública una lista de jurisdicciones de acuerdo con el cumplimiento del estándar internac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Guatemala es incluida en la “lista gris” (otros centros financier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Individualmente, algunos países anuncian la aplicación de sanciones </a:t>
            </a: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(Francia, Alemania, Reino Uni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2060"/>
                </a:solidFill>
                <a:latin typeface="Calibri"/>
              </a:rPr>
              <a:t>Se crea el </a:t>
            </a:r>
            <a:r>
              <a:rPr b="1" lang="es-GT" sz="2400" spc="-1" strike="noStrike">
                <a:solidFill>
                  <a:srgbClr val="002060"/>
                </a:solidFill>
                <a:latin typeface="Calibri"/>
              </a:rPr>
              <a:t>Foro Global </a:t>
            </a:r>
            <a:r>
              <a:rPr b="0" lang="es-GT" sz="2400" spc="-1" strike="noStrike">
                <a:solidFill>
                  <a:srgbClr val="002060"/>
                </a:solidFill>
                <a:latin typeface="Calibri"/>
              </a:rPr>
              <a:t>como una instancia internacional en el que Guatemala participa como miembro fund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Situación actual de Guatem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44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17375e"/>
                </a:solidFill>
                <a:latin typeface="Calibri"/>
              </a:rPr>
              <a:t>Guatemala salió de la lista gris de la OCDE en diciembre de 201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En 2011-2012 Guatemala fue sujeto a revisión de Fase I por el Foro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De los 10 elementos y sus componentes evaluados, las determinaciones s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4 se encuentran en lug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2 se encuentran en lugar, pero necesitan mejoras;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4 no se encuentran en lu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Calibri"/>
              </a:rPr>
              <a:t>Proceso de cumpl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Desde que Guatemala asumió el compromiso con el Foro Global en 2009, organizó un equipo de trabajo con profesionales de las siguientes institu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Ministerio de Finanzas Públic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Ministerio de Relaciones Exterior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Registro Mercanti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Superintendencia de Banc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Superintendencia de </a:t>
            </a:r>
            <a:r>
              <a:rPr b="1" lang="es-GT" sz="2000" spc="-1" strike="noStrike">
                <a:solidFill>
                  <a:srgbClr val="17375e"/>
                </a:solidFill>
                <a:latin typeface="Calibri"/>
              </a:rPr>
              <a:t>Administración Tribut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El grupo de trabajo avanzó sustantivamente en la revisión del marco legal vigente, en la preparación de las iniciativas de ley pertinentes y en la revisión del Modelo Internacional Estándar de TI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CuadroTexto"/>
          <p:cNvSpPr/>
          <p:nvPr/>
        </p:nvSpPr>
        <p:spPr>
          <a:xfrm>
            <a:off x="4287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uerdos suscr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500040" y="107172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Guatemala ha suscrito 8 TI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En diciembre de 2012 Guatemala suscribió la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Convención sobre A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Administrativa Mutua en Materia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Asimismo, también está el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Convenio de Asistencia Mutua y Co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Técnica entre las Administraciones Tributarias y Aduaner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Centro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Recientemente se suscribió un convenio con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Título"/>
          <p:cNvSpPr/>
          <p:nvPr/>
        </p:nvSpPr>
        <p:spPr>
          <a:xfrm>
            <a:off x="457200" y="442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GT" sz="4000" spc="-1" strike="noStrike">
                <a:solidFill>
                  <a:srgbClr val="ff0000"/>
                </a:solidFill>
                <a:latin typeface="Calibri"/>
              </a:rPr>
              <a:t>REFORMAS LEG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2060"/>
                </a:solidFill>
                <a:latin typeface="Calibri"/>
              </a:rPr>
              <a:t>ELIMINACIÓN DE ACCIONES AL 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Decreto 55-2010: Ley de Extinción de Domin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2060"/>
                </a:solidFill>
                <a:latin typeface="Calibri"/>
              </a:rPr>
              <a:t>ACCESO A INFORMACIÓN BANCARIA (Pendien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-101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00160" indent="-743040" algn="ct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0000"/>
                </a:solidFill>
                <a:latin typeface="Calibri"/>
              </a:rPr>
              <a:t>Acceso a la Información Banca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CuadroTexto"/>
          <p:cNvSpPr/>
          <p:nvPr/>
        </p:nvSpPr>
        <p:spPr>
          <a:xfrm>
            <a:off x="249120" y="981000"/>
            <a:ext cx="864576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Iniciativa de Ley 4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Reforma 1 artículo del Código Tributario (Decreto 6-91 y sus refor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Facultar a la SAT para solicitar información ban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Reforma 2 artículos de la Ley de Bancos y Grupos Financieros (Decreto 19-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Levantar el secreto bancario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CuadroTexto"/>
          <p:cNvSpPr/>
          <p:nvPr/>
        </p:nvSpPr>
        <p:spPr>
          <a:xfrm>
            <a:off x="642960" y="642960"/>
            <a:ext cx="80722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El Reglamento de la Superintendencia de Administración Tributaria, en el Artículo 37 establece que son funciones de la </a:t>
            </a: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Gerencia de Planificación y Desarrollo Institucional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, entre otr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Realizar estudios y análisis sobre los efectos de la suscripción de convenios y trat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internacionales y otros temas de interés para la Administración Tribut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Coordinar las relaciones y acciones de cooperación internacional de la S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9)    Coordinar la participación de la SAT en la negociación de convenios y tratados internac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en materia tributaria y aduanera y la administración interna de los mism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Aduanas (Artículo 31, inciso 12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Recaudación y Gestión (Artículo 32, inciso 9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Fiscalización (Artículo 33, inciso 10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Asuntos Jurídicos (Artículo 34, inciso 15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CuadroTexto"/>
          <p:cNvSpPr/>
          <p:nvPr/>
        </p:nvSpPr>
        <p:spPr>
          <a:xfrm>
            <a:off x="71424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unciones de las dependencias de acuerdo al Reglamento Interno de la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1:11:50Z</dcterms:created>
  <dc:creator>Tobar Blanco, Arturo</dc:creator>
  <dc:description/>
  <dc:language>en-US</dc:language>
  <cp:lastModifiedBy>María S. López</cp:lastModifiedBy>
  <dcterms:modified xsi:type="dcterms:W3CDTF">2013-11-14T14:44:30Z</dcterms:modified>
  <cp:revision>165</cp:revision>
  <dc:subject/>
  <dc:title>FORO GLOBAL EVALUACIÓN DE PARES.  PRIMERA FASE</dc:title>
</cp:coreProperties>
</file>