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26C-620F-4F2C-AEEC-7A49D7C3732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8ACD-579C-4BC9-99B8-DE2F018D114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2BEC-E5EC-4C55-A6EB-2B6694C7753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E30-BC64-493C-B2BE-69FD2484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4AB-9DFC-402E-BB77-95FB1BBB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ED1-8BBE-4B90-930A-38CC13C8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D03-AF24-44E2-B9A3-2FE6F183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01B4-B1CB-4A3A-BD9D-B78EE30A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74AB-69F3-46E2-A880-40687E58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07C8-01EE-4816-B930-B6EBDF6E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1F21-050E-4447-AF1A-9A3E286B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C415-C466-4C90-872F-6E03BC6A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BD07-6C23-464D-BB00-263AD73D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0C0-B8F3-4430-955B-C589846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6CC-F518-4EC5-99C7-BF87F76F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F682-1F19-4406-95D9-CDB10D0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5199-6B79-47E0-B482-C98C8EE8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29AE-2903-4C44-BEEE-53162B96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0694-0D9C-4141-90B7-8FA5C2E6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677E-8D3A-4C63-9F78-2B3DA559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7C1D-01D6-43DE-AB2E-3351332A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BF68-4F79-4BDB-8158-D1E95B5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3062-DE24-4CAD-9391-CB524C79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062B2-1C7F-452A-AD51-503D0908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F210-A707-438F-9CE6-C771ABA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0E8-344E-4D39-8633-37BECEBF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18305-87F5-49B1-8E28-B8698B7E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6F33-DE73-4A3E-B5FD-697D950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02BA-629D-4A6F-8FEB-E74753DE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1D23-19F5-484A-9C68-B8A74E76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CB92-3720-4A19-860D-BEE919B9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439A-4B99-4565-9C40-C364089F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D4EF-1345-43FA-8420-7F33DA34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DE18-090B-4A92-9D65-A0C42A25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BFEB-9D72-4087-B16D-54514CEC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134C-099B-4A3C-BB56-A3CB613A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CA8-F2A1-40FC-8FC0-341B9B5C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F07A-024E-4B20-B3CF-BF0DACA5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3811-8132-4926-955E-AB02DC0E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81BF-0454-448A-B5AA-34926203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67C7-D150-4E36-8E46-57D79C17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92A1-974E-40FB-9A5D-31F303D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E00F-5B9C-4C28-8048-8161D253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DC7B-B7C2-4B9D-857D-E74D1BAA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4281C-BC6C-4319-9C1F-707BAFF2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9A66-3009-43E3-A24A-1332B704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995C-F89B-4A25-A086-BE2D83CC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9B8-07A7-4BBA-A7C8-1A9C9B20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5C41-EA46-415E-9261-B0D1E36A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A463-FC75-4C07-8700-B97845C9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0AFA-91DC-4331-A01E-103513E4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BDE1-D397-4AE3-9B47-2668B02A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56C4-38AB-41D9-93C5-23CE561C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28623-5B19-452B-853F-0617997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9399-48F8-4EB6-A6AB-DEE2298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F261-77E4-4138-AB0F-6F29C13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4038-B5D7-4376-A8BE-893F3171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BA43-BC66-4A25-B01C-0148CC55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157-769E-4460-A697-47770EB6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FA2C2-AFAC-4B31-AA62-09A241CB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8DE48-2E7A-4A7E-B488-C52ED8FA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ED633-15A8-4CA4-93B0-074322BC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C81B2-276E-4936-B014-AEB2088F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B80BE-99FC-4528-9443-E8A4CFB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87EBB-F581-4D37-9ED5-6111E661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01B2D-E911-4DA0-A54B-67863C48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08CF0-1861-41F0-8FD8-3C57D96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827EE-6C4B-493E-A2CF-B457990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D2AFE-ED58-4640-A851-F7800E3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E32-2975-4BC8-941C-648F38D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B7743-1959-4E60-8FFD-53FCEC4A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D08BC-F868-4D57-B92F-BCC717FA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D4EA3-562E-4565-809D-F58854EF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4090E-42C8-4369-A85A-9619B092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9D78B-14F3-445E-8D80-CA11BB5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78B1-2AD5-4319-B732-2B660F2D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457CE-B6C0-4AD5-BF8B-E2BD810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8FAAF-8219-4CC4-A69C-1D6CEAE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450F-3A8B-4255-B901-DB978895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362B-9E09-4070-8153-3EFAAE78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07F-878F-4755-9EAB-F474A968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A2AE-34A5-4D37-B7BF-409B99DE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626D-B073-4A4E-BF54-7655BD5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509EC-3FB0-4BA0-AFAD-4439A19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6349-E27E-480E-B158-9216AEA2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4693-E1C6-4364-BEBB-E24675BE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437-33A2-4FEB-A99C-F9C2A06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DCE-04CE-448A-99D7-0C38EC4581CF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8B4F-B666-4FDB-8CFA-89D55DE4CA28}" type="slidenum">
              <a:rPr b="0" lang="en-GB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791E-4CA5-4522-9158-5C33A664E1F0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E701-FE8C-4F60-97C0-0F0D9D5CAD88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1B18-6232-4BF0-97A3-FE35FAD7455E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20EF-932E-4547-A5B5-6AE765298805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6D83-8B71-44DE-B3D7-6806B7AD7080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fzticker.de/wp-content/uploads/2009/05/fussgaenger-bussgeld-rote-ampel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564b3c"/>
                </a:solidFill>
                <a:latin typeface="Century Gothic"/>
              </a:rPr>
              <a:t>Transparencia en el Sector Farmacéutico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34800" y="5715000"/>
            <a:ext cx="766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564b3c"/>
                </a:solidFill>
                <a:latin typeface="Century Gothic"/>
              </a:rPr>
              <a:t>Karen Huss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64b3c"/>
                </a:solidFill>
                <a:latin typeface="Century Gothic"/>
              </a:rPr>
              <a:t>Asesora de FIIAPP – EUROsociAL 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6b7d72"/>
                </a:solidFill>
                <a:latin typeface="Book Antiqua"/>
              </a:rPr>
              <a:t>CORRUPCIÓN - DESAFÍO DEL CONTEXTO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76320" y="1697040"/>
            <a:ext cx="3666960" cy="47973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uppieren 1"/>
          <p:cNvGrpSpPr/>
          <p:nvPr/>
        </p:nvGrpSpPr>
        <p:grpSpPr>
          <a:xfrm>
            <a:off x="3962520" y="2868480"/>
            <a:ext cx="4874760" cy="914400"/>
            <a:chOff x="3962520" y="2868480"/>
            <a:chExt cx="4874760" cy="914400"/>
          </a:xfrm>
        </p:grpSpPr>
        <p:sp>
          <p:nvSpPr>
            <p:cNvPr id="343" name="Rectangle 6"/>
            <p:cNvSpPr/>
            <p:nvPr/>
          </p:nvSpPr>
          <p:spPr>
            <a:xfrm>
              <a:off x="3977280" y="3366360"/>
              <a:ext cx="840240" cy="41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gr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bid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4917600" y="3383280"/>
              <a:ext cx="887400" cy="399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rr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5905080" y="3378960"/>
              <a:ext cx="887400" cy="4010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alt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6892560" y="3383280"/>
              <a:ext cx="887400" cy="399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alt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dministr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7880040" y="3383280"/>
              <a:ext cx="887400" cy="399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ác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rimi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Pfeil nach links und rechts 12"/>
            <p:cNvSpPr/>
            <p:nvPr/>
          </p:nvSpPr>
          <p:spPr>
            <a:xfrm>
              <a:off x="3977280" y="2901600"/>
              <a:ext cx="4849200" cy="370800"/>
            </a:xfrm>
            <a:prstGeom prst="leftRightArrow">
              <a:avLst>
                <a:gd name="adj1" fmla="val 46065"/>
                <a:gd name="adj2" fmla="val 11122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f7f7f"/>
                  </a:solidFill>
                  <a:latin typeface="Century Gothic"/>
                </a:rPr>
                <a:t>Líneas borros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Gleichschenkliges Dreieck 13"/>
            <p:cNvSpPr/>
            <p:nvPr/>
          </p:nvSpPr>
          <p:spPr>
            <a:xfrm rot="16200000">
              <a:off x="3974400" y="2856240"/>
              <a:ext cx="405360" cy="4294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Gleichschenkliges Dreieck 14"/>
            <p:cNvSpPr/>
            <p:nvPr/>
          </p:nvSpPr>
          <p:spPr>
            <a:xfrm rot="5400000">
              <a:off x="8419680" y="2885040"/>
              <a:ext cx="405360" cy="42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 txBox="1"/>
          <p:nvPr/>
        </p:nvSpPr>
        <p:spPr>
          <a:xfrm>
            <a:off x="3846600" y="1828800"/>
            <a:ext cx="51069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4b3c"/>
                </a:solidFill>
                <a:latin typeface="Century Gothic"/>
              </a:rPr>
              <a:t>“</a:t>
            </a:r>
            <a:r>
              <a:rPr b="1" lang="en-GB" sz="2000" spc="-1" strike="noStrike">
                <a:solidFill>
                  <a:srgbClr val="564b3c"/>
                </a:solidFill>
                <a:latin typeface="Century Gothic"/>
              </a:rPr>
              <a:t>Corrupción: abuso del poder encomendado para fines privados”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buClr>
                <a:srgbClr val="cf54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buClr>
                <a:srgbClr val="cf54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No todo lo ilegal es ilegítimo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No todo lo ilegítimo es ilegal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Líneas borrosas entre prácticas socialmente aceptadas y faltas éticas o delitos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TRANSPARENCIA Y ANTI-CORRUPCIÓN</a:t>
            </a:r>
            <a:br>
              <a:rPr sz="2500"/>
            </a:b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COMPROMISOS DE ESTADOS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564b3c"/>
                </a:solidFill>
                <a:latin typeface="Century Gothic"/>
              </a:rPr>
              <a:t>Transparencia y acceso a información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Alianza para Gobierno Abierto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Leyes de acceso a información con garantía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Iniciativas de open data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articipación y rendición de cuentas continua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564b3c"/>
                </a:solidFill>
                <a:latin typeface="Century Gothic"/>
              </a:rPr>
              <a:t>Política o plan nacional anti-corrupción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Transparencia activa y acceso a información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Regulación y gestión de conflictos de interé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Iniciativas con el sector privado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564b3c"/>
                </a:solidFill>
                <a:latin typeface="Century Gothic"/>
              </a:rPr>
              <a:t>Auto-regulación, programas de cumplimiento y ética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564b3c"/>
                </a:solidFill>
                <a:latin typeface="Century Gothic"/>
              </a:rPr>
              <a:t>Regulación del lobby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lanes anti-corrupción institucional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erade Verbindung 2"/>
          <p:cNvSpPr/>
          <p:nvPr/>
        </p:nvSpPr>
        <p:spPr>
          <a:xfrm>
            <a:off x="228600" y="1066680"/>
            <a:ext cx="8534520" cy="0"/>
          </a:xfrm>
          <a:prstGeom prst="line">
            <a:avLst/>
          </a:prstGeom>
          <a:ln w="19080">
            <a:solidFill>
              <a:srgbClr val="3c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egende mit Pfeil nach unten 5"/>
          <p:cNvSpPr/>
          <p:nvPr/>
        </p:nvSpPr>
        <p:spPr>
          <a:xfrm>
            <a:off x="1125360" y="1738440"/>
            <a:ext cx="2667240" cy="761760"/>
          </a:xfrm>
          <a:prstGeom prst="downArrowCallout">
            <a:avLst>
              <a:gd name="adj1" fmla="val 24998"/>
              <a:gd name="adj2" fmla="val 25012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Manuf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egende mit Pfeil nach unten 6"/>
          <p:cNvSpPr/>
          <p:nvPr/>
        </p:nvSpPr>
        <p:spPr>
          <a:xfrm>
            <a:off x="1125360" y="2576520"/>
            <a:ext cx="2667240" cy="762120"/>
          </a:xfrm>
          <a:prstGeom prst="downArrowCallout">
            <a:avLst>
              <a:gd name="adj1" fmla="val 24987"/>
              <a:gd name="adj2" fmla="val 25001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Reg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egende mit Pfeil nach unten 7"/>
          <p:cNvSpPr/>
          <p:nvPr/>
        </p:nvSpPr>
        <p:spPr>
          <a:xfrm>
            <a:off x="1116000" y="341460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Sele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egende mit Pfeil nach unten 8"/>
          <p:cNvSpPr/>
          <p:nvPr/>
        </p:nvSpPr>
        <p:spPr>
          <a:xfrm>
            <a:off x="1116000" y="4253040"/>
            <a:ext cx="2666880" cy="761760"/>
          </a:xfrm>
          <a:prstGeom prst="downArrowCallout">
            <a:avLst>
              <a:gd name="adj1" fmla="val 24995"/>
              <a:gd name="adj2" fmla="val 25009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Comp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egende mit Pfeil nach unten 9"/>
          <p:cNvSpPr/>
          <p:nvPr/>
        </p:nvSpPr>
        <p:spPr>
          <a:xfrm>
            <a:off x="1116000" y="509112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egende mit Pfeil nach unten 10"/>
          <p:cNvSpPr/>
          <p:nvPr/>
        </p:nvSpPr>
        <p:spPr>
          <a:xfrm>
            <a:off x="1116000" y="592920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Prescripción &amp; Disp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hteck 11"/>
          <p:cNvSpPr/>
          <p:nvPr/>
        </p:nvSpPr>
        <p:spPr>
          <a:xfrm>
            <a:off x="388800" y="6657840"/>
            <a:ext cx="33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aptado de „Many Faces of Corruption“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feld 12"/>
          <p:cNvSpPr/>
          <p:nvPr/>
        </p:nvSpPr>
        <p:spPr>
          <a:xfrm>
            <a:off x="1201320" y="1220760"/>
            <a:ext cx="21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nto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feld 13"/>
          <p:cNvSpPr/>
          <p:nvPr/>
        </p:nvSpPr>
        <p:spPr>
          <a:xfrm>
            <a:off x="5177520" y="12304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haltsplatzhalter 3"/>
          <p:cNvSpPr/>
          <p:nvPr/>
        </p:nvSpPr>
        <p:spPr>
          <a:xfrm>
            <a:off x="4624560" y="1738440"/>
            <a:ext cx="4340160" cy="48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mplimiiento de procesos de manufa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tificado de análi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belling (Etiquet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eo de produ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álisis costo-beneficio de medic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cios y decisiones sobre reembol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isiones sobre lista de medicamentos esenc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rminación de modelo de suministro / distrib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arrollo de criterios para licita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ciones de ofert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itoreo de las ordenes de comp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obación de importa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e y entrega a establecimientos de salu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anecamiento y distribución – manejo de invent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relaciones con profesionales de salu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os de salud ambulantes y hospitalarios - prescrip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07880" y="15228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GOBERNANZA Y TRANSPARENCIA 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CADENA DE VALOR </a:t>
            </a: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6 Rectángulo redondeado"/>
          <p:cNvSpPr/>
          <p:nvPr/>
        </p:nvSpPr>
        <p:spPr>
          <a:xfrm rot="16200000">
            <a:off x="-2115000" y="3556800"/>
            <a:ext cx="5400720" cy="8114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entury Gothic"/>
              </a:rPr>
              <a:t>Formulación de política, desarrollo de regul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entury Gothic"/>
              </a:rPr>
              <a:t>Control interno, externo &amp;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500" spc="-1" strike="noStrike">
                <a:solidFill>
                  <a:srgbClr val="6b7d72"/>
                </a:solidFill>
                <a:latin typeface="Book Antiqua"/>
              </a:rPr>
              <a:t>INICIATIVAS EN PAÍSES LAC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Colombia: estrategia de transparencia e integridad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Diagnóstico – mapa de riesgos en cadena de valor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Aumentar transparencia en instituciones, procesos y resultados de entidades claves (nacional y territorial) – INFORMACIÓN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Fortalecer gobiernos “corporativos” de instituciones claves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Promover “compliance” del sector privado con estándares de transparencia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Fortalecer control social (incidencia, monitoreo, etc.) 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Ecuador: taller sobre transparencia en cadena de medicamentos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64b3c"/>
                </a:solidFill>
                <a:latin typeface="Century Gothic"/>
              </a:rPr>
              <a:t>Especialmente en compras y dispensación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64b3c"/>
                </a:solidFill>
                <a:latin typeface="Century Gothic"/>
              </a:rPr>
              <a:t>Transparencia = principio de política farmaceútica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Bolivia: Good Governance in Medicines (OPS)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6b7d72"/>
                </a:solidFill>
                <a:latin typeface="Book Antiqua"/>
              </a:rPr>
              <a:t>ÁREAS CLAVE PARA TRANSPARENCIA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240" y="1752480"/>
            <a:ext cx="8534520" cy="335304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Formulación de política y regulación (lobby, conflictos de interés, declaraciones de interés, etc.)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recios de medicamento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Relación industria – médico – paciente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Gestión de recursos humanos (clientelismo, puerta giratoria)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1" name="Textfeld 4"/>
          <p:cNvSpPr/>
          <p:nvPr/>
        </p:nvSpPr>
        <p:spPr>
          <a:xfrm>
            <a:off x="152280" y="5943600"/>
            <a:ext cx="8763120" cy="7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040"/>
                </a:solidFill>
                <a:latin typeface="Arial"/>
              </a:rPr>
              <a:t>Transparencia + acceso a información + gobierno abi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04040"/>
                </a:solidFill>
                <a:latin typeface="Arial"/>
              </a:rPr>
              <a:t>(Info            +                  derecho       +           actitud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2657520" y="5259240"/>
            <a:ext cx="344520" cy="493920"/>
          </a:xfrm>
          <a:prstGeom prst="downArrow">
            <a:avLst>
              <a:gd name="adj1" fmla="val 44444"/>
              <a:gd name="adj2" fmla="val 399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4925880" y="5276880"/>
            <a:ext cx="344520" cy="493560"/>
          </a:xfrm>
          <a:prstGeom prst="downArrow">
            <a:avLst>
              <a:gd name="adj1" fmla="val 44444"/>
              <a:gd name="adj2" fmla="val 428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62880" y="4803840"/>
            <a:ext cx="590760" cy="598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http://t2.gstatic.com/images?q=tbn:ANd9GcT4m3WcT3X_rIF0PuDaso6sGW2kbUywJK_DqkggN0nm0OIP4P5B9A"/>
          <p:cNvPicPr/>
          <p:nvPr/>
        </p:nvPicPr>
        <p:blipFill>
          <a:blip r:embed="rId3"/>
          <a:stretch/>
        </p:blipFill>
        <p:spPr>
          <a:xfrm>
            <a:off x="8467560" y="5416560"/>
            <a:ext cx="579600" cy="5983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9"/>
          <p:cNvSpPr/>
          <p:nvPr/>
        </p:nvSpPr>
        <p:spPr>
          <a:xfrm>
            <a:off x="8391600" y="4724280"/>
            <a:ext cx="752400" cy="137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ÁREAS DE ACCIÓN </a:t>
            </a:r>
            <a:br>
              <a:rPr sz="2500"/>
            </a:b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EUROSOCIAL 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56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Transparencia y acceso a la información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Capacitación en implementación de leyes de acceso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Asesorías técnicas para directrices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Rol del sector privado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Mecanismos de auto-regulación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Programas de cumplimiento y ética empresarial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Sistemas de denuncia y protección a denunciant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Mecanismos de denuncias administrativas – p.e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7:52:10Z</dcterms:created>
  <dc:creator>user</dc:creator>
  <dc:description/>
  <dc:language>en-US</dc:language>
  <cp:lastModifiedBy>Karen Hussmann</cp:lastModifiedBy>
  <cp:lastPrinted>2013-05-10T02:36:26Z</cp:lastPrinted>
  <dcterms:modified xsi:type="dcterms:W3CDTF">2013-05-10T02:36:47Z</dcterms:modified>
  <cp:revision>228</cp:revision>
  <dc:subject/>
  <dc:title>Slide 1</dc:title>
</cp:coreProperties>
</file>