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3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42.png" ContentType="image/png"/>
  <Override PartName="/ppt/media/image31.png" ContentType="image/png"/>
  <Override PartName="/ppt/media/image49.wmf" ContentType="image/x-wmf"/>
  <Override PartName="/ppt/media/image29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45.png" ContentType="image/png"/>
  <Override PartName="/ppt/media/image46.png" ContentType="image/png"/>
  <Override PartName="/ppt/media/image9.jpeg" ContentType="image/jpeg"/>
  <Override PartName="/ppt/media/image48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E2DE-6641-4360-99AB-10642A081E5A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9935-99AE-4255-8465-3670DC126C6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F6CB-46B5-41C3-9C25-A6FE107740C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374B-2C85-4054-83D9-2892C469646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96A4-DA6E-4546-A475-A31714BC5E7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8DD2-7F59-4CFE-B3D1-E4E23B4ABBF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7D4D-2866-41F2-926F-B3A7F29D662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E193-AE87-4B8C-993A-1733033599E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26FD-0627-4B75-B821-A733B58A67C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5D46-B17F-4030-A06A-9447A4D11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D98E-90E5-48E3-B0A3-F5ED1DE8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E7EF-6E87-485B-A79A-6452AD944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3EAF-2543-49B2-A304-5FDCD04F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C3E9-33DB-44CE-A3BB-78FDD54C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0A5D-9104-4566-868F-AADCCD36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D60F-F5C3-4E85-8A65-658DC123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4D6C-015A-4E5C-9199-86942B01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7D62-A768-4131-AAF2-58162691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853F-DF1F-4A81-AB56-234179BF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D4F0-CC73-47DF-86A3-C723B6F3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4CA8-B044-4529-9C0C-81FDE081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35587" t="20783" r="16311" b="14668"/>
          <a:stretch/>
        </p:blipFill>
        <p:spPr>
          <a:xfrm>
            <a:off x="27000" y="12600"/>
            <a:ext cx="9117000" cy="6883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E387-B488-4E6A-825F-3E4A78A1C0C1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9.png"/><Relationship Id="rId14" Type="http://schemas.openxmlformats.org/officeDocument/2006/relationships/image" Target="../media/image40.png"/><Relationship Id="rId15" Type="http://schemas.openxmlformats.org/officeDocument/2006/relationships/image" Target="../media/image41.png"/><Relationship Id="rId1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B418-F82B-47B0-8042-9F24E606CF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2 Marcador de contenido"/>
          <p:cNvSpPr/>
          <p:nvPr/>
        </p:nvSpPr>
        <p:spPr>
          <a:xfrm>
            <a:off x="4357800" y="6394320"/>
            <a:ext cx="4800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C" sz="1600" spc="-1" strike="noStrike">
                <a:solidFill>
                  <a:srgbClr val="000000"/>
                </a:solidFill>
                <a:latin typeface="Arial"/>
              </a:rPr>
              <a:t>ECUADOR Dra. Rita Bedoya y Dr. Paulo Te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portada.ai"/>
          <p:cNvPicPr/>
          <p:nvPr/>
        </p:nvPicPr>
        <p:blipFill>
          <a:blip r:embed="rId1"/>
          <a:stretch/>
        </p:blipFill>
        <p:spPr>
          <a:xfrm>
            <a:off x="0" y="0"/>
            <a:ext cx="94298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-143280" y="4500360"/>
            <a:ext cx="928692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esafíos y Oportunidades para la Equidad en el Acceso a Servicios de Salud: equidad en la disponibilidad y el uso racional de medicamentos y equidad en la disponibilidad de recursos humanos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”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ubtitle 2"/>
          <p:cNvSpPr/>
          <p:nvPr/>
        </p:nvSpPr>
        <p:spPr>
          <a:xfrm>
            <a:off x="2571840" y="6286680"/>
            <a:ext cx="4500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400" spc="-1" strike="noStrike">
                <a:solidFill>
                  <a:srgbClr val="000000"/>
                </a:solidFill>
                <a:latin typeface="Arial"/>
              </a:rPr>
              <a:t>ECUADOR - Dra. Rita Bedoya y Dr. Paulo T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EUROsociAL"/>
          <p:cNvPicPr/>
          <p:nvPr/>
        </p:nvPicPr>
        <p:blipFill>
          <a:blip r:embed="rId2"/>
          <a:stretch/>
        </p:blipFill>
        <p:spPr>
          <a:xfrm>
            <a:off x="5000760" y="928800"/>
            <a:ext cx="882360" cy="89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717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itle 1"/>
          <p:cNvSpPr/>
          <p:nvPr/>
        </p:nvSpPr>
        <p:spPr>
          <a:xfrm>
            <a:off x="428760" y="44280"/>
            <a:ext cx="792936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0000"/>
                </a:solidFill>
                <a:latin typeface="Arial"/>
              </a:rPr>
              <a:t>SISTEMA NACIONAL DE SAL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0000"/>
                </a:solidFill>
                <a:latin typeface="Arial"/>
              </a:rPr>
              <a:t>MODELO DE ATENCIÓN INTEG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0000"/>
                </a:solidFill>
                <a:latin typeface="Arial"/>
              </a:rPr>
              <a:t>RED PUBLICA -  RED COMPLEMEN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3 Rectángulo redondeado"/>
          <p:cNvSpPr/>
          <p:nvPr/>
        </p:nvSpPr>
        <p:spPr>
          <a:xfrm>
            <a:off x="357120" y="1428840"/>
            <a:ext cx="357192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PRIMER NIVEL DE ATE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25 Grupo"/>
          <p:cNvGrpSpPr/>
          <p:nvPr/>
        </p:nvGrpSpPr>
        <p:grpSpPr>
          <a:xfrm>
            <a:off x="0" y="2071800"/>
            <a:ext cx="4272120" cy="3568680"/>
            <a:chOff x="0" y="2071800"/>
            <a:chExt cx="4272120" cy="3568680"/>
          </a:xfrm>
        </p:grpSpPr>
        <p:pic>
          <p:nvPicPr>
            <p:cNvPr id="111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2071800"/>
              <a:ext cx="4272120" cy="35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6 Proceso alternativo"/>
            <p:cNvSpPr/>
            <p:nvPr/>
          </p:nvSpPr>
          <p:spPr>
            <a:xfrm>
              <a:off x="285480" y="4429440"/>
              <a:ext cx="1285920" cy="357120"/>
            </a:xfrm>
            <a:prstGeom prst="flowChartAlternate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Curació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7 Pentágono"/>
          <p:cNvSpPr/>
          <p:nvPr/>
        </p:nvSpPr>
        <p:spPr>
          <a:xfrm>
            <a:off x="0" y="5857920"/>
            <a:ext cx="4643280" cy="714240"/>
          </a:xfrm>
          <a:custGeom>
            <a:avLst/>
            <a:gdLst>
              <a:gd name="textAreaLeft" fmla="*/ 0 w 4643280"/>
              <a:gd name="textAreaRight" fmla="*/ 4643640 w 464328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38" y="0"/>
                </a:lnTo>
                <a:lnTo>
                  <a:pt x="21600" y="10800"/>
                </a:lnTo>
                <a:lnTo>
                  <a:pt x="199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alibri"/>
              </a:rPr>
              <a:t>PUERTA DE ENTRADA AL SISTEMA DE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alibri"/>
              </a:rPr>
              <a:t>RESUELVE EL 80% DE LOS PROBLEMAS DE SALUD FRECUEN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8 Cheurón"/>
          <p:cNvSpPr/>
          <p:nvPr/>
        </p:nvSpPr>
        <p:spPr>
          <a:xfrm>
            <a:off x="4500720" y="5857920"/>
            <a:ext cx="4643280" cy="714240"/>
          </a:xfrm>
          <a:custGeom>
            <a:avLst/>
            <a:gdLst>
              <a:gd name="textAreaLeft" fmla="*/ 0 w 4643280"/>
              <a:gd name="textAreaRight" fmla="*/ 4643640 w 464328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38" y="0"/>
                </a:lnTo>
                <a:lnTo>
                  <a:pt x="21600" y="10800"/>
                </a:lnTo>
                <a:lnTo>
                  <a:pt x="19938" y="21600"/>
                </a:lnTo>
                <a:lnTo>
                  <a:pt x="0" y="21600"/>
                </a:lnTo>
                <a:lnTo>
                  <a:pt x="1662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ATENCIÓN ESPECI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alibri"/>
              </a:rPr>
              <a:t>RESUELVE EL 20% DE LAS PATOLOGÍAS  RESTAN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9 Rectángulo redondeado"/>
          <p:cNvSpPr/>
          <p:nvPr/>
        </p:nvSpPr>
        <p:spPr>
          <a:xfrm>
            <a:off x="4357800" y="1928880"/>
            <a:ext cx="2286000" cy="5713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alibri"/>
              </a:rPr>
              <a:t>SEGUNDO NIVEL DE ATEN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10 Rectángulo redondeado"/>
          <p:cNvSpPr/>
          <p:nvPr/>
        </p:nvSpPr>
        <p:spPr>
          <a:xfrm>
            <a:off x="6858000" y="2428920"/>
            <a:ext cx="2286000" cy="5713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Calibri"/>
              </a:rPr>
              <a:t>TERCER NIVEL DE ATEN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Imagen 16" descr="Captura de pantalla 2012-04-10 a las 22.14.35.png"/>
          <p:cNvPicPr/>
          <p:nvPr/>
        </p:nvPicPr>
        <p:blipFill>
          <a:blip r:embed="rId3"/>
          <a:stretch/>
        </p:blipFill>
        <p:spPr>
          <a:xfrm>
            <a:off x="4429080" y="2714760"/>
            <a:ext cx="2057400" cy="1981080"/>
          </a:xfrm>
          <a:prstGeom prst="rect">
            <a:avLst/>
          </a:prstGeom>
          <a:ln w="0">
            <a:noFill/>
          </a:ln>
        </p:spPr>
      </p:pic>
      <p:pic>
        <p:nvPicPr>
          <p:cNvPr id="118" name="Imagen 18" descr="Captura de pantalla 2012-04-10 a las 22.15.51.png"/>
          <p:cNvPicPr/>
          <p:nvPr/>
        </p:nvPicPr>
        <p:blipFill>
          <a:blip r:embed="rId4"/>
          <a:stretch/>
        </p:blipFill>
        <p:spPr>
          <a:xfrm>
            <a:off x="7238880" y="3048120"/>
            <a:ext cx="1492200" cy="1923840"/>
          </a:xfrm>
          <a:prstGeom prst="rect">
            <a:avLst/>
          </a:prstGeom>
          <a:ln w="0">
            <a:noFill/>
          </a:ln>
        </p:spPr>
      </p:pic>
      <p:sp>
        <p:nvSpPr>
          <p:cNvPr id="119" name="13 Flecha curvada hacia abajo"/>
          <p:cNvSpPr/>
          <p:nvPr/>
        </p:nvSpPr>
        <p:spPr>
          <a:xfrm rot="1252800">
            <a:off x="3723840" y="1344240"/>
            <a:ext cx="1595520" cy="351000"/>
          </a:xfrm>
          <a:custGeom>
            <a:avLst/>
            <a:gdLst>
              <a:gd name="textAreaLeft" fmla="*/ 365760 w 1595520"/>
              <a:gd name="textAreaRight" fmla="*/ 1185840 w 1595520"/>
              <a:gd name="textAreaTop" fmla="*/ 46800 h 351000"/>
              <a:gd name="textAreaBottom" fmla="*/ 304200 h 351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10" hR="21600" stAng="10800000" swAng="5400000"/>
                <a:lnTo>
                  <a:pt x="11097" y="0"/>
                </a:lnTo>
                <a:arcTo wR="9910" hR="21600" stAng="-5400000" swAng="3637744"/>
                <a:lnTo>
                  <a:pt x="21285" y="16200"/>
                </a:lnTo>
                <a:lnTo>
                  <a:pt x="20413" y="21600"/>
                </a:lnTo>
                <a:lnTo>
                  <a:pt x="18910" y="16200"/>
                </a:lnTo>
                <a:lnTo>
                  <a:pt x="19504" y="16200"/>
                </a:lnTo>
                <a:arcTo wR="9910" hR="21600" stAng="-1762256" swAng="-3543139"/>
                <a:lnTo>
                  <a:pt x="10503" y="39"/>
                </a:lnTo>
                <a:arcTo wR="9910" hR="21600" stAng="-5494604" swAng="-5305396"/>
                <a:close/>
              </a:path>
              <a:path fill="darkenLess" w="21600" h="21600">
                <a:moveTo>
                  <a:pt x="0" y="21600"/>
                </a:moveTo>
                <a:arcTo wR="9910" hR="21600" stAng="10800000" swAng="5400000"/>
                <a:lnTo>
                  <a:pt x="9910" y="0"/>
                </a:lnTo>
                <a:arcTo wR="9910" hR="21600" stAng="-5400000" swAng="94604"/>
                <a:lnTo>
                  <a:pt x="10503" y="39"/>
                </a:lnTo>
                <a:arcTo wR="9910" hR="21600" stAng="-5494604" swAng="-5305396"/>
                <a:close/>
              </a:path>
            </a:pathLst>
          </a:cu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14 Flecha curvada hacia abajo"/>
          <p:cNvSpPr/>
          <p:nvPr/>
        </p:nvSpPr>
        <p:spPr>
          <a:xfrm rot="1252800">
            <a:off x="6438600" y="1844280"/>
            <a:ext cx="1595520" cy="351000"/>
          </a:xfrm>
          <a:custGeom>
            <a:avLst/>
            <a:gdLst>
              <a:gd name="textAreaLeft" fmla="*/ 365760 w 1595520"/>
              <a:gd name="textAreaRight" fmla="*/ 1185840 w 1595520"/>
              <a:gd name="textAreaTop" fmla="*/ 46800 h 351000"/>
              <a:gd name="textAreaBottom" fmla="*/ 304200 h 351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10" hR="21600" stAng="10800000" swAng="5400000"/>
                <a:lnTo>
                  <a:pt x="11097" y="0"/>
                </a:lnTo>
                <a:arcTo wR="9910" hR="21600" stAng="-5400000" swAng="3637744"/>
                <a:lnTo>
                  <a:pt x="21285" y="16200"/>
                </a:lnTo>
                <a:lnTo>
                  <a:pt x="20413" y="21600"/>
                </a:lnTo>
                <a:lnTo>
                  <a:pt x="18910" y="16200"/>
                </a:lnTo>
                <a:lnTo>
                  <a:pt x="19504" y="16200"/>
                </a:lnTo>
                <a:arcTo wR="9910" hR="21600" stAng="-1762256" swAng="-3543139"/>
                <a:lnTo>
                  <a:pt x="10503" y="39"/>
                </a:lnTo>
                <a:arcTo wR="9910" hR="21600" stAng="-5494604" swAng="-5305396"/>
                <a:close/>
              </a:path>
              <a:path fill="darkenLess" w="21600" h="21600">
                <a:moveTo>
                  <a:pt x="0" y="21600"/>
                </a:moveTo>
                <a:arcTo wR="9910" hR="21600" stAng="10800000" swAng="5400000"/>
                <a:lnTo>
                  <a:pt x="9910" y="0"/>
                </a:lnTo>
                <a:arcTo wR="9910" hR="21600" stAng="-5400000" swAng="94604"/>
                <a:lnTo>
                  <a:pt x="10503" y="39"/>
                </a:lnTo>
                <a:arcTo wR="9910" hR="21600" stAng="-5494604" swAng="-5305396"/>
                <a:close/>
              </a:path>
            </a:pathLst>
          </a:cu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15 Flecha curvada hacia abajo"/>
          <p:cNvSpPr/>
          <p:nvPr/>
        </p:nvSpPr>
        <p:spPr>
          <a:xfrm rot="10180200">
            <a:off x="3357360" y="4571280"/>
            <a:ext cx="2071440" cy="428760"/>
          </a:xfrm>
          <a:custGeom>
            <a:avLst/>
            <a:gdLst>
              <a:gd name="textAreaLeft" fmla="*/ 477720 w 2071440"/>
              <a:gd name="textAreaRight" fmla="*/ 1540440 w 207144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62" hR="21600" stAng="10800000" swAng="5400000"/>
                <a:lnTo>
                  <a:pt x="11080" y="0"/>
                </a:lnTo>
                <a:arcTo wR="9962" hR="21600" stAng="-5400000" swAng="3645497"/>
                <a:lnTo>
                  <a:pt x="21284" y="16200"/>
                </a:lnTo>
                <a:lnTo>
                  <a:pt x="20483" y="21600"/>
                </a:lnTo>
                <a:lnTo>
                  <a:pt x="19050" y="16200"/>
                </a:lnTo>
                <a:lnTo>
                  <a:pt x="19608" y="16200"/>
                </a:lnTo>
                <a:arcTo wR="9962" hR="21600" stAng="-1754503" swAng="-3556409"/>
                <a:lnTo>
                  <a:pt x="10521" y="34"/>
                </a:lnTo>
                <a:arcTo wR="9962" hR="21600" stAng="-5489088" swAng="-5310912"/>
                <a:close/>
              </a:path>
              <a:path fill="darkenLess" w="21600" h="21600">
                <a:moveTo>
                  <a:pt x="0" y="21600"/>
                </a:moveTo>
                <a:arcTo wR="9962" hR="21600" stAng="10800000" swAng="5400000"/>
                <a:lnTo>
                  <a:pt x="9962" y="0"/>
                </a:lnTo>
                <a:arcTo wR="9962" hR="21600" stAng="-5400000" swAng="89088"/>
                <a:lnTo>
                  <a:pt x="10521" y="34"/>
                </a:lnTo>
                <a:arcTo wR="9962" hR="21600" stAng="-5489088" swAng="-5310912"/>
                <a:close/>
              </a:path>
            </a:pathLst>
          </a:cu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16 Flecha curvada hacia abajo"/>
          <p:cNvSpPr/>
          <p:nvPr/>
        </p:nvSpPr>
        <p:spPr>
          <a:xfrm rot="10800000">
            <a:off x="3071880" y="4857480"/>
            <a:ext cx="4524480" cy="500040"/>
          </a:xfrm>
          <a:custGeom>
            <a:avLst/>
            <a:gdLst>
              <a:gd name="textAreaLeft" fmla="*/ 1084320 w 4524480"/>
              <a:gd name="textAreaRight" fmla="*/ 3377520 w 452448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353" hR="21600" stAng="10800000" swAng="5400000"/>
                <a:lnTo>
                  <a:pt x="10949" y="0"/>
                </a:lnTo>
                <a:arcTo wR="10353" hR="21600" stAng="-5400000" swAng="3701267"/>
                <a:lnTo>
                  <a:pt x="21271" y="16200"/>
                </a:lnTo>
                <a:lnTo>
                  <a:pt x="21003" y="21600"/>
                </a:lnTo>
                <a:lnTo>
                  <a:pt x="20077" y="16200"/>
                </a:lnTo>
                <a:lnTo>
                  <a:pt x="20376" y="16200"/>
                </a:lnTo>
                <a:arcTo wR="10353" hR="21600" stAng="-1698733" swAng="-3653822"/>
                <a:lnTo>
                  <a:pt x="10651" y="9"/>
                </a:lnTo>
                <a:arcTo wR="10353" hR="21600" stAng="-5447445" swAng="-5352555"/>
                <a:close/>
              </a:path>
              <a:path fill="darkenLess" w="21600" h="21600">
                <a:moveTo>
                  <a:pt x="0" y="21600"/>
                </a:moveTo>
                <a:arcTo wR="10353" hR="21600" stAng="10800000" swAng="5400000"/>
                <a:lnTo>
                  <a:pt x="10353" y="0"/>
                </a:lnTo>
                <a:arcTo wR="10353" hR="21600" stAng="-5400000" swAng="47445"/>
                <a:lnTo>
                  <a:pt x="10651" y="9"/>
                </a:lnTo>
                <a:arcTo wR="10353" hR="21600" stAng="-5447445" swAng="-5352555"/>
                <a:close/>
              </a:path>
            </a:pathLst>
          </a:cu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17 Rectángulo redondeado"/>
          <p:cNvSpPr/>
          <p:nvPr/>
        </p:nvSpPr>
        <p:spPr>
          <a:xfrm>
            <a:off x="4143240" y="4786200"/>
            <a:ext cx="1214640" cy="5000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alibri"/>
              </a:rPr>
              <a:t>Servicio de rehabilitación integr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18 Rectángulo redondeado"/>
          <p:cNvSpPr/>
          <p:nvPr/>
        </p:nvSpPr>
        <p:spPr>
          <a:xfrm>
            <a:off x="5500800" y="4786200"/>
            <a:ext cx="1143000" cy="5000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alibri"/>
              </a:rPr>
              <a:t>Servicio de diagnóstico integr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19 CuadroTexto"/>
          <p:cNvGrpSpPr/>
          <p:nvPr/>
        </p:nvGrpSpPr>
        <p:grpSpPr>
          <a:xfrm>
            <a:off x="79200" y="4821120"/>
            <a:ext cx="1548000" cy="573120"/>
            <a:chOff x="79200" y="4821120"/>
            <a:chExt cx="1548000" cy="573120"/>
          </a:xfrm>
        </p:grpSpPr>
        <p:pic>
          <p:nvPicPr>
            <p:cNvPr id="126" name="19 CuadroTexto" descr=""/>
            <p:cNvPicPr/>
            <p:nvPr/>
          </p:nvPicPr>
          <p:blipFill>
            <a:blip r:embed="rId5"/>
            <a:stretch/>
          </p:blipFill>
          <p:spPr>
            <a:xfrm>
              <a:off x="79200" y="4821120"/>
              <a:ext cx="154800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142920" y="4857840"/>
              <a:ext cx="1428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ffffff"/>
                  </a:solidFill>
                  <a:latin typeface="Calibri"/>
                </a:rPr>
                <a:t>Rehabilitación y cuidados paliativ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20 CuadroTexto"/>
          <p:cNvGrpSpPr/>
          <p:nvPr/>
        </p:nvGrpSpPr>
        <p:grpSpPr>
          <a:xfrm>
            <a:off x="3011400" y="2676600"/>
            <a:ext cx="1328760" cy="755640"/>
            <a:chOff x="3011400" y="2676600"/>
            <a:chExt cx="1328760" cy="755640"/>
          </a:xfrm>
        </p:grpSpPr>
        <p:pic>
          <p:nvPicPr>
            <p:cNvPr id="129" name="20 CuadroTexto" descr=""/>
            <p:cNvPicPr/>
            <p:nvPr/>
          </p:nvPicPr>
          <p:blipFill>
            <a:blip r:embed="rId6"/>
            <a:stretch/>
          </p:blipFill>
          <p:spPr>
            <a:xfrm>
              <a:off x="3011400" y="2676600"/>
              <a:ext cx="13287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3071880" y="2714760"/>
              <a:ext cx="1214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ffffff"/>
                  </a:solidFill>
                  <a:latin typeface="Calibri"/>
                </a:rPr>
                <a:t>Actividades con resultados de Impacto Soci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21 CuadroTexto"/>
          <p:cNvGrpSpPr/>
          <p:nvPr/>
        </p:nvGrpSpPr>
        <p:grpSpPr>
          <a:xfrm>
            <a:off x="2981160" y="3524400"/>
            <a:ext cx="1285920" cy="706320"/>
            <a:chOff x="2981160" y="3524400"/>
            <a:chExt cx="1285920" cy="706320"/>
          </a:xfrm>
        </p:grpSpPr>
        <p:pic>
          <p:nvPicPr>
            <p:cNvPr id="132" name="21 CuadroTexto" descr=""/>
            <p:cNvPicPr/>
            <p:nvPr/>
          </p:nvPicPr>
          <p:blipFill>
            <a:blip r:embed="rId7"/>
            <a:stretch/>
          </p:blipFill>
          <p:spPr>
            <a:xfrm>
              <a:off x="2981160" y="3524400"/>
              <a:ext cx="128592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3071880" y="3571920"/>
              <a:ext cx="1143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ffffff"/>
                  </a:solidFill>
                  <a:latin typeface="Calibri"/>
                </a:rPr>
                <a:t>Intra mur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22 CuadroTexto"/>
          <p:cNvGrpSpPr/>
          <p:nvPr/>
        </p:nvGrpSpPr>
        <p:grpSpPr>
          <a:xfrm>
            <a:off x="3054240" y="4309920"/>
            <a:ext cx="1146240" cy="706680"/>
            <a:chOff x="3054240" y="4309920"/>
            <a:chExt cx="1146240" cy="706680"/>
          </a:xfrm>
        </p:grpSpPr>
        <p:pic>
          <p:nvPicPr>
            <p:cNvPr id="135" name="22 CuadroTexto" descr=""/>
            <p:cNvPicPr/>
            <p:nvPr/>
          </p:nvPicPr>
          <p:blipFill>
            <a:blip r:embed="rId8"/>
            <a:stretch/>
          </p:blipFill>
          <p:spPr>
            <a:xfrm>
              <a:off x="3054240" y="4309920"/>
              <a:ext cx="1146240" cy="7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3143160" y="4357800"/>
              <a:ext cx="100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ffffff"/>
                  </a:solidFill>
                  <a:latin typeface="Calibri"/>
                </a:rPr>
                <a:t>Extra mur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1 Título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4400" spc="-1" strike="noStrike">
                <a:solidFill>
                  <a:srgbClr val="000000"/>
                </a:solidFill>
                <a:latin typeface="Arial"/>
              </a:rPr>
              <a:t>Talento Hum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2 Marcador de contenido"/>
          <p:cNvSpPr/>
          <p:nvPr/>
        </p:nvSpPr>
        <p:spPr>
          <a:xfrm>
            <a:off x="457200" y="1357200"/>
            <a:ext cx="822960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Marco Lega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: Constitució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2008) </a:t>
            </a:r>
            <a:r>
              <a:rPr b="0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Ley Orgánica de Salud LOSEP (2011) Reglamento y Normativa, acuerdos Ministeri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r>
              <a:rPr b="1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lí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Incremento Salarial </a:t>
            </a:r>
            <a:r>
              <a:rPr b="0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antes un jefe de servicio ganaba 1400 dólares, hoy SP7. 1676, SP12. 2640 a 2940, bono de residencia, bono geográfico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Estabilidad laboral</a:t>
            </a:r>
            <a:r>
              <a:rPr b="0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: en 10 años no se ha realizado concursos para nombramie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1 Título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4400" spc="-1" strike="noStrike">
                <a:solidFill>
                  <a:srgbClr val="000000"/>
                </a:solidFill>
                <a:latin typeface="Arial"/>
              </a:rPr>
              <a:t>Talento Hum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2 Marcador de contenido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Política de </a:t>
            </a:r>
            <a:r>
              <a:rPr b="1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formación del talento hum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Plan retorno </a:t>
            </a:r>
            <a:r>
              <a:rPr b="0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de profesion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Reorganización del MSP </a:t>
            </a:r>
            <a:r>
              <a:rPr b="0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Estatuto Orgánico, Manual de Fun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Gobierno por resultados </a:t>
            </a:r>
            <a:r>
              <a:rPr b="1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G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Régimen disciplinario</a:t>
            </a:r>
            <a:r>
              <a:rPr b="0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1 Título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4400" spc="-1" strike="noStrike">
                <a:solidFill>
                  <a:srgbClr val="000000"/>
                </a:solidFill>
                <a:latin typeface="Arial"/>
              </a:rPr>
              <a:t>Talento Hum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2 Marcador de contenido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800" spc="-1" strike="noStrike">
                <a:solidFill>
                  <a:srgbClr val="000000"/>
                </a:solidFill>
                <a:latin typeface="Arial"/>
              </a:rPr>
              <a:t>Actores C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Arial"/>
              </a:rPr>
              <a:t>SENESCY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Arial"/>
              </a:rPr>
              <a:t>CES    Comisión de Sal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Arial"/>
              </a:rPr>
              <a:t>CEA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Arial"/>
              </a:rPr>
              <a:t>UNIVERSIDADES  A y B (AFE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Arial"/>
              </a:rPr>
              <a:t>Instituto Superior Sectorial de Sal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1 Título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lento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Hum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2 Marcador de contenido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irección Nacional de Normalización del Talento Huma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Arial"/>
              </a:rPr>
              <a:t>Rol Rector del MSP frente a la formación  AFEME. La normativa acoge todo el sistema. Publico, privado ,seguridad so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 Título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4400" spc="-1" strike="noStrike">
                <a:solidFill>
                  <a:srgbClr val="000000"/>
                </a:solidFill>
                <a:latin typeface="Arial"/>
              </a:rPr>
              <a:t>Análisis F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2 Marcador de contenido"/>
          <p:cNvSpPr/>
          <p:nvPr/>
        </p:nvSpPr>
        <p:spPr>
          <a:xfrm>
            <a:off x="35712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Fortalez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Apoyo político, Rol Rector del M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Oportunidad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4 anos mas de tiempo, priorización de lo social, apoyo intern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Debilidad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Corrupción, debilidades en formación del talento humano para la gestión, falta accesibilidad cultural,  inequidad campo ciu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Amenaz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Cambio de autoridades, falta de presupues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1 Título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puesta en Talento Hum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2 Marcador de contenido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Arial"/>
              </a:rPr>
              <a:t>Creación de hospitales DOCENTES  provinciales en sitios considerados crí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Arial"/>
              </a:rPr>
              <a:t>La formación de los posgrados esta centralizada en grandes ciudades se propone movilizar R3  a estos hospitales y se necesita profesores de pediatría, ginecología, anestesia. Para venir a estos hospitales por 6 meses o un ano sabá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Object 2"/>
          <p:cNvGraphicFramePr/>
          <p:nvPr/>
        </p:nvGraphicFramePr>
        <p:xfrm>
          <a:off x="7740720" y="5862600"/>
          <a:ext cx="111132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0720" y="5862600"/>
                    <a:ext cx="11113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49080" y="260280"/>
            <a:ext cx="795492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cc"/>
                </a:solidFill>
                <a:latin typeface="Calibri"/>
              </a:rPr>
              <a:t>ANTECEDENTES Y JUSTIFIC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7 Rectángulo"/>
          <p:cNvSpPr/>
          <p:nvPr/>
        </p:nvSpPr>
        <p:spPr>
          <a:xfrm>
            <a:off x="468360" y="1341360"/>
            <a:ext cx="7920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Ecuador promulgó su primera PNM en el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Sin un plan que viabilizara su implementación, sus objetivos y lineamientos no se concretaron en la práct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Las condiciones marco de construcción de la PNM 2006 han cambiado debido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- La declaración de gratuidad de los servicios de salud y los productos farmacéut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El sistema de compras públ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El sistema de regulación de precios de medicam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Alianzas estratég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Plantean nuevos retos y escenarios a ser analizados a través del desarrollo de una Nueva Política Nacional de Medicam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Reconocer al medicamento como un elemento transversal e  instrumento clave en la generación de indicadores de acceso a servic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Object 2"/>
          <p:cNvGraphicFramePr/>
          <p:nvPr/>
        </p:nvGraphicFramePr>
        <p:xfrm>
          <a:off x="7740720" y="5862600"/>
          <a:ext cx="111132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0720" y="5862600"/>
                    <a:ext cx="11113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49080" y="260280"/>
            <a:ext cx="795492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cc"/>
                </a:solidFill>
                <a:latin typeface="Calibri"/>
              </a:rPr>
              <a:t>PRINCIP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7 Rectángulo"/>
          <p:cNvSpPr/>
          <p:nvPr/>
        </p:nvSpPr>
        <p:spPr>
          <a:xfrm>
            <a:off x="755640" y="1700280"/>
            <a:ext cx="7561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quidad, universalidad, solidaridad y eficiencia; además de los establecidos en el Plan Nacional del Buen Vivi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Arial"/>
              </a:rPr>
              <a:t>La Salud es una responsabilidad del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Arial"/>
              </a:rPr>
              <a:t>Los medicamentos como un bien so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Arial"/>
              </a:rPr>
              <a:t>Sostenibilidad, sustentabilidad y optimización de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Arial"/>
              </a:rPr>
              <a:t>Transparencia y rendición de cue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Object 2"/>
          <p:cNvGraphicFramePr/>
          <p:nvPr/>
        </p:nvGraphicFramePr>
        <p:xfrm>
          <a:off x="7740720" y="5862600"/>
          <a:ext cx="111132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0720" y="5862600"/>
                    <a:ext cx="11113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49080" y="260280"/>
            <a:ext cx="795492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cc"/>
                </a:solidFill>
                <a:latin typeface="Calibri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7 Rectángulo"/>
          <p:cNvSpPr/>
          <p:nvPr/>
        </p:nvSpPr>
        <p:spPr>
          <a:xfrm>
            <a:off x="611280" y="1557360"/>
            <a:ext cx="7561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egurar la disponibilidad equitativa y la asequibilidad de los medicamentos definidos como esenci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arantizar la calidad, inocuidad y eficacia de todos los medicamentos que se encuentren en el mercado n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mover el uso terapéuticamente racional y económicamente eficiente de los medicamentos por parte de los profesionales sanitarios y de los usua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talecer la rectoría del MS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jorar los servicios farmacéutic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jorar la gestión de medicamentos al interior de la red pública integral de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rschmitt\Pictures\mapa_geografico_ecuador.gif"/>
          <p:cNvPicPr/>
          <p:nvPr/>
        </p:nvPicPr>
        <p:blipFill>
          <a:blip r:embed="rId1"/>
          <a:stretch/>
        </p:blipFill>
        <p:spPr>
          <a:xfrm>
            <a:off x="0" y="0"/>
            <a:ext cx="823896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Object 2"/>
          <p:cNvGraphicFramePr/>
          <p:nvPr/>
        </p:nvGraphicFramePr>
        <p:xfrm>
          <a:off x="7740720" y="5862600"/>
          <a:ext cx="111132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0720" y="5862600"/>
                    <a:ext cx="11113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49080" y="260280"/>
            <a:ext cx="795492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cc"/>
                </a:solidFill>
                <a:latin typeface="Calibri"/>
              </a:rPr>
              <a:t>AMBITO DE APLIC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7 Rectángulo"/>
          <p:cNvSpPr/>
          <p:nvPr/>
        </p:nvSpPr>
        <p:spPr>
          <a:xfrm>
            <a:off x="611280" y="1628640"/>
            <a:ext cx="756108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Arial"/>
              </a:rPr>
              <a:t>En todo el territorio nacion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Arial"/>
              </a:rPr>
              <a:t>Sus lineamientos serán de aplicación obligatoria para el sector público y privado de salud con y sin fines de lucro y contará con criterios de intersectorialidad y elementos de aplicación territorial, de acuerdo a la división jurídica administrativa establecida por el Estado Ecuatoria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7 CuadroTexto"/>
          <p:cNvSpPr/>
          <p:nvPr/>
        </p:nvSpPr>
        <p:spPr>
          <a:xfrm>
            <a:off x="-71280" y="1552680"/>
            <a:ext cx="2627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Block Arc 10"/>
          <p:cNvGrpSpPr/>
          <p:nvPr/>
        </p:nvGrpSpPr>
        <p:grpSpPr>
          <a:xfrm>
            <a:off x="347760" y="1285920"/>
            <a:ext cx="8442360" cy="1725480"/>
            <a:chOff x="347760" y="1285920"/>
            <a:chExt cx="8442360" cy="1725480"/>
          </a:xfrm>
        </p:grpSpPr>
        <p:pic>
          <p:nvPicPr>
            <p:cNvPr id="167" name="Block Arc 10" descr=""/>
            <p:cNvPicPr/>
            <p:nvPr/>
          </p:nvPicPr>
          <p:blipFill>
            <a:blip r:embed="rId1"/>
            <a:stretch/>
          </p:blipFill>
          <p:spPr>
            <a:xfrm>
              <a:off x="347760" y="1285920"/>
              <a:ext cx="8442360" cy="17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411120" y="1324080"/>
              <a:ext cx="8323200" cy="16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9" name="TextBox 12" descr=""/>
          <p:cNvPicPr/>
          <p:nvPr/>
        </p:nvPicPr>
        <p:blipFill>
          <a:blip r:embed="rId2"/>
          <a:stretch/>
        </p:blipFill>
        <p:spPr>
          <a:xfrm>
            <a:off x="2298600" y="1590840"/>
            <a:ext cx="4602240" cy="628560"/>
          </a:xfrm>
          <a:prstGeom prst="rect">
            <a:avLst/>
          </a:prstGeom>
          <a:ln w="0">
            <a:noFill/>
          </a:ln>
        </p:spPr>
      </p:pic>
      <p:cxnSp>
        <p:nvCxnSpPr>
          <p:cNvPr id="170" name="Straight Arrow Connector 13"/>
          <p:cNvCxnSpPr/>
          <p:nvPr/>
        </p:nvCxnSpPr>
        <p:spPr>
          <a:xfrm flipH="1">
            <a:off x="1294560" y="2896920"/>
            <a:ext cx="2520" cy="6087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1" name="TextBox 15"/>
          <p:cNvSpPr/>
          <p:nvPr/>
        </p:nvSpPr>
        <p:spPr>
          <a:xfrm>
            <a:off x="838080" y="354492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cceso Equit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Straight Arrow Connector 16"/>
          <p:cNvCxnSpPr/>
          <p:nvPr/>
        </p:nvCxnSpPr>
        <p:spPr>
          <a:xfrm flipH="1">
            <a:off x="2464560" y="2473200"/>
            <a:ext cx="2520" cy="10008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grpSp>
        <p:nvGrpSpPr>
          <p:cNvPr id="173" name="TextBox 17"/>
          <p:cNvGrpSpPr/>
          <p:nvPr/>
        </p:nvGrpSpPr>
        <p:grpSpPr>
          <a:xfrm>
            <a:off x="1749600" y="3505320"/>
            <a:ext cx="1487160" cy="853920"/>
            <a:chOff x="1749600" y="3505320"/>
            <a:chExt cx="1487160" cy="853920"/>
          </a:xfrm>
        </p:grpSpPr>
        <p:pic>
          <p:nvPicPr>
            <p:cNvPr id="174" name="TextBox 17" descr=""/>
            <p:cNvPicPr/>
            <p:nvPr/>
          </p:nvPicPr>
          <p:blipFill>
            <a:blip r:embed="rId3"/>
            <a:stretch/>
          </p:blipFill>
          <p:spPr>
            <a:xfrm>
              <a:off x="1749600" y="3505320"/>
              <a:ext cx="14871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1822320" y="3544920"/>
              <a:ext cx="1357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Fortalecimiento Producción Nac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TextBox 18"/>
          <p:cNvGrpSpPr/>
          <p:nvPr/>
        </p:nvGrpSpPr>
        <p:grpSpPr>
          <a:xfrm>
            <a:off x="3181320" y="3505320"/>
            <a:ext cx="1482840" cy="853920"/>
            <a:chOff x="3181320" y="3505320"/>
            <a:chExt cx="1482840" cy="853920"/>
          </a:xfrm>
        </p:grpSpPr>
        <p:pic>
          <p:nvPicPr>
            <p:cNvPr id="177" name="TextBox 18" descr=""/>
            <p:cNvPicPr/>
            <p:nvPr/>
          </p:nvPicPr>
          <p:blipFill>
            <a:blip r:embed="rId4"/>
            <a:stretch/>
          </p:blipFill>
          <p:spPr>
            <a:xfrm>
              <a:off x="3181320" y="3505320"/>
              <a:ext cx="148284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3251160" y="3544920"/>
              <a:ext cx="13572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Fortalecimiento Funciones del Est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TextBox 19"/>
          <p:cNvGrpSpPr/>
          <p:nvPr/>
        </p:nvGrpSpPr>
        <p:grpSpPr>
          <a:xfrm>
            <a:off x="4608360" y="3505320"/>
            <a:ext cx="1292400" cy="853920"/>
            <a:chOff x="4608360" y="3505320"/>
            <a:chExt cx="1292400" cy="853920"/>
          </a:xfrm>
        </p:grpSpPr>
        <p:pic>
          <p:nvPicPr>
            <p:cNvPr id="180" name="TextBox 19" descr=""/>
            <p:cNvPicPr/>
            <p:nvPr/>
          </p:nvPicPr>
          <p:blipFill>
            <a:blip r:embed="rId5"/>
            <a:stretch/>
          </p:blipFill>
          <p:spPr>
            <a:xfrm>
              <a:off x="4608360" y="3505320"/>
              <a:ext cx="129240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4680000" y="3544920"/>
              <a:ext cx="1143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rotección al consumidor riesgos us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TextBox 20"/>
          <p:cNvGrpSpPr/>
          <p:nvPr/>
        </p:nvGrpSpPr>
        <p:grpSpPr>
          <a:xfrm>
            <a:off x="5821200" y="3505320"/>
            <a:ext cx="1414800" cy="853920"/>
            <a:chOff x="5821200" y="3505320"/>
            <a:chExt cx="1414800" cy="853920"/>
          </a:xfrm>
        </p:grpSpPr>
        <p:pic>
          <p:nvPicPr>
            <p:cNvPr id="183" name="TextBox 20" descr=""/>
            <p:cNvPicPr/>
            <p:nvPr/>
          </p:nvPicPr>
          <p:blipFill>
            <a:blip r:embed="rId6"/>
            <a:stretch/>
          </p:blipFill>
          <p:spPr>
            <a:xfrm>
              <a:off x="5821200" y="3505320"/>
              <a:ext cx="141480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894280" y="3544920"/>
              <a:ext cx="1285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Formación de talento huma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TextBox 21"/>
          <p:cNvGrpSpPr/>
          <p:nvPr/>
        </p:nvGrpSpPr>
        <p:grpSpPr>
          <a:xfrm>
            <a:off x="7182000" y="3505320"/>
            <a:ext cx="1358640" cy="853920"/>
            <a:chOff x="7182000" y="3505320"/>
            <a:chExt cx="1358640" cy="853920"/>
          </a:xfrm>
        </p:grpSpPr>
        <p:pic>
          <p:nvPicPr>
            <p:cNvPr id="186" name="TextBox 21" descr=""/>
            <p:cNvPicPr/>
            <p:nvPr/>
          </p:nvPicPr>
          <p:blipFill>
            <a:blip r:embed="rId7"/>
            <a:stretch/>
          </p:blipFill>
          <p:spPr>
            <a:xfrm>
              <a:off x="7182000" y="3505320"/>
              <a:ext cx="135864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7251840" y="3544920"/>
              <a:ext cx="1214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romoción de Investigación y E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8" name="Straight Arrow Connector 22"/>
          <p:cNvCxnSpPr/>
          <p:nvPr/>
        </p:nvCxnSpPr>
        <p:spPr>
          <a:xfrm flipH="1">
            <a:off x="3892320" y="2331720"/>
            <a:ext cx="2160" cy="11437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89" name="Straight Arrow Connector 23"/>
          <p:cNvCxnSpPr/>
          <p:nvPr/>
        </p:nvCxnSpPr>
        <p:spPr>
          <a:xfrm flipH="1">
            <a:off x="5249520" y="2331720"/>
            <a:ext cx="2160" cy="11437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90" name="Straight Arrow Connector 24"/>
          <p:cNvCxnSpPr/>
          <p:nvPr/>
        </p:nvCxnSpPr>
        <p:spPr>
          <a:xfrm flipH="1">
            <a:off x="6536520" y="2474640"/>
            <a:ext cx="1080" cy="999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91" name="Straight Arrow Connector 25"/>
          <p:cNvCxnSpPr/>
          <p:nvPr/>
        </p:nvCxnSpPr>
        <p:spPr>
          <a:xfrm>
            <a:off x="7750800" y="2758680"/>
            <a:ext cx="1080" cy="7866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92" name="TextBox 26"/>
          <p:cNvSpPr/>
          <p:nvPr/>
        </p:nvSpPr>
        <p:spPr>
          <a:xfrm>
            <a:off x="1965240" y="2759040"/>
            <a:ext cx="535788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NEAS ESTRATÉ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TextBox 27"/>
          <p:cNvGrpSpPr/>
          <p:nvPr/>
        </p:nvGrpSpPr>
        <p:grpSpPr>
          <a:xfrm>
            <a:off x="615960" y="5205240"/>
            <a:ext cx="1420920" cy="1079640"/>
            <a:chOff x="615960" y="5205240"/>
            <a:chExt cx="1420920" cy="1079640"/>
          </a:xfrm>
        </p:grpSpPr>
        <p:pic>
          <p:nvPicPr>
            <p:cNvPr id="194" name="TextBox 27" descr=""/>
            <p:cNvPicPr/>
            <p:nvPr/>
          </p:nvPicPr>
          <p:blipFill>
            <a:blip r:embed="rId8"/>
            <a:stretch/>
          </p:blipFill>
          <p:spPr>
            <a:xfrm>
              <a:off x="615960" y="5205240"/>
              <a:ext cx="142092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693720" y="5257800"/>
              <a:ext cx="12859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rec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Disponibil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Licencias Obligator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6" name="Straight Arrow Connector 28"/>
          <p:cNvCxnSpPr/>
          <p:nvPr/>
        </p:nvCxnSpPr>
        <p:spPr>
          <a:xfrm>
            <a:off x="1294200" y="4343400"/>
            <a:ext cx="27720" cy="845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grpSp>
        <p:nvGrpSpPr>
          <p:cNvPr id="197" name="TextBox 29"/>
          <p:cNvGrpSpPr/>
          <p:nvPr/>
        </p:nvGrpSpPr>
        <p:grpSpPr>
          <a:xfrm>
            <a:off x="1981080" y="5218200"/>
            <a:ext cx="1195560" cy="1066680"/>
            <a:chOff x="1981080" y="5218200"/>
            <a:chExt cx="1195560" cy="1066680"/>
          </a:xfrm>
        </p:grpSpPr>
        <p:pic>
          <p:nvPicPr>
            <p:cNvPr id="198" name="TextBox 29" descr=""/>
            <p:cNvPicPr/>
            <p:nvPr/>
          </p:nvPicPr>
          <p:blipFill>
            <a:blip r:embed="rId9"/>
            <a:stretch/>
          </p:blipFill>
          <p:spPr>
            <a:xfrm>
              <a:off x="1981080" y="5218200"/>
              <a:ext cx="11955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2050920" y="5259240"/>
              <a:ext cx="10717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olítica Industrial MIPRO y ENFAR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TextBox 30"/>
          <p:cNvGrpSpPr/>
          <p:nvPr/>
        </p:nvGrpSpPr>
        <p:grpSpPr>
          <a:xfrm>
            <a:off x="3279600" y="5218200"/>
            <a:ext cx="1273320" cy="853920"/>
            <a:chOff x="3279600" y="5218200"/>
            <a:chExt cx="1273320" cy="853920"/>
          </a:xfrm>
        </p:grpSpPr>
        <p:pic>
          <p:nvPicPr>
            <p:cNvPr id="201" name="TextBox 30" descr=""/>
            <p:cNvPicPr/>
            <p:nvPr/>
          </p:nvPicPr>
          <p:blipFill>
            <a:blip r:embed="rId10"/>
            <a:stretch/>
          </p:blipFill>
          <p:spPr>
            <a:xfrm>
              <a:off x="3279600" y="5218200"/>
              <a:ext cx="12733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3348000" y="5257800"/>
              <a:ext cx="1152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gencia de Control y Vigila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TextBox 31"/>
          <p:cNvGrpSpPr/>
          <p:nvPr/>
        </p:nvGrpSpPr>
        <p:grpSpPr>
          <a:xfrm>
            <a:off x="4645080" y="5218200"/>
            <a:ext cx="1268280" cy="986040"/>
            <a:chOff x="4645080" y="5218200"/>
            <a:chExt cx="1268280" cy="986040"/>
          </a:xfrm>
        </p:grpSpPr>
        <p:pic>
          <p:nvPicPr>
            <p:cNvPr id="204" name="TextBox 31" descr=""/>
            <p:cNvPicPr/>
            <p:nvPr/>
          </p:nvPicPr>
          <p:blipFill>
            <a:blip r:embed="rId11"/>
            <a:stretch/>
          </p:blipFill>
          <p:spPr>
            <a:xfrm>
              <a:off x="4645080" y="5218200"/>
              <a:ext cx="126828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716360" y="5257800"/>
              <a:ext cx="11397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-Campaña genéri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-Vademéc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TextBox 32"/>
          <p:cNvGrpSpPr/>
          <p:nvPr/>
        </p:nvGrpSpPr>
        <p:grpSpPr>
          <a:xfrm>
            <a:off x="5943600" y="5218200"/>
            <a:ext cx="1341360" cy="853920"/>
            <a:chOff x="5943600" y="5218200"/>
            <a:chExt cx="1341360" cy="853920"/>
          </a:xfrm>
        </p:grpSpPr>
        <p:pic>
          <p:nvPicPr>
            <p:cNvPr id="207" name="TextBox 32" descr=""/>
            <p:cNvPicPr/>
            <p:nvPr/>
          </p:nvPicPr>
          <p:blipFill>
            <a:blip r:embed="rId12"/>
            <a:stretch/>
          </p:blipFill>
          <p:spPr>
            <a:xfrm>
              <a:off x="5943600" y="5218200"/>
              <a:ext cx="13413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012000" y="5257800"/>
              <a:ext cx="1214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Formación de personal  Dosis Unitar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TextBox 33"/>
          <p:cNvGrpSpPr/>
          <p:nvPr/>
        </p:nvGrpSpPr>
        <p:grpSpPr>
          <a:xfrm>
            <a:off x="7236000" y="5218200"/>
            <a:ext cx="1268280" cy="1066680"/>
            <a:chOff x="7236000" y="5218200"/>
            <a:chExt cx="1268280" cy="1066680"/>
          </a:xfrm>
        </p:grpSpPr>
        <p:pic>
          <p:nvPicPr>
            <p:cNvPr id="210" name="TextBox 33" descr=""/>
            <p:cNvPicPr/>
            <p:nvPr/>
          </p:nvPicPr>
          <p:blipFill>
            <a:blip r:embed="rId13"/>
            <a:stretch/>
          </p:blipFill>
          <p:spPr>
            <a:xfrm>
              <a:off x="7236000" y="5218200"/>
              <a:ext cx="12682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7308720" y="5257800"/>
              <a:ext cx="11401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Creación de Unidad especializada en ETS MS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12" name="Straight Arrow Connector 34"/>
          <p:cNvCxnSpPr/>
          <p:nvPr/>
        </p:nvCxnSpPr>
        <p:spPr>
          <a:xfrm flipH="1">
            <a:off x="2464560" y="4330440"/>
            <a:ext cx="2520" cy="8578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13" name="Straight Arrow Connector 35"/>
          <p:cNvCxnSpPr/>
          <p:nvPr/>
        </p:nvCxnSpPr>
        <p:spPr>
          <a:xfrm>
            <a:off x="3886200" y="4343400"/>
            <a:ext cx="7200" cy="775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14" name="Straight Arrow Connector 36"/>
          <p:cNvCxnSpPr/>
          <p:nvPr/>
        </p:nvCxnSpPr>
        <p:spPr>
          <a:xfrm flipH="1">
            <a:off x="5249520" y="4343400"/>
            <a:ext cx="8640" cy="775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15" name="Straight Arrow Connector 37"/>
          <p:cNvCxnSpPr/>
          <p:nvPr/>
        </p:nvCxnSpPr>
        <p:spPr>
          <a:xfrm flipH="1">
            <a:off x="6535440" y="4343400"/>
            <a:ext cx="18000" cy="775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16" name="Straight Arrow Connector 38"/>
          <p:cNvCxnSpPr/>
          <p:nvPr/>
        </p:nvCxnSpPr>
        <p:spPr>
          <a:xfrm flipH="1">
            <a:off x="7822440" y="4331880"/>
            <a:ext cx="1080" cy="785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17" name="TextBox 39"/>
          <p:cNvSpPr/>
          <p:nvPr/>
        </p:nvSpPr>
        <p:spPr>
          <a:xfrm>
            <a:off x="1179360" y="4473720"/>
            <a:ext cx="678672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iones en cada lí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Rectangle 44"/>
          <p:cNvGrpSpPr/>
          <p:nvPr/>
        </p:nvGrpSpPr>
        <p:grpSpPr>
          <a:xfrm>
            <a:off x="768240" y="3535200"/>
            <a:ext cx="1054080" cy="828720"/>
            <a:chOff x="768240" y="3535200"/>
            <a:chExt cx="1054080" cy="828720"/>
          </a:xfrm>
        </p:grpSpPr>
        <p:pic>
          <p:nvPicPr>
            <p:cNvPr id="219" name="Rectangle 44" descr=""/>
            <p:cNvPicPr/>
            <p:nvPr/>
          </p:nvPicPr>
          <p:blipFill>
            <a:blip r:embed="rId14"/>
            <a:stretch/>
          </p:blipFill>
          <p:spPr>
            <a:xfrm>
              <a:off x="768240" y="3535200"/>
              <a:ext cx="10540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838080" y="3573360"/>
              <a:ext cx="9144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cceso Equitativ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1" name="40 Rectángulo" descr=""/>
          <p:cNvPicPr/>
          <p:nvPr/>
        </p:nvPicPr>
        <p:blipFill>
          <a:blip r:embed="rId15"/>
          <a:stretch/>
        </p:blipFill>
        <p:spPr>
          <a:xfrm>
            <a:off x="396720" y="390600"/>
            <a:ext cx="9880920" cy="12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6 Diagrama" descr=""/>
          <p:cNvPicPr/>
          <p:nvPr/>
        </p:nvPicPr>
        <p:blipFill>
          <a:blip r:embed="rId1"/>
          <a:stretch/>
        </p:blipFill>
        <p:spPr>
          <a:xfrm>
            <a:off x="554040" y="1487520"/>
            <a:ext cx="8113680" cy="4297320"/>
          </a:xfrm>
          <a:prstGeom prst="rect">
            <a:avLst/>
          </a:prstGeom>
          <a:ln w="0">
            <a:noFill/>
          </a:ln>
        </p:spPr>
      </p:pic>
      <p:pic>
        <p:nvPicPr>
          <p:cNvPr id="223" name="4 Rectángulo" descr=""/>
          <p:cNvPicPr/>
          <p:nvPr/>
        </p:nvPicPr>
        <p:blipFill>
          <a:blip r:embed="rId2"/>
          <a:stretch/>
        </p:blipFill>
        <p:spPr>
          <a:xfrm>
            <a:off x="695160" y="152280"/>
            <a:ext cx="944244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1 Título" descr=""/>
          <p:cNvPicPr/>
          <p:nvPr/>
        </p:nvPicPr>
        <p:blipFill>
          <a:blip r:embed="rId1"/>
          <a:stretch/>
        </p:blipFill>
        <p:spPr>
          <a:xfrm>
            <a:off x="347760" y="146160"/>
            <a:ext cx="8540640" cy="1755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6868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4 Rectángulo" descr=""/>
          <p:cNvPicPr/>
          <p:nvPr/>
        </p:nvPicPr>
        <p:blipFill>
          <a:blip r:embed="rId1"/>
          <a:stretch/>
        </p:blipFill>
        <p:spPr>
          <a:xfrm>
            <a:off x="774720" y="85680"/>
            <a:ext cx="9442440" cy="1523880"/>
          </a:xfrm>
          <a:prstGeom prst="rect">
            <a:avLst/>
          </a:prstGeom>
          <a:ln w="0">
            <a:noFill/>
          </a:ln>
        </p:spPr>
      </p:pic>
      <p:pic>
        <p:nvPicPr>
          <p:cNvPr id="227" name="6 Diagrama" descr=""/>
          <p:cNvPicPr/>
          <p:nvPr/>
        </p:nvPicPr>
        <p:blipFill>
          <a:blip r:embed="rId2"/>
          <a:stretch/>
        </p:blipFill>
        <p:spPr>
          <a:xfrm>
            <a:off x="646200" y="1182600"/>
            <a:ext cx="7943760" cy="4834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6 Diagrama" descr=""/>
          <p:cNvPicPr/>
          <p:nvPr/>
        </p:nvPicPr>
        <p:blipFill>
          <a:blip r:embed="rId1"/>
          <a:stretch/>
        </p:blipFill>
        <p:spPr>
          <a:xfrm>
            <a:off x="549360" y="1109520"/>
            <a:ext cx="8107200" cy="4784760"/>
          </a:xfrm>
          <a:prstGeom prst="rect">
            <a:avLst/>
          </a:prstGeom>
          <a:ln w="0">
            <a:noFill/>
          </a:ln>
        </p:spPr>
      </p:pic>
      <p:pic>
        <p:nvPicPr>
          <p:cNvPr id="229" name="5 Rectángulo" descr=""/>
          <p:cNvPicPr/>
          <p:nvPr/>
        </p:nvPicPr>
        <p:blipFill>
          <a:blip r:embed="rId2"/>
          <a:stretch/>
        </p:blipFill>
        <p:spPr>
          <a:xfrm>
            <a:off x="774720" y="85680"/>
            <a:ext cx="944244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32" name="Picture 1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8188200" cy="4583160"/>
          </a:xfrm>
          <a:prstGeom prst="rect">
            <a:avLst/>
          </a:prstGeom>
          <a:ln w="0">
            <a:noFill/>
          </a:ln>
        </p:spPr>
      </p:pic>
      <p:sp>
        <p:nvSpPr>
          <p:cNvPr id="233" name="1 Título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4400" spc="-1" strike="noStrike">
                <a:solidFill>
                  <a:srgbClr val="000000"/>
                </a:solidFill>
                <a:latin typeface="Arial"/>
              </a:rPr>
              <a:t>Análisis F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0" t="13067" r="0" b="15103"/>
          <a:stretch/>
        </p:blipFill>
        <p:spPr>
          <a:xfrm>
            <a:off x="771480" y="4191120"/>
            <a:ext cx="7763040" cy="1676160"/>
          </a:xfrm>
          <a:prstGeom prst="rect">
            <a:avLst/>
          </a:prstGeom>
          <a:ln w="0">
            <a:noFill/>
          </a:ln>
        </p:spPr>
      </p:pic>
      <p:pic>
        <p:nvPicPr>
          <p:cNvPr id="58" name="1 Título" descr=""/>
          <p:cNvPicPr/>
          <p:nvPr/>
        </p:nvPicPr>
        <p:blipFill>
          <a:blip r:embed="rId2"/>
          <a:stretch/>
        </p:blipFill>
        <p:spPr>
          <a:xfrm>
            <a:off x="353880" y="-158760"/>
            <a:ext cx="8425080" cy="1444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228600" y="762120"/>
          <a:ext cx="8610480" cy="3109680"/>
        </p:xfrm>
        <a:graphic>
          <a:graphicData uri="http://schemas.openxmlformats.org/drawingml/2006/table">
            <a:tbl>
              <a:tblPr/>
              <a:tblGrid>
                <a:gridCol w="7251840"/>
                <a:gridCol w="1358640"/>
              </a:tblGrid>
              <a:tr h="22176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d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54061"/>
                    </a:solidFill>
                  </a:tcPr>
                </a:tc>
              </a:tr>
              <a:tr h="22176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ES DE POBL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odemográf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de la pobl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225.08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92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centaje de gasto so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centaje de gasto en salu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6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colaridad promedio de personas de 24 años y m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centaje de personas de 5 a 14 años que asisten a educación bás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centaje de personas de 15 a 17 años que asisten a educación me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cluye a las personas afiliadas o cubiertas por IESS, ISSFA, ISSPOL, seguros privados, Municipales, de Consejos Provinciales, y del Ministerio de Salud Públ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4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 la relación entre las personas menores de 15 años y mayores de 64 años, con respecto a la población de 15 a 64 añ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604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ente: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ttp://www.inec.gob.ec/estadistic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1 Título" descr=""/>
          <p:cNvPicPr/>
          <p:nvPr/>
        </p:nvPicPr>
        <p:blipFill>
          <a:blip r:embed="rId3"/>
          <a:stretch/>
        </p:blipFill>
        <p:spPr>
          <a:xfrm>
            <a:off x="450720" y="349884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1" name="12 CuadroTexto"/>
          <p:cNvSpPr/>
          <p:nvPr/>
        </p:nvSpPr>
        <p:spPr>
          <a:xfrm>
            <a:off x="914400" y="5867280"/>
            <a:ext cx="4724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Fuente: 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INEC (Encuesta Nacional de Empleo, Desempleo y Subemple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EUROsociAL"/>
          <p:cNvPicPr/>
          <p:nvPr/>
        </p:nvPicPr>
        <p:blipFill>
          <a:blip r:embed="rId2"/>
          <a:stretch/>
        </p:blipFill>
        <p:spPr>
          <a:xfrm>
            <a:off x="8001000" y="5143680"/>
            <a:ext cx="88272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1 Imagen" descr="mapa por zonas.jpg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6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4 Rectángulo" descr=""/>
          <p:cNvPicPr/>
          <p:nvPr/>
        </p:nvPicPr>
        <p:blipFill>
          <a:blip r:embed="rId1"/>
          <a:stretch/>
        </p:blipFill>
        <p:spPr>
          <a:xfrm>
            <a:off x="828720" y="158760"/>
            <a:ext cx="8894880" cy="1530360"/>
          </a:xfrm>
          <a:prstGeom prst="rect">
            <a:avLst/>
          </a:prstGeom>
          <a:ln w="0">
            <a:noFill/>
          </a:ln>
        </p:spPr>
      </p:pic>
      <p:pic>
        <p:nvPicPr>
          <p:cNvPr id="66" name="6 Diagrama" descr=""/>
          <p:cNvPicPr/>
          <p:nvPr/>
        </p:nvPicPr>
        <p:blipFill>
          <a:blip r:embed="rId2"/>
          <a:stretch/>
        </p:blipFill>
        <p:spPr>
          <a:xfrm>
            <a:off x="871560" y="1341360"/>
            <a:ext cx="7473960" cy="3608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9" name="3 Diagrama" descr=""/>
          <p:cNvPicPr/>
          <p:nvPr/>
        </p:nvPicPr>
        <p:blipFill>
          <a:blip r:embed="rId1"/>
          <a:stretch/>
        </p:blipFill>
        <p:spPr>
          <a:xfrm>
            <a:off x="676440" y="1133640"/>
            <a:ext cx="798660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84240"/>
            <a:ext cx="9144000" cy="6845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EUROsociAL"/>
          <p:cNvPicPr/>
          <p:nvPr/>
        </p:nvPicPr>
        <p:blipFill>
          <a:blip r:embed="rId2"/>
          <a:stretch/>
        </p:blipFill>
        <p:spPr>
          <a:xfrm>
            <a:off x="7786800" y="5214960"/>
            <a:ext cx="88236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power point desarrollo"/>
          <p:cNvPicPr/>
          <p:nvPr/>
        </p:nvPicPr>
        <p:blipFill>
          <a:blip r:embed="rId1"/>
          <a:stretch/>
        </p:blipFill>
        <p:spPr>
          <a:xfrm>
            <a:off x="5076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59 Grupo"/>
          <p:cNvGrpSpPr/>
          <p:nvPr/>
        </p:nvGrpSpPr>
        <p:grpSpPr>
          <a:xfrm>
            <a:off x="301680" y="2160720"/>
            <a:ext cx="4052520" cy="3671640"/>
            <a:chOff x="301680" y="2160720"/>
            <a:chExt cx="4052520" cy="3671640"/>
          </a:xfrm>
        </p:grpSpPr>
        <p:sp>
          <p:nvSpPr>
            <p:cNvPr id="74" name="3 Rectángulo"/>
            <p:cNvSpPr/>
            <p:nvPr/>
          </p:nvSpPr>
          <p:spPr>
            <a:xfrm>
              <a:off x="301680" y="2160720"/>
              <a:ext cx="3997440" cy="3671640"/>
            </a:xfrm>
            <a:prstGeom prst="rect">
              <a:avLst/>
            </a:prstGeom>
            <a:gradFill rotWithShape="0">
              <a:gsLst>
                <a:gs pos="0">
                  <a:srgbClr val="cc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99 Grupo"/>
            <p:cNvGrpSpPr/>
            <p:nvPr/>
          </p:nvGrpSpPr>
          <p:grpSpPr>
            <a:xfrm>
              <a:off x="404640" y="2237760"/>
              <a:ext cx="3949560" cy="3565440"/>
              <a:chOff x="404640" y="2237760"/>
              <a:chExt cx="3949560" cy="3565440"/>
            </a:xfrm>
          </p:grpSpPr>
          <p:sp>
            <p:nvSpPr>
              <p:cNvPr id="76" name="Puzzle3"/>
              <p:cNvSpPr/>
              <p:nvPr/>
            </p:nvSpPr>
            <p:spPr>
              <a:xfrm rot="501600">
                <a:off x="1902960" y="2760120"/>
                <a:ext cx="908640" cy="1126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Text Box 4"/>
              <p:cNvSpPr/>
              <p:nvPr/>
            </p:nvSpPr>
            <p:spPr>
              <a:xfrm>
                <a:off x="2023920" y="3360600"/>
                <a:ext cx="17352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Puzzle2"/>
              <p:cNvSpPr/>
              <p:nvPr/>
            </p:nvSpPr>
            <p:spPr>
              <a:xfrm>
                <a:off x="1548360" y="4508640"/>
                <a:ext cx="1630440" cy="11876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Puzzle2"/>
              <p:cNvSpPr/>
              <p:nvPr/>
            </p:nvSpPr>
            <p:spPr>
              <a:xfrm rot="21315000">
                <a:off x="1462320" y="3889440"/>
                <a:ext cx="1653120" cy="8614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FF.A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10"/>
              <p:cNvSpPr/>
              <p:nvPr/>
            </p:nvSpPr>
            <p:spPr>
              <a:xfrm>
                <a:off x="1647000" y="4331160"/>
                <a:ext cx="17352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Puzzle1"/>
              <p:cNvSpPr/>
              <p:nvPr/>
            </p:nvSpPr>
            <p:spPr>
              <a:xfrm>
                <a:off x="1231200" y="3030480"/>
                <a:ext cx="1469160" cy="78192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Text Box 16"/>
              <p:cNvSpPr/>
              <p:nvPr/>
            </p:nvSpPr>
            <p:spPr>
              <a:xfrm>
                <a:off x="965520" y="3227760"/>
                <a:ext cx="17352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Puzzle4"/>
              <p:cNvSpPr/>
              <p:nvPr/>
            </p:nvSpPr>
            <p:spPr>
              <a:xfrm rot="20567400">
                <a:off x="797760" y="4363920"/>
                <a:ext cx="1063440" cy="1311120"/>
              </a:xfrm>
              <a:prstGeom prst="pi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Calibri"/>
                  </a:rPr>
                  <a:t>ISSPO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Text Box 22"/>
              <p:cNvSpPr/>
              <p:nvPr/>
            </p:nvSpPr>
            <p:spPr>
              <a:xfrm rot="20571600">
                <a:off x="1289160" y="4971960"/>
                <a:ext cx="17352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Puzzle4"/>
              <p:cNvSpPr/>
              <p:nvPr/>
            </p:nvSpPr>
            <p:spPr>
              <a:xfrm rot="21210600">
                <a:off x="2121480" y="2450520"/>
                <a:ext cx="1524960" cy="1817640"/>
              </a:xfrm>
              <a:prstGeom prst="pi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     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M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Text Box 25"/>
              <p:cNvSpPr/>
              <p:nvPr/>
            </p:nvSpPr>
            <p:spPr>
              <a:xfrm>
                <a:off x="2143440" y="3708720"/>
                <a:ext cx="17352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Puzzle1"/>
              <p:cNvSpPr/>
              <p:nvPr/>
            </p:nvSpPr>
            <p:spPr>
              <a:xfrm rot="879600">
                <a:off x="504720" y="3636720"/>
                <a:ext cx="1469160" cy="97956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Text Box 28"/>
              <p:cNvSpPr/>
              <p:nvPr/>
            </p:nvSpPr>
            <p:spPr>
              <a:xfrm>
                <a:off x="819720" y="3999960"/>
                <a:ext cx="66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ffffff"/>
                    </a:solidFill>
                    <a:latin typeface="Arial Unicode MS"/>
                  </a:rPr>
                  <a:t>ISFF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Puzzle2"/>
              <p:cNvSpPr/>
              <p:nvPr/>
            </p:nvSpPr>
            <p:spPr>
              <a:xfrm rot="10515000">
                <a:off x="1138680" y="2295720"/>
                <a:ext cx="1451520" cy="10256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Text Box 31"/>
              <p:cNvSpPr/>
              <p:nvPr/>
            </p:nvSpPr>
            <p:spPr>
              <a:xfrm>
                <a:off x="1501920" y="263412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 Unicode MS"/>
                  </a:rPr>
                  <a:t>IES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Puzzle3"/>
              <p:cNvSpPr/>
              <p:nvPr/>
            </p:nvSpPr>
            <p:spPr>
              <a:xfrm rot="762000">
                <a:off x="2687040" y="3811680"/>
                <a:ext cx="1562040" cy="1126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Calibri"/>
                  </a:rPr>
                  <a:t>S PRIVAD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" name="Rectangle 61"/>
          <p:cNvSpPr/>
          <p:nvPr/>
        </p:nvSpPr>
        <p:spPr>
          <a:xfrm>
            <a:off x="291960" y="1687680"/>
            <a:ext cx="3816360" cy="3373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</a:rPr>
              <a:t>DESARTICULACIÓN DEL SIST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49 Grupo"/>
          <p:cNvGrpSpPr/>
          <p:nvPr/>
        </p:nvGrpSpPr>
        <p:grpSpPr>
          <a:xfrm>
            <a:off x="2479680" y="1152360"/>
            <a:ext cx="4270320" cy="5616720"/>
            <a:chOff x="2479680" y="1152360"/>
            <a:chExt cx="4270320" cy="5616720"/>
          </a:xfrm>
        </p:grpSpPr>
        <p:sp>
          <p:nvSpPr>
            <p:cNvPr id="94" name="23 CuadroTexto"/>
            <p:cNvSpPr/>
            <p:nvPr/>
          </p:nvSpPr>
          <p:spPr>
            <a:xfrm>
              <a:off x="2606400" y="1152360"/>
              <a:ext cx="4143600" cy="39888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MODELO DE GES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24 Rectángulo"/>
            <p:cNvSpPr/>
            <p:nvPr/>
          </p:nvSpPr>
          <p:spPr>
            <a:xfrm>
              <a:off x="2479680" y="6336000"/>
              <a:ext cx="4214880" cy="43308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MODELO DE SALUD INTEGR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3 Título" descr=""/>
          <p:cNvPicPr/>
          <p:nvPr/>
        </p:nvPicPr>
        <p:blipFill>
          <a:blip r:embed="rId2"/>
          <a:stretch/>
        </p:blipFill>
        <p:spPr>
          <a:xfrm>
            <a:off x="7858080" y="2189160"/>
            <a:ext cx="878040" cy="3870360"/>
          </a:xfrm>
          <a:prstGeom prst="rect">
            <a:avLst/>
          </a:prstGeom>
          <a:ln w="0">
            <a:noFill/>
          </a:ln>
        </p:spPr>
      </p:pic>
      <p:grpSp>
        <p:nvGrpSpPr>
          <p:cNvPr id="97" name="26 Flecha a la derecha con bandas"/>
          <p:cNvGrpSpPr/>
          <p:nvPr/>
        </p:nvGrpSpPr>
        <p:grpSpPr>
          <a:xfrm>
            <a:off x="8163000" y="6297480"/>
            <a:ext cx="547560" cy="468360"/>
            <a:chOff x="8163000" y="6297480"/>
            <a:chExt cx="547560" cy="468360"/>
          </a:xfrm>
        </p:grpSpPr>
        <p:pic>
          <p:nvPicPr>
            <p:cNvPr id="98" name="26 Flecha a la derecha con bandas" descr=""/>
            <p:cNvPicPr/>
            <p:nvPr/>
          </p:nvPicPr>
          <p:blipFill>
            <a:blip r:embed="rId3"/>
            <a:stretch/>
          </p:blipFill>
          <p:spPr>
            <a:xfrm>
              <a:off x="8163000" y="6297480"/>
              <a:ext cx="54756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8312040" y="6426360"/>
              <a:ext cx="28584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3 Título"/>
          <p:cNvSpPr/>
          <p:nvPr/>
        </p:nvSpPr>
        <p:spPr>
          <a:xfrm>
            <a:off x="662040" y="43164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404040"/>
                </a:solidFill>
                <a:latin typeface="Calibri"/>
              </a:rPr>
              <a:t>SISTEMA NACIONAL DE SAL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53 Título"/>
          <p:cNvSpPr/>
          <p:nvPr/>
        </p:nvSpPr>
        <p:spPr>
          <a:xfrm>
            <a:off x="446040" y="27000"/>
            <a:ext cx="82296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400" spc="-1" strike="noStrike">
                <a:solidFill>
                  <a:srgbClr val="00b050"/>
                </a:solidFill>
                <a:latin typeface="Calibri"/>
                <a:ea typeface="MS PGothic"/>
              </a:rPr>
              <a:t>Cómo estamos y Cómo estaremo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Documents and Settings\aus14\Escritorio\material-2-dip.jpg"/>
          <p:cNvPicPr/>
          <p:nvPr/>
        </p:nvPicPr>
        <p:blipFill>
          <a:blip r:embed="rId4"/>
          <a:srcRect l="5270" t="3729" r="10463" b="12425"/>
          <a:stretch/>
        </p:blipFill>
        <p:spPr>
          <a:xfrm>
            <a:off x="4479840" y="2063880"/>
            <a:ext cx="4714920" cy="3821040"/>
          </a:xfrm>
          <a:prstGeom prst="rect">
            <a:avLst/>
          </a:prstGeom>
          <a:ln w="0">
            <a:noFill/>
          </a:ln>
        </p:spPr>
      </p:pic>
      <p:sp>
        <p:nvSpPr>
          <p:cNvPr id="103" name="65 Flecha a la derecha con bandas"/>
          <p:cNvSpPr/>
          <p:nvPr/>
        </p:nvSpPr>
        <p:spPr>
          <a:xfrm>
            <a:off x="479520" y="5099040"/>
            <a:ext cx="3887640" cy="57636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ESTRATEGIA DE CAM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uzzle3"/>
          <p:cNvSpPr/>
          <p:nvPr/>
        </p:nvSpPr>
        <p:spPr>
          <a:xfrm rot="20270400">
            <a:off x="155520" y="2317680"/>
            <a:ext cx="1562040" cy="1127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MIN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7109640" y="1440000"/>
            <a:ext cx="19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0"/>
                </a:solidFill>
                <a:latin typeface="Calibri"/>
              </a:rPr>
              <a:t>Producto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EUROsociAL"/>
          <p:cNvPicPr/>
          <p:nvPr/>
        </p:nvPicPr>
        <p:blipFill>
          <a:blip r:embed="rId5"/>
          <a:stretch/>
        </p:blipFill>
        <p:spPr>
          <a:xfrm>
            <a:off x="914400" y="380880"/>
            <a:ext cx="88272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7:49:15Z</dcterms:created>
  <dc:creator>MABEL OCAMPO</dc:creator>
  <dc:description/>
  <dc:language>en-US</dc:language>
  <cp:lastModifiedBy>rschmitt</cp:lastModifiedBy>
  <dcterms:modified xsi:type="dcterms:W3CDTF">2013-05-09T21:13:41Z</dcterms:modified>
  <cp:revision>387</cp:revision>
  <dc:subject/>
  <dc:title>Presentación de PowerPoint</dc:title>
</cp:coreProperties>
</file>