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7EF-C6F9-426B-A0F3-ADD80015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75B-354D-4F7B-B949-6DFF8A82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4C8-C815-41B9-8732-89C0891E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ED3-B738-4E17-8700-FEF7C0C9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8AB-19A9-4CC7-9476-4B181BB2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66B0-4CA4-4EC7-AE9B-87332FD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5297-AF6D-4D08-9260-35AD6CD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DF7D-FBFE-41C7-9AD6-6F5A1A82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5FAB-851A-42A0-95B2-D8D05CD4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D881-00DB-489C-B59B-CA9B3888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321A-297B-4325-91FC-4641AF3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C9D-9F2F-4E51-80E7-825A1006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9C44-6E47-45D8-B385-75951DC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CCAF-EFC7-421B-B511-95ECD51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C735-7722-4109-8B46-4A630BBF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674A-E244-4A9F-A0B3-031FF5CF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28CE-55EC-499E-A985-391549BE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B906-3219-4167-B1BA-1C9401D1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329C-42C7-4688-8683-08EDA9B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E15F-EA63-4B1E-827A-7382A665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F679-EFA4-4FD4-9E7B-8C67333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2899-BCCE-4405-BC48-909EE1D7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F1E-6662-466C-BABB-906B362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8F72-AB5D-4C05-A545-E8874A48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AFBA-FF64-4C53-92BA-1D25406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EF5D6-50C7-453D-AB01-CA12D79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1601-12CB-4E25-9895-16A0983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3F47-E268-4261-A00A-9862771A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E6E9-6484-4AA4-BB66-8531DBE7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B3C3-EE05-42E9-9FCF-FA414F70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7F04-1A52-4E14-8C38-66056CD5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6B0E-CB49-4860-BC07-49AF57DD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EA4C-2509-4BE6-9B24-667B15AC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932-1A3E-461C-A0D3-27F0D5E9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FCF4-D670-4978-B9DC-F663E02E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C8D9-639A-4DBE-BDB4-63F138B3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8B3F-CB50-4361-BD53-A44A42F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C6A2-7BFA-49C4-A165-4370FE4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B445-3D17-4DF2-B3CE-82EF234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3B9E-2DAC-4E19-BE08-9326FD0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124D-DA62-4F2D-A2E4-40DDE1F2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2852-C668-415D-B91C-C509A69B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99880-FE34-48C6-8895-5EB64115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646-1784-4660-B2D1-9D67B3B9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243-A040-4917-A628-32519B3E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45C-E3FC-40A2-899D-53D1B27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5B3-1256-4389-929E-F29634AF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7C9-A0EC-484C-92E7-8A44AC5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EC9-502D-4CD5-BE51-A52C86534FF1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66A8-C056-45DA-A307-010D2D327F3C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D930-FF99-4E4D-9BEB-F9A2B7136809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5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Retângulo com Único Canto Aparado e Arredondado 8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>
              <a:gd name="textAreaLeft" fmla="*/ 0 w 5695920"/>
              <a:gd name="textAreaRight" fmla="*/ 5621040 w 569592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riângulo retângulo 11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rma livre 9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rma livre 10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634C-D5D0-4751-ADB7-7158D04C0F04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mailto:machado@ensp.fiocruz.br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914400" y="3041640"/>
            <a:ext cx="8510760" cy="1805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74880" y="4653000"/>
            <a:ext cx="8346960" cy="30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Imagem 5" descr="cast.jpg"/>
          <p:cNvPicPr/>
          <p:nvPr/>
        </p:nvPicPr>
        <p:blipFill>
          <a:blip r:embed="rId2"/>
          <a:stretch/>
        </p:blipFill>
        <p:spPr>
          <a:xfrm>
            <a:off x="0" y="0"/>
            <a:ext cx="2095560" cy="1701720"/>
          </a:xfrm>
          <a:prstGeom prst="rect">
            <a:avLst/>
          </a:prstGeom>
          <a:ln w="0">
            <a:noFill/>
          </a:ln>
        </p:spPr>
      </p:pic>
      <p:sp>
        <p:nvSpPr>
          <p:cNvPr id="207" name="CaixaDeTexto 4"/>
          <p:cNvSpPr/>
          <p:nvPr/>
        </p:nvSpPr>
        <p:spPr>
          <a:xfrm>
            <a:off x="1913040" y="0"/>
            <a:ext cx="7993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9d9d9"/>
                </a:solidFill>
                <a:latin typeface="Arial"/>
              </a:rPr>
              <a:t>Fundação Oswaldo 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9d9d9"/>
                </a:solidFill>
                <a:latin typeface="Arial"/>
              </a:rPr>
              <a:t>Escola Nacional de Saúde Pública Sergio Arou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7"/>
          <p:cNvSpPr/>
          <p:nvPr/>
        </p:nvSpPr>
        <p:spPr>
          <a:xfrm>
            <a:off x="2289240" y="515772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Maria Helena Ma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machado@ensp.fiocruz.br</a:t>
            </a: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6194520"/>
          </a:xfrm>
          <a:prstGeom prst="rect">
            <a:avLst/>
          </a:prstGeom>
          <a:ln w="0">
            <a:noFill/>
          </a:ln>
        </p:spPr>
      </p:pic>
      <p:sp>
        <p:nvSpPr>
          <p:cNvPr id="273" name="Retângulo 6"/>
          <p:cNvSpPr/>
          <p:nvPr/>
        </p:nvSpPr>
        <p:spPr>
          <a:xfrm>
            <a:off x="-272880" y="5805360"/>
            <a:ext cx="10647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15964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Evolución de medicos- 1910-2010 –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5"/>
          <p:cNvSpPr/>
          <p:nvPr/>
        </p:nvSpPr>
        <p:spPr>
          <a:xfrm>
            <a:off x="4952880" y="6595920"/>
            <a:ext cx="495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2f2f2"/>
                </a:solidFill>
                <a:latin typeface="Arial"/>
              </a:rPr>
              <a:t>Fonte: CFM/IBGE; Pesquisa Demografia Médica no Brasil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Gráfico 6" descr=""/>
          <p:cNvPicPr/>
          <p:nvPr/>
        </p:nvPicPr>
        <p:blipFill>
          <a:blip r:embed="rId2"/>
          <a:stretch/>
        </p:blipFill>
        <p:spPr>
          <a:xfrm>
            <a:off x="-6480" y="0"/>
            <a:ext cx="99187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6194520"/>
          </a:xfrm>
          <a:prstGeom prst="rect">
            <a:avLst/>
          </a:prstGeom>
          <a:ln w="0">
            <a:noFill/>
          </a:ln>
        </p:spPr>
      </p:pic>
      <p:sp>
        <p:nvSpPr>
          <p:cNvPr id="277" name="Retângulo 6"/>
          <p:cNvSpPr/>
          <p:nvPr/>
        </p:nvSpPr>
        <p:spPr>
          <a:xfrm>
            <a:off x="-272880" y="5805360"/>
            <a:ext cx="10647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15964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Evolución de medico/habitante, 1980 a 2010 – Brasil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5"/>
          <p:cNvSpPr/>
          <p:nvPr/>
        </p:nvSpPr>
        <p:spPr>
          <a:xfrm>
            <a:off x="4952880" y="6595920"/>
            <a:ext cx="495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2f2f2"/>
                </a:solidFill>
                <a:latin typeface="Arial"/>
              </a:rPr>
              <a:t>Fonte: CFM/IBGE; Pesquisa Demografia Médica no Brasil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-360" y="5950080"/>
            <a:ext cx="9906120" cy="691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la participación de las mujeres en el  medio medico –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Brasil -1910..201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5589720"/>
          </a:xfrm>
          <a:prstGeom prst="rect">
            <a:avLst/>
          </a:prstGeom>
          <a:ln w="0">
            <a:noFill/>
          </a:ln>
        </p:spPr>
      </p:pic>
      <p:sp>
        <p:nvSpPr>
          <p:cNvPr id="281" name="Retângulo 7"/>
          <p:cNvSpPr/>
          <p:nvPr/>
        </p:nvSpPr>
        <p:spPr>
          <a:xfrm>
            <a:off x="4952880" y="55897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2f2f2"/>
                </a:solidFill>
                <a:latin typeface="Arial"/>
              </a:rPr>
              <a:t>Fonte: Demografia Médica no Brasil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6049440"/>
            <a:ext cx="9823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76a3"/>
                </a:solidFill>
                <a:latin typeface="AR JULI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-5373360"/>
            <a:ext cx="9906120" cy="11203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3"/>
          <p:cNvSpPr/>
          <p:nvPr/>
        </p:nvSpPr>
        <p:spPr>
          <a:xfrm>
            <a:off x="2690640" y="6165720"/>
            <a:ext cx="72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15964"/>
                </a:solidFill>
                <a:latin typeface="Trebuchet MS"/>
              </a:rPr>
              <a:t>Obrigada pela atençã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0" y="-171360"/>
            <a:ext cx="11026800" cy="7029360"/>
          </a:xfrm>
          <a:prstGeom prst="rect">
            <a:avLst/>
          </a:prstGeom>
          <a:ln w="0">
            <a:noFill/>
          </a:ln>
        </p:spPr>
      </p:pic>
      <p:sp>
        <p:nvSpPr>
          <p:cNvPr id="286" name="CaixaDeTexto 5"/>
          <p:cNvSpPr/>
          <p:nvPr/>
        </p:nvSpPr>
        <p:spPr>
          <a:xfrm>
            <a:off x="2457360" y="105264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 CENA"/>
              </a:rPr>
              <a:t>OBRIGADA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 CENA"/>
              </a:rPr>
              <a:t>GRACIA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7440" y="1371600"/>
            <a:ext cx="8505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77800" y="3228480"/>
            <a:ext cx="8508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15964"/>
                </a:solidFill>
                <a:latin typeface="Constantia"/>
              </a:rPr>
              <a:t>Onde estão os emprego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11" name="Object 80"/>
          <p:cNvGraphicFramePr/>
          <p:nvPr/>
        </p:nvGraphicFramePr>
        <p:xfrm>
          <a:off x="0" y="0"/>
          <a:ext cx="990612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CaixaDeTexto 4"/>
          <p:cNvSpPr/>
          <p:nvPr/>
        </p:nvSpPr>
        <p:spPr>
          <a:xfrm>
            <a:off x="7832880" y="6550200"/>
            <a:ext cx="24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IBG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, AMS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ângulo 7"/>
          <p:cNvSpPr/>
          <p:nvPr/>
        </p:nvSpPr>
        <p:spPr>
          <a:xfrm>
            <a:off x="2073240" y="6334200"/>
            <a:ext cx="5496120" cy="520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7030a0"/>
                </a:solidFill>
                <a:latin typeface="Arial"/>
              </a:rPr>
              <a:t>Onde estão os empre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ço Reservado para Rodapé 2"/>
          <p:cNvSpPr/>
          <p:nvPr/>
        </p:nvSpPr>
        <p:spPr>
          <a:xfrm>
            <a:off x="6273720" y="6308640"/>
            <a:ext cx="363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Fonte:  IBGE, Estimativas Populacionais par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CFM,- situação em dez/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8229600" y="4581360"/>
          <a:ext cx="1403280" cy="1676520"/>
        </p:xfrm>
        <a:graphic>
          <a:graphicData uri="http://schemas.openxmlformats.org/drawingml/2006/table">
            <a:tbl>
              <a:tblPr/>
              <a:tblGrid>
                <a:gridCol w="1403280"/>
              </a:tblGrid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c190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bfff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6c98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-O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17"/>
          <p:cNvSpPr/>
          <p:nvPr/>
        </p:nvSpPr>
        <p:spPr>
          <a:xfrm>
            <a:off x="193680" y="177336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8,3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0,98 med. /1000 h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6746760" y="213372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7,8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,19 méd./1000 h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51000" y="34290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7,4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,99 me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435720" y="3789360"/>
            <a:ext cx="29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42,1% 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,61  me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782880" y="544500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4,4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,03 mé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1442880" y="260280"/>
            <a:ext cx="78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1-Distribuição populacional e dos médicos por grandes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158640" y="364500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4"/>
          <p:cNvSpPr/>
          <p:nvPr/>
        </p:nvSpPr>
        <p:spPr>
          <a:xfrm>
            <a:off x="5654520" y="4005360"/>
            <a:ext cx="78120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5"/>
          <p:cNvSpPr/>
          <p:nvPr/>
        </p:nvSpPr>
        <p:spPr>
          <a:xfrm flipV="1">
            <a:off x="5967360" y="242064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H="1" flipV="1">
            <a:off x="2925720" y="2276280"/>
            <a:ext cx="15588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5030640" y="4797360"/>
            <a:ext cx="79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200160" y="6165720"/>
            <a:ext cx="3119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opulação -  190.732.694 h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No. de médicos – 364.7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Rodapé 2"/>
          <p:cNvSpPr/>
          <p:nvPr/>
        </p:nvSpPr>
        <p:spPr>
          <a:xfrm>
            <a:off x="5834160" y="6381720"/>
            <a:ext cx="4071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Fonte:  IBGE, Estimativas Populacionais para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AMS/IBGE,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8337600" y="4508640"/>
          <a:ext cx="1403280" cy="1676160"/>
        </p:xfrm>
        <a:graphic>
          <a:graphicData uri="http://schemas.openxmlformats.org/drawingml/2006/table">
            <a:tbl>
              <a:tblPr/>
              <a:tblGrid>
                <a:gridCol w="1403280"/>
              </a:tblGrid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c190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bfff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6c98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-O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33" name="Text Box 17"/>
          <p:cNvSpPr/>
          <p:nvPr/>
        </p:nvSpPr>
        <p:spPr>
          <a:xfrm>
            <a:off x="193680" y="177336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5,8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03.995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6746760" y="213372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53 milhões 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767.505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51000" y="342900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4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31.350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6435720" y="3789360"/>
            <a:ext cx="29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80,3 milhões 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.434.420 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782880" y="544500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7,3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441.248 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442880" y="260280"/>
            <a:ext cx="78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2- Distribuição populacional e de empregos em saúde segundo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>
            <a:off x="3158640" y="364500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5654520" y="4005360"/>
            <a:ext cx="78120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5967360" y="242064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 flipH="1" flipV="1">
            <a:off x="2925720" y="2276280"/>
            <a:ext cx="15588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5030640" y="4797360"/>
            <a:ext cx="79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0" y="6334200"/>
            <a:ext cx="311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opulação -  190.732.694 h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Empregos - 3.078.51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ço Reservado para Rodapé 2"/>
          <p:cNvSpPr/>
          <p:nvPr/>
        </p:nvSpPr>
        <p:spPr>
          <a:xfrm>
            <a:off x="6176880" y="6381720"/>
            <a:ext cx="372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Fonte:  IBGE, Estimativas Populacionais para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AMS/IBGE,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7"/>
          <p:cNvSpPr/>
          <p:nvPr/>
        </p:nvSpPr>
        <p:spPr>
          <a:xfrm>
            <a:off x="662040" y="1773360"/>
            <a:ext cx="2496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203.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 - 55.6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60.1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35.5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52.7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980400" y="3645000"/>
            <a:ext cx="2574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D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1.434.4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567.7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421.9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102.5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342.3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5734080" y="5084640"/>
            <a:ext cx="2338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441.2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167.44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134.4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38.3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100.9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1281240" y="0"/>
            <a:ext cx="78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3- Distribuição de empregos em saúde por escolaridade segundo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 flipH="1">
            <a:off x="3158640" y="3645000"/>
            <a:ext cx="163692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5811840" y="3860640"/>
            <a:ext cx="116856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5"/>
          <p:cNvSpPr/>
          <p:nvPr/>
        </p:nvSpPr>
        <p:spPr>
          <a:xfrm flipV="1">
            <a:off x="6435720" y="213336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 flipH="1" flipV="1">
            <a:off x="2535120" y="2205000"/>
            <a:ext cx="13255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264280" y="4653000"/>
            <a:ext cx="46980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272880" y="5589720"/>
            <a:ext cx="3511800" cy="10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 de empregos em saúde - 3.078.5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perior - 1.104.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ec/aux - 889.6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Elementar -  317.0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Administrativos - 767.49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ângulo 16"/>
          <p:cNvSpPr/>
          <p:nvPr/>
        </p:nvSpPr>
        <p:spPr>
          <a:xfrm>
            <a:off x="7137360" y="1700280"/>
            <a:ext cx="2340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NORD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767.5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236.3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207.8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116.9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206.3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ângulo 17"/>
          <p:cNvSpPr/>
          <p:nvPr/>
        </p:nvSpPr>
        <p:spPr>
          <a:xfrm>
            <a:off x="584280" y="3573360"/>
            <a:ext cx="2574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CENTRO-O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231.3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77.1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65.3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23.7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65.1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Gráfico 4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9644040" cy="5572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0" y="5788080"/>
            <a:ext cx="9906120" cy="42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 IBGE, Pesquisa Assistência M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tângulo 6"/>
          <p:cNvSpPr/>
          <p:nvPr/>
        </p:nvSpPr>
        <p:spPr>
          <a:xfrm>
            <a:off x="-272880" y="5719680"/>
            <a:ext cx="10179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los establecimientos de salud por tipo administrativo – Brasil,1992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0"/>
          <a:ext cx="9906120" cy="5950080"/>
        </p:xfrm>
        <a:graphic>
          <a:graphicData uri="http://schemas.openxmlformats.org/drawingml/2006/table">
            <a:tbl>
              <a:tblPr/>
              <a:tblGrid>
                <a:gridCol w="3171960"/>
                <a:gridCol w="1306440"/>
                <a:gridCol w="1306440"/>
                <a:gridCol w="1500120"/>
                <a:gridCol w="1120680"/>
                <a:gridCol w="1500480"/>
              </a:tblGrid>
              <a:tr h="12240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Descrição /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Variação % (92-0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stablecimientos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.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7.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7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4.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8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Publ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.0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8.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5.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2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9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Fede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0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-3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stadu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.0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6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3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-8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8.6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.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.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.7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16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Priv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2.5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9.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.9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.0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8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Gráfico 4" descr=""/>
          <p:cNvPicPr/>
          <p:nvPr/>
        </p:nvPicPr>
        <p:blipFill>
          <a:blip r:embed="rId1"/>
          <a:stretch/>
        </p:blipFill>
        <p:spPr>
          <a:xfrm>
            <a:off x="0" y="-6480"/>
            <a:ext cx="9912240" cy="5572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5168880" y="3643560"/>
            <a:ext cx="4737240" cy="1632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*)- Não estão incl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s os empregos administrativos Fonte: IBGE, Pesquisa Assistência 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ângulo 6"/>
          <p:cNvSpPr/>
          <p:nvPr/>
        </p:nvSpPr>
        <p:spPr>
          <a:xfrm>
            <a:off x="200160" y="5516640"/>
            <a:ext cx="9705960" cy="7340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de salud -Brasil, 1980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-360" y="5877000"/>
            <a:ext cx="9906120" cy="8078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de salud por sector- Brasil, 1980..200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Gráfico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596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0" y="-5515200"/>
            <a:ext cx="9906120" cy="1163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IBGE, Pesquisa Assistência M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5834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5168880" y="5142240"/>
            <a:ext cx="4737240" cy="596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(*)- Não estão inclu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os os empregos administrativ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 IBGE, Pesquisa Assistência M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ângulo 6"/>
          <p:cNvSpPr/>
          <p:nvPr/>
        </p:nvSpPr>
        <p:spPr>
          <a:xfrm>
            <a:off x="200160" y="5732640"/>
            <a:ext cx="9705960" cy="825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por categorias profesionales-Brasil, 1980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9:15:27Z</dcterms:created>
  <dc:creator>Celia Pierantone</dc:creator>
  <dc:description/>
  <dc:language>en-US</dc:language>
  <cp:lastModifiedBy>Pablo</cp:lastModifiedBy>
  <dcterms:modified xsi:type="dcterms:W3CDTF">2013-05-09T16:54:16Z</dcterms:modified>
  <cp:revision>224</cp:revision>
  <dc:subject/>
  <dc:title>Slide 1</dc:title>
</cp:coreProperties>
</file>