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2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move the slide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 type="sldNum" idx="3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9710-BC0C-4585-ABE0-4F9F60E9D8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8CF2-506E-48B1-A66E-FDDCE9E28F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19ADA-7C06-49CE-937B-9729E73B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037AE-59F5-4D82-8C0D-4084CC7B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F8DE3-3E5A-4E7F-9B78-4AC6EE91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61758-3D97-41BE-B068-691F3C4B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512BA-4390-4621-8816-88323CE1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32BFA-ED1F-4A53-800E-74ADEC00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DE33C-0564-4AA0-925B-6D2B7792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2DD55-C904-4804-A690-DC78C75C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ADB71-B9D9-4EEB-AA03-E10DBF53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8CD1C-C9BC-4890-A48B-FB37A28E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7DBF9-CFEC-4B51-B765-ED6A3E4D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E5687-A3E3-4F2C-965D-D406FD8A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02D89-63B7-4DA9-A9C2-BD648B1F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7FD1D-F3CE-4B05-9AF1-F53111C4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9BC92-3C21-4D97-93D6-EB4DF46A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ADEE9-8D4C-43E6-A5FC-6CC43CA3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46BE7-E8FD-416B-B262-3E21DB34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289BB-3CDA-4E86-8938-9E69A8DB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841C9-6441-47D3-9EF3-FB5F3788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D435C-37C0-44BC-9B0A-D7CEE619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0B8C4-91F2-48AE-B2D3-A7AC51E7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4D34C-A63F-43B9-9A56-54B4779F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D14CC-7361-4A9D-B378-908ADE03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CF94D-73C1-4B16-AE8D-BA1224CA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95BBF-BD94-4994-8923-59F92E9E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91D0A-4132-49C6-B162-67BC6167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E7F71-CC99-42B4-B9BA-244F78B3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12456-F394-49D3-B684-E6E4387F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DAC01-6B39-4FAE-A9B5-1F328368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1B3F9-FCC1-4B48-B991-D629429D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73C35-7D1E-4BB0-9A13-560FF926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F1389-717D-406A-9C0E-80F48312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0A53F-2BE3-4E7F-878E-462E5C19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E07-CA69-4409-BC69-26F7C324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F2E-A07B-42CF-B76D-5A95821A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571-E089-46A1-A950-83EE42B9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490-AB99-4C82-BB95-40A08E74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635-9065-4CB4-A336-257FCA52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385-7DBD-4E76-A64F-30AA3763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956-EF5B-410A-BBD5-8D946A6A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030-D81A-45E4-AFA6-85E285F7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A4A-188C-48B4-8BC6-7F0B6BCE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935-3D40-4A99-A7EB-E1440447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BA4-7F03-4BA2-B1CF-5165B697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BF5-2223-4AC7-953D-C11D092B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F458-C388-4FFC-B359-8163FEEA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EB4B-EBEC-45BA-8A4E-A0E04E39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E13C-3B6B-46DE-825E-3F5F187D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17F0-5C55-4A4A-929D-90D8BED5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E1C4-B048-4F57-9209-D740FF48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C38C-2BE6-4417-BD75-BC0B6924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D1AF-095A-4198-8758-C8A4BCC6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F215-6CCC-4E51-8219-2463DC52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E95F-5A3B-44B9-9146-DB0CCBA3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AE50-5B73-4203-8EE9-B20F2E63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AAE9-3F61-4ACD-A738-DC62E312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9A11-70A6-4EFB-B48F-DFDBBA6B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DA36C-6BA3-4B6C-9487-83751744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09AF-831E-4B9F-B876-26E55EB1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3367D-C691-46E5-AE09-E5421B61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6405-1178-4E15-ADC5-5B3571FE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A22D-5AAE-4EC4-9724-9C7970C3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80CEC-56E8-4B3B-8E0D-7F321A7C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88E15-3459-4F4B-8C3B-E94A88E2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79CA6-CA16-44C4-A11A-6559F171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6EB16-917E-46AC-B840-7081DFCE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69D1-2647-4506-9349-A3B0F406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EDAD4-C39B-4EE9-BF30-B7D4927B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E7E03-8B5D-4025-933F-FA8CFF21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23FA5-1E8A-4D53-8785-498018E2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6C60F-2808-4697-A5FE-297D1C5D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3D9DD-F1DF-4685-BC34-81A26BDA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F35D4-052B-4CAC-8102-9B623CDE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3BC87-99B1-496C-9970-D1AFD632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2AAC5-4765-4335-B6B6-1AAEDD33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0ECB9-504B-4260-B9AF-AD778CB4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6A4CD-47AC-44D9-BC37-C19BE185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BB59-B9C9-48CD-9E0D-C6F2BEB1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015E7-9583-4BA1-8840-4B65F249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77517-39EF-4C44-8322-4A463B54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81D80-5B74-4149-B037-49B0EA14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71214-DED4-4273-82B0-0A5ACF34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51A0A-BD2D-44FF-A1CB-F5004AD7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6DAE1-6881-4230-9415-81789065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E808D-0BAA-456E-970E-680C7DAD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8BED3-26F4-4E00-83BC-9588EA7A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4CDD7-9320-48CE-97F6-0517DF83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3CDF5-2507-49A0-928F-8F6BE9EB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EE3ED-BE59-40F2-8443-B9B289F3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2F90D-2D2C-412A-AE47-F6164C81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78F48-A107-4F3E-BF9D-DBFCC9B7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10936-4B98-4BE4-B55B-ACE101AD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E3F17-6758-4A8D-B48C-4C94044C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E09AD-6325-4159-B488-EEC18556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4D4C1-B290-4E73-8096-A8C94EE5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76CF1-6B72-4777-8977-A29D94F7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F97A5-168B-4120-B3AE-A40A1662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9288C-4172-4385-BCCC-79B77970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09C03-49BD-4386-9303-230A22A2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61F53-C0B0-4E0E-B586-4E9CD2AC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800C5-17BE-4DC4-B09D-3C912AA3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B0804-0EF7-4783-A501-642D3689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C226D-0394-48F4-8EAD-61A57931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4B521-2536-4ADB-B093-3CCC4C4C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C6E15-5BB4-4EA7-AB22-3AE33BE5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DEE49-A896-42FA-A3D9-C496CB2D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E3D98-42A2-4270-8480-3A92AAB9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E136F-F629-4C3E-8FD1-BD04B941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4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408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2A80-95E9-45F9-AB86-ADF4E1B9B179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453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E8C4-E59B-4B7D-A4F6-4CE2B01931C5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44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13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8 Rectángulo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a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11 Imagen" descr=""/>
            <p:cNvPicPr/>
            <p:nvPr/>
          </p:nvPicPr>
          <p:blipFill>
            <a:blip r:embed="rId4"/>
            <a:stretch/>
          </p:blipFill>
          <p:spPr>
            <a:xfrm>
              <a:off x="2843640" y="44280"/>
              <a:ext cx="6046560" cy="655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10 Rectángulo redondeado"/>
          <p:cNvSpPr/>
          <p:nvPr/>
        </p:nvSpPr>
        <p:spPr>
          <a:xfrm>
            <a:off x="-214200" y="115920"/>
            <a:ext cx="608148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5 Grupo"/>
          <p:cNvGrpSpPr/>
          <p:nvPr/>
        </p:nvGrpSpPr>
        <p:grpSpPr>
          <a:xfrm>
            <a:off x="485640" y="285840"/>
            <a:ext cx="5310360" cy="795240"/>
            <a:chOff x="485640" y="285840"/>
            <a:chExt cx="5310360" cy="795240"/>
          </a:xfrm>
        </p:grpSpPr>
        <p:pic>
          <p:nvPicPr>
            <p:cNvPr id="51" name="14 Imagen" descr="Prosperidad RGB.jpg"/>
            <p:cNvPicPr/>
            <p:nvPr/>
          </p:nvPicPr>
          <p:blipFill>
            <a:blip r:embed="rId5"/>
            <a:srcRect l="12297" t="37402" r="11486" b="37402"/>
            <a:stretch/>
          </p:blipFill>
          <p:spPr>
            <a:xfrm>
              <a:off x="3564000" y="404640"/>
              <a:ext cx="2232000" cy="5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15 Imagen" descr="Logo 2012 Invima min.jpg"/>
            <p:cNvPicPr/>
            <p:nvPr/>
          </p:nvPicPr>
          <p:blipFill>
            <a:blip r:embed="rId6"/>
            <a:stretch/>
          </p:blipFill>
          <p:spPr>
            <a:xfrm>
              <a:off x="485640" y="285840"/>
              <a:ext cx="3015000" cy="79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93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0BAA-0CDA-4A4E-9AC5-AFF4B5AB3C8E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138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7B77-5E3F-40F5-A83A-656B897BAF73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183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FF15-03B2-40D7-AA69-2C39C6BFEF9C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228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A49B-BE54-45BE-84D9-CC39683C2903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273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1C71-C0A2-4E50-B474-48F6FA0182B0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318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0917-22BE-4611-9D5B-4D6237466398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363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74ED-D763-44DB-85CF-750D3D7A0CCE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nvima.gov.co/" TargetMode="External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5 Rectángulo redondeado"/>
          <p:cNvGrpSpPr/>
          <p:nvPr/>
        </p:nvGrpSpPr>
        <p:grpSpPr>
          <a:xfrm>
            <a:off x="2895480" y="1109520"/>
            <a:ext cx="3316320" cy="3054600"/>
            <a:chOff x="2895480" y="1109520"/>
            <a:chExt cx="3316320" cy="3054600"/>
          </a:xfrm>
        </p:grpSpPr>
        <p:pic>
          <p:nvPicPr>
            <p:cNvPr id="504" name="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895480" y="1109520"/>
              <a:ext cx="3316320" cy="305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 rot="1510200">
              <a:off x="3244320" y="1598760"/>
              <a:ext cx="2622600" cy="20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3 Grupo"/>
          <p:cNvGrpSpPr/>
          <p:nvPr/>
        </p:nvGrpSpPr>
        <p:grpSpPr>
          <a:xfrm>
            <a:off x="536400" y="3933720"/>
            <a:ext cx="8280720" cy="2232000"/>
            <a:chOff x="536400" y="3933720"/>
            <a:chExt cx="8280720" cy="2232000"/>
          </a:xfrm>
        </p:grpSpPr>
        <p:sp>
          <p:nvSpPr>
            <p:cNvPr id="507" name="7 Redondear rectángulo de esquina del mismo lado"/>
            <p:cNvSpPr/>
            <p:nvPr/>
          </p:nvSpPr>
          <p:spPr>
            <a:xfrm rot="10800000">
              <a:off x="536400" y="3933360"/>
              <a:ext cx="8280720" cy="2232000"/>
            </a:xfrm>
            <a:custGeom>
              <a:avLst/>
              <a:gdLst/>
              <a:ahLst/>
              <a:rect l="l" t="t" r="r" b="b"/>
              <a:pathLst>
                <a:path w="6480001" h="1800001">
                  <a:moveTo>
                    <a:pt x="189000" y="0"/>
                  </a:moveTo>
                  <a:lnTo>
                    <a:pt x="6291001" y="0"/>
                  </a:lnTo>
                  <a:cubicBezTo>
                    <a:pt x="6395383" y="0"/>
                    <a:pt x="6480001" y="84618"/>
                    <a:pt x="6480001" y="189000"/>
                  </a:cubicBezTo>
                  <a:lnTo>
                    <a:pt x="6480001" y="1800001"/>
                  </a:lnTo>
                  <a:lnTo>
                    <a:pt x="6480001" y="1800001"/>
                  </a:lnTo>
                  <a:lnTo>
                    <a:pt x="0" y="1800001"/>
                  </a:lnTo>
                  <a:lnTo>
                    <a:pt x="0" y="1800001"/>
                  </a:lnTo>
                  <a:lnTo>
                    <a:pt x="0" y="189000"/>
                  </a:lnTo>
                  <a:cubicBezTo>
                    <a:pt x="0" y="84618"/>
                    <a:pt x="84618" y="0"/>
                    <a:pt x="1890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dondear rectángulo de esquina del mismo lado 5"/>
            <p:cNvSpPr/>
            <p:nvPr/>
          </p:nvSpPr>
          <p:spPr>
            <a:xfrm>
              <a:off x="536400" y="4106520"/>
              <a:ext cx="8280720" cy="205920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O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IMA</a:t>
              </a:r>
              <a:r>
                <a:rPr b="1" lang="es-CO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O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CIÓN DE MEDICAMENTOS Y PRODUCTOS BIOLÓGIC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Grupos Internos de Trabajo - 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27" name="9 CuadroTexto"/>
          <p:cNvSpPr/>
          <p:nvPr/>
        </p:nvSpPr>
        <p:spPr>
          <a:xfrm>
            <a:off x="285840" y="6000840"/>
            <a:ext cx="8715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Conformación de Grupos Internos de Trabajo establecidos en la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Resolución No. 2012033945 del 15 de Noviembre de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94 Grupo"/>
          <p:cNvGrpSpPr/>
          <p:nvPr/>
        </p:nvGrpSpPr>
        <p:grpSpPr>
          <a:xfrm>
            <a:off x="285840" y="1994040"/>
            <a:ext cx="8715240" cy="3811320"/>
            <a:chOff x="285840" y="1994040"/>
            <a:chExt cx="8715240" cy="3811320"/>
          </a:xfrm>
        </p:grpSpPr>
        <p:sp>
          <p:nvSpPr>
            <p:cNvPr id="529" name="7 Rectángulo"/>
            <p:cNvSpPr/>
            <p:nvPr/>
          </p:nvSpPr>
          <p:spPr>
            <a:xfrm>
              <a:off x="3237840" y="1994040"/>
              <a:ext cx="258012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DIRECCIÓN DE MEDICAMENTOS Y PRODUCTOS BIOLÓG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102 Rectángulo"/>
            <p:cNvSpPr/>
            <p:nvPr/>
          </p:nvSpPr>
          <p:spPr>
            <a:xfrm>
              <a:off x="285840" y="4710240"/>
              <a:ext cx="133524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</a:rPr>
                <a:t>Grupo  de Apoyo de las Salas Especializadas de la Comisión Reviso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136 Conector recto"/>
            <p:cNvSpPr/>
            <p:nvPr/>
          </p:nvSpPr>
          <p:spPr>
            <a:xfrm>
              <a:off x="988560" y="4351320"/>
              <a:ext cx="7309800" cy="1800"/>
            </a:xfrm>
            <a:prstGeom prst="line">
              <a:avLst/>
            </a:prstGeom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8 Conector recto"/>
            <p:cNvSpPr/>
            <p:nvPr/>
          </p:nvSpPr>
          <p:spPr>
            <a:xfrm>
              <a:off x="4624560" y="3085920"/>
              <a:ext cx="0" cy="130176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9 Conector recto"/>
            <p:cNvSpPr/>
            <p:nvPr/>
          </p:nvSpPr>
          <p:spPr>
            <a:xfrm flipH="1">
              <a:off x="3868920" y="4388040"/>
              <a:ext cx="1440" cy="32544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10 Conector recto"/>
            <p:cNvSpPr/>
            <p:nvPr/>
          </p:nvSpPr>
          <p:spPr>
            <a:xfrm flipH="1">
              <a:off x="5345280" y="4388040"/>
              <a:ext cx="1440" cy="32544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11 Conector recto"/>
            <p:cNvSpPr/>
            <p:nvPr/>
          </p:nvSpPr>
          <p:spPr>
            <a:xfrm flipH="1">
              <a:off x="6751800" y="4388040"/>
              <a:ext cx="1440" cy="32544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102 Rectángulo"/>
            <p:cNvSpPr/>
            <p:nvPr/>
          </p:nvSpPr>
          <p:spPr>
            <a:xfrm>
              <a:off x="1761840" y="4713120"/>
              <a:ext cx="133524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Grupo Técnico de Medicamentos y Productos Biológic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102 Rectángulo"/>
            <p:cNvSpPr/>
            <p:nvPr/>
          </p:nvSpPr>
          <p:spPr>
            <a:xfrm>
              <a:off x="3237840" y="4713120"/>
              <a:ext cx="133524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Grupo de Programas Especi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102 Rectángulo"/>
            <p:cNvSpPr/>
            <p:nvPr/>
          </p:nvSpPr>
          <p:spPr>
            <a:xfrm>
              <a:off x="4713840" y="4713480"/>
              <a:ext cx="1335240" cy="1091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Grupo de Registros Sanitarios de Medicamentos y Productos Biológic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102 Rectángulo"/>
            <p:cNvSpPr/>
            <p:nvPr/>
          </p:nvSpPr>
          <p:spPr>
            <a:xfrm>
              <a:off x="6189840" y="4713480"/>
              <a:ext cx="1335240" cy="1091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Grupo de Registros Sanitarios de Fitoterapéuticos, Homeopáticos y suplement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102 Rectángulo"/>
            <p:cNvSpPr/>
            <p:nvPr/>
          </p:nvSpPr>
          <p:spPr>
            <a:xfrm>
              <a:off x="7665840" y="4713120"/>
              <a:ext cx="133524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Grupo de Publicida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17 Conector recto"/>
            <p:cNvSpPr/>
            <p:nvPr/>
          </p:nvSpPr>
          <p:spPr>
            <a:xfrm flipH="1">
              <a:off x="2392200" y="4351320"/>
              <a:ext cx="1440" cy="36180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18 Conector recto"/>
            <p:cNvSpPr/>
            <p:nvPr/>
          </p:nvSpPr>
          <p:spPr>
            <a:xfrm flipH="1">
              <a:off x="8298000" y="4351320"/>
              <a:ext cx="1440" cy="32688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19 Conector recto"/>
            <p:cNvSpPr/>
            <p:nvPr/>
          </p:nvSpPr>
          <p:spPr>
            <a:xfrm flipH="1">
              <a:off x="988920" y="4351320"/>
              <a:ext cx="1440" cy="32688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Fortalecimiento IVC </a:t>
            </a:r>
            <a:br>
              <a:rPr sz="30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495360" y="1214280"/>
            <a:ext cx="806616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Fortalecimiento IVC </a:t>
            </a:r>
            <a:br>
              <a:rPr sz="30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1174680" y="1197000"/>
            <a:ext cx="685332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Fortalecimiento IVC </a:t>
            </a:r>
            <a:br>
              <a:rPr sz="30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grpSp>
        <p:nvGrpSpPr>
          <p:cNvPr id="549" name="12 Grupo"/>
          <p:cNvGrpSpPr/>
          <p:nvPr/>
        </p:nvGrpSpPr>
        <p:grpSpPr>
          <a:xfrm>
            <a:off x="468360" y="1268280"/>
            <a:ext cx="8229600" cy="5199480"/>
            <a:chOff x="468360" y="1268280"/>
            <a:chExt cx="8229600" cy="5199480"/>
          </a:xfrm>
        </p:grpSpPr>
        <p:sp>
          <p:nvSpPr>
            <p:cNvPr id="550" name="Rectangle 2"/>
            <p:cNvSpPr/>
            <p:nvPr/>
          </p:nvSpPr>
          <p:spPr>
            <a:xfrm>
              <a:off x="680040" y="1268280"/>
              <a:ext cx="80179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8000"/>
                  </a:solidFill>
                  <a:latin typeface="Calibri"/>
                </a:rPr>
                <a:t> </a:t>
              </a:r>
              <a:r>
                <a:rPr b="1" lang="es-ES" sz="2000" spc="-1" strike="noStrike">
                  <a:solidFill>
                    <a:srgbClr val="008000"/>
                  </a:solidFill>
                  <a:latin typeface="Calibri"/>
                </a:rPr>
                <a:t>VIGILANCIA EN SALUD PÚBL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24 Grupo"/>
            <p:cNvGrpSpPr/>
            <p:nvPr/>
          </p:nvGrpSpPr>
          <p:grpSpPr>
            <a:xfrm>
              <a:off x="468360" y="1708920"/>
              <a:ext cx="8222040" cy="4758840"/>
              <a:chOff x="468360" y="1708920"/>
              <a:chExt cx="8222040" cy="4758840"/>
            </a:xfrm>
          </p:grpSpPr>
          <p:sp>
            <p:nvSpPr>
              <p:cNvPr id="552" name="Oval 4"/>
              <p:cNvSpPr/>
              <p:nvPr/>
            </p:nvSpPr>
            <p:spPr>
              <a:xfrm>
                <a:off x="2093760" y="1708920"/>
                <a:ext cx="5939280" cy="3321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Oval 5"/>
              <p:cNvSpPr/>
              <p:nvPr/>
            </p:nvSpPr>
            <p:spPr>
              <a:xfrm>
                <a:off x="2984760" y="2454480"/>
                <a:ext cx="2593800" cy="174816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6"/>
              <p:cNvSpPr/>
              <p:nvPr/>
            </p:nvSpPr>
            <p:spPr>
              <a:xfrm>
                <a:off x="5383800" y="2657880"/>
                <a:ext cx="1671840" cy="133992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7"/>
              <p:cNvSpPr/>
              <p:nvPr/>
            </p:nvSpPr>
            <p:spPr>
              <a:xfrm>
                <a:off x="5368320" y="2971080"/>
                <a:ext cx="244080" cy="69732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697320"/>
                  <a:gd name="textAreaBottom" fmla="*/ 697680 h 697320"/>
                </a:gdLst>
                <a:ahLst/>
                <a:rect l="textAreaLeft" t="textAreaTop" r="textAreaRight" b="textAreaBottom"/>
                <a:pathLst>
                  <a:path w="204" h="574">
                    <a:moveTo>
                      <a:pt x="120" y="0"/>
                    </a:moveTo>
                    <a:cubicBezTo>
                      <a:pt x="112" y="12"/>
                      <a:pt x="99" y="25"/>
                      <a:pt x="88" y="36"/>
                    </a:cubicBezTo>
                    <a:cubicBezTo>
                      <a:pt x="83" y="50"/>
                      <a:pt x="86" y="44"/>
                      <a:pt x="80" y="54"/>
                    </a:cubicBezTo>
                    <a:cubicBezTo>
                      <a:pt x="77" y="67"/>
                      <a:pt x="74" y="84"/>
                      <a:pt x="62" y="92"/>
                    </a:cubicBezTo>
                    <a:cubicBezTo>
                      <a:pt x="57" y="106"/>
                      <a:pt x="64" y="91"/>
                      <a:pt x="54" y="102"/>
                    </a:cubicBezTo>
                    <a:cubicBezTo>
                      <a:pt x="51" y="106"/>
                      <a:pt x="46" y="114"/>
                      <a:pt x="46" y="114"/>
                    </a:cubicBezTo>
                    <a:cubicBezTo>
                      <a:pt x="43" y="136"/>
                      <a:pt x="39" y="163"/>
                      <a:pt x="28" y="182"/>
                    </a:cubicBezTo>
                    <a:cubicBezTo>
                      <a:pt x="24" y="190"/>
                      <a:pt x="16" y="194"/>
                      <a:pt x="12" y="202"/>
                    </a:cubicBezTo>
                    <a:cubicBezTo>
                      <a:pt x="10" y="206"/>
                      <a:pt x="8" y="214"/>
                      <a:pt x="8" y="214"/>
                    </a:cubicBezTo>
                    <a:cubicBezTo>
                      <a:pt x="6" y="251"/>
                      <a:pt x="0" y="319"/>
                      <a:pt x="12" y="354"/>
                    </a:cubicBezTo>
                    <a:cubicBezTo>
                      <a:pt x="17" y="369"/>
                      <a:pt x="25" y="380"/>
                      <a:pt x="28" y="396"/>
                    </a:cubicBezTo>
                    <a:cubicBezTo>
                      <a:pt x="31" y="424"/>
                      <a:pt x="47" y="485"/>
                      <a:pt x="64" y="508"/>
                    </a:cubicBezTo>
                    <a:cubicBezTo>
                      <a:pt x="67" y="516"/>
                      <a:pt x="69" y="519"/>
                      <a:pt x="76" y="524"/>
                    </a:cubicBezTo>
                    <a:cubicBezTo>
                      <a:pt x="82" y="541"/>
                      <a:pt x="91" y="568"/>
                      <a:pt x="110" y="574"/>
                    </a:cubicBezTo>
                    <a:cubicBezTo>
                      <a:pt x="111" y="572"/>
                      <a:pt x="112" y="570"/>
                      <a:pt x="114" y="568"/>
                    </a:cubicBezTo>
                    <a:cubicBezTo>
                      <a:pt x="116" y="566"/>
                      <a:pt x="118" y="566"/>
                      <a:pt x="120" y="564"/>
                    </a:cubicBezTo>
                    <a:cubicBezTo>
                      <a:pt x="127" y="555"/>
                      <a:pt x="130" y="539"/>
                      <a:pt x="134" y="528"/>
                    </a:cubicBezTo>
                    <a:cubicBezTo>
                      <a:pt x="136" y="521"/>
                      <a:pt x="142" y="516"/>
                      <a:pt x="146" y="510"/>
                    </a:cubicBezTo>
                    <a:cubicBezTo>
                      <a:pt x="147" y="508"/>
                      <a:pt x="150" y="504"/>
                      <a:pt x="150" y="504"/>
                    </a:cubicBezTo>
                    <a:cubicBezTo>
                      <a:pt x="154" y="489"/>
                      <a:pt x="159" y="469"/>
                      <a:pt x="168" y="456"/>
                    </a:cubicBezTo>
                    <a:cubicBezTo>
                      <a:pt x="171" y="442"/>
                      <a:pt x="174" y="430"/>
                      <a:pt x="184" y="420"/>
                    </a:cubicBezTo>
                    <a:cubicBezTo>
                      <a:pt x="193" y="382"/>
                      <a:pt x="194" y="342"/>
                      <a:pt x="204" y="304"/>
                    </a:cubicBezTo>
                    <a:cubicBezTo>
                      <a:pt x="203" y="286"/>
                      <a:pt x="203" y="268"/>
                      <a:pt x="202" y="250"/>
                    </a:cubicBezTo>
                    <a:cubicBezTo>
                      <a:pt x="202" y="242"/>
                      <a:pt x="196" y="226"/>
                      <a:pt x="196" y="226"/>
                    </a:cubicBezTo>
                    <a:cubicBezTo>
                      <a:pt x="194" y="210"/>
                      <a:pt x="196" y="204"/>
                      <a:pt x="198" y="188"/>
                    </a:cubicBezTo>
                    <a:cubicBezTo>
                      <a:pt x="196" y="166"/>
                      <a:pt x="197" y="151"/>
                      <a:pt x="184" y="134"/>
                    </a:cubicBezTo>
                    <a:cubicBezTo>
                      <a:pt x="181" y="125"/>
                      <a:pt x="177" y="119"/>
                      <a:pt x="174" y="110"/>
                    </a:cubicBezTo>
                    <a:cubicBezTo>
                      <a:pt x="173" y="108"/>
                      <a:pt x="172" y="104"/>
                      <a:pt x="172" y="104"/>
                    </a:cubicBezTo>
                    <a:cubicBezTo>
                      <a:pt x="169" y="69"/>
                      <a:pt x="160" y="44"/>
                      <a:pt x="130" y="24"/>
                    </a:cubicBezTo>
                    <a:cubicBezTo>
                      <a:pt x="127" y="14"/>
                      <a:pt x="120" y="9"/>
                      <a:pt x="120" y="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8"/>
              <p:cNvSpPr/>
              <p:nvPr/>
            </p:nvSpPr>
            <p:spPr>
              <a:xfrm>
                <a:off x="3903480" y="3132360"/>
                <a:ext cx="74988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9"/>
              <p:cNvSpPr/>
              <p:nvPr/>
            </p:nvSpPr>
            <p:spPr>
              <a:xfrm>
                <a:off x="6126120" y="3132360"/>
                <a:ext cx="74988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2"/>
              <p:cNvSpPr/>
              <p:nvPr/>
            </p:nvSpPr>
            <p:spPr>
              <a:xfrm>
                <a:off x="5516640" y="3335400"/>
                <a:ext cx="0" cy="223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13"/>
              <p:cNvSpPr/>
              <p:nvPr/>
            </p:nvSpPr>
            <p:spPr>
              <a:xfrm>
                <a:off x="4848480" y="5558400"/>
                <a:ext cx="38419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ecnovigilancia y Farmacovigilanci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4"/>
              <p:cNvSpPr/>
              <p:nvPr/>
            </p:nvSpPr>
            <p:spPr>
              <a:xfrm>
                <a:off x="468360" y="5301360"/>
                <a:ext cx="519480" cy="3387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5"/>
              <p:cNvSpPr/>
              <p:nvPr/>
            </p:nvSpPr>
            <p:spPr>
              <a:xfrm>
                <a:off x="468360" y="5707800"/>
                <a:ext cx="519480" cy="3387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16"/>
              <p:cNvSpPr/>
              <p:nvPr/>
            </p:nvSpPr>
            <p:spPr>
              <a:xfrm>
                <a:off x="468360" y="6114600"/>
                <a:ext cx="519480" cy="3387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17"/>
              <p:cNvSpPr/>
              <p:nvPr/>
            </p:nvSpPr>
            <p:spPr>
              <a:xfrm>
                <a:off x="468360" y="4894560"/>
                <a:ext cx="519480" cy="3387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8"/>
              <p:cNvSpPr/>
              <p:nvPr/>
            </p:nvSpPr>
            <p:spPr>
              <a:xfrm>
                <a:off x="987840" y="4943880"/>
                <a:ext cx="28209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igilancia en Salud Públic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19"/>
              <p:cNvSpPr/>
              <p:nvPr/>
            </p:nvSpPr>
            <p:spPr>
              <a:xfrm>
                <a:off x="987840" y="5325480"/>
                <a:ext cx="34149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igilancia Epidemiológic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20"/>
              <p:cNvSpPr/>
              <p:nvPr/>
            </p:nvSpPr>
            <p:spPr>
              <a:xfrm>
                <a:off x="987840" y="5770080"/>
                <a:ext cx="34149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igilancia Sanitari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21"/>
              <p:cNvSpPr/>
              <p:nvPr/>
            </p:nvSpPr>
            <p:spPr>
              <a:xfrm>
                <a:off x="987840" y="6114600"/>
                <a:ext cx="34149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unto convergente VE-V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Fortalecimiento IVC </a:t>
            </a:r>
            <a:br>
              <a:rPr sz="30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738360" y="1447920"/>
            <a:ext cx="766728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bacc6"/>
                </a:solidFill>
                <a:latin typeface="Arial Black"/>
              </a:rPr>
              <a:t>PROGRAMA NACIONAL DE FARMACOVIGILANCIA</a:t>
            </a:r>
            <a:endParaRPr b="1" lang="en-US" sz="24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Programa Nacional de Farmacovigilancia, se encarga del tramite de información sobre la seguridad de los medicamentos comercializados en Colombia, con el fin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r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ón beneficio / riesg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los mismos, y realizar la respectiv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unic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s profesionales de la salud y pacientes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icionalmente se llevan a cabo actividades de promoción y fortalecimiento de la Red Nacional de Farmacovigilancia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bacc6"/>
                </a:solidFill>
                <a:latin typeface="Arial Black"/>
              </a:rPr>
              <a:t>ACTIVIDADES FUNDAMENTALES FARMACOVIGILANCIA</a:t>
            </a:r>
            <a:endParaRPr b="1" lang="en-US" sz="2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125000"/>
            <a:ext cx="8229600" cy="523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cepción, Ingreso a la base de datos SIVICOS, análisis y respuesta 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portes de RAM y fallos terapéuticos o problemas relacionados con los medicament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ortalecimiento de la Red Nacional de Farmacovigilanci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, por medio de visitas de capacitación y asistencia técnica a IPS y Direcciones Territoriales de Salud. Como también visitas de seguimiento a laboratorios farmacéuticos y titulares de R.S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úsqueda activa de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lertas de seguridad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, tramite de las mismas, elaboración de informes de seguridad, comunicados de prensa y alertas nacionales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aboración de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oletines de Farmacovigilanci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Notificación periódica de RAM Periódica a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UPPSAL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tras (Incentivar en la farmacovigilancia Activa)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a0ba"/>
                </a:solidFill>
                <a:latin typeface="Arial Black"/>
              </a:rPr>
              <a:t>ACTORES QUE ARTICULAN A NIVEL NACIONAL - </a:t>
            </a:r>
            <a:r>
              <a:rPr b="1" lang="es-MX" sz="1800" spc="-1" strike="noStrike">
                <a:solidFill>
                  <a:srgbClr val="4bacc6"/>
                </a:solidFill>
                <a:latin typeface="Arial Black"/>
              </a:rPr>
              <a:t>FARMACOVIGILANCIA</a:t>
            </a:r>
            <a:endParaRPr b="1" lang="en-US" sz="18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75" name="3 Marcador de contenido" descr=""/>
          <p:cNvPicPr/>
          <p:nvPr/>
        </p:nvPicPr>
        <p:blipFill>
          <a:blip r:embed="rId1"/>
          <a:stretch/>
        </p:blipFill>
        <p:spPr>
          <a:xfrm>
            <a:off x="1231920" y="1603440"/>
            <a:ext cx="6656400" cy="3468600"/>
          </a:xfrm>
          <a:prstGeom prst="rect">
            <a:avLst/>
          </a:prstGeom>
          <a:ln w="0">
            <a:noFill/>
          </a:ln>
        </p:spPr>
      </p:pic>
      <p:sp>
        <p:nvSpPr>
          <p:cNvPr id="576" name="4 Rectángulo"/>
          <p:cNvSpPr/>
          <p:nvPr/>
        </p:nvSpPr>
        <p:spPr>
          <a:xfrm>
            <a:off x="428760" y="5000760"/>
            <a:ext cx="778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l programa de Farmacovigilancia es liderado por el INVIMA, con apoyo de las DTS; los NRF son las DTS que cuentan con un desarrollo considerable en FV (Antioquia, Atlántico, Cartagena, Barranquilla y Nariño); no es descentralización, es apoyo en ciertas actividades, como visitas, toma de muestr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a0ba"/>
                </a:solidFill>
                <a:latin typeface="Arial Black"/>
              </a:rPr>
              <a:t>ENLACES DE   - </a:t>
            </a:r>
            <a:r>
              <a:rPr b="1" lang="es-MX" sz="2000" spc="-1" strike="noStrike">
                <a:solidFill>
                  <a:srgbClr val="4bacc6"/>
                </a:solidFill>
                <a:latin typeface="Arial Black"/>
              </a:rPr>
              <a:t>FARMACOVIGILANCIA</a:t>
            </a:r>
            <a:r>
              <a:rPr b="1" lang="es-MX" sz="2000" spc="-1" strike="noStrike">
                <a:solidFill>
                  <a:srgbClr val="00a0ba"/>
                </a:solidFill>
                <a:latin typeface="Arial Black"/>
              </a:rPr>
              <a:t>RED</a:t>
            </a:r>
            <a:endParaRPr b="1" lang="en-US" sz="2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78" name="9 Marcador de contenido" descr="Imagen1.png"/>
          <p:cNvPicPr/>
          <p:nvPr/>
        </p:nvPicPr>
        <p:blipFill>
          <a:blip r:embed="rId1"/>
          <a:stretch/>
        </p:blipFill>
        <p:spPr>
          <a:xfrm>
            <a:off x="457200" y="1847880"/>
            <a:ext cx="8229600" cy="4357800"/>
          </a:xfrm>
          <a:prstGeom prst="rect">
            <a:avLst/>
          </a:prstGeom>
          <a:ln w="0">
            <a:noFill/>
          </a:ln>
        </p:spPr>
      </p:pic>
      <p:cxnSp>
        <p:nvCxnSpPr>
          <p:cNvPr id="579" name="AutoShape 13"/>
          <p:cNvCxnSpPr/>
          <p:nvPr/>
        </p:nvCxnSpPr>
        <p:spPr>
          <a:xfrm>
            <a:off x="6428880" y="4142880"/>
            <a:ext cx="793080" cy="3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a0ba"/>
                </a:solidFill>
                <a:latin typeface="Arial Black"/>
              </a:rPr>
              <a:t>PROGRAMA DEMUESTRA LA CALIDAD</a:t>
            </a:r>
            <a:endParaRPr b="1" lang="en-US" sz="24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68360" y="184464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Es un programa nacional para </a:t>
            </a:r>
            <a:r>
              <a:rPr b="1" i="1" lang="es-CO" sz="2400" spc="-1" strike="noStrike">
                <a:solidFill>
                  <a:srgbClr val="000000"/>
                </a:solidFill>
                <a:latin typeface="Arial"/>
              </a:rPr>
              <a:t>LA VERIFICACIÓN DE LA CALIDAD DE MUESTRAS DE MEDICAMENTOS QUE SE CONSUMEN EN EL PAÍS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, seleccionados de acuerdo a </a:t>
            </a:r>
            <a:r>
              <a:rPr b="1" i="1" lang="es-CO" sz="2400" spc="-1" strike="noStrike">
                <a:solidFill>
                  <a:srgbClr val="000000"/>
                </a:solidFill>
                <a:latin typeface="Arial"/>
              </a:rPr>
              <a:t>CRITERIOS DE ALTO CONSUMO, RELEVANCIA CLÍNICA E IMPACTO EN SALUD PÚBLICA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, a los cuales se les realizan análisis de control de calidad con el fin de verificar el cumplimient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n sus especificaciones físicas, químicas y microbiológicas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Nació en el año 2004 como una iniciativa de la Dirección INVIMA y EL Ministerio de Protección Social, año desde el cual se ha venido realizando el programa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47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4 Marcador de texto"/>
          <p:cNvSpPr/>
          <p:nvPr/>
        </p:nvSpPr>
        <p:spPr>
          <a:xfrm>
            <a:off x="755640" y="177336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D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BLANCA ELVIRA CAJIGAS DE ACO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Directora Gen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IN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4 Marcador de texto"/>
          <p:cNvSpPr/>
          <p:nvPr/>
        </p:nvSpPr>
        <p:spPr>
          <a:xfrm>
            <a:off x="755640" y="3716280"/>
            <a:ext cx="77724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300" spc="-1" strike="noStrike">
                <a:solidFill>
                  <a:srgbClr val="ffffff"/>
                </a:solidFill>
                <a:latin typeface="Arial"/>
                <a:ea typeface="Arial"/>
              </a:rPr>
              <a:t>D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300" spc="-1" strike="noStrike">
                <a:solidFill>
                  <a:srgbClr val="ffffff"/>
                </a:solidFill>
                <a:latin typeface="Arial"/>
                <a:ea typeface="Arial"/>
              </a:rPr>
              <a:t>CARLOS AUGUSTO SÁNCHEZ ESTUPIÑÁ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300" spc="-1" strike="noStrike">
                <a:solidFill>
                  <a:srgbClr val="ffffff"/>
                </a:solidFill>
                <a:latin typeface="Arial"/>
                <a:ea typeface="Arial"/>
              </a:rPr>
              <a:t>Direc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300" spc="-1" strike="noStrike">
                <a:solidFill>
                  <a:srgbClr val="ffffff"/>
                </a:solidFill>
                <a:latin typeface="Arial"/>
                <a:ea typeface="Arial"/>
              </a:rPr>
              <a:t>Dirección de Medicamentos y Productos Biológic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300" spc="-1" strike="noStrike">
                <a:solidFill>
                  <a:srgbClr val="ffffff"/>
                </a:solidFill>
                <a:latin typeface="Arial"/>
                <a:ea typeface="Arial"/>
              </a:rPr>
              <a:t>INVI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a0ba"/>
                </a:solidFill>
                <a:latin typeface="Arial Black"/>
              </a:rPr>
              <a:t>Programa de Trazabilidad</a:t>
            </a:r>
            <a:endParaRPr b="1" lang="en-US" sz="24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534960" y="1569960"/>
            <a:ext cx="792000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La trazabilidad es una herramienta eficiente para controlar en TIEMPO REAL las transacciones de los medicamentos, verificar el origen de los mismos, registrar la historia de localizaciones y traslados a lo largo de toda la CADENA DE DISTRIB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9 Grupo"/>
          <p:cNvGrpSpPr/>
          <p:nvPr/>
        </p:nvGrpSpPr>
        <p:grpSpPr>
          <a:xfrm>
            <a:off x="1042920" y="4024440"/>
            <a:ext cx="6669000" cy="2428920"/>
            <a:chOff x="1042920" y="4024440"/>
            <a:chExt cx="6669000" cy="2428920"/>
          </a:xfrm>
        </p:grpSpPr>
        <p:pic>
          <p:nvPicPr>
            <p:cNvPr id="585" name="Picture 39" descr="Diagrama Completo"/>
            <p:cNvPicPr/>
            <p:nvPr/>
          </p:nvPicPr>
          <p:blipFill>
            <a:blip r:embed="rId1"/>
            <a:stretch/>
          </p:blipFill>
          <p:spPr>
            <a:xfrm>
              <a:off x="1042920" y="4024440"/>
              <a:ext cx="6669000" cy="2428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86" name="Text Box 6"/>
            <p:cNvSpPr/>
            <p:nvPr/>
          </p:nvSpPr>
          <p:spPr>
            <a:xfrm>
              <a:off x="7020000" y="4816440"/>
              <a:ext cx="5029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1 Título"/>
          <p:cNvSpPr/>
          <p:nvPr/>
        </p:nvSpPr>
        <p:spPr>
          <a:xfrm>
            <a:off x="3924360" y="331920"/>
            <a:ext cx="511164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99ff"/>
                </a:solidFill>
                <a:latin typeface="Arial"/>
                <a:ea typeface="Arial"/>
              </a:rPr>
              <a:t>DESARROLLO DEL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99ff"/>
                </a:solidFill>
                <a:latin typeface="Arial"/>
                <a:ea typeface="Arial"/>
              </a:rPr>
              <a:t>JUNIO 2012 – FEBRERO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10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9001080" cy="4572000"/>
          </a:xfrm>
          <a:prstGeom prst="rect">
            <a:avLst/>
          </a:prstGeom>
          <a:ln w="0">
            <a:noFill/>
          </a:ln>
        </p:spPr>
      </p:pic>
      <p:sp>
        <p:nvSpPr>
          <p:cNvPr id="589" name="1 Marcador de contenido"/>
          <p:cNvSpPr/>
          <p:nvPr/>
        </p:nvSpPr>
        <p:spPr>
          <a:xfrm>
            <a:off x="285840" y="1413000"/>
            <a:ext cx="8246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ETE (7) CIUDADES: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2) Fronteri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)De difícil acces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4)Densamente pobla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1 CuadroTexto"/>
          <p:cNvSpPr/>
          <p:nvPr/>
        </p:nvSpPr>
        <p:spPr>
          <a:xfrm>
            <a:off x="2286000" y="2813040"/>
            <a:ext cx="43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a0ba"/>
                </a:solidFill>
                <a:latin typeface="Arial"/>
              </a:rPr>
              <a:t>GRA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1643040" y="4857840"/>
            <a:ext cx="57466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  <a:hlinkClick r:id="rId1"/>
              </a:rPr>
              <a:t>www.invima.gov.co</a:t>
            </a:r>
            <a:br>
              <a:rPr sz="1600"/>
            </a:br>
            <a:r>
              <a:rPr b="1" lang="es-ES" sz="1600" spc="-1" strike="noStrike">
                <a:solidFill>
                  <a:srgbClr val="00a0ba"/>
                </a:solidFill>
                <a:latin typeface="Arial"/>
                <a:ea typeface="ＭＳ Ｐゴシック"/>
              </a:rPr>
              <a:t> Carrera 68 D No. 17-11  -   Bogotá, D.C. Colombia.</a:t>
            </a:r>
            <a:br>
              <a:rPr sz="1600"/>
            </a:br>
            <a:r>
              <a:rPr b="1" lang="es-ES" sz="1600" spc="-1" strike="noStrike">
                <a:solidFill>
                  <a:srgbClr val="00a0ba"/>
                </a:solidFill>
                <a:latin typeface="Arial"/>
                <a:ea typeface="ＭＳ Ｐゴシック"/>
              </a:rPr>
              <a:t>Teléfono: (1)29487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440" y="21384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a0ba"/>
                </a:solidFill>
                <a:latin typeface="Arial Black"/>
              </a:rPr>
              <a:t>INVIMA</a:t>
            </a:r>
            <a:endParaRPr b="1" lang="en-US" sz="4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8584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宋体"/>
              </a:rPr>
              <a:t>Es un establecimiento público del orden nacional, con personería jurídica, autonomía administrativa y patrimonio independiente, adscrito al Ministerio de Salud y Protección Social y perteneciente al SNS, de carácter científico y tecnológico, creado por la ley 100 de 1993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宋体"/>
              </a:rPr>
              <a:t>y precisadas sus funciones mediante el Decreto 2078 de 2012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2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宋体"/>
              </a:rPr>
              <a:t>Encargado de ejecutar las políticas formuladas por el Ministerio de Salud y Protección Social en materia de vigilancia sanitaria y control de calidad de los productos de su competencia.</a:t>
            </a:r>
            <a:endParaRPr b="0" lang="en-US" sz="2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a0ba"/>
                </a:solidFill>
                <a:latin typeface="Arial Black"/>
              </a:rPr>
              <a:t>INVIMA</a:t>
            </a:r>
            <a:br>
              <a:rPr sz="4000"/>
            </a:br>
            <a:r>
              <a:rPr b="1" lang="es-CO" sz="4000" spc="-1" strike="noStrike">
                <a:solidFill>
                  <a:srgbClr val="00a0ba"/>
                </a:solidFill>
                <a:latin typeface="Arial Black"/>
              </a:rPr>
              <a:t>Misión</a:t>
            </a:r>
            <a:endParaRPr b="1" lang="en-US" sz="4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57120" y="1999800"/>
            <a:ext cx="83296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teger y promover la salud de la población, mediante la gestión del riesgo asociada al consumo y uso de alimentos, medicamentos,  dispositivos médicos y otros productos objeto de vigilancia sanitaria.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57760" y="285840"/>
            <a:ext cx="4906800" cy="11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a0ba"/>
                </a:solidFill>
                <a:latin typeface="Arial Black"/>
              </a:rPr>
              <a:t>INVIMA</a:t>
            </a:r>
            <a:br>
              <a:rPr sz="4000"/>
            </a:br>
            <a:r>
              <a:rPr b="1" lang="es-CO" sz="4000" spc="-1" strike="noStrike">
                <a:solidFill>
                  <a:srgbClr val="00a0ba"/>
                </a:solidFill>
                <a:latin typeface="Arial Black"/>
              </a:rPr>
              <a:t>Visión</a:t>
            </a:r>
            <a:endParaRPr b="1" lang="en-US" sz="4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49976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el 2014 el INVIMA  será una institución líder en el Sistema Nacional de Vigilancia Sanitaria, reconocida nacional e internacionalmente por su transparencia, efectividad operacional e idoneidad técnica, generadora permanente de seguridad y confianza en la población.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a0ba"/>
                </a:solidFill>
                <a:latin typeface="Arial Black"/>
              </a:rPr>
              <a:t>INVIMA</a:t>
            </a:r>
            <a:br>
              <a:rPr sz="32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Objetivos Estratégicos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olidar al INVIMA como un líder y articulador de la vigilancia sanitaria bajo un enfoque de gestión de riesgo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r la confianza del ciudadano y la legitimidad de la gestión institucional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514440" indent="-514440" algn="just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namizar y fortalecer los procesos de apoyo a la competitividad, mejoramiento del estatus sanitario del país y su  reconocimiento como agencia sanitaria en el contexto internacional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7f7f7f"/>
              </a:solidFill>
              <a:latin typeface="Arial"/>
            </a:endParaRPr>
          </a:p>
          <a:p>
            <a:pPr marL="514440" indent="-51444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Fortalecimiento IVC </a:t>
            </a:r>
            <a:br>
              <a:rPr sz="30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229520" cy="5112000"/>
          </a:xfrm>
          <a:prstGeom prst="rect">
            <a:avLst/>
          </a:prstGeom>
          <a:ln w="0">
            <a:noFill/>
          </a:ln>
        </p:spPr>
      </p:pic>
      <p:sp>
        <p:nvSpPr>
          <p:cNvPr id="521" name="1 Rectángulo"/>
          <p:cNvSpPr/>
          <p:nvPr/>
        </p:nvSpPr>
        <p:spPr>
          <a:xfrm>
            <a:off x="6732720" y="1341360"/>
            <a:ext cx="1539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a0ba"/>
                </a:solidFill>
                <a:latin typeface="Arial Black"/>
              </a:rPr>
              <a:t>ASPECTOS INSTITUCIONALES</a:t>
            </a:r>
            <a:br>
              <a:rPr sz="2400"/>
            </a:br>
            <a:endParaRPr b="1" lang="en-US" sz="24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495360" y="1197000"/>
            <a:ext cx="815328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Organigrama INVIMA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25" name="Picture 2" descr="http://web.invima.gov.co/portal/documents/portal/images/root/Organigrama%20102012.JPG"/>
          <p:cNvPicPr/>
          <p:nvPr/>
        </p:nvPicPr>
        <p:blipFill>
          <a:blip r:embed="rId1"/>
          <a:stretch/>
        </p:blipFill>
        <p:spPr>
          <a:xfrm>
            <a:off x="609480" y="1484280"/>
            <a:ext cx="79232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4:34:27Z</dcterms:created>
  <dc:creator>lpareja</dc:creator>
  <dc:description/>
  <dc:language>en-US</dc:language>
  <cp:lastModifiedBy>Carlos Enrique Aguilar</cp:lastModifiedBy>
  <cp:lastPrinted>2013-05-08T22:35:09Z</cp:lastPrinted>
  <dcterms:modified xsi:type="dcterms:W3CDTF">2013-05-09T13:29:57Z</dcterms:modified>
  <cp:revision>416</cp:revision>
  <dc:subject/>
  <dc:title>Diapositiva 1</dc:title>
</cp:coreProperties>
</file>