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2248-0C65-460D-B285-3E508227CFC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8FB0-EE9A-4DCA-8946-018BC811F7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DBDC-3A62-4C98-A821-2979F55BF70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668A-584C-422B-93A8-CBE7D16A2AB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F7C5-6C63-4E19-8FA8-88063C447DA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4A05-CAE6-4253-8F1A-FA237E4CC61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C866-DA10-447F-8B10-7FA8B7E123A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F7EA-9EBA-418D-8AAA-87FCDD15F68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574C-52AF-4ADA-BB44-3F16A77AA74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FE2-C291-4927-8BCA-535C61BB07C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04ED-CA1A-4971-96D5-D2B0A68D135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82F3-4A1C-4EE3-B534-AF7C560FEB6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9768-ECA8-4003-A6DA-758A74CB73F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4E34-60A4-4A2F-876D-6F769E7EA2A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02A6-DB4C-4C09-A1FD-D6946452CA8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087-C673-4C43-ABC0-D5EF2360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DAA-3D45-4C7B-854E-5941D0CA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2C06C-E5FA-4E75-A9DF-C6E45EE5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BC7E9-61AE-4683-AC84-44319700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B6A66-E94D-4211-A19A-9D63718C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2B00E-554D-4454-B4A2-DA4A8CA9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2125A-7BB3-423D-86FA-96566C59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BE55E-642C-4A76-840A-9232AC2E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F974F-FBB1-4C10-A280-C67B08E2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622AC-F5E4-4563-BCCA-59EBAC10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BADEC-E8B0-47C1-BCEF-7F8DD11E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32818-EB51-49BF-97DC-5CD64EC1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5F9-E69D-4E1A-BFB5-B566C4D4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F0308-A366-4BDE-B08C-0D3D7AD4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D19CF-C3B7-4602-B0E1-7CBF68BB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D99D7-5467-4A19-B787-39FBBC7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B2B76-D6E9-4164-820E-11E6FE6A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1D6D6-B7AA-493F-9A51-90EA327E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A6F58-7DC6-4781-83BF-BB42CBD9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9496B-22C6-4215-8DA6-4980E40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81D94-3AB2-4E9A-83A9-525A1B2F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9684D-2D92-4265-B2D3-0DA02F0E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65093-7D76-4F49-95E5-D8507AF2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376-E143-4874-82A4-8A4F5C86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A2F3F-9D3E-4207-B202-E55CB2AE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95A41-2FED-47C8-82D9-126B85B8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05ED7-8D72-407D-84DA-2F837729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C45F2-F50A-4479-B5B1-2965BEDE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9F9C6-8D24-4B71-BF58-2AB17155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2460C-0F89-4102-8F6F-11B08FAC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A0430-1DF4-4430-94C2-0AA2A0B8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30D31-0851-4469-B64A-217BF9CA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95CBB-6FA2-4EEB-AD87-B17EBDF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3B9A8-9D7C-409D-8A0A-E97C1E25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6E5C-E8DC-499C-9CD6-DA2469A0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C7026-B326-4297-9F76-98268E47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BA1BD-F2CB-4272-8846-61B8F913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898FD-C10A-40BC-932F-EA22D2BA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E8A2C-A289-476E-AA94-4CE4EEE5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9FDE8-1D31-4FC1-9590-3370E606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FE492-5E69-4A0B-972B-F6344573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AC620-8EAA-43D1-BD6C-F00F239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C8DC1-C227-4E81-B112-E9B0EEDF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B174F-4649-415D-81B2-054BEECB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0F7B6-069D-46AD-A5D6-AD990346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0904-8265-4041-A885-AC3FA755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C51BD-7D15-4904-A267-2CBEBBAC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E45AC-C322-4F4A-A513-31ACB30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F85BC-2E5E-40BB-9AB3-540B86E2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FFDAC-8617-4131-8AAA-01012C06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AD8B6-FE24-40B8-9F6F-9D9DADA2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F874C-FCCA-491D-B0CB-AB6118E3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8A021-7ABF-40F5-BA18-9EA619A8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4E2A4-82C3-4A9C-A021-8D1B8A26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26FD0-E92B-4F45-A17C-08DC5A0D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9702F-D6A0-437B-B98B-D45A84DE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281C-054F-43D0-9489-5FD55088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1EDF2-75C9-477E-A354-42BA1E21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BE68A-4AD4-467C-98D7-CF40596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B7347-A07A-4716-9E7A-502008B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797BF-A1EF-41B2-AC34-BACCD33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3F234-1A16-4A93-8309-3450ACFB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A9980-5F4B-42B0-91C8-260C35AC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AC788-F8A0-4670-8ECA-47A5BB13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53F58-72FB-4692-ABB7-2EAFACF5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EF1A0-EB40-4134-B5CB-28A4B526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5CC5F-CC99-45CF-B5E2-58316B14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2353-CF3B-4F57-92C0-A3E5DFED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B40CA-59BA-49A5-89F6-241BA1E6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F3AB0-8D98-4FD7-8175-4F311195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883B7-887E-4AC6-88C4-1F635E76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B8DBF-4B26-4459-9C1E-7F21D91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9A693-CF13-4513-9CDD-F72F72E7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ED8AD-2A48-4FAE-B7FB-44B65EDB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C6C22-5E4C-48B5-8994-F6657571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64DF4-66B7-4BC1-B964-9508E2F2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7EA6D-8B96-4D46-A9E6-7AF118F7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239D3-6938-424F-85A0-F0607FD6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B0C4-9AD9-4869-86BD-C5F43D48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6A2C1-1868-4985-911A-2AB8984D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0EF66-6EE6-4331-BB25-1848213C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7FD09-59B2-42AF-9C45-96A9007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4512A-A55D-4806-BB3B-929A3C7A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0E9DE-0AF8-4886-B981-A0150C8A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1BA62-0C00-4539-B9CC-88C352A7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56E21-C58F-4C4A-8CE8-8A43FC82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52D83-56BA-449F-818D-DA920EC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813A6-9D56-4B7C-B026-C8B7BF8E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D91D2-B0FE-44C5-BFB0-A4CD2356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13B7-9361-49C4-A17F-971F7012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5012B-BE63-4B5F-B9F1-25E6AAEA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A0B6A-5715-4721-9175-545DDD57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DB8BFA-87E2-4AE7-A691-5752524F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E5D35-BBDA-4C03-A261-BEC828EF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B9132-2E80-4F65-87A6-4465C55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2DF75-0093-4729-8699-89410A50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48138-204F-4C79-A298-BC241BBE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A0E99-D537-44D6-9769-AEA8614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57A82-F3A0-4747-A1D3-D60DE114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A1490-07A5-4EE3-A4BE-83214203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1FFF-AACC-4F0E-B3F6-98D75EFC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B1C88-3E74-43ED-A343-EEF4F6E5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48826-10E9-4B8E-B7AD-853E140E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EE853-3F28-4B61-BF78-93733985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F93BD-614F-406B-A605-B8FE1080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EDC89-5B08-47B5-B6F7-86C35416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53E92B-8EF6-4967-ACF7-05AD68AE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C9134-BDAD-4993-9487-F5FABC8D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444E2-878D-4BBD-9607-525151B4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76EE2-7A65-4810-8864-AE1AE45E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CF1F4-00DA-45C1-9F65-26E2B509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4D2-EA11-4679-A0A2-814B42FD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DD7D-320D-4077-83A3-ABD4973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1D900-379C-46AC-B8D0-125CDB59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623921-71B5-42AD-BF33-B12024B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63692-D4BD-4800-BC0C-8E3AE7A3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E43F4-902F-4404-A368-FC90DEEF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BCDBA-E21A-45E2-8C33-8AB67B13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4936C-46EE-4D09-B2CE-E5AB2737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22756-7AEC-43D3-AF7F-EB19A561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A56CAE-9298-4A62-9B78-C242446C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649E9-1BFD-4FC9-8049-492DD1E3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03D4E-F225-4236-8C2F-C9B34653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91E1-E1E7-4E65-8337-B9FDEEF0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B780B-A3DD-4D05-B095-BD905AF8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B043B-7921-4E29-A660-6E86DF3B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76F7B2-B907-40D4-AF28-5F3B69D9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1D054-C61B-4A91-AB4E-7D072FCD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A5FC3-A932-4D2E-AE59-B463AA8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A4F2DF-00F1-44A2-8110-5E17374C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05F5A-F509-441E-B285-7BEAC69A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CD1FA1-6DBC-4777-8DD2-7AB3F65B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F28285-915F-45FE-8E80-7B44F5F8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AEB99-EB64-4124-8BB4-59327BBE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E882-6106-483B-B562-A737B0B4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1A09C-F97B-4DCF-BB3C-DD2363E7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2B90F-0BE8-4FFE-A633-8D4CF1B5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0672C0-EA25-4C81-ADC4-B16A9790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687C3C-920F-4329-8F1F-158A6FC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44B5C-3DE7-4016-BB64-21D2E029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11953E-0462-459F-97C5-F53AC6E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D5557-ACE0-425F-B248-2566412A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74A67-3A58-461D-9E4F-956D7838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5CF0C4-84BD-4123-A2FC-114E419E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9CAA2-83E8-4A6F-8E6C-E6C8D5A0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5709-FAFA-49E6-838B-542BF1D9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A4993-91C5-40F2-AA0A-4BAE1704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D7D9D2-F3B5-4CB2-B303-3C618A51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30E1D-2D4A-4EDD-BCEA-34928F87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5E887F-11F0-4253-8133-0BB46A01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846E6E-C052-49CC-819B-B38823F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B01AC-3854-43E4-87D8-F2D0068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B7F9B-DDF9-48F8-8DF3-06346C63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23D40-C03C-41E2-A638-505EC400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FAFB2-B65D-4B8C-95F0-40E670BD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655346-6977-4920-9E89-DDE03075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D0E1-7F81-481D-9B39-DC0F68E3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4E91FF-A15A-46F2-BCF9-51FACB25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584DB5-BB31-4E67-B1DB-E843F974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08C19-B1C9-4AC9-A65E-8845907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49E964-B7A7-42E1-9BAE-30107FFB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812891-90E3-4EFF-86C7-47C10824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3542F3-2B4B-4BA3-B673-53B0D0F4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8C8DF-A993-4A40-A5C6-846D59D2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CF6F2D-3188-4C93-8309-1D392E95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893610-6E51-4634-A01D-FAA9B4AB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D0885-BC7E-4CD3-B882-E398038C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7EE18-E696-44E3-936E-AED6D2AA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B1645-0CB5-475C-8B73-175E20E3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A571C7-EF24-4FAB-947E-78F0F827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DAD8EA-7B86-4D31-82AC-68ABE810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649A21-2557-4CE9-B6F1-03855032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19EAD-1804-42E4-A90F-5DD45AC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E5702A-98CA-4879-A4AA-C435C9F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F7EB47-CF8A-4953-A0ED-5B4C1421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9549D7-B32A-4A2E-96BB-71CEA962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546CFC-8B97-46BD-BC83-1C88AD18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763CDB-2482-4A3A-9344-AD3834C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FFFB-2A72-412E-A557-C61A3ED4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AEFEE4-240F-4F40-9371-FAC5B43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EF089-B7C4-4ED4-B65E-CA6D3DE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A64C0E-1A02-4321-8243-4388D1CE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DC9AEF-0368-4F00-AEB8-F36BBF62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BE9CB3-1B6B-4EF5-90E9-045374D2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1CBFC0-75EF-470E-86D6-5B27C75C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EEEE7A-6910-4C5E-BB27-6C3BD2C2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893727-3556-47FD-A512-145AD253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DDADF3-8DF1-4267-92B5-F93C313F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8B775F-323E-4BA2-81A5-340DDC2D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68E4-FEAD-42E4-965A-1E6E549C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7A5896-F769-432A-B68D-3043F838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3B1749-BA6A-4CE4-9DC1-9A0847F8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7319DE-DB2E-4D49-9443-7E17B4F2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446E88-DD41-4072-B26E-3656B52A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5291BC-2C00-402A-8E54-DCABF3E9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87D315-6FAD-43D7-A169-5595CE8A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DD6BD7-151E-4191-9228-AA5113CA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2030FC-51DF-485C-AF91-FF510858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BE1F78-36BA-4A2E-AC14-20ABD4D9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DFED24-CEDB-4B78-8EDA-BA6E8811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42A2-2C3A-48FB-B18F-2B9DB03E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533212-A540-4809-A494-19E093F7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36B6AB-09C6-474A-8751-58909BE2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6EB4F4-97CC-4B78-969D-C5D98DF4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81DC0C-9F5C-479C-A6E1-F8293E06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5DF51F-76E2-4C02-B472-1E89AB4B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853D32-4A9B-49D5-8126-30E1C3E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5F8866-4B54-4A22-A59A-BBA9EF8D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52BD2C-01AB-4535-B3FF-DCA9874B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1E9444-2022-46AC-9C95-BC8F447A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ED4E3B-4364-4DE9-9DA5-F4C4FF9F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1C61-C6C2-4B23-B46D-AECFFE98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75EBFB-59C4-41B6-9BCB-3C221300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05C232-A316-4FBF-8C4F-D9BC05B2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F0AC91-45A7-42AB-8416-E92BB563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55E677-7CD4-41B0-93FA-3973610A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BF1A81-54B6-4997-B6F1-231D1BA5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692730-D25C-4CE2-9718-C2297CD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A341FC-7294-4E12-9AE3-2840296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0426B1-F4AF-417B-A34D-92C11770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272690-EDBF-4001-B8BF-232155AE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D7A685-9108-4780-8902-502362FD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0F5-319D-4F79-91BA-B21612EC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2485-E6EC-4D7D-B51B-FDD60124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7F1E0F-A821-4B10-AA35-531542EE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AB592F-4F7B-4A10-931E-949EF5A7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7EA997-8E54-4D13-8B10-22C8C6D4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6FA9C1-698D-4E1F-B6E9-DAB0A575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58D685-0C75-4484-AAC3-74730BED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185090-774B-4DA8-BEA5-87C4E15A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C107E8-976C-453A-8A6D-8DC28CA3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1134FF-C6DA-45B7-BF62-3E42990E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608D67-5509-4782-A9DA-3BD0CCBB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AC1AC7-F320-45F9-9B39-53157F3B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2671-AADD-4389-93F9-97B6AC13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BF58B1-325D-4ED5-9978-6155EE9D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38FB73-CD3C-4B1F-B5AE-BD1AD0F5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28D929-12DE-4B5A-A507-99CA02DF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B43B-F5E5-428D-A2A5-80E956D9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093E-D628-4316-86E1-6E0F20F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8E85-1010-40E1-8140-A48B84E2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84152-6786-4D45-B3C7-CDA98A29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8F81-AB5F-4ED8-B2EA-B40230DA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6A1F1-0B1F-440B-A109-84D3128F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4C76-6FAA-4800-8989-C0D14C17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EB10A-38E9-4A1C-A418-6B9B6EC7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FA9-74D2-4CED-B822-2FFE5B96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D665D-B3B4-4D4C-8A91-48CA6F5B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B815-724E-4B2B-81C2-2E6533DB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B979-2DF8-4C2C-A4D9-48C58D77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AE4B-0E06-470C-831A-488CE75F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47F77-8982-4306-8F70-F7C38D38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B52B-93AA-4C58-9533-A5E0FAB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E0126-0218-4AAF-88FF-19C2113D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7370-73DB-4F6D-9B05-938A3356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6AE0-C158-482F-9594-4D5EF9D6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831DB-4825-48BA-B860-2F473FD9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402-2B56-4004-B342-F2E5A733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96BF9-9085-454A-B79C-1546D7AC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A84AE-360A-44FE-BB9D-E59BDABD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7116-B50B-44B2-B90C-F7BFB53F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E7D3C-6971-48DE-B494-6B91210B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A7F2C-4851-4530-A9FA-DC1D365B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6FC7-6327-49FD-8E58-D3529319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0062-CD31-4689-8BD1-35A2C2B9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B3BA0-963D-472B-A4DB-4DF83AAE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A0798-F54B-4BA1-ADE8-41CC1986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0588-5B1A-477E-A9EB-959E9359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CF4-F7E1-4FD9-9825-CC159B8B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60F4-8D17-429F-A611-893F7CD4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6F9DD-209B-44D1-8ECE-2FD2B126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47FCE-3AC4-4978-8E61-9F89DA1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ACF92-BC1B-4EDA-B26B-DA67B8A5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68C3B-D548-42D6-8887-3DF0A21B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D6918-C380-4ADF-9CDB-A1A6A4CE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35C4-7FE0-4D93-AC44-16FAE6E4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3471D-D544-466E-8B5D-BAFD297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5C552-B4D0-447A-8E90-205D44D1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DF07C-3FAB-4008-A306-D8F5568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0F8-A55B-47CB-AA5C-F6D2201D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D55DA-A512-491A-B49F-69BA0DBC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781E2-7FF8-4795-875A-93DD0A81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F0F72-8A9A-4A6B-B6ED-93A1467C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B09B-AE5D-4E15-9F6B-C0FFC54B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17F19-0F61-4B42-8D34-E301E561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58D29-7709-4EA9-9042-E95D2BE0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922F-3954-46FE-8AF8-A5384DB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FE69C-40D3-4300-A514-64ADFF75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0F0DF-D594-4B9D-8F99-7F8C6D0A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6D348-4D07-4304-BB97-DF86F92F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C4D-A87A-45CC-BD36-9E83D25E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9F27-C5B1-41E2-970C-D6E39A1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F05EA-E25D-4D53-9813-24045691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E8E17-F77C-4826-949D-C37655DD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6F293-62E0-482B-8B36-4E25AA8F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E5886-D0A0-44AD-AFAC-ACD35044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6DC6C-CCB6-461D-BA88-C9073514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98FDB-A8DE-41E5-AD17-BC47F258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A6B0F-F7AF-4640-AAA0-47FAF451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0DE43-AF64-4445-9584-BB960301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20435-589F-4C17-8BF1-70834A38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075-B2FC-4E2F-9948-4D246DEC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BF43B-2D50-408D-B4EC-161DFF73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526F6-0DC9-451D-ADB9-6021DA8F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192F8-D81E-42EC-8092-A39FA392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67A9B-0D0C-4856-BE2F-C386057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D5B6E-FD0F-4888-A8AA-4974ABBE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B171C-9415-485E-A0A7-E8445E86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942E2-F7F0-4E05-A1F7-7DFD992B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9C5DC-9399-407D-B9C2-185D0C32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852E2-6A0E-4440-A177-78042222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5C7B0-8023-4756-AAFE-03030443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83D1-BABC-4329-87D9-D1A8ACD2458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5045-5E96-449A-A7AF-07872C1A02A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9AAA-D4FB-4CB8-BB9F-5035ED829FD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CA59-77C7-4C21-BCB8-42FFB1C78C4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FB43-7BFE-453C-8E6B-F2478B12724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62A8-A4A8-43D4-853B-A6B27799B09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345E-EF40-43BB-BDF4-B12FC6EE924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A854-8326-4544-816A-45EDC87760E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2E5E-5EB4-4DDB-A5CB-9FAC6CF364F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A684-8C5D-48D2-8D8A-818DDC9CC2A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1D38-060F-40BB-8167-13AFCA815D6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8FEA-4920-44E0-AA8B-8E02839038E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D18C-2D08-47B0-A6E1-A5F1F4B4449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321D-EB6B-402C-9EFF-4BC1F545ED0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4231-D2E6-4037-9AA5-47C220D3F93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E4AB-D92F-4E48-85FD-70773A5E98D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7676-3297-4376-A648-17C3B3DC42D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D0A9-EA94-43C7-B07C-0A04AAF4CEB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63E2-75A0-40FA-B9A5-F754F537891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D20A-41AE-45F0-B704-6E7CDE0B07E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37C0-E8E3-47B7-9D87-8C0C22CE7DE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18E1-2CA5-441D-8341-6C3E9AB327D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8974-3142-4AC5-B273-117E528F739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2D1A-8790-4305-90C8-EF50F387E6E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7BEE-FE3E-40EB-A4B8-E87776420C8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A760-1E2C-4B81-805E-9D8FC6EBCBF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3.sii.cl/ctmPublic/#Default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Oval 2"/>
          <p:cNvSpPr/>
          <p:nvPr/>
        </p:nvSpPr>
        <p:spPr>
          <a:xfrm rot="20203200">
            <a:off x="3618000" y="3425760"/>
            <a:ext cx="2158920" cy="84780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1076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Rectangle 8"/>
          <p:cNvSpPr/>
          <p:nvPr/>
        </p:nvSpPr>
        <p:spPr>
          <a:xfrm>
            <a:off x="0" y="2523960"/>
            <a:ext cx="687852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Black"/>
              </a:rPr>
              <a:t>SISTEMA DE TRIBUTACIÓN SIMPLIFICADA MIP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9" descr="logo_sii"/>
          <p:cNvPicPr/>
          <p:nvPr/>
        </p:nvPicPr>
        <p:blipFill>
          <a:blip r:embed="rId2"/>
          <a:stretch/>
        </p:blipFill>
        <p:spPr>
          <a:xfrm>
            <a:off x="7229520" y="204840"/>
            <a:ext cx="1299960" cy="65880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10"/>
          <p:cNvSpPr/>
          <p:nvPr/>
        </p:nvSpPr>
        <p:spPr>
          <a:xfrm>
            <a:off x="4397400" y="5997600"/>
            <a:ext cx="4494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594B-3A80-4185-9B76-425130112FA0}" type="slidenum">
              <a:rPr b="0" lang="es-CL" sz="1400" spc="-1" strike="noStrike">
                <a:solidFill>
                  <a:srgbClr val="3667c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3" descr="D:\Doc Claudia\Capacitación 2010\Diseños_2010\_Formato ppt 2010\1°Diapo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85" name="Rectangle 8"/>
          <p:cNvSpPr/>
          <p:nvPr/>
        </p:nvSpPr>
        <p:spPr>
          <a:xfrm>
            <a:off x="804960" y="2309760"/>
            <a:ext cx="687852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Sistema CCM</a:t>
            </a:r>
            <a:br>
              <a:rPr sz="3600"/>
            </a:b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Contabilidad Completa MIP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resultado del proceso contable se informan mediante al menos dos informes complement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do de Situación o 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enta las partidas del Activo, Pasivo y Patrimonio; el resultado del ejercicio se muestra sin indicar or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do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enta cambios en el Patrimonio como consecuencia de los ingresos, costos y gastos de la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dica como se determinó la utilidad neta de un ejerc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41360" y="259920"/>
            <a:ext cx="8229600" cy="2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STRUCCIÓN DE LOS ESTADOS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71600" y="1996560"/>
            <a:ext cx="822960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rucción de los estados financieros implica </a:t>
            </a:r>
            <a:r>
              <a:rPr b="0" lang="es-MX" sz="2400" spc="-1" strike="noStrike">
                <a:solidFill>
                  <a:srgbClr val="ff3300"/>
                </a:solidFill>
                <a:latin typeface="Arial"/>
              </a:rPr>
              <a:t>un trabajo ardu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que consiste en efectuar un sinnúmero de operaciones matemáticas calculando las variaciones en los saldos de las partidas en un peri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3" descr=""/>
          <p:cNvPicPr/>
          <p:nvPr/>
        </p:nvPicPr>
        <p:blipFill>
          <a:blip r:embed="rId1"/>
          <a:stretch/>
        </p:blipFill>
        <p:spPr>
          <a:xfrm>
            <a:off x="0" y="655560"/>
            <a:ext cx="9144000" cy="6202440"/>
          </a:xfrm>
          <a:prstGeom prst="rect">
            <a:avLst/>
          </a:prstGeom>
          <a:ln w="0">
            <a:noFill/>
          </a:ln>
        </p:spPr>
      </p:pic>
      <p:sp>
        <p:nvSpPr>
          <p:cNvPr id="11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2674-F030-4C22-936E-A6F35BB8A20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4"/>
          <p:cNvSpPr/>
          <p:nvPr/>
        </p:nvSpPr>
        <p:spPr>
          <a:xfrm>
            <a:off x="4532400" y="932040"/>
            <a:ext cx="4375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1.- Inicio de Activ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2.- Inscribir en Factura Electrónica MIP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3.- Inscribir en C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4.- Ingresar Plan de Cuen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5.- Ingresar Comprobante de Apert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6.- Ingresar movimientos a Libros Auxilia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mpra, Ventas, Remuneracione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onora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7.- Ingresar otros movimientos y ajus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8.- Centralizar Libros Auxili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9.- Cerrar Libro Di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- Generar Libro May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1.- Generar Estados Financi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- Generar Libro de Inventario y Bal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3.- Cierre del Ejercic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4.- Generar Declaraciones 1879 y 18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5.- Propuesta de Renta Liquida Impon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6.- Propuesta de Códigos F22 y F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7.- Propuesta de Libro F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- Enviar Libros Contables Electrón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9.- Cierre por termino de G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- Desincripción d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1547640" y="111240"/>
            <a:ext cx="694872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BILIDAD COMPLETA MIP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176720" cy="3854520"/>
          </a:xfrm>
          <a:prstGeom prst="rect">
            <a:avLst/>
          </a:prstGeom>
          <a:ln w="0">
            <a:noFill/>
          </a:ln>
        </p:spPr>
      </p:pic>
      <p:sp>
        <p:nvSpPr>
          <p:cNvPr id="113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01F8-70C9-4E86-B090-958EFC84282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7">
            <a:hlinkClick r:id="rId1" action="ppaction://hlinksldjump"/>
          </p:cNvPr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52BB-8302-414E-8962-D9F1D7F8DD1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6">
            <a:hlinkClick r:id="rId1" action="ppaction://hlinksldjump"/>
          </p:cNvPr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879D-8447-4E5C-A659-2A94EDF1999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2 Grupo"/>
          <p:cNvGrpSpPr/>
          <p:nvPr/>
        </p:nvGrpSpPr>
        <p:grpSpPr>
          <a:xfrm>
            <a:off x="5568840" y="1587600"/>
            <a:ext cx="2264040" cy="2087640"/>
            <a:chOff x="5568840" y="1587600"/>
            <a:chExt cx="2264040" cy="2087640"/>
          </a:xfrm>
        </p:grpSpPr>
        <p:sp>
          <p:nvSpPr>
            <p:cNvPr id="1165" name="1 Rectángulo redondeado"/>
            <p:cNvSpPr/>
            <p:nvPr/>
          </p:nvSpPr>
          <p:spPr>
            <a:xfrm>
              <a:off x="5568840" y="1587600"/>
              <a:ext cx="226404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2 CuadroTexto"/>
            <p:cNvSpPr/>
            <p:nvPr/>
          </p:nvSpPr>
          <p:spPr>
            <a:xfrm>
              <a:off x="5857560" y="2154240"/>
              <a:ext cx="1945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Actualización y personalización de Plan de Cuentas S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9">
            <a:hlinkClick r:id="rId1" action="ppaction://hlinksldjump"/>
          </p:cNvPr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3E6F-4C0A-4FB8-8B11-E024A9B5895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2 Grupo"/>
          <p:cNvGrpSpPr/>
          <p:nvPr/>
        </p:nvGrpSpPr>
        <p:grpSpPr>
          <a:xfrm>
            <a:off x="3438360" y="1163520"/>
            <a:ext cx="2264040" cy="2087640"/>
            <a:chOff x="3438360" y="1163520"/>
            <a:chExt cx="2264040" cy="2087640"/>
          </a:xfrm>
        </p:grpSpPr>
        <p:sp>
          <p:nvSpPr>
            <p:cNvPr id="1180" name="1 Rectángulo redondeado"/>
            <p:cNvSpPr/>
            <p:nvPr/>
          </p:nvSpPr>
          <p:spPr>
            <a:xfrm>
              <a:off x="3438360" y="1163520"/>
              <a:ext cx="226404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2 CuadroTexto"/>
            <p:cNvSpPr/>
            <p:nvPr/>
          </p:nvSpPr>
          <p:spPr>
            <a:xfrm>
              <a:off x="3682800" y="1490400"/>
              <a:ext cx="1945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Compra y V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e Honor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e Remuner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8">
            <a:hlinkClick r:id="rId1" action="ppaction://hlinksldjump"/>
          </p:cNvPr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FADC-DE95-434B-808C-845DBC91A3B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2 Grupo"/>
          <p:cNvGrpSpPr/>
          <p:nvPr/>
        </p:nvGrpSpPr>
        <p:grpSpPr>
          <a:xfrm>
            <a:off x="1447920" y="2278080"/>
            <a:ext cx="2263680" cy="2089080"/>
            <a:chOff x="1447920" y="2278080"/>
            <a:chExt cx="2263680" cy="2089080"/>
          </a:xfrm>
        </p:grpSpPr>
        <p:sp>
          <p:nvSpPr>
            <p:cNvPr id="1195" name="1 Rectángulo redondeado"/>
            <p:cNvSpPr/>
            <p:nvPr/>
          </p:nvSpPr>
          <p:spPr>
            <a:xfrm>
              <a:off x="1447920" y="2278080"/>
              <a:ext cx="2263680" cy="20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2 CuadroTexto"/>
            <p:cNvSpPr/>
            <p:nvPr/>
          </p:nvSpPr>
          <p:spPr>
            <a:xfrm>
              <a:off x="1606680" y="2941560"/>
              <a:ext cx="1944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i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May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e Inventario y Ba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11">
            <a:hlinkClick r:id="rId1" action="ppaction://hlinksldjump"/>
          </p:cNvPr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83B3-49DC-4F0A-8096-0B09B5D462A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2 Grupo"/>
          <p:cNvGrpSpPr/>
          <p:nvPr/>
        </p:nvGrpSpPr>
        <p:grpSpPr>
          <a:xfrm>
            <a:off x="3278160" y="3941640"/>
            <a:ext cx="2263680" cy="2087640"/>
            <a:chOff x="3278160" y="3941640"/>
            <a:chExt cx="2263680" cy="2087640"/>
          </a:xfrm>
        </p:grpSpPr>
        <p:sp>
          <p:nvSpPr>
            <p:cNvPr id="1210" name="1 Rectángulo redondeado"/>
            <p:cNvSpPr/>
            <p:nvPr/>
          </p:nvSpPr>
          <p:spPr>
            <a:xfrm>
              <a:off x="3278160" y="3941640"/>
              <a:ext cx="226368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2 CuadroTexto"/>
            <p:cNvSpPr/>
            <p:nvPr/>
          </p:nvSpPr>
          <p:spPr>
            <a:xfrm>
              <a:off x="3438360" y="3941640"/>
              <a:ext cx="1944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Balance de Comprobación y Sal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Balance de 8 Colum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Balance Clasifi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9487-25AF-4230-84E7-CBF65005F0D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5 Grupo"/>
          <p:cNvGrpSpPr/>
          <p:nvPr/>
        </p:nvGrpSpPr>
        <p:grpSpPr>
          <a:xfrm>
            <a:off x="3548160" y="2436840"/>
            <a:ext cx="2263680" cy="2089080"/>
            <a:chOff x="3548160" y="2436840"/>
            <a:chExt cx="2263680" cy="2089080"/>
          </a:xfrm>
        </p:grpSpPr>
        <p:sp>
          <p:nvSpPr>
            <p:cNvPr id="1225" name="1 Rectángulo redondeado"/>
            <p:cNvSpPr/>
            <p:nvPr/>
          </p:nvSpPr>
          <p:spPr>
            <a:xfrm>
              <a:off x="3548160" y="2436840"/>
              <a:ext cx="2263680" cy="20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2 CuadroTexto"/>
            <p:cNvSpPr/>
            <p:nvPr/>
          </p:nvSpPr>
          <p:spPr>
            <a:xfrm>
              <a:off x="3707640" y="2573280"/>
              <a:ext cx="19447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nta Líquida Impon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F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Propuestas de declaraciones F29, F22, DJ 1879, DJ 18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Generación L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7476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ORTAL  MIP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3231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sitio web desarrollado por el SII para las Micro, Pequeñas y Medianas empresas (MIPYMES) del país, donde se encuentran aplicaciones gratuitas para ayudar al cumplimiento tributario de empresas de menor tama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acturación 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ributación Simplificada 14 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abilidad Completa MIPYME: ener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5AF7-BBE6-4F36-BBDB-C4AF27B2101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1 CuadroTexto"/>
          <p:cNvSpPr/>
          <p:nvPr/>
        </p:nvSpPr>
        <p:spPr>
          <a:xfrm>
            <a:off x="3059280" y="8809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Libros Aux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1 Grupo"/>
          <p:cNvGrpSpPr/>
          <p:nvPr/>
        </p:nvGrpSpPr>
        <p:grpSpPr>
          <a:xfrm>
            <a:off x="539640" y="1484280"/>
            <a:ext cx="7429680" cy="4487760"/>
            <a:chOff x="539640" y="1484280"/>
            <a:chExt cx="7429680" cy="4487760"/>
          </a:xfrm>
        </p:grpSpPr>
        <p:graphicFrame>
          <p:nvGraphicFramePr>
            <p:cNvPr id="1231" name="32785 Objeto"/>
            <p:cNvGraphicFramePr/>
            <p:nvPr/>
          </p:nvGraphicFramePr>
          <p:xfrm>
            <a:off x="612360" y="1484280"/>
            <a:ext cx="7356960" cy="448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2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2360" y="1484280"/>
                      <a:ext cx="7356960" cy="448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3" name="2 Rectángulo redondeado"/>
            <p:cNvSpPr/>
            <p:nvPr/>
          </p:nvSpPr>
          <p:spPr>
            <a:xfrm>
              <a:off x="539640" y="1557000"/>
              <a:ext cx="1511280" cy="259236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2592360"/>
                <a:gd name="textAreaBottom" fmla="*/ 2518920 h 2592360"/>
              </a:gdLst>
              <a:ahLst/>
              <a:rect l="textAreaLeft" t="textAreaTop" r="textAreaRight" b="textAreaBottom"/>
              <a:pathLst>
                <a:path w="21600" h="37048">
                  <a:moveTo>
                    <a:pt x="3600" y="0"/>
                  </a:moveTo>
                  <a:arcTo wR="3600" hR="3600" stAng="16200000" swAng="-5400000"/>
                  <a:lnTo>
                    <a:pt x="0" y="33448"/>
                  </a:lnTo>
                  <a:arcTo wR="3600" hR="3600" stAng="10800000" swAng="-5400000"/>
                  <a:lnTo>
                    <a:pt x="18000" y="370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CE41-FD89-4989-95D6-0134523D530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1 Grupo"/>
          <p:cNvGrpSpPr/>
          <p:nvPr/>
        </p:nvGrpSpPr>
        <p:grpSpPr>
          <a:xfrm>
            <a:off x="612720" y="1484280"/>
            <a:ext cx="7230960" cy="4362480"/>
            <a:chOff x="612720" y="1484280"/>
            <a:chExt cx="7230960" cy="4362480"/>
          </a:xfrm>
        </p:grpSpPr>
        <p:graphicFrame>
          <p:nvGraphicFramePr>
            <p:cNvPr id="1237" name="32785 Objeto"/>
            <p:cNvGraphicFramePr/>
            <p:nvPr/>
          </p:nvGraphicFramePr>
          <p:xfrm>
            <a:off x="612720" y="1484280"/>
            <a:ext cx="7230960" cy="436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8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2720" y="1484280"/>
                      <a:ext cx="7230960" cy="436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9" name="6 Recortar rectángulo de esquina diagonal"/>
            <p:cNvSpPr/>
            <p:nvPr/>
          </p:nvSpPr>
          <p:spPr>
            <a:xfrm>
              <a:off x="2195280" y="1618920"/>
              <a:ext cx="5424480" cy="3394080"/>
            </a:xfrm>
            <a:custGeom>
              <a:avLst/>
              <a:gdLst/>
              <a:ahLst/>
              <a:rect l="l" t="t" r="r" b="b"/>
              <a:pathLst>
                <a:path w="3989598" h="3285625">
                  <a:moveTo>
                    <a:pt x="0" y="9447"/>
                  </a:moveTo>
                  <a:lnTo>
                    <a:pt x="2280244" y="9447"/>
                  </a:lnTo>
                  <a:lnTo>
                    <a:pt x="3983415" y="0"/>
                  </a:lnTo>
                  <a:cubicBezTo>
                    <a:pt x="3999546" y="555616"/>
                    <a:pt x="3978242" y="1243365"/>
                    <a:pt x="3984848" y="1770406"/>
                  </a:cubicBezTo>
                  <a:lnTo>
                    <a:pt x="2479129" y="1790200"/>
                  </a:lnTo>
                  <a:lnTo>
                    <a:pt x="2469604" y="3257050"/>
                  </a:lnTo>
                  <a:lnTo>
                    <a:pt x="922785" y="3285625"/>
                  </a:lnTo>
                  <a:lnTo>
                    <a:pt x="0" y="2505715"/>
                  </a:lnTo>
                  <a:lnTo>
                    <a:pt x="0" y="9447"/>
                  </a:lnTo>
                  <a:close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5 CuadroTexto"/>
          <p:cNvSpPr/>
          <p:nvPr/>
        </p:nvSpPr>
        <p:spPr>
          <a:xfrm>
            <a:off x="3059280" y="8809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Generación de la Con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3 Marcador de número de diapositiva"/>
          <p:cNvSpPr/>
          <p:nvPr/>
        </p:nvSpPr>
        <p:spPr>
          <a:xfrm>
            <a:off x="6553080" y="6245280"/>
            <a:ext cx="22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1DEC-CE4E-4509-BA8C-C9320B933E6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5 CuadroTexto"/>
          <p:cNvSpPr/>
          <p:nvPr/>
        </p:nvSpPr>
        <p:spPr>
          <a:xfrm>
            <a:off x="2967120" y="98100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Funcionalidades Tribu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1 Grupo"/>
          <p:cNvGrpSpPr/>
          <p:nvPr/>
        </p:nvGrpSpPr>
        <p:grpSpPr>
          <a:xfrm>
            <a:off x="604800" y="1487520"/>
            <a:ext cx="8227800" cy="4651200"/>
            <a:chOff x="604800" y="1487520"/>
            <a:chExt cx="8227800" cy="4651200"/>
          </a:xfrm>
        </p:grpSpPr>
        <p:graphicFrame>
          <p:nvGraphicFramePr>
            <p:cNvPr id="1245" name="32785 Objeto"/>
            <p:cNvGraphicFramePr/>
            <p:nvPr/>
          </p:nvGraphicFramePr>
          <p:xfrm>
            <a:off x="604800" y="1487520"/>
            <a:ext cx="8069760" cy="459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6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487520"/>
                      <a:ext cx="8069760" cy="459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7" name="6 Recortar rectángulo de esquina diagonal"/>
            <p:cNvSpPr/>
            <p:nvPr/>
          </p:nvSpPr>
          <p:spPr>
            <a:xfrm rot="10800000">
              <a:off x="610560" y="1567800"/>
              <a:ext cx="8222040" cy="4570560"/>
            </a:xfrm>
            <a:custGeom>
              <a:avLst/>
              <a:gdLst/>
              <a:ahLst/>
              <a:rect l="l" t="t" r="r" b="b"/>
              <a:pathLst>
                <a:path w="4022129" h="4423578">
                  <a:moveTo>
                    <a:pt x="27961" y="226"/>
                  </a:moveTo>
                  <a:lnTo>
                    <a:pt x="2284905" y="18667"/>
                  </a:lnTo>
                  <a:lnTo>
                    <a:pt x="4016036" y="0"/>
                  </a:lnTo>
                  <a:cubicBezTo>
                    <a:pt x="4018187" y="555616"/>
                    <a:pt x="4015523" y="966750"/>
                    <a:pt x="4022129" y="1493791"/>
                  </a:cubicBezTo>
                  <a:lnTo>
                    <a:pt x="2507090" y="1467483"/>
                  </a:lnTo>
                  <a:cubicBezTo>
                    <a:pt x="2505468" y="1870375"/>
                    <a:pt x="2508507" y="2051976"/>
                    <a:pt x="2506885" y="2454868"/>
                  </a:cubicBezTo>
                  <a:lnTo>
                    <a:pt x="1216369" y="2465002"/>
                  </a:lnTo>
                  <a:cubicBezTo>
                    <a:pt x="1215888" y="3388934"/>
                    <a:pt x="1210853" y="3421380"/>
                    <a:pt x="714542" y="3434312"/>
                  </a:cubicBezTo>
                  <a:cubicBezTo>
                    <a:pt x="558414" y="3926709"/>
                    <a:pt x="467818" y="4407352"/>
                    <a:pt x="0" y="4423578"/>
                  </a:cubicBezTo>
                  <a:cubicBezTo>
                    <a:pt x="3107" y="3072068"/>
                    <a:pt x="20194" y="1545367"/>
                    <a:pt x="27961" y="226"/>
                  </a:cubicBezTo>
                  <a:close/>
                </a:path>
              </a:pathLst>
            </a:cu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3 Marcador de número de diapositiva"/>
          <p:cNvSpPr/>
          <p:nvPr/>
        </p:nvSpPr>
        <p:spPr>
          <a:xfrm>
            <a:off x="6553080" y="6245280"/>
            <a:ext cx="22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D4D2-C7EA-4957-8942-66A27AE5AFC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1 Grupo"/>
          <p:cNvGrpSpPr/>
          <p:nvPr/>
        </p:nvGrpSpPr>
        <p:grpSpPr>
          <a:xfrm>
            <a:off x="500040" y="1571760"/>
            <a:ext cx="8292960" cy="4651200"/>
            <a:chOff x="500040" y="1571760"/>
            <a:chExt cx="8292960" cy="4651200"/>
          </a:xfrm>
        </p:grpSpPr>
        <p:graphicFrame>
          <p:nvGraphicFramePr>
            <p:cNvPr id="1251" name="32785 Objeto"/>
            <p:cNvGraphicFramePr/>
            <p:nvPr/>
          </p:nvGraphicFramePr>
          <p:xfrm>
            <a:off x="564840" y="1571760"/>
            <a:ext cx="8069400" cy="459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2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840" y="1571760"/>
                      <a:ext cx="8069400" cy="459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3" name="6 Recortar rectángulo de esquina diagonal"/>
            <p:cNvSpPr/>
            <p:nvPr/>
          </p:nvSpPr>
          <p:spPr>
            <a:xfrm rot="10800000">
              <a:off x="571320" y="1652040"/>
              <a:ext cx="8221680" cy="4570560"/>
            </a:xfrm>
            <a:custGeom>
              <a:avLst/>
              <a:gdLst/>
              <a:ahLst/>
              <a:rect l="l" t="t" r="r" b="b"/>
              <a:pathLst>
                <a:path w="4022129" h="4423578">
                  <a:moveTo>
                    <a:pt x="27961" y="226"/>
                  </a:moveTo>
                  <a:lnTo>
                    <a:pt x="2284905" y="18667"/>
                  </a:lnTo>
                  <a:lnTo>
                    <a:pt x="4016036" y="0"/>
                  </a:lnTo>
                  <a:cubicBezTo>
                    <a:pt x="4018187" y="555616"/>
                    <a:pt x="4015523" y="966750"/>
                    <a:pt x="4022129" y="1493791"/>
                  </a:cubicBezTo>
                  <a:lnTo>
                    <a:pt x="2507090" y="1467483"/>
                  </a:lnTo>
                  <a:cubicBezTo>
                    <a:pt x="2505468" y="1870375"/>
                    <a:pt x="2508507" y="2051976"/>
                    <a:pt x="2506885" y="2454868"/>
                  </a:cubicBezTo>
                  <a:lnTo>
                    <a:pt x="1216369" y="2465002"/>
                  </a:lnTo>
                  <a:cubicBezTo>
                    <a:pt x="1215888" y="3388934"/>
                    <a:pt x="1210853" y="3421380"/>
                    <a:pt x="714542" y="3434312"/>
                  </a:cubicBezTo>
                  <a:cubicBezTo>
                    <a:pt x="558414" y="3926709"/>
                    <a:pt x="467818" y="4407352"/>
                    <a:pt x="0" y="4423578"/>
                  </a:cubicBezTo>
                  <a:cubicBezTo>
                    <a:pt x="3107" y="3072068"/>
                    <a:pt x="20194" y="1545367"/>
                    <a:pt x="27961" y="226"/>
                  </a:cubicBezTo>
                  <a:close/>
                </a:path>
              </a:pathLst>
            </a:cu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6 Rectángulo redondeado"/>
            <p:cNvSpPr/>
            <p:nvPr/>
          </p:nvSpPr>
          <p:spPr>
            <a:xfrm>
              <a:off x="500040" y="1641600"/>
              <a:ext cx="1511280" cy="259236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2592360"/>
                <a:gd name="textAreaBottom" fmla="*/ 2518920 h 2592360"/>
              </a:gdLst>
              <a:ahLst/>
              <a:rect l="textAreaLeft" t="textAreaTop" r="textAreaRight" b="textAreaBottom"/>
              <a:pathLst>
                <a:path w="21600" h="37048">
                  <a:moveTo>
                    <a:pt x="3600" y="0"/>
                  </a:moveTo>
                  <a:arcTo wR="3600" hR="3600" stAng="16200000" swAng="-5400000"/>
                  <a:lnTo>
                    <a:pt x="0" y="33448"/>
                  </a:lnTo>
                  <a:arcTo wR="3600" hR="3600" stAng="10800000" swAng="-5400000"/>
                  <a:lnTo>
                    <a:pt x="18000" y="370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6 Recortar rectángulo de esquina diagonal"/>
            <p:cNvSpPr/>
            <p:nvPr/>
          </p:nvSpPr>
          <p:spPr>
            <a:xfrm>
              <a:off x="2155680" y="1703520"/>
              <a:ext cx="5424480" cy="3394080"/>
            </a:xfrm>
            <a:custGeom>
              <a:avLst/>
              <a:gdLst/>
              <a:ahLst/>
              <a:rect l="l" t="t" r="r" b="b"/>
              <a:pathLst>
                <a:path w="3989598" h="3285625">
                  <a:moveTo>
                    <a:pt x="0" y="9447"/>
                  </a:moveTo>
                  <a:lnTo>
                    <a:pt x="2280244" y="9447"/>
                  </a:lnTo>
                  <a:lnTo>
                    <a:pt x="3983415" y="0"/>
                  </a:lnTo>
                  <a:cubicBezTo>
                    <a:pt x="3999546" y="555616"/>
                    <a:pt x="3978242" y="1243365"/>
                    <a:pt x="3984848" y="1770406"/>
                  </a:cubicBezTo>
                  <a:lnTo>
                    <a:pt x="2479129" y="1790200"/>
                  </a:lnTo>
                  <a:lnTo>
                    <a:pt x="2469604" y="3257050"/>
                  </a:lnTo>
                  <a:lnTo>
                    <a:pt x="922785" y="3285625"/>
                  </a:lnTo>
                  <a:lnTo>
                    <a:pt x="0" y="2505715"/>
                  </a:lnTo>
                  <a:lnTo>
                    <a:pt x="0" y="9447"/>
                  </a:lnTo>
                  <a:close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Text Box 9"/>
          <p:cNvSpPr/>
          <p:nvPr/>
        </p:nvSpPr>
        <p:spPr>
          <a:xfrm>
            <a:off x="2357280" y="2071800"/>
            <a:ext cx="928800" cy="428400"/>
          </a:xfrm>
          <a:prstGeom prst="rect">
            <a:avLst/>
          </a:prstGeom>
          <a:solidFill>
            <a:srgbClr val="8db3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ffffff"/>
                </a:solidFill>
                <a:latin typeface="Calibri"/>
              </a:rPr>
              <a:t>Banc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10"/>
          <p:cNvSpPr/>
          <p:nvPr/>
        </p:nvSpPr>
        <p:spPr>
          <a:xfrm rot="5400000">
            <a:off x="2642760" y="264312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b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 C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jora productividad y competitividad a 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tomatiza tareas y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gra sistemas =&gt; no redig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minuye tiempos de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 propuestas tribu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stema electrónico grat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cilita formalización de contribuy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imbraje de libros y documentos es electró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ecológico, no trabaja con papel documentos ni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93640" y="34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O QUE V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593640" y="19267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ibro F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daptar norma IF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erramientas de Fiscalización Elect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s E-Gobierno: desarrollo de canal móvil y otras tecnologías que faciliten la relación electrónica del Estado con la ciudadan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ISTEMA C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39528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ceso ambiente de PRODUCCION:     </a:t>
            </a:r>
            <a:r>
              <a:rPr b="0" lang="es-C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3.sii.cl/ctmPublic/#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Imagen 3" descr=""/>
          <p:cNvPicPr/>
          <p:nvPr/>
        </p:nvPicPr>
        <p:blipFill>
          <a:blip r:embed="rId2"/>
          <a:stretch/>
        </p:blipFill>
        <p:spPr>
          <a:xfrm>
            <a:off x="1908000" y="1989000"/>
            <a:ext cx="5472360" cy="4768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611280" y="119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Picture 3" descr="j0195812"/>
          <p:cNvPicPr/>
          <p:nvPr/>
        </p:nvPicPr>
        <p:blipFill>
          <a:blip r:embed="rId1"/>
          <a:stretch/>
        </p:blipFill>
        <p:spPr>
          <a:xfrm>
            <a:off x="3675240" y="3030480"/>
            <a:ext cx="1792080" cy="2014560"/>
          </a:xfrm>
          <a:prstGeom prst="rect">
            <a:avLst/>
          </a:prstGeom>
          <a:ln w="0">
            <a:noFill/>
          </a:ln>
        </p:spPr>
      </p:pic>
      <p:sp>
        <p:nvSpPr>
          <p:cNvPr id="1267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64A-0440-4561-8B96-6D7AA22C765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941040" y="1927080"/>
            <a:ext cx="72738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CCM es una solución computacional qu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oya el cumplimiento tributario de los Contribuyentes inscritos en el Portal Tributario MIPYME que requieren llevar Contabilidad Comp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neración de la Contabilidad: Plan de cuentas, libros contables, EE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ncionalidades Tributarias: RLI, propuestas de decla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cripción por defecto en modalidad Libros Contables Electrónicos (L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ra desde Enero d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la fecha hay 2.600 contribuyentes inscr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3"/>
          <p:cNvSpPr/>
          <p:nvPr/>
        </p:nvSpPr>
        <p:spPr>
          <a:xfrm>
            <a:off x="433440" y="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BILIDAD  COMPLETA  MIP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CD06-D69E-4EE1-B7EB-268AF64D3BF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/>
          </p:nvPr>
        </p:nvSpPr>
        <p:spPr>
          <a:xfrm>
            <a:off x="1285920" y="1428840"/>
            <a:ext cx="6858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perar en Primera Categorí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No ser S.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scribirse como facturador electrónicos del Portal Tributario MIPYME S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uen comportamiento tributa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scripción en el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3 Rectángulo"/>
          <p:cNvSpPr/>
          <p:nvPr/>
        </p:nvSpPr>
        <p:spPr>
          <a:xfrm>
            <a:off x="1951920" y="11592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INSCR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1B06-19F9-4700-AC66-DE4D93C0E29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IAGRAMA SISTEMA 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4" descr=""/>
          <p:cNvPicPr/>
          <p:nvPr/>
        </p:nvPicPr>
        <p:blipFill>
          <a:blip r:embed="rId1"/>
          <a:stretch/>
        </p:blipFill>
        <p:spPr>
          <a:xfrm>
            <a:off x="1057320" y="1320840"/>
            <a:ext cx="6864480" cy="504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IAGRAMA C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5" descr=""/>
          <p:cNvPicPr/>
          <p:nvPr/>
        </p:nvPicPr>
        <p:blipFill>
          <a:blip r:embed="rId1"/>
          <a:stretch/>
        </p:blipFill>
        <p:spPr>
          <a:xfrm>
            <a:off x="1038240" y="1166760"/>
            <a:ext cx="7467480" cy="5492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6840" y="1380600"/>
            <a:ext cx="8256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tabilidad es una técnica que permite registrar hechos económicos cuantificables de una organización o empresa, procesa toda esta información y emite reportes que sirven para tomar deci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.- Que producir o dejar de produc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- Invertir o repartir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- Endeudarse o utilizar recursos pro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- Planificación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63264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OCESO CO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28440" y="1181160"/>
            <a:ext cx="7259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TRANS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.- Constitución de l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.- Compras de Mercaderías, Maquinarias y otros bie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.- Ventas de Mercad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- Devoluciones de Compra y V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.- Pago de Servicios, Gastos, Impues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7.- Pago de Remuneraciones y Honor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LIBRO DIARIO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naliza que partidas intervienen y como se afectan si aumentan o disminuy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gistra en el Libro Diario, la transacción en forma de asiento con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LIBRO MAY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traspasan los montos de cada cuenta registrada en el Libro Diario a la misma cuenta del Libro May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suman los cargos y abonos de cada cuenta y se determina el saldo.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ESTADOS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uestra los saldos de las cuentas a la fecha de cierre como resultado financiero y el rendimiento de la empresa en el ejercicio (Balance General y Estado de Resultad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085D-8D45-4C36-A92B-CA781020A5FB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/>
          </p:nvPr>
        </p:nvSpPr>
        <p:spPr>
          <a:xfrm>
            <a:off x="813960" y="1488600"/>
            <a:ext cx="742788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eo de libros auxiliares para agrupar transacciones repetitivas y de igual natural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registro en el Libro Diario se realiza mediante asientos de centra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transacciones poco frecuentes se realizan directamente en el libro diario, no siendo necesario libros auxili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3"/>
          <p:cNvSpPr/>
          <p:nvPr/>
        </p:nvSpPr>
        <p:spPr>
          <a:xfrm>
            <a:off x="336600" y="4495680"/>
            <a:ext cx="24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4"/>
          <p:cNvSpPr/>
          <p:nvPr/>
        </p:nvSpPr>
        <p:spPr>
          <a:xfrm>
            <a:off x="6070680" y="4324320"/>
            <a:ext cx="1241280" cy="792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5"/>
          <p:cNvSpPr/>
          <p:nvPr/>
        </p:nvSpPr>
        <p:spPr>
          <a:xfrm>
            <a:off x="7785000" y="4286160"/>
            <a:ext cx="1359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6"/>
          <p:cNvSpPr/>
          <p:nvPr/>
        </p:nvSpPr>
        <p:spPr>
          <a:xfrm>
            <a:off x="7365960" y="4762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7"/>
          <p:cNvSpPr/>
          <p:nvPr/>
        </p:nvSpPr>
        <p:spPr>
          <a:xfrm>
            <a:off x="2717640" y="4324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8"/>
          <p:cNvSpPr/>
          <p:nvPr/>
        </p:nvSpPr>
        <p:spPr>
          <a:xfrm>
            <a:off x="2698920" y="48006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9"/>
          <p:cNvSpPr/>
          <p:nvPr/>
        </p:nvSpPr>
        <p:spPr>
          <a:xfrm>
            <a:off x="3855960" y="3657600"/>
            <a:ext cx="151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Comp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0"/>
          <p:cNvSpPr/>
          <p:nvPr/>
        </p:nvSpPr>
        <p:spPr>
          <a:xfrm>
            <a:off x="3875040" y="4122720"/>
            <a:ext cx="151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1"/>
          <p:cNvSpPr/>
          <p:nvPr/>
        </p:nvSpPr>
        <p:spPr>
          <a:xfrm>
            <a:off x="3836880" y="5580000"/>
            <a:ext cx="151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3"/>
          <p:cNvSpPr/>
          <p:nvPr/>
        </p:nvSpPr>
        <p:spPr>
          <a:xfrm>
            <a:off x="579600" y="17640"/>
            <a:ext cx="7645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 CONTABLE CENTRALIZ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>
            <a:off x="2679840" y="3790800"/>
            <a:ext cx="0" cy="19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>
            <a:off x="2679840" y="3772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6"/>
          <p:cNvSpPr/>
          <p:nvPr/>
        </p:nvSpPr>
        <p:spPr>
          <a:xfrm>
            <a:off x="5575320" y="382896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8"/>
          <p:cNvSpPr/>
          <p:nvPr/>
        </p:nvSpPr>
        <p:spPr>
          <a:xfrm>
            <a:off x="5575320" y="3809880"/>
            <a:ext cx="31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3444840" y="4618080"/>
            <a:ext cx="19130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Honor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9"/>
          <p:cNvSpPr/>
          <p:nvPr/>
        </p:nvSpPr>
        <p:spPr>
          <a:xfrm>
            <a:off x="3159000" y="5113440"/>
            <a:ext cx="2198880" cy="34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Remun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8"/>
          <p:cNvSpPr/>
          <p:nvPr/>
        </p:nvSpPr>
        <p:spPr>
          <a:xfrm>
            <a:off x="2706840" y="5303880"/>
            <a:ext cx="36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8"/>
          <p:cNvSpPr/>
          <p:nvPr/>
        </p:nvSpPr>
        <p:spPr>
          <a:xfrm>
            <a:off x="2687760" y="5761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8"/>
          <p:cNvSpPr/>
          <p:nvPr/>
        </p:nvSpPr>
        <p:spPr>
          <a:xfrm>
            <a:off x="5583240" y="427500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8"/>
          <p:cNvSpPr/>
          <p:nvPr/>
        </p:nvSpPr>
        <p:spPr>
          <a:xfrm>
            <a:off x="5572080" y="477828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8"/>
          <p:cNvSpPr/>
          <p:nvPr/>
        </p:nvSpPr>
        <p:spPr>
          <a:xfrm>
            <a:off x="5580000" y="528156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8"/>
          <p:cNvSpPr/>
          <p:nvPr/>
        </p:nvSpPr>
        <p:spPr>
          <a:xfrm>
            <a:off x="5583240" y="574200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2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E954-BBFA-4175-A07B-9D49712B9F1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20:04:57Z</dcterms:created>
  <dc:creator>jvilchez</dc:creator>
  <dc:description/>
  <dc:language>en-US</dc:language>
  <cp:lastModifiedBy>María S.. López</cp:lastModifiedBy>
  <dcterms:modified xsi:type="dcterms:W3CDTF">2013-07-25T21:31:16Z</dcterms:modified>
  <cp:revision>136</cp:revision>
  <dc:subject/>
  <dc:title>Presentación de PowerPoint</dc:title>
</cp:coreProperties>
</file>