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BE8C-CA9F-477C-BE31-AF4AC47ED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BE3D-9EE6-40E5-95D0-1FCD4BC61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37BD-1107-441B-AA3A-90384C54A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DE79-EBC8-4BB9-8AF2-0401C6D8C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6C15D-4FC1-4C81-AD7F-E99C2B4E1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3A5A9-8836-4391-8DF0-2DEE09F10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2A160-32D2-4EBD-954C-14C662A06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F4DC7-F5B3-439F-80BE-3EF9ED7E2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CD10D-06DA-4BD5-A055-9B2F4F8CE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0E883-A947-4675-BCBB-6D924510F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34CAC-BFD9-4D88-AD7F-D290DE78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316E-82AA-431D-86EB-534B974C4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4A0F1-C8AC-46E7-8BFD-4CD04A5D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D87D8-8072-4AE8-8C3A-93596E702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5A842-7C36-4112-8ADD-BEAF05A31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51E57-9FAD-4BFC-8FE9-93970A697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76B29-A0E3-4D8C-9365-9E5955AD0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EF45A-D12F-4DFB-AD2E-AF470AA3B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8091B-7E49-4B60-8054-09DA8579E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F97D1-2DA5-4F84-9C61-07BC5B41A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B8298-A6B6-42F6-8978-98D1CFB3F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9A7A9-3C55-4F37-825E-0B96ADFD4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D45B-900C-450A-A10F-0E3593B12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E38FD-A701-4F55-BE97-7A2B0CB47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A924C-E0C3-40BC-8475-656767F3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59260-E7E4-4414-84C8-4B43FB1F4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D90EA-0DD5-46A8-8909-E1B582EBA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A85BB-C47B-4183-82B6-022F3819A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410D1-968E-4E9E-809E-26D04FFCB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CDE31-B9E4-4D29-B92D-9048E691D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970F7-DF80-4BF5-9976-9BD32D1E4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7C716-38CE-4DF3-96A6-20E048813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A3787-002E-4156-8AB6-F6BDA0E3B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5C7C-ACDD-4A4E-87ED-5EB1324DD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8E2AC-3726-4FEC-A989-7EFE62FCA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39EA0-181C-470A-AF38-648BFF4C2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674AA-2CE8-4911-A099-C68757892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FE1A8-8C00-4A27-B46D-5CB8042D1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CFD52-EE9E-4E38-B6ED-186F00D6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3BC4D-B1A7-4172-BF5B-6316FD88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E046F-A4C2-4B30-B438-2F9907704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A6907-D749-4840-97CD-56FC146C7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60FC2-9BB2-423A-AA2D-5472F5EF2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7154E-A289-4468-A37A-CA018F34C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56AE-CEDA-438E-A604-8B0F61161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50F277-BD26-468B-A1FF-BFFE16A04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3920E4-02E0-4C1B-8005-A0D1CC2F4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196EC2-A5EA-4501-BBEB-17404D3E1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DE5BD-C8BC-49D6-9424-1B2C86AE6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1028C-1FF4-4569-998F-9CF7A4D5E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8E7E6-B551-4CAC-91B1-85A710B0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FDF921-7B69-4AC5-A107-7E02CA83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2FC78-84D8-44AD-97C0-49B5B548C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3904B-E7D4-4C87-B29E-6D65B4976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26B324-3F21-44EC-9B50-6F45CCC42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E65E-6856-429F-82E6-46AF0EDF2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A10801-A68B-4132-A0A2-CD53A3076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EFE3F6-1310-4379-9DF0-B8E36CB9B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970535-F2EB-43ED-B91B-822E07ED2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F77D6A-C2B4-4BD6-9E3B-2FA2CE2D4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6F34BC-7368-4A6A-A210-433B6D5D5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003DD9-6CFB-4408-A85F-A9F64C032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F15571-9194-448B-AFD3-1C8CD7520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C3EC57-E0A6-4854-B869-1ED01A471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DF3580-81C4-406B-9664-909D208D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E96838-C209-44D8-8B49-5EFBFCC4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F83E-D921-4510-8919-39ADFA96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C557DE-AD49-4D38-933D-356D68324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95B89-3ADF-4F4D-BF45-D9E209799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5A6EED-A7C9-4929-A247-ABF787F97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9DEDB9-86AE-4489-85A2-3BCC4907E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6FBFE2-35C9-4DD4-8055-7D4B9510E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682C93-0C94-4AB0-8A1F-19BF1280A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244361-D805-47C3-9D3B-7446B85C9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728371-B414-4F25-9FCB-45C6BBC1F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36B199-B7EC-4FFF-A151-89C1433AD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B1C0D7-89E6-4110-9172-666FAC45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CA6F-519F-43E5-A6A7-E97EEE13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77B620-0E3C-4442-A5A6-A2A5860F0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9F7659-E6CA-43CE-AD0B-0EEB2B0F8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791980-0639-406F-A2FD-723E60BFB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52AEB9-00D1-4D25-850A-0C8986026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E31A9B-F158-413B-88D5-CB70950BA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EED5-5E0C-4F7B-9565-6097C625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4F232-CF23-4022-9EF3-65CFFEC6B3A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9 Triángulo isósceles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975DC-7F63-4202-8CAB-3306CBBA0891}" type="slidenum">
              <a:rPr b="0" lang="es-E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B927F-7DB6-4DD6-9709-AF7D3B5F3CA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9 Triángulo rectángulo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11 Triángulo isósceles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12 Conector recto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14 Conector recto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601DE-5FF5-428B-9107-D15F352ABF45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E795F-C4B7-4540-B9E2-530816FB96D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61CB4-0BBA-4956-A4DA-E0FE7AA1FA5D}" type="slidenum"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11AC9-D0D3-4274-98A6-A597659669D9}" type="slidenum">
              <a:rPr b="0" lang="es-E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2 Subtítulo" descr=""/>
          <p:cNvPicPr/>
          <p:nvPr/>
        </p:nvPicPr>
        <p:blipFill>
          <a:blip r:embed="rId1"/>
          <a:stretch/>
        </p:blipFill>
        <p:spPr>
          <a:xfrm>
            <a:off x="1000080" y="1249200"/>
            <a:ext cx="7772400" cy="1683000"/>
          </a:xfrm>
          <a:prstGeom prst="rect">
            <a:avLst/>
          </a:prstGeom>
          <a:ln w="0">
            <a:noFill/>
          </a:ln>
        </p:spPr>
      </p:pic>
      <p:pic>
        <p:nvPicPr>
          <p:cNvPr id="302" name="3 Imagen" descr="Dibujo.JPG"/>
          <p:cNvPicPr/>
          <p:nvPr/>
        </p:nvPicPr>
        <p:blipFill>
          <a:blip r:embed="rId2"/>
          <a:stretch/>
        </p:blipFill>
        <p:spPr>
          <a:xfrm>
            <a:off x="3000240" y="3000240"/>
            <a:ext cx="345780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1 Título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82680" algn="ctr">
              <a:spcBef>
                <a:spcPts val="624"/>
              </a:spcBef>
              <a:buClr>
                <a:srgbClr val="ff388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ffffff"/>
                </a:solidFill>
                <a:latin typeface="Century Gothic"/>
              </a:rPr>
              <a:t>L</a:t>
            </a:r>
            <a:r>
              <a:rPr b="1" lang="es-PY" sz="2500" spc="-1" strike="noStrike">
                <a:solidFill>
                  <a:srgbClr val="ffffff"/>
                </a:solidFill>
                <a:latin typeface="Century Gothic"/>
              </a:rPr>
              <a:t>a normativa tributaria paraguaya no contiene normas específicas que regulen la imputación de los precios de transferencias entre entidades del país con empresas asociadas del exterior. </a:t>
            </a:r>
            <a:endParaRPr b="0" lang="en-US" sz="2500" spc="-1" strike="noStrike">
              <a:solidFill>
                <a:srgbClr val="ffffff"/>
              </a:solidFill>
              <a:latin typeface="Century Gothic"/>
            </a:endParaRPr>
          </a:p>
          <a:p>
            <a:pPr marL="411120" indent="-382680">
              <a:spcBef>
                <a:spcPts val="624"/>
              </a:spcBef>
              <a:buClr>
                <a:srgbClr val="ff388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entury Gothic"/>
            </a:endParaRPr>
          </a:p>
          <a:p>
            <a:pPr marL="411120" indent="-382680" algn="ctr">
              <a:spcBef>
                <a:spcPts val="700"/>
              </a:spcBef>
              <a:buClr>
                <a:srgbClr val="ff388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500" spc="-1" strike="noStrike">
                <a:solidFill>
                  <a:srgbClr val="ffffff"/>
                </a:solidFill>
                <a:latin typeface="Century Gothic"/>
              </a:rPr>
              <a:t>No obstante, contiene algunas disposiciones que inducen a pensar que, en determinado tipo de operaciones, se utiliza la lógica del principio de “ARMS LENGTH” (Precio Normal de Mercado Abierto), </a:t>
            </a:r>
            <a:r>
              <a:rPr b="1" lang="es-ES" sz="2500" spc="-1" strike="noStrike">
                <a:solidFill>
                  <a:srgbClr val="ffffff"/>
                </a:solidFill>
                <a:latin typeface="Century Gothic"/>
              </a:rPr>
              <a:t>también denominado Precio Comparable No Controlado</a:t>
            </a:r>
            <a:r>
              <a:rPr b="0" lang="es-ES" sz="28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1112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914400" y="1143000"/>
            <a:ext cx="7772400" cy="521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06800" indent="-378720" algn="ctr">
              <a:spcBef>
                <a:spcPts val="550"/>
              </a:spcBef>
              <a:buClr>
                <a:srgbClr val="ff388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Century Gothic"/>
              </a:rPr>
              <a:t>Existe la necesidad de contar con una norma que permita a la Administración Tributaria el control de las transacciones internacionales que llevan a cabo un grupo importante de contribuyentes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06800" indent="-378720" algn="ctr">
              <a:spcBef>
                <a:spcPts val="550"/>
              </a:spcBef>
              <a:buClr>
                <a:srgbClr val="ff388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06800" indent="-378720" algn="ctr">
              <a:spcBef>
                <a:spcPts val="550"/>
              </a:spcBef>
              <a:buClr>
                <a:srgbClr val="ff388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Century Gothic"/>
              </a:rPr>
              <a:t>Al respecto, la Subsecretaría de Estado de Tributación cuenta con un grupo de trabajo multidisciplinario que está trabajando con consultores especializados y apoyo del CIAT, los cuales se encuentran analizando la realidad paraguaya a fin de la implementación del marco legal que regule los precios de transferencia. Ya se cuenta con un proyecto de ley y su respectiva reglamentación</a:t>
            </a:r>
            <a:r>
              <a:rPr b="0" lang="es-ES" sz="2200" spc="-1" strike="noStrike">
                <a:solidFill>
                  <a:srgbClr val="ffffff"/>
                </a:solidFill>
                <a:latin typeface="Century Gothic"/>
              </a:rPr>
              <a:t>.</a:t>
            </a:r>
            <a:br>
              <a:rPr sz="2200"/>
            </a:br>
            <a:r>
              <a:rPr b="0" lang="es-ES" sz="22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ffffff"/>
                </a:solidFill>
                <a:latin typeface="Century Gothic"/>
              </a:rPr>
              <a:t>Fin.-</a:t>
            </a:r>
            <a:endParaRPr b="0" lang="en-US" sz="5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4T13:23:27Z</dcterms:created>
  <dc:creator>Usuario</dc:creator>
  <dc:description/>
  <dc:language>en-US</dc:language>
  <cp:lastModifiedBy>Monica Alonso</cp:lastModifiedBy>
  <dcterms:modified xsi:type="dcterms:W3CDTF">2013-06-14T15:23:13Z</dcterms:modified>
  <cp:revision>5</cp:revision>
  <dc:subject/>
  <dc:title>Diapositiva 1</dc:title>
</cp:coreProperties>
</file>