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FC8-4F71-4DC6-8C3F-7537BD6503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3AA6-6821-463C-AC89-BD14C4E8F8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F72-CEC4-4B0D-8E40-2F5C8F0E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328-E1F9-4893-B8A1-7C9CA21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CBB-468B-461D-A41D-A0D3FE28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4A0-6E8D-4484-AF02-1AC4EE49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F63-773B-4D07-BCC1-14ED2EA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CD1-F4EB-4216-B7DF-D6E52AF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ABE-2A33-499F-A119-A14D317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428-9F7A-4C2A-89FA-FF66CF00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87D-8A0C-4D0B-9641-21AD067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A39-9019-4CBC-BA56-AD2341B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89C-6FE1-4690-B6D5-D688D6D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607-B461-4D0E-B6D0-80D5962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53F5-9F18-41DF-AC3B-F18292EE9EF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359-7FAE-453C-B9A3-351AA1B71F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 Box 2"/>
          <p:cNvGrpSpPr/>
          <p:nvPr/>
        </p:nvGrpSpPr>
        <p:grpSpPr>
          <a:xfrm>
            <a:off x="-19080" y="6377040"/>
            <a:ext cx="9175680" cy="493560"/>
            <a:chOff x="-19080" y="6377040"/>
            <a:chExt cx="9175680" cy="493560"/>
          </a:xfrm>
        </p:grpSpPr>
        <p:pic>
          <p:nvPicPr>
            <p:cNvPr id="49" name="Text Box 2" descr=""/>
            <p:cNvPicPr/>
            <p:nvPr/>
          </p:nvPicPr>
          <p:blipFill>
            <a:blip r:embed="rId1"/>
            <a:stretch/>
          </p:blipFill>
          <p:spPr>
            <a:xfrm>
              <a:off x="-19080" y="6377040"/>
              <a:ext cx="9175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39612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5 Marcador de fecha"/>
          <p:cNvSpPr/>
          <p:nvPr/>
        </p:nvSpPr>
        <p:spPr>
          <a:xfrm>
            <a:off x="0" y="6429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CC6-6CCB-48F8-9B4D-B498E94C311B}" type="datetime">
              <a:rPr b="0" lang="es-ES" sz="1200" spc="-1" strike="noStrike">
                <a:solidFill>
                  <a:srgbClr val="dce6f2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Marcador de pie de página"/>
          <p:cNvSpPr/>
          <p:nvPr/>
        </p:nvSpPr>
        <p:spPr>
          <a:xfrm>
            <a:off x="3124080" y="64292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dce6f2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6 Marcador de número de diapositiva"/>
          <p:cNvSpPr/>
          <p:nvPr/>
        </p:nvSpPr>
        <p:spPr>
          <a:xfrm>
            <a:off x="6875640" y="6429240"/>
            <a:ext cx="201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ECC-EA0E-48D1-9B81-C6C7394E82F7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Barra"/>
          <p:cNvPicPr/>
          <p:nvPr/>
        </p:nvPicPr>
        <p:blipFill>
          <a:blip r:embed="rId2"/>
          <a:stretch/>
        </p:blipFill>
        <p:spPr>
          <a:xfrm>
            <a:off x="684360" y="1268280"/>
            <a:ext cx="782460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14 Rectángulo"/>
          <p:cNvSpPr/>
          <p:nvPr/>
        </p:nvSpPr>
        <p:spPr>
          <a:xfrm>
            <a:off x="971640" y="2421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Arial"/>
              </a:rPr>
              <a:t>En el caso de Guatemala, el tema sobre precios de transferencia se incorporó a nuestra legislación en enero del presente año y podremos ver los resultados hasta el cierre de ejercicio al 31 de diciembre de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0 Imagen" descr="http://nemesis/estadisticas/images/central/logosat.gif"/>
          <p:cNvPicPr/>
          <p:nvPr/>
        </p:nvPicPr>
        <p:blipFill>
          <a:blip r:embed="rId3"/>
          <a:stretch/>
        </p:blipFill>
        <p:spPr>
          <a:xfrm>
            <a:off x="324000" y="189000"/>
            <a:ext cx="1742760" cy="57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9:16:25Z</dcterms:created>
  <dc:creator>mrrivera</dc:creator>
  <dc:description/>
  <dc:language>en-US</dc:language>
  <cp:lastModifiedBy>mrrivera</cp:lastModifiedBy>
  <dcterms:modified xsi:type="dcterms:W3CDTF">2013-06-21T20:46:24Z</dcterms:modified>
  <cp:revision>616</cp:revision>
  <dc:subject/>
  <dc:title>Diapositiva 1</dc:title>
</cp:coreProperties>
</file>