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dt" idx="17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18"/>
          </p:nvPr>
        </p:nvSpPr>
        <p:spPr>
          <a:xfrm>
            <a:off x="384948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E08AD-7943-4E3A-BF6D-221A5C975B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E03F-0C9A-4322-8D94-511E38581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BE87-3F84-4F8E-80C0-0082FE5EF3E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74B99-9E45-4439-8E1B-96C89A30A04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D31E8-6903-4190-AACD-1FCDA3878C6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6A105-3EDC-4D67-BFAE-1463A50FB27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57162-BA5C-4AFE-ACAE-BDC5194285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15AFA-C133-46A4-964F-2B2EC289841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FBDBE-D9B2-4FD8-80E0-54496815025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55524-D5BD-4D1B-8A70-B46A561E615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4EAD8-8549-4CFC-A23C-06A444E9272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FA849-5392-4CCB-A337-FE2F9015BD4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A57460-469F-436C-95FE-BEBAE1EA4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7883-DE1B-4029-8B19-56EF0A709CD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2397EC-D885-4E75-85DD-445D1614FE1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3D341E-BFA0-4F9B-BD0B-B02A1719F79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278CD3-8869-433E-9E14-A27B0A2215E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CD6224-5666-4A1B-B83F-59DE9FE0867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825BAB-902A-439A-A8C9-7C5CA6B00C6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E80393-C5F4-4C80-BA78-7AA46C51308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6E8B7A-026C-4365-B732-C65428D739C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00E4E0-7D61-4417-AB7B-8660D9D0E78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44007-340D-4C1F-8DBA-94758353B9D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6BB18D-CC94-4C10-B7FC-80A16F591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DD90-D7B7-4D2B-835D-1AF42164324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BB765-B425-4700-8E27-B6A2304BFFF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C00721-A8A5-44CE-A8E7-FEF7B8A6EEF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D4F5B-FD38-440F-85FD-9C74C49353C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3123A3-4AA4-489C-8F9C-2C3DF68955B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C6A814-BD7E-41E7-B870-593EB9A666D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A86785-4274-4819-9AD7-8ADD3838CF8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529C4F-4B24-440F-8B08-E1C99D9CF60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8B6A05-D3DF-46FE-8580-9F9A6D0E0EA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0E1FA-A2A4-4065-9AB4-88E29BB72BC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8479F-74C1-4AD5-86BD-C233386E8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6E27-8AE4-4CE2-9651-6F2E5683074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1529B-CC2C-4553-AD22-EC1E483D930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5B0A11-EF15-4EB4-B3EE-4E149AB62A7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DC54C7-9C18-4184-9ADF-D1F3F00F7E3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12AA3-C1D9-463B-811C-3A89FFF5ED8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FE581-5D75-427B-A241-0390DB1A0EB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15E6D-877C-4ED2-9DBA-21588A6D573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D6E97-6B4D-4394-B05A-9D42F4AAF01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2B7DB-A4B3-490B-94DD-9694FB0E162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E82AA-B26E-4F6C-BB97-8846A1B05E1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BA5B7-C64D-4692-9EC4-2D9DB33EE4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5EA1-44B2-45E6-9580-E2DFA603981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02F6F-665C-4343-8876-2FFBB4F72FA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2B579-6E8C-4653-A333-04F0675FCC8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B2BAA-DBDF-464F-B9B0-D1B08818B0F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C0E4C-071A-440D-83BE-6A653CA3702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769E8-08D2-4584-A9F1-EB83DCDBDEA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FA3879-C169-4EE0-A16F-E9E23EC3F43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9CAAAC-F3A2-4235-B3C6-98607BD3CE2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4FDED8-4C19-4AD0-8E37-1E402C45FB5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6CA6E4-39FB-447F-96C3-A8FA45F06AD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C562B1-2E62-413D-9D56-A6841621B7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7108-728A-4D5A-8EEC-6E6A37BBF60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ED253D-2C12-4A64-B9A7-72743FC29BC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1A5BED-05D4-4186-91FC-91800F1B0DC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DD9C3F-4748-4885-8E03-1A11EAECC25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2532C8-E493-40F0-A080-F44DE21786F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FB9F30-5292-4C55-91FC-0C78929CC78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6C5589-A304-4DA0-97B8-59A2AD6984C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6F54F7-A4D6-40D7-96DB-637B191D057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532922-2CE7-4BDD-9209-5D1FDCA4BAC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9AB0C-400B-4FC0-88A6-B00F6FB984A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F1ADB-1C54-48C3-9B21-512020C3BD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DD1E7-03FF-4094-A8BC-9C41CDC413A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35D55-C848-4577-BB78-4B665A867B3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C4F32-185C-46AE-A636-6D578C32D03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D6731-EBB1-4909-9BCA-80087340A27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2ECB7-04EB-4A69-A146-C9F9790131D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32EBC-50BC-42B3-AC63-B2C48174992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7B9F4-4404-4C1B-8ECC-F614C5405CD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A75A2-4D82-4BD7-A91A-3CA776419A0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2A66C6-5894-4C66-83A6-FB64B51E9C6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50F42-41DD-4A59-A7DE-44C30C394BE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FC250-8882-42CD-92E4-FCFD76DA1A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11DF9-73B4-4120-A1E2-DFCBBA1D54B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A1162-BC64-4A37-868F-411927193E4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31551-61D8-4360-BFA9-543AA61B41C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5D323-1CD2-4DF6-A3FC-14E9500A06E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37C68-AAE3-4B2C-ADE2-0F73816BB7E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F1127-4B54-4CC8-9617-2368DE51734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B85B7-3107-485C-B212-693D2F74C8C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54AF8-A4C5-4438-9C31-F4548BEEA5C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D6878-1C05-47DE-9E4B-350DC538DF3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AC055-3B7D-4935-86E4-6075E163483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1478D-DCAD-4C53-82D4-7F90050941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1125-D33A-43DF-A461-FE656D60420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8D580-BB56-4ED8-93EE-2EE1E42D320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06FBC9-E88E-478C-8BAD-60492A11799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CE5DDE-2630-4EEB-A305-FDA0D52EA50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B199E5-FF6F-49E4-BEDA-085D5EB1330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1293EC-4DA3-4FD3-A6E5-29441464419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E0B25F-DA76-4A67-AA44-C0A3427A93D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CED520-BE32-4A2F-8B25-6D58E317226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6986AD-3F07-4B1C-B93A-C5F55055EB5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342CCE-B1D4-41F4-9CF1-65B9C2971D1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E65A3F-5D2B-4805-A48B-AFD08E1024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61C8-E558-4CF1-A53E-2E717F27E26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3B3668-43BD-47AD-AF41-DC63C1110EF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C3851A-7A63-4EC3-95ED-7782AB20F6C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5BB7CC-2383-42CF-B37F-8F254A97C7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B417-AF04-4D57-9A1E-7CD95A8D7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CBB7-2D6A-4CC9-8457-F362BD218F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00EA-64CC-4502-8826-E254593A72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A1CA-E13C-4D69-8828-2F75EDFECF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BE23-AFFA-4239-B8A2-438F6505F4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2F8C-C2EF-4AB4-82F1-AA17AB766E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F0D-4BC5-43A0-AEA6-BBFF03B27D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D68-B6F8-4EC3-B434-130B1B6C98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390-BA28-4F3F-A052-6A586F0087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2ACB-6843-49D9-9824-B52A58E3EA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E06-B5B3-4E9A-8A80-8E89FBA57C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75DA-723B-4A71-832E-8176CD8B2D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4C6-3C70-4F1B-98C2-65761E8F00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0303-1E93-4B66-B2E4-38F3729881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53F-823D-4C10-BB4F-F8A11137FC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B9C-D32C-452A-969C-BFCD399A8E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025-AFF2-4B48-B338-6BAC938A85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E64-F865-43A8-A726-CA32074034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AF45-C7AB-4DAE-9866-6F451DDEAF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F8034-D5CE-4E91-9507-F76CD45798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6F5AB-3600-4366-B33C-CCDA87458B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A2E2C-4D99-4C90-A215-DC3F8EC8E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4800-3F3A-43D4-9918-47E75467DB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38280-1C21-40D0-AEB5-4958E47646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30D75-1CAB-45D9-A002-CB879058DA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E6380-C5C9-45E8-8245-225D5037AE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FD69C-99A9-4378-AC0C-9CC3B00564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20B9B-22EE-439D-AC04-16F1415969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8EFA4-BDA8-4CF1-9C1B-C892C6395F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8250B-8229-4948-9CDD-96A88AD18CB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7E393-974E-46B4-A566-E1B413FAEF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CF842-19EB-48AD-8B49-C0D860C020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107BA-3909-44DA-94C0-935BBEC7C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4069-9505-4343-A503-ACFB82B502C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A7FE1-11FE-46C7-B81C-43A7D459D9B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F4310-067C-416A-B89E-2D1D7306F0F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719F2-3D89-481B-A8C6-3786B8B9D54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A7F36-E241-4379-BABF-32336E25150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399EA-374E-42AD-99BA-14A64387C3F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0B734-0843-4088-B412-F3702A3A51F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94A0A-8B2D-4717-BE79-B0413EA74D7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7FB21-17F0-4D62-A814-8FC361EFCE9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37D36-1F0E-49FB-B0BE-B903F84C241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B9146-EBC1-46D8-95A7-EA3DF9E56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3CB8-08A9-4E93-AEB8-D2AD68D4D2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4A929-CD1B-4616-9A79-E9C9FBDF00D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7939-0B85-48CA-8D22-206D32BEDCB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27EE-D962-4A9C-B5FB-B77F02664DB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A3AE-2C31-4D8E-9E57-985A92C4CF9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696B-2A75-44B7-AD4F-618080D915B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86AD-65F3-41A2-91DE-BB996D99B7C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17B3-836A-45EB-8B97-7C0EDDDCBF6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3838-64C4-4D05-98E9-97482EA6D60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8D2E-B0E7-4F83-87FF-935E6AF9F13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5258-6939-4655-98C0-E288A00A7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123A-036E-4C30-B071-5FC97D254CB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D747-63EA-4C96-AD05-DBAFDD1873A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FF00-4E75-45A4-995A-0E0F326DE1F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1442-26C4-4A40-8FD7-22E3622FF82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902428-CA3E-4675-BB09-620A64E9AE0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265F9F-615D-4E66-AFB9-143D1FE1EC3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AC80F8-D338-404C-AA64-4B2C239BF82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0CDC20-15E0-4F26-9623-D5D67F4DA77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60B6F-6E3F-4C0D-BA9D-9E7BC7A768F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3A2C07-B0E7-461F-AA4B-71743C47A1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15FAE5-85A4-4C8D-B041-333751224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421E-AC33-45DB-B53E-5B5A3B41260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8E139A-963F-49EF-AEB0-8B3D775D656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C57CF1-9A37-46A5-B5EF-E9F30888EE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9D3DA2-28FF-41DE-9D52-5800D79850A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6F1260-A0A6-4772-91D5-6652DF836DD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B9817C-C1E0-468C-A433-4B8069261C7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F963C-BA60-4443-A68F-5890D9F5982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8A019-2542-42FD-BBAE-66A6A2DA40D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5D4CA-A039-4113-BC97-F0AE2E25404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62F61-9761-478C-B9E0-1D39A94D4C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BACED-AD70-4FBD-9FCB-B77172953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592E-8922-4511-9533-8082D61F948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25373-2CD1-490C-8130-05B280852D7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79534-1C23-464A-BE5F-5FEFBDCF59A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42279-020C-4CB8-AC8E-5E322875C8C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5A5EC-B116-422D-A508-16E42A8432A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48A3A-EB08-4173-9A38-25570A75CBC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0E365-C8DD-4964-BC75-F9632F1BC27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20AF9-CBA5-4CDF-BA70-C8D1469C16A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1B96-F18F-4BBF-AB02-3F9EB8B79B9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F4320-F4BD-46F5-B617-DCF2F06957E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87EE0-5BA1-44AD-95C4-BF1353E83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sldNum" idx="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1A0197B-104D-4360-8721-09715311017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81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82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83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86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90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sldNum" idx="10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F48EDF8-69C6-4DA4-BD8F-DECAC2D0F24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3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3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3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3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4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sldNum" idx="1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2E88C7-D2AA-4AE2-8F03-2363EE76F75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8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8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9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9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sldNum" idx="1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C93C5D-0724-488D-9760-6385511F790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4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4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4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4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sldNum" idx="1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62A4BA9-6992-4902-AAE3-438C89DF4A7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9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9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9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0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sldNum" idx="1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53853B9-7423-4C79-AE67-1FF544CD418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74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74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75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5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sldNum" idx="1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5C69023-AAED-41A0-9510-F9397F544D8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9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80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80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80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sldNum" idx="1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5043F7-92C6-44E8-A21A-E8D6D8E692A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sldNum" idx="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B36CD8-FB60-4355-B35F-7E2A8C4AD8D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1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1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1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sldNum" idx="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EB77152-FB39-4A89-9CF0-ECCF12C6ABE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6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6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6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6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7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sldNum" idx="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B5A62D3-4DA7-41D8-AB4F-52B1A0F9CCC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1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1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2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2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sldNum" idx="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CB92F5F-3283-4CEE-BDE7-09BF2FFA310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6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7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7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7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35B3BD-4EC4-463A-AADE-3B000991C78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22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23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24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27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31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sldNum" idx="7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07496BD-D471-4C94-8D0F-FF71EAE9066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5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76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77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80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84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sldNum" idx="8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2CFD4F2-9563-4680-B49B-F13452587D7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28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29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30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2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37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sldNum" idx="9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B499081-5AB0-419A-BE27-F187D2B5DDF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68200" y="2878200"/>
            <a:ext cx="84074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UY" sz="4400" spc="-1" strike="noStrike" u="sng">
                <a:solidFill>
                  <a:srgbClr val="000000"/>
                </a:solidFill>
                <a:uFillTx/>
                <a:latin typeface="Arial"/>
              </a:rPr>
              <a:t>TEMAS CONTROVERTIDOS EN LA APLICACIÓN DEL RÉGIMEN DE PRECIOS DE TRANSFER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103480" y="223920"/>
            <a:ext cx="67165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MISIÓN DE DE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ISLAS CAYM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79440" y="1981080"/>
            <a:ext cx="239220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r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084720" y="2133720"/>
            <a:ext cx="2603520" cy="1066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FIDEIC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724360" y="4114800"/>
            <a:ext cx="2955960" cy="1752480"/>
          </a:xfrm>
          <a:prstGeom prst="octagon">
            <a:avLst>
              <a:gd name="adj" fmla="val 29287"/>
            </a:avLst>
          </a:prstGeom>
          <a:solidFill>
            <a:srgbClr val="ff505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(Fiduciar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744640" y="2514600"/>
            <a:ext cx="3235320" cy="304920"/>
          </a:xfrm>
          <a:prstGeom prst="leftRightArrow">
            <a:avLst>
              <a:gd name="adj1" fmla="val 50000"/>
              <a:gd name="adj2" fmla="val 211225"/>
            </a:avLst>
          </a:prstGeom>
          <a:solidFill>
            <a:srgbClr val="0033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198108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misión de De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5480" y="2743200"/>
            <a:ext cx="2872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S$ 70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US$ 14 x b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7236000" y="32763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22280" y="3809880"/>
            <a:ext cx="5135400" cy="2210040"/>
          </a:xfrm>
          <a:prstGeom prst="roundRect">
            <a:avLst>
              <a:gd name="adj" fmla="val 16667"/>
            </a:avLst>
          </a:prstGeom>
          <a:solidFill>
            <a:srgbClr val="fde597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alificación “AAA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- Moody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- Standard &amp; P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- Duff &amp; P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519280" y="371520"/>
            <a:ext cx="4500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MISIÓN DE DEU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VENTA COLATERAL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80" y="1892160"/>
            <a:ext cx="9144000" cy="17528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468520" y="1981080"/>
            <a:ext cx="239256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r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1830240"/>
            <a:ext cx="37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SLAS CAYM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986440" y="2070000"/>
            <a:ext cx="26035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FIDEIC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480" y="4629240"/>
            <a:ext cx="9144000" cy="175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4680" y="402264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.E. U.U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468520" y="4648320"/>
            <a:ext cx="2392560" cy="144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665520" y="3429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102120" y="3840120"/>
            <a:ext cx="1055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ru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4861080" y="3200040"/>
            <a:ext cx="2673360" cy="2133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rot="19343400">
            <a:off x="4578480" y="3968640"/>
            <a:ext cx="2852640" cy="4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ancelación de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rot="19343400">
            <a:off x="4882680" y="4343400"/>
            <a:ext cx="2830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US$ 90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1025640" y="162000"/>
            <a:ext cx="760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340000" y="40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OPERATORIA – FACTUR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306600" y="1978200"/>
            <a:ext cx="2322720" cy="411480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28880" y="2287440"/>
            <a:ext cx="1478160" cy="3733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etrol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236760" y="1790640"/>
            <a:ext cx="23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613560" y="1978200"/>
            <a:ext cx="2322360" cy="41148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2193840"/>
            <a:ext cx="2109960" cy="4114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824520" y="2306520"/>
            <a:ext cx="19702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Tr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41120" y="4191120"/>
            <a:ext cx="2040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019920" y="1863720"/>
            <a:ext cx="31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slas Cay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190188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.E.U.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276880" y="2637000"/>
            <a:ext cx="15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5276520" y="2781360"/>
            <a:ext cx="1477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557680" y="2117880"/>
            <a:ext cx="11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r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952880" y="320364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$ 7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US$ 14 x b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111400" y="441972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181240" y="5029200"/>
            <a:ext cx="140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908000" y="3773520"/>
            <a:ext cx="15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$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2180880" y="4419720"/>
            <a:ext cx="1336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181240" y="487692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7246800" y="2743200"/>
            <a:ext cx="0" cy="2209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8302680" y="2819520"/>
            <a:ext cx="0" cy="21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rot="16221000">
            <a:off x="6602760" y="3412440"/>
            <a:ext cx="18259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$ 7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rot="16221000">
            <a:off x="7407000" y="3585960"/>
            <a:ext cx="17524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7885080" y="1988640"/>
            <a:ext cx="0" cy="3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195200" y="2060640"/>
            <a:ext cx="6684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187280" y="2060640"/>
            <a:ext cx="0" cy="23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rot="16221000">
            <a:off x="525960" y="2809800"/>
            <a:ext cx="12906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r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125360" y="5251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125360" y="6165720"/>
            <a:ext cx="67550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7880400" y="5864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41120" y="6213600"/>
            <a:ext cx="2109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$ 9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678720" y="5029200"/>
            <a:ext cx="223668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FIDEICOM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801880" y="476280"/>
            <a:ext cx="39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CIDENCIA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08000" y="1879560"/>
            <a:ext cx="864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900"/>
              </a:buClr>
              <a:buFont typeface="Wingdings" charset="2"/>
              <a:buChar char="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ENCIÓN EN LA FU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MPUESTO A LAS  GANANC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4000" y="5589720"/>
            <a:ext cx="8362800" cy="6426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Base Imponible: US$ 200 MILL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038480" y="489600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3173400"/>
            <a:ext cx="7391520" cy="1739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50 Millones de Barri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US$ 4 por barril (US$: 18 - 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24000" y="47973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próx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79280" y="1941480"/>
            <a:ext cx="93600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XISTENCIA DE VINC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SELECCIÓN DEL MEJOR MÉ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IPO Y CARACTERÍSTICAS DE LA OPERA-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CIÓN BAJO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STED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ÉTODOS TRADICIONALES VS. MÉTOD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DE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38200" y="1766880"/>
            <a:ext cx="81374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MPAR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ÁLISIS DE LA OPERACIÓN A TEST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FORMACIÓN  PARA EVALUAR EL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ANÁ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ISIS FUNCIONAL Y DE COMPAR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OCUMENTACIÓN RESPALDATORIA DEL ANÁLISIS DE COMPAR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ÁLISIS DE LAS CONDICIONES PAC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-757080" y="1857240"/>
            <a:ext cx="950580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504800" indent="-457200" algn="just">
              <a:lnSpc>
                <a:spcPct val="13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JUSTES A LA COMPARABIL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4800" indent="-457200" algn="just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SO   DE  COMPARABLES   EXTERNOS   EN DESMEDRO DE LOS COMPARABLES INTER-NOS Y/O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4800" indent="-457200" algn="just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MPRESAS SELECCIONADAS COMO COMPA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4800" indent="-457200" algn="just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LECCIÓN DE LOS FACTORES DE RENTA-BILIDAD (P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2276640"/>
            <a:ext cx="9902880" cy="29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STUDIO DE PRECIOS DE TRANSFEREN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IDAD DEL CONTENID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99ccff"/>
              </a:buClr>
              <a:buFont typeface="Arial"/>
              <a:buChar char="u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55640" y="2276640"/>
            <a:ext cx="734364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VENTAJAS DERIVADAS DEL CONTROL DE PRECIOS DE TRANSFERENC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UN CASO EMBLEM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buClr>
                <a:srgbClr val="99ccff"/>
              </a:buClr>
              <a:buFont typeface="Arial"/>
              <a:buChar char="u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-18108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2176560" y="473040"/>
            <a:ext cx="67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ONT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23840" y="2427120"/>
            <a:ext cx="3378240" cy="38102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04720" y="2744640"/>
            <a:ext cx="2392560" cy="327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etrol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09520" y="1790640"/>
            <a:ext cx="35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Garamond"/>
              </a:rPr>
              <a:t>Argent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203800" y="2722680"/>
            <a:ext cx="337824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203800" y="4667400"/>
            <a:ext cx="337824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732640" y="2811600"/>
            <a:ext cx="23922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r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656320" y="4827600"/>
            <a:ext cx="23922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153040" y="2079720"/>
            <a:ext cx="354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Garamond"/>
              </a:rPr>
              <a:t>Islas Caym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032440" y="4145040"/>
            <a:ext cx="35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E.E.U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019320" y="299736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2943000" y="34290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095640" y="48690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3095640" y="53737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689280" y="2921040"/>
            <a:ext cx="119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cru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019320" y="3490920"/>
            <a:ext cx="27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US$ 7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(US$ 14 x b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548160" y="492588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S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081160" y="260280"/>
            <a:ext cx="645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OPERATORIA – DESTINO DE LA MERCADER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92040" y="1989000"/>
            <a:ext cx="2779920" cy="457200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885960" y="2854440"/>
            <a:ext cx="1828800" cy="2590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etrol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95280" y="2079720"/>
            <a:ext cx="26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381640" y="2104920"/>
            <a:ext cx="2971800" cy="44197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533920" y="2344680"/>
            <a:ext cx="24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638440" y="429264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989440" y="3519360"/>
            <a:ext cx="23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ru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762520" y="3649680"/>
            <a:ext cx="221004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Ole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390760" y="473040"/>
            <a:ext cx="50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ONTRATO DE 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80880" y="2274840"/>
            <a:ext cx="3378240" cy="2666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14400" y="2523960"/>
            <a:ext cx="239220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etrol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90600" y="1841400"/>
            <a:ext cx="35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ARGET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181480" y="2274840"/>
            <a:ext cx="3378240" cy="2666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791320" y="2511360"/>
            <a:ext cx="2111400" cy="228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964040" y="1841400"/>
            <a:ext cx="35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E.E.U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276720" y="285264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3276720" y="41497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728880" y="3197160"/>
            <a:ext cx="14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S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728880" y="2262240"/>
            <a:ext cx="14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US$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28880" y="4094280"/>
            <a:ext cx="14781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US$ “sp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95280" y="4838760"/>
            <a:ext cx="87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Precio “SPOT” es &lt; a us$ 18 “Petrolera Arg.”  Paga la Di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Precio “SPOT” es &gt; a us$ 18 “Banco EEUU” Paga la Di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Garamond"/>
              </a:rPr>
              <a:t>US$ 18 ==&gt; PRECIO DE C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cilia</cp:lastModifiedBy>
  <dcterms:modified xsi:type="dcterms:W3CDTF">2013-07-18T15:53:08Z</dcterms:modified>
  <cp:revision>183</cp:revision>
  <dc:subject/>
  <dc:title>Diapositiva 1</dc:title>
</cp:coreProperties>
</file>