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74603-8419-4D6C-A69D-479A8A0390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D484-C236-48DC-98CB-FE89F169C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85CA-D6A5-4A48-BB1C-2CEB7BDD8D6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2EC8-5D85-4A8E-991B-B6DA4A401D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539D-87D2-4770-A6CD-BCC5CBC956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D069-621E-4CDE-B202-2A1088A390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D729-3676-4F40-B4A9-F05D8DAD8C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078D-68A8-4DB8-A08E-BC42FC0FD0C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494C-CB1A-4E02-8E0D-12CB97180D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8F09-1024-4F47-9D7C-57861C7C627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887D-FBD0-4A11-B3B5-BC45664A93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8B2C-186C-42CF-A1BC-F7B0AE0D7FE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F2828-0BF7-4AD5-9EDC-C7491075F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ED11-C6E4-451B-9BE2-3A93151C72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327AB-2FB3-4F5B-9DAF-835ED37831F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62057-ADB5-4DC5-885F-0B9052A3A0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7AE79-57F2-4042-9DA4-5AFBF4DF1B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E1F1D-1427-430C-A444-62E262763C1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85EA9-500E-4E55-A2D8-990612EFDD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E0D38-C520-4374-B567-CBC4F5EC88A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32F44-3747-4933-9FB8-50C1ECBF6E1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9CAD9-5404-44A8-856C-C77239E4B3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77D23-1FE6-4D13-B380-CDB4FCDD7D7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C98DD-D050-4C88-82E3-3BE8F3DCF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0255-1441-4DB9-B18B-359E164B6A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6B775-56A4-423F-B956-9D5C35CCA45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38940-A736-4813-888D-27F28DF0CDC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35641-37DA-4F02-946D-0722164BDE2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D1EEF-E898-4F69-BC7D-69FE39EF39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5FC39-1BD4-4F60-974F-773FC8F8FDB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E1588-003D-4FA8-8BE1-ACA9906E184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AAAB1-A797-49F0-9369-419218AEA0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1B880-402E-45B3-B10E-531595E47D6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D5659-CDA3-4F5E-A74F-667662AE39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3B27A-0125-4DB7-91B7-700EB53E7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925F-1A4C-451B-B652-1704914DCE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F0F9E-C824-403D-9F5E-91F4588B8C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1A1FE-AEE8-41F5-9002-1DEA64C3AEB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0596E-71C9-4C5D-81D6-D4146A36BD8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6948-9CE7-4A15-A82F-F8F2FDF599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2318-C1B9-4240-8D86-BAB6746E68F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DE5C-C919-4377-A157-851719EB2D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9F97-F331-4623-98BD-05AF4B32D7A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E370-285C-41B4-942C-6D458BAF15F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827E-681E-471F-BECA-F7200C77038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1C7B-2B2A-4972-878D-61322589C5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D9C7-2E96-4775-ACA2-8D292AA39F6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9A33-CF2F-4EA8-B2E7-FD59CB2CC8F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EF66-4DB8-481E-9DD6-C280F67335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8B1E-333E-4704-A827-1926423144D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223E7-DF50-4EBE-98E3-7D81FB40FB7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6DAE-6FD8-41AF-AF8C-C751BFB639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A73D6D-6B1F-44BD-BA09-58CB647F4E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186E75-907A-4233-BC0C-4AD2D69DB71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7955A-2D5D-496B-B39C-189EB8830B2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18AE0-9815-401B-BC99-96EB0318E1B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22DF4F-6A1D-48BB-ABB3-4B1D4AD5EF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4B78-168C-40E7-9DF1-442BEDEF22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4BEF8B-0C76-4AB1-8A18-7FFAAE4C14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A083F-4D0F-4268-91E2-1A55A953227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5D229F-5A01-4FDA-A50F-84879AF6831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C96AE-3C91-46E2-80C7-6B555FD373A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750266-A498-4C87-B939-703E03446A9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ABFAD-705C-4791-87EA-7BB7BBFE464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26395-34B0-406E-A1D3-C2A1C422E0B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32E28-4D71-4A27-94F2-0A542C779AE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E1F1E-6FB9-4081-AB64-873E42EA1DD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A00EF-90C6-476E-A225-7D3A95D602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CAC9-BADF-4132-B580-4813BA205D2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5B5DA-CB7B-47A3-9B24-22CAE7AC51B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03A11-EDF0-4AD5-9FD0-317DE5E377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EAAE9-BB21-4C35-8E16-230C8135A8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259E5-6F3A-4B53-ADB8-95A2FA18000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EE00A-8BA7-4E48-89DC-BDB6C31EA41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AD349-0FA1-4924-AC1C-702C26793BF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CE269-A6D2-4313-8B8E-E54C485E7F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40D3D-235A-47B5-86A8-54D1497D9BD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2F2C7-49C7-4A84-8054-411E26E69D9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0C27-42B0-4461-AF84-E77A7698F0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C47F-F237-4FBB-8BF6-97B21547433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617E4-8238-4692-9D6A-8E3F4BE0014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0A8A6-0ADC-4DE5-8925-7657B1B08D0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3057-7AB6-4899-8423-5B2BA287708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7675-D62F-4AE2-91C7-5073569ED8D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DADE-5CCC-43C8-AE41-6D11191F51E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0963B-5B5E-4894-BD09-96686A30E6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32EF-A939-4934-AD18-C7A564E3779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7A058-8782-41B4-93DA-145986AD5F1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5E42-C939-4B87-B5CE-1306BD1497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DC14-D8D6-4355-B1C9-701754AD71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A8AC-DC85-4599-ACAF-FE6FFEA34BC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BCD7A-C03E-4A25-A5BA-D1FB8143DE2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61B75-C6CF-47F9-8D15-AA4E7D2A84F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843D2-E792-4BD6-99DD-BEB7F550ADF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4A9FF-B63B-42AE-8B4F-3B4060B36FF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8A3F83-84DD-48C8-8981-585F78FE7ED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02BFF-BE93-40F5-8993-50AEE8ED82D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9DA4A9-050F-4FC3-A889-66FD9AB42DD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C7E749-AA33-4974-B849-0A0EBF6A0C3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0B8CD9-6CE6-4AF5-9A13-F63FF5E4360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739A1-7732-41E1-AC15-ED310495A2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D17C-0808-4E79-891A-B19CE32B400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C95E0-D1A8-4CFF-8D58-FD0BB1008EC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BE94B6-FF23-4D41-95CE-36EED87E716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54D589-C6D6-4E2B-B9C2-F324B4BE2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FF27-0026-45C1-914E-0A045CD71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AA68-0CF3-45F9-8601-FAE091499F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6F6E-4A86-4F92-B556-5AFFAEC4E3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C61E-3593-45A2-8C85-8E463E512D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B77D-5399-4E62-9AC0-80A3934941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69E7-34F4-4091-9ADE-5FC126175A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618-4EE7-4C6F-B83D-01A1E26B88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104-9926-4B19-8ECE-73AEAA921A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641-F5C4-426E-B47C-2C9E2CD28F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8F8-82C9-4FB2-9E2E-DA75BE0C55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ABB-9DD6-4206-96FD-A22140E66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9322-69EC-4E10-8BAB-289BADC18A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C37-0828-4D33-9CB6-A68ADB18BF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A02-16A0-4357-B125-DAC723A4BC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E30-82C3-48B2-A7A8-576A9CAFA3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8C5-3E6A-4727-86A1-56F124064C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42E-AA4E-48FC-91C3-2583BF04F3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8BD-E07D-4F2C-8F4D-E23090A6D9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2EC-C696-4D46-BC6B-10F7FF877A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D1C3C-2DD8-4537-8F78-D179F97E99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86ABB-C6DC-4DA6-9F04-1A39C20780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FF3BB-0CA6-4757-83FD-8C33E86FC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2030-C468-405E-B2ED-5D82BD856A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BF6D5-2708-48B7-AAA8-EAF1BA0950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A60CD-6739-4D6F-A8F8-CA4D44F3B0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B9C94-EFD1-4340-9676-940CDD02B5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F2DE-2116-4609-A9D0-2FA36E11A2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850AE-1AF4-4FF6-844B-4610CB9AE3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7BA2F-0A85-4CD4-AA61-2789A5B700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A986E-B5AA-4271-B72A-887BD58DEE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1C9FB-2B1B-4D68-AB86-D68BD3C113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E20DC-1D38-474B-91A5-3AE86D8095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2EE60-8575-4788-A01F-E69D514F3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C239-40AD-4407-A0B1-ADBF278164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73E3-6BFC-4F8E-9816-48CBBB9CE4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84543-C859-4E90-8910-10173DB765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2A31A-09EA-4DF9-AA26-ED830BD1641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DAF1-73A0-47E5-9976-D1E96AB0C6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7EDEE-5472-4245-9DD7-412ED564357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1FAB2-2CDF-48F9-8CA1-23CA85679F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786FC-EE01-4403-9947-4363B49A74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5F3F0-E667-4547-B5F3-1C3611F47E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A02FC-BDC3-404B-B726-4AB7231AA4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8A9D-D55C-47A8-969D-9D7E629A1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17E5-3BD0-44DE-9C89-00C64DC1F6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92BDF-165A-4E75-970B-8BED213C43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20D-DB8B-4338-870E-3D35A2E677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3D45-D8BE-422A-BEE1-835A4C8A6B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E24D-3AA3-434F-98D8-3C7846DB8C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D26-60DD-467C-B1BF-CDAB5138AC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4F36-6F33-4C9F-B7B3-2A65484EA8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BCD-19DF-4A87-AA63-1E6DB53CB8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5A08-36FB-464D-A00A-4CD83A55A6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26DB-367A-41DD-8FA6-92A52BA308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4B45-91D1-4316-8ADD-7F92E80AE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AFE8-A9C8-4158-8068-22EADD1447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3077-2D30-4F0B-B6A4-1AE95897EB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6703-4201-452D-BDAE-8090E31F17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F757-E74A-409B-8DF6-D8D079A4FB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2AC43-0270-4EFA-85A8-B447B06011C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9EB2A-040C-4025-BB1D-CBFA77791D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3F4A0-3946-491E-B062-84AB8A6E35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E2C66-9844-4F02-8289-343BBB412C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656F9-A3FE-4046-89EA-30E93D2998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1D6E5-5EC3-49BF-89C9-B7D269DC62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6F5C8-493B-4F77-9EE0-54CEE168D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7A38-F6E6-46F6-B2D3-123466F805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BB29B-784E-4DE8-9989-29932935BC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75D96-9AC8-4675-9837-54D3FAE93A6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B4B39-45E7-4152-B31B-D1C28C5839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BDAAD-62D7-4AFD-9A8B-499321E9F2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F690A-A05D-4411-B82D-0F532616AC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9FA11-8DE5-4D08-A14B-D769837F44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0AEC7-EE11-414F-9277-30A1014F23D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A3B28-5FFA-4D66-8BDA-60D65A25A3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E8BE1-4726-4EF8-9143-3851B00A07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17C05-1DA1-4BD5-B202-E14880E96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B8F7-9281-4825-A118-F5AFE5CFFC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46AC4-8C36-47C1-9821-BD1C5D85933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35ECA-6DEA-414A-897B-B8764F6789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18CA4-E2E3-456D-B95E-B012387FD3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999AC-8492-4BEE-ABA2-223F123715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91B23-5361-4DDF-BF42-6603E75E90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B8334-02BE-4059-A957-94A50CD58F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EE0D4-C338-45A2-A8B4-C84B00EC08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2677-B6DE-4C1F-8774-92F6209955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B860-7F80-492F-A16A-346276E0BC5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5E67-DBF0-4370-9D3D-113BE8602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085185-BD10-490C-965F-EE941247AA4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7CB452-63B7-4E04-B66D-781EAD05A5C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147BB8-D2F8-4C10-B6B3-35F6123B17F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377474-4B93-4EE2-8CB1-00C0FAC959C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E226BC-7758-4C9F-8F33-066F54AA07C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49AF55-1DA3-45CC-B9A5-326179B1D35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998267-3265-41A1-9631-EACA3C44664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43B6E3-0D3B-4AF1-B744-0C2CA1D58ED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5B1B97-D895-4EED-A9DC-6A3A516B61B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34D0CC-76C3-4528-A2E5-E0F821C25E9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48061A-3EBF-4DF9-9D60-3BF9C1C6D16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CD42A5-0602-48FB-914A-4A8C7AB0587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76559A-A43F-49FD-8518-AC01E548791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91E44A-DB3E-47A5-B9F3-96239FF7F14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EB1F01-481A-4F5C-A43F-706E1BA8CEE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42EEFC-34EF-4E94-8F4D-AD94B05B91B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2D4C2-CAE3-4B4B-B26F-3982F043A97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JET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9280" y="1989000"/>
            <a:ext cx="842508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DENTES EN EL PAÍS QUE REALICEN OPERACIONES CON ESTABLECIMIENTOS ESTABLES DEL EXTERIOR DE  SU TITULA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DENTES TITULARES DE ESTABLECIMIENTOS ESTABLES EN EL EXTERIOR, POR LAS OPERACIONES QUE ESTOS ÚLTIMOS EFECTÚEN CON ENTIDADES VINCULADAS DEL EXTERIOR SEGÚN ARTS. 129 Y 130 DE LA LEY DEL IMP A LAS GANANCIA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OPERACIONES ALCAN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920" y="1700280"/>
            <a:ext cx="842472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RA-VENTA DE BIENES 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RA-VENTA O CESIÓN DE USO DE BIENES IN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TACIÓN DE SERVICIOS DE CUALQUIER TIPO O NATUR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TACIONES FINANCIE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 GE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4000" y="1989000"/>
            <a:ext cx="835164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GA DE LA PRUE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 VS. REAL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S DE TRANSFERENCIA Y VALORACIÓN ADU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04920" y="1724040"/>
            <a:ext cx="935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24000" y="2089080"/>
            <a:ext cx="82803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ANGO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existan dos o más transacciones comparables, el rango de mercado será el rango intercuartil de precios, de los montos de las contraprestaciones o de los márgenes de ut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ÁLCULO 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juste debe efectuarse contra el valor que corresponde a la mediana disminuida o incrementada en un 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04920" y="2276640"/>
            <a:ext cx="8299440" cy="47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ARTE A TESTE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jet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TACIÓN 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stificación efect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66680" y="458640"/>
            <a:ext cx="8007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95280" y="1484280"/>
            <a:ext cx="842472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 COMPARABPE ENTRE PARTES INDEPENDIENTES (Comparable Uncontrolled Price - C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PRECIO DE REVENTA ENTRE PARTES INDEPENDIENTES  (Resal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COSTO MÁS BENEFICIO (Cost Plus - C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IVISIÓN DE GANANCIAS (Profit Spl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MARGEN NETO DE LA TRANSACCIÓN (Transactional Net Margin - T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24000" y="3716280"/>
            <a:ext cx="1800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195640" y="3068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195640" y="393372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06560" y="2708280"/>
            <a:ext cx="2305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DICIO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403280" y="4941720"/>
            <a:ext cx="273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RADIC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24192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284720" y="436392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427640" y="2276640"/>
            <a:ext cx="439236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ECIO COMPARABLE ENTRE PARTES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ECIO DE RE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MÁS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00720" y="4508640"/>
            <a:ext cx="410364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VISIÓN DE GAN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GEN NETO DE LA TRAN-S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50920" y="1484280"/>
            <a:ext cx="59767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PRINCIPIO DEL MEJOR MÉTO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04920" y="260280"/>
            <a:ext cx="935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04920" y="2295360"/>
            <a:ext cx="837072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existe orden de prelación metod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aplicarse el MEJOR MÉTODO, el que mejor refleje la realidad económ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Mejor compatibilice con la estructura empresarial y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Cuente con la mejor cantidad y calidad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Contemple el mayor grado de 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Requiera el menor nivel de ajust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284720" y="2276640"/>
            <a:ext cx="71280" cy="129672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1956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5"/>
          <p:cNvSpPr/>
          <p:nvPr/>
        </p:nvSpPr>
        <p:spPr>
          <a:xfrm>
            <a:off x="368280" y="2133720"/>
            <a:ext cx="2835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Br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Gastos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Gastos no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7"/>
          <p:cNvSpPr/>
          <p:nvPr/>
        </p:nvSpPr>
        <p:spPr>
          <a:xfrm>
            <a:off x="471600" y="3071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traight Connector 8"/>
          <p:cNvSpPr/>
          <p:nvPr/>
        </p:nvSpPr>
        <p:spPr>
          <a:xfrm>
            <a:off x="471600" y="36450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9"/>
          <p:cNvSpPr/>
          <p:nvPr/>
        </p:nvSpPr>
        <p:spPr>
          <a:xfrm>
            <a:off x="471600" y="5786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ight Arrow 10"/>
          <p:cNvSpPr/>
          <p:nvPr/>
        </p:nvSpPr>
        <p:spPr>
          <a:xfrm>
            <a:off x="3559320" y="3240000"/>
            <a:ext cx="914400" cy="276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ight Arrow 11"/>
          <p:cNvSpPr/>
          <p:nvPr/>
        </p:nvSpPr>
        <p:spPr>
          <a:xfrm>
            <a:off x="3559320" y="4307040"/>
            <a:ext cx="914400" cy="2761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12"/>
          <p:cNvSpPr/>
          <p:nvPr/>
        </p:nvSpPr>
        <p:spPr>
          <a:xfrm>
            <a:off x="4500720" y="3068640"/>
            <a:ext cx="34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2) Precio de re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3) Costo más bene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13"/>
          <p:cNvSpPr/>
          <p:nvPr/>
        </p:nvSpPr>
        <p:spPr>
          <a:xfrm>
            <a:off x="4479840" y="4094280"/>
            <a:ext cx="43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4) División de gan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5) Margen neto de la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14"/>
          <p:cNvSpPr/>
          <p:nvPr/>
        </p:nvSpPr>
        <p:spPr>
          <a:xfrm>
            <a:off x="4479840" y="1989000"/>
            <a:ext cx="43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1) Precio comparable entre parte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458640" y="4221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1835280" y="404640"/>
            <a:ext cx="67690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 COMPARABLE ENTRE PARTES INDEPEND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66720" y="4437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PRECIO QUE SE HUBIERA PACTADO CON O ENTRE PARTES IN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256520" y="3213000"/>
            <a:ext cx="43164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711440" y="3213000"/>
            <a:ext cx="43344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263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N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246720" y="2637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13508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5180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46360" y="3429000"/>
            <a:ext cx="3745080" cy="0"/>
          </a:xfrm>
          <a:prstGeom prst="line">
            <a:avLst/>
          </a:prstGeom>
          <a:ln w="15228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6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7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0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3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8360" y="1557360"/>
            <a:ext cx="302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0920" y="2133720"/>
            <a:ext cx="8351640" cy="37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EXT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ÓN Y ORIGEN DE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DE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ADMINISTRACIONES FISCALES Y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332000" y="54936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 DE REVENT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9480" y="1119240"/>
            <a:ext cx="7526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95280" y="4303800"/>
            <a:ext cx="828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QUE SURJA DE MULTIPLICAR EL PRECIO DE REVENTA DE TRANSACCIONES INDEPENDIENTES POR EL RESULTADO DE DISMINUIR DE LA UTILIDAD EL PORCENTAJE DE GANANCIA BRUTA QUE HUBIERA SIDO PACTADO CON O ENTRE PARTES INDEPENDIENTES EN TRANSACCION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9440" y="2997360"/>
            <a:ext cx="453960" cy="43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782720" y="2852640"/>
            <a:ext cx="45396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826920" y="2133720"/>
            <a:ext cx="21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MPORTACIÓN VIN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300720" y="2205000"/>
            <a:ext cx="26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VENTA 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279440" y="342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96160" y="3500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24160" y="3357720"/>
            <a:ext cx="3178080" cy="1440"/>
          </a:xfrm>
          <a:prstGeom prst="line">
            <a:avLst/>
          </a:prstGeom>
          <a:ln w="15228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367080" y="263700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% UTILIDAD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079800" y="2276640"/>
            <a:ext cx="0" cy="201600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372360" y="2276640"/>
            <a:ext cx="0" cy="201600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39640" y="5516640"/>
            <a:ext cx="813600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. DE REVENTA (1 -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GCIA. BRUT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 = PRECIO COMP. DE LA IMP VINCULAD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  VTAS N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3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6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9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4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7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0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72720" y="5763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OSTO MÁS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98360" y="4221000"/>
            <a:ext cx="847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QUE SURJA DE MULTIPLICAR EL COSTO DE LOS BIENES, SERVICIOS U OTRAS TRANSACCIONES POR EL RESULTADO DE ADICIONAR A LA UNIDAD EL PORCENTAJE DE GANANCIA BRUTA APLICADO CON O ENTRE PARTES INDEPENDIENTES EN TRANSACCION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399440" y="2781360"/>
            <a:ext cx="43164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566720" y="2852640"/>
            <a:ext cx="43200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30360" y="1955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DEL BIEN O SERVICIO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391440" y="19890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ORTACIÓN A VINCU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06380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68016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 EX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24160" y="2997360"/>
            <a:ext cx="3024360" cy="0"/>
          </a:xfrm>
          <a:prstGeom prst="line">
            <a:avLst/>
          </a:prstGeom>
          <a:ln w="1522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367080" y="2421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% UTILIDAD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79800" y="1989000"/>
            <a:ext cx="0" cy="201636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391440" y="1989000"/>
            <a:ext cx="0" cy="201636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95280" y="5445000"/>
            <a:ext cx="8424720" cy="61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(1 +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GANANCIA BRUT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 = PRECIO COMP. DE LA EXP V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DE V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5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8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6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9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2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304920" y="1652760"/>
            <a:ext cx="9359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8360" y="4005360"/>
            <a:ext cx="82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QUE RESULTE DE APLICAR PARA LA ASIGNACIÓN DE LAS GANANCIAS OBTENIDAS ENTRE PARTES VINCULADAS, LA PROPORCIÓN EN QUE HUBIERAN SIDO ASIGNADAS ENTRE PARTES INDEPEND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TERMINACIÓN DE LA GANANCIA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SIGNACIÓN DE LA PORCIÓN DE GANANCIA GLOBAL EN FUNCIÓN DE ACTIVOS, COSTOS Y 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638360" y="2637000"/>
            <a:ext cx="6408720" cy="792000"/>
            <a:chOff x="1638360" y="2637000"/>
            <a:chExt cx="6408720" cy="792000"/>
          </a:xfrm>
        </p:grpSpPr>
        <p:sp>
          <p:nvSpPr>
            <p:cNvPr id="1086" name=""/>
            <p:cNvSpPr/>
            <p:nvPr/>
          </p:nvSpPr>
          <p:spPr>
            <a:xfrm>
              <a:off x="1638360" y="2637000"/>
              <a:ext cx="64087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7800" y="2820960"/>
              <a:ext cx="43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A N A N C I A   G L O B A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422360" y="2637000"/>
            <a:ext cx="1727280" cy="792000"/>
            <a:chOff x="1422360" y="2637000"/>
            <a:chExt cx="1727280" cy="792000"/>
          </a:xfrm>
        </p:grpSpPr>
        <p:sp>
          <p:nvSpPr>
            <p:cNvPr id="1089" name=""/>
            <p:cNvSpPr/>
            <p:nvPr/>
          </p:nvSpPr>
          <p:spPr>
            <a:xfrm>
              <a:off x="1422360" y="2637000"/>
              <a:ext cx="172728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32160" y="2821680"/>
              <a:ext cx="71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295800" y="2637000"/>
            <a:ext cx="1799640" cy="792000"/>
            <a:chOff x="3295800" y="2637000"/>
            <a:chExt cx="1799640" cy="792000"/>
          </a:xfrm>
        </p:grpSpPr>
        <p:sp>
          <p:nvSpPr>
            <p:cNvPr id="1092" name=""/>
            <p:cNvSpPr/>
            <p:nvPr/>
          </p:nvSpPr>
          <p:spPr>
            <a:xfrm>
              <a:off x="3295800" y="2637000"/>
              <a:ext cx="17269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96880" y="2820960"/>
              <a:ext cx="17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N A N C I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5095800" y="2637000"/>
            <a:ext cx="1150560" cy="792000"/>
            <a:chOff x="5095800" y="2637000"/>
            <a:chExt cx="1150560" cy="792000"/>
          </a:xfrm>
        </p:grpSpPr>
        <p:sp>
          <p:nvSpPr>
            <p:cNvPr id="1095" name=""/>
            <p:cNvSpPr/>
            <p:nvPr/>
          </p:nvSpPr>
          <p:spPr>
            <a:xfrm>
              <a:off x="5170320" y="2637000"/>
              <a:ext cx="9997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095800" y="282096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L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103800" y="2637000"/>
            <a:ext cx="2305080" cy="792000"/>
            <a:chOff x="6103800" y="2637000"/>
            <a:chExt cx="2305080" cy="792000"/>
          </a:xfrm>
        </p:grpSpPr>
        <p:sp>
          <p:nvSpPr>
            <p:cNvPr id="1098" name=""/>
            <p:cNvSpPr/>
            <p:nvPr/>
          </p:nvSpPr>
          <p:spPr>
            <a:xfrm>
              <a:off x="6319800" y="2637000"/>
              <a:ext cx="208908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03800" y="2821680"/>
              <a:ext cx="13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B A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85580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65616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23872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2308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74160" y="57636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IVISIÓN DE GANA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5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40320" y="62856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ARGEN NETO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95280" y="429264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ARGEN DE GANANCIA OPERATIVA APLICABLE A LAS TRANSACCIONES ENTRE PARTES VINCULADAS QUE SE DETERMINA PARA GANANCIAS OBTENIDAS POR ALGUNA DE ELLAS EN TRANSACCIONES COMPARABLES, O EN TRANSACCIONES COMPARABLES CON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495440" y="2637000"/>
            <a:ext cx="43344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279440" y="213336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438360" y="2637000"/>
            <a:ext cx="43344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383080" y="2637000"/>
            <a:ext cx="43200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38308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327800" y="2637000"/>
            <a:ext cx="43200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32780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43836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063800" y="3357720"/>
            <a:ext cx="7416720" cy="0"/>
          </a:xfrm>
          <a:prstGeom prst="line">
            <a:avLst/>
          </a:prstGeom>
          <a:ln w="22860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30"/>
          <p:cNvSpPr/>
          <p:nvPr/>
        </p:nvSpPr>
        <p:spPr>
          <a:xfrm>
            <a:off x="324000" y="1916280"/>
            <a:ext cx="8424720" cy="49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ÁN CONSIDERADAS C0MPARABLES AQUELLAS TRANASAC-CIONES ANALIZADAS CU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 EXISTAN DIFERENCIAS QUE AFECTEN EL PRECIO, EL MARGEN DE GANANCIAS O EL MONTO DE LA CONTRAPRESTACIÓN, A QUE SE REFIEREN LOS MÉTODOS DE JUSTIFICACIÓN 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 CASO DE EXISTIR, TALES DIFERENCIAS SE ELIMINEN EN VIRTUD DE AJUSTES QUE PERMITAN UN GRADO SUSTANCIAL DE COMPAR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NO EXISTE LA POSIBILIDAD DE APLICAR EL RÉGIMEN DE PRECIOS DE TRANSFERENCIA SIN EFECTUAR LA COMPARABILIDAD ENTRE LAS OPERACIONES VINCULADAS E INDEPENDIENTES EN TODOS AQUELLOS ASPECTOS Y CONDICIONES CON INCIDENCI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Arial"/>
              <a:buChar char="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-36360" y="1484280"/>
            <a:ext cx="3095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25892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11"/>
          <p:cNvGrpSpPr/>
          <p:nvPr/>
        </p:nvGrpSpPr>
        <p:grpSpPr>
          <a:xfrm>
            <a:off x="395280" y="1557360"/>
            <a:ext cx="4925520" cy="367920"/>
            <a:chOff x="395280" y="1557360"/>
            <a:chExt cx="4925520" cy="367920"/>
          </a:xfrm>
        </p:grpSpPr>
        <p:sp>
          <p:nvSpPr>
            <p:cNvPr id="1123" name="Rectangle 12"/>
            <p:cNvSpPr/>
            <p:nvPr/>
          </p:nvSpPr>
          <p:spPr>
            <a:xfrm>
              <a:off x="395280" y="1557360"/>
              <a:ext cx="4924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3"/>
            <p:cNvSpPr/>
            <p:nvPr/>
          </p:nvSpPr>
          <p:spPr>
            <a:xfrm>
              <a:off x="395280" y="1557360"/>
              <a:ext cx="108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4"/>
            <p:cNvSpPr/>
            <p:nvPr/>
          </p:nvSpPr>
          <p:spPr>
            <a:xfrm>
              <a:off x="5319720" y="1557360"/>
              <a:ext cx="108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>
              <a:off x="395280" y="1557360"/>
              <a:ext cx="4924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6"/>
            <p:cNvSpPr/>
            <p:nvPr/>
          </p:nvSpPr>
          <p:spPr>
            <a:xfrm>
              <a:off x="395280" y="1924200"/>
              <a:ext cx="4924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19"/>
          <p:cNvSpPr/>
          <p:nvPr/>
        </p:nvSpPr>
        <p:spPr>
          <a:xfrm>
            <a:off x="324000" y="2066760"/>
            <a:ext cx="82803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MOMENTO EN QUE PROCEDE LA COMPAR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OMPARABLES INTERNOS y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ITICAS ECONÓMICA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CONOCIMIENTO DE LAS OPERACIONES REALES LLEVADAS A C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DESCONOCIMIENTO DE LAS OPERACIONES LLEVADAS A CABO, SÓLO CU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+ LA SUSTANCIA DE LA OPERACIÓN SEA DIFERENTE DE LA FORMA ADOPTADA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+ LA FORMA ADOPTADA  VARÍE COMPLETAMENTE DE LA QUE HUBIERAN ADOPTADO PARTE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11280" y="2276640"/>
            <a:ext cx="727236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S CARACTERÍSTICAS DE LOS PRODUCTOS O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ÁLISIS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7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LAÚSULAS CONTRAC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IRCUNSTANCIA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1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TRATEGIAS DE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95280" y="1506600"/>
            <a:ext cx="4608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-468360" y="157968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ARACTERÍSTICAS TRANSAC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24000" y="1773360"/>
            <a:ext cx="842472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ENES TANGIBLES – VENTA O PAGO POR EL USO O CESIÓN DE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racterísticas físicas del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Volumen de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ENES INTANGIBLES - EXPLOTACIÓN O TRANSFER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Forma asignada a la transacción: Venta, cesión de uso o derecho al u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Exclusividad, restricciones o limitaciones espa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Singularidad del bien: patentes, fórmulas, procesos, diseños, modelos, derechos de autor, marcas o activos similares, transferencia de tecnologí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pacidad potencial de generar ganancias (valor de las ganancias fu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uración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68360" y="1506600"/>
            <a:ext cx="5832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NÁLISIS FUNCION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55800" y="24192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71800" y="4724280"/>
            <a:ext cx="18003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3656160" y="2707920"/>
            <a:ext cx="1873080" cy="1871640"/>
          </a:xfrm>
          <a:prstGeom prst="line">
            <a:avLst/>
          </a:prstGeom>
          <a:ln w="152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656160" y="241920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656160" y="457992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68360" y="1506600"/>
            <a:ext cx="5832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NÁLISIS FUNCION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24000" y="1916280"/>
            <a:ext cx="8405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BEN ANALIZAR Y COMPAR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FUNCIONES O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iseño y fabr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Investigació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mpra, distribución y comer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Fina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ntrol G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Servicios post-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RIESGOS ASUM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Comerciales: fluctuaciones de cost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Financieros: variaciones en el tipo de cambio, tasa de inte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ACTIVOS UTILIZ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Uso de intangibles, ub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8360" y="1557360"/>
            <a:ext cx="302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8744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3440" y="170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65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89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03440" y="191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03440" y="2133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0520" y="2565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00520" y="2781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0520" y="2997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0520" y="21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0520" y="2349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PROD.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03440" y="227664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970680" y="299736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ODUCTO          180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970320" y="3213000"/>
            <a:ext cx="16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COMERC.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969960" y="342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                 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71040" y="3645000"/>
            <a:ext cx="16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672160" y="314172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969240" y="38606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43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401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3580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74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74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798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98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1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798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96744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96744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2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96744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744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1324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8016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35440" y="5734080"/>
            <a:ext cx="3887640" cy="398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GANANCIA TOTAL    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ÉRMINOS CONTR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95280" y="1989000"/>
            <a:ext cx="820908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LAÚSULAS CONTRACTUALES DEFINEN GENERALMENTE, DE FORMA EXPRESA  O IMPLÍCITA, CÓMO SE REPARTEN LAS RESPONSABILIDADES, RIESGOS Y RESULTADOS ENTRE LA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EN ANALIZARSE LOS TÉRMINOS QUE PUEDAN A LLEGAR A INFLUIR EN EL PRECIO O EN EL MARGEN INVOLUCRADO, TALE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Formas de re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dicione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Compromisos asumidos respecto de los volúmenes comprados o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uración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6560" y="1506600"/>
            <a:ext cx="5977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IRCUNSTANCIAS ECONÓM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9640" y="2133720"/>
            <a:ext cx="8064720" cy="42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NECESARIO IDENTIFICAR EL O LOS MERCADOS CONSIDERANDO LOS BIENES Y SERVICIOS ALTERNATIVOS DISPON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IRCUNSTANCIAS RELEVAN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ocalización geográfica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im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Grado de competencia y la posición competitiva relativa de compradores y v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isponibilidad (riesgo) de bienes y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iveles de oferta y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oder adquisitivo de los de los consumid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aturaleza y alcance de la reglamentación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stos de producción y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ivel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Fecha de la 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04920" y="1484280"/>
            <a:ext cx="93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NÁLISIS COMPA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4328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1268280"/>
            <a:ext cx="99028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395280" y="2205000"/>
          <a:ext cx="8353440" cy="4281480"/>
        </p:xfrm>
        <a:graphic>
          <a:graphicData uri="http://schemas.openxmlformats.org/drawingml/2006/table">
            <a:tbl>
              <a:tblPr/>
              <a:tblGrid>
                <a:gridCol w="3984480"/>
                <a:gridCol w="436896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VENIOS DOBLE IMPOSICION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RT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UESTO A LAS GANANCIA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 s/n a cont. del ART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MPRESAS ASOCI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Una empresa participe directa o indirect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, 2. Control, ó 3.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una empresa del otro Estado contrata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Las mismas personas participen directa o indirectamente e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, 2. Control, ó 3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una empresa de un EC y de una empresa del otro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VINCUL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empresas locales y del exterior con quienes aquellos realicen transacciones estén sujetos de manera directa o indirecta 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 ó 2.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as mismas personas físicas o 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s últimas sea por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ÁLISIS COMPARATIV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468360" y="2133720"/>
          <a:ext cx="8207280" cy="3605040"/>
        </p:xfrm>
        <a:graphic>
          <a:graphicData uri="http://schemas.openxmlformats.org/drawingml/2006/table">
            <a:tbl>
              <a:tblPr/>
              <a:tblGrid>
                <a:gridCol w="4043160"/>
                <a:gridCol w="4164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VENIOS DOBLE IMPOSICIÓN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UESTO A LAS GANANCIA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 s/n a cont. del ART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o u otro caso las dos empresas estén, en sus relaciones comerciales o financiera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as p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es aceptadas o impuestas, que difieran de las que serían acordadas por empresas independ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participación en el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grado de acreenci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 influencias funcionales ó de cualquier otra índole contractuales o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gan el poder de decisión para orientar o definir la o las actividades de las mencionadas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38200" y="212868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n sujeto posea la totalidad o parte mayoritaria del capital   de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346560" y="3282840"/>
            <a:ext cx="1376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55080" y="33066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38120" y="4361040"/>
            <a:ext cx="6634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346560" y="4905360"/>
            <a:ext cx="1376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364720" y="498492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994200" y="3860640"/>
            <a:ext cx="1440" cy="10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860400" y="181080"/>
            <a:ext cx="7497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98520" y="2035080"/>
            <a:ext cx="91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133800" y="3530520"/>
            <a:ext cx="10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342400" y="352440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901880" y="4194000"/>
            <a:ext cx="5513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133800" y="4322880"/>
            <a:ext cx="102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38440" y="432432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60320" y="2606760"/>
            <a:ext cx="79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1. Un sujeto en común como poseedor total o mayoritario de sus cap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01880" y="4986360"/>
            <a:ext cx="55054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133800" y="5187960"/>
            <a:ext cx="102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D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316840" y="503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757520" y="3865680"/>
            <a:ext cx="1433160" cy="1551960"/>
            <a:chOff x="1757520" y="3865680"/>
            <a:chExt cx="1433160" cy="1551960"/>
          </a:xfrm>
        </p:grpSpPr>
        <p:sp>
          <p:nvSpPr>
            <p:cNvPr id="1188" name=""/>
            <p:cNvSpPr/>
            <p:nvPr/>
          </p:nvSpPr>
          <p:spPr>
            <a:xfrm>
              <a:off x="2587320" y="3865680"/>
              <a:ext cx="0" cy="155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87320" y="3865680"/>
              <a:ext cx="60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57520" y="4604760"/>
              <a:ext cx="14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87320" y="5417640"/>
              <a:ext cx="60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757080" y="4395960"/>
            <a:ext cx="10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998720" y="3483000"/>
            <a:ext cx="1440" cy="236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40080" y="51894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5400000">
            <a:off x="4016880" y="3945600"/>
            <a:ext cx="795240" cy="530280"/>
          </a:xfrm>
          <a:custGeom>
            <a:avLst/>
            <a:gdLst>
              <a:gd name="textAreaLeft" fmla="*/ 160920 w 795240"/>
              <a:gd name="textAreaRight" fmla="*/ 564120 w 795240"/>
              <a:gd name="textAreaTop" fmla="*/ 70920 h 530280"/>
              <a:gd name="textAreaBottom" fmla="*/ 459360 h 530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20077800">
            <a:off x="1676160" y="3985920"/>
            <a:ext cx="1571400" cy="129960"/>
          </a:xfrm>
          <a:prstGeom prst="rightArrow">
            <a:avLst>
              <a:gd name="adj1" fmla="val 50000"/>
              <a:gd name="adj2" fmla="val 3022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rot="1383600">
            <a:off x="1682280" y="5106960"/>
            <a:ext cx="1579680" cy="165240"/>
          </a:xfrm>
          <a:prstGeom prst="rightArrow">
            <a:avLst>
              <a:gd name="adj1" fmla="val 50000"/>
              <a:gd name="adj2" fmla="val 23899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57520" y="4621320"/>
            <a:ext cx="1433520" cy="149040"/>
          </a:xfrm>
          <a:prstGeom prst="rightArrow">
            <a:avLst>
              <a:gd name="adj1" fmla="val 50000"/>
              <a:gd name="adj2" fmla="val 2404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5400000">
            <a:off x="3460680" y="4294080"/>
            <a:ext cx="1906200" cy="5284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70560 h 528480"/>
              <a:gd name="textAreaBottom" fmla="*/ 457920 h 52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9229200">
            <a:off x="1692000" y="4125600"/>
            <a:ext cx="1569960" cy="129960"/>
          </a:xfrm>
          <a:prstGeom prst="rightArrow">
            <a:avLst>
              <a:gd name="adj1" fmla="val 50000"/>
              <a:gd name="adj2" fmla="val 30200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5400000">
            <a:off x="3470400" y="4941000"/>
            <a:ext cx="370080" cy="152280"/>
          </a:xfrm>
          <a:prstGeom prst="rightArrow">
            <a:avLst>
              <a:gd name="adj1" fmla="val 50000"/>
              <a:gd name="adj2" fmla="val 607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rot="10800000">
            <a:off x="1757520" y="4476240"/>
            <a:ext cx="1433520" cy="147960"/>
          </a:xfrm>
          <a:prstGeom prst="rightArrow">
            <a:avLst>
              <a:gd name="adj1" fmla="val 50000"/>
              <a:gd name="adj2" fmla="val 2422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rot="16200000">
            <a:off x="3509280" y="4113720"/>
            <a:ext cx="293400" cy="152280"/>
          </a:xfrm>
          <a:prstGeom prst="rightArrow">
            <a:avLst>
              <a:gd name="adj1" fmla="val 50000"/>
              <a:gd name="adj2" fmla="val 481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2181800">
            <a:off x="1682640" y="4963320"/>
            <a:ext cx="1579680" cy="165240"/>
          </a:xfrm>
          <a:prstGeom prst="rightArrow">
            <a:avLst>
              <a:gd name="adj1" fmla="val 50000"/>
              <a:gd name="adj2" fmla="val 23899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rot="16200000">
            <a:off x="3182760" y="4941720"/>
            <a:ext cx="370080" cy="150840"/>
          </a:xfrm>
          <a:prstGeom prst="rightArrow">
            <a:avLst>
              <a:gd name="adj1" fmla="val 50000"/>
              <a:gd name="adj2" fmla="val 6133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 rot="16200000">
            <a:off x="3460680" y="4438080"/>
            <a:ext cx="1906200" cy="5284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70560 h 528480"/>
              <a:gd name="textAreaBottom" fmla="*/ 457920 h 52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8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1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4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3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6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7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0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39640" y="20239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4360" y="24224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2. Un sujeto en común que posea participación total o mayori-taria en el capital de uno o más sujetos, e influencia significativa en uno o más de los otros su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782720" y="3789360"/>
            <a:ext cx="1368360" cy="791640"/>
            <a:chOff x="1782720" y="3789360"/>
            <a:chExt cx="1368360" cy="791640"/>
          </a:xfrm>
        </p:grpSpPr>
        <p:sp>
          <p:nvSpPr>
            <p:cNvPr id="1213" name=""/>
            <p:cNvSpPr/>
            <p:nvPr/>
          </p:nvSpPr>
          <p:spPr>
            <a:xfrm>
              <a:off x="2575080" y="3789360"/>
              <a:ext cx="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75080" y="3789360"/>
              <a:ext cx="57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782720" y="45810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575080" y="4581360"/>
            <a:ext cx="576000" cy="863280"/>
            <a:chOff x="2575080" y="4581360"/>
            <a:chExt cx="576000" cy="863280"/>
          </a:xfrm>
        </p:grpSpPr>
        <p:sp>
          <p:nvSpPr>
            <p:cNvPr id="1217" name=""/>
            <p:cNvSpPr/>
            <p:nvPr/>
          </p:nvSpPr>
          <p:spPr>
            <a:xfrm>
              <a:off x="2575080" y="544464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75080" y="458136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575080" y="4581360"/>
              <a:ext cx="0" cy="86328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3151080" y="3500280"/>
            <a:ext cx="989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337720" y="349236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998720" y="4149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51080" y="4292640"/>
            <a:ext cx="981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333400" y="429264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98720" y="4941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151080" y="5157720"/>
            <a:ext cx="981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D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310360" y="500364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74720" y="4365720"/>
            <a:ext cx="988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9872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35400" y="5157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5400000">
            <a:off x="4013640" y="3925080"/>
            <a:ext cx="795240" cy="505080"/>
          </a:xfrm>
          <a:custGeom>
            <a:avLst/>
            <a:gdLst>
              <a:gd name="textAreaLeft" fmla="*/ 160920 w 795240"/>
              <a:gd name="textAreaRight" fmla="*/ 564120 w 795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0077800">
            <a:off x="1695600" y="393660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1383600">
            <a:off x="1711080" y="508464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782720" y="4581360"/>
            <a:ext cx="1368360" cy="144720"/>
          </a:xfrm>
          <a:prstGeom prst="rightArrow">
            <a:avLst>
              <a:gd name="adj1" fmla="val 50000"/>
              <a:gd name="adj2" fmla="val 23638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rot="5400000">
            <a:off x="3458160" y="4283640"/>
            <a:ext cx="1906200" cy="5050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rot="9229200">
            <a:off x="1711080" y="407628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rot="5400000">
            <a:off x="3474720" y="4905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rot="10800000">
            <a:off x="1782360" y="4436640"/>
            <a:ext cx="1368360" cy="142920"/>
          </a:xfrm>
          <a:prstGeom prst="rightArrow">
            <a:avLst>
              <a:gd name="adj1" fmla="val 50000"/>
              <a:gd name="adj2" fmla="val 2393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rot="16200000">
            <a:off x="3511440" y="40766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rot="12181800">
            <a:off x="1711440" y="494100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6200000">
            <a:off x="3186720" y="4905720"/>
            <a:ext cx="360360" cy="142560"/>
          </a:xfrm>
          <a:prstGeom prst="rightArrow">
            <a:avLst>
              <a:gd name="adj1" fmla="val 50000"/>
              <a:gd name="adj2" fmla="val 6319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 rot="16200000">
            <a:off x="3458160" y="4427280"/>
            <a:ext cx="1906200" cy="5050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4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7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6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8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1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4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0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3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58720" y="196380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151080" y="3357720"/>
            <a:ext cx="129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901040" y="335772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998720" y="4149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151080" y="4437000"/>
            <a:ext cx="12859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901760" y="44370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1280" y="23194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3. Un sujeto en común que posea influencia significativa sobre ellos simultáne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7440" y="3933720"/>
            <a:ext cx="1295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998720" y="31417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19400" y="479736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2720" y="3645000"/>
            <a:ext cx="1368360" cy="1078920"/>
            <a:chOff x="1782720" y="3645000"/>
            <a:chExt cx="1368360" cy="1078920"/>
          </a:xfrm>
        </p:grpSpPr>
        <p:sp>
          <p:nvSpPr>
            <p:cNvPr id="1258" name=""/>
            <p:cNvSpPr/>
            <p:nvPr/>
          </p:nvSpPr>
          <p:spPr>
            <a:xfrm>
              <a:off x="2575080" y="472392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782720" y="4232880"/>
              <a:ext cx="79236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575080" y="3645000"/>
              <a:ext cx="0" cy="107892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575080" y="364500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"/>
          <p:cNvSpPr/>
          <p:nvPr/>
        </p:nvSpPr>
        <p:spPr>
          <a:xfrm rot="20077800">
            <a:off x="1709280" y="3696840"/>
            <a:ext cx="1506600" cy="127080"/>
          </a:xfrm>
          <a:prstGeom prst="rightArrow">
            <a:avLst>
              <a:gd name="adj1" fmla="val 50000"/>
              <a:gd name="adj2" fmla="val 29638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rot="11917200">
            <a:off x="1707840" y="4447440"/>
            <a:ext cx="1439640" cy="142920"/>
          </a:xfrm>
          <a:prstGeom prst="rightArrow">
            <a:avLst>
              <a:gd name="adj1" fmla="val 50000"/>
              <a:gd name="adj2" fmla="val 2518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rot="5400000">
            <a:off x="3915720" y="3969360"/>
            <a:ext cx="1566720" cy="504720"/>
          </a:xfrm>
          <a:custGeom>
            <a:avLst/>
            <a:gdLst>
              <a:gd name="textAreaLeft" fmla="*/ 317160 w 1566720"/>
              <a:gd name="textAreaRight" fmla="*/ 1111320 w 15667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rot="1059000">
            <a:off x="1780920" y="4650840"/>
            <a:ext cx="1368360" cy="144720"/>
          </a:xfrm>
          <a:prstGeom prst="rightArrow">
            <a:avLst>
              <a:gd name="adj1" fmla="val 50000"/>
              <a:gd name="adj2" fmla="val 23638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rot="9229200">
            <a:off x="1640880" y="3876480"/>
            <a:ext cx="1585800" cy="144360"/>
          </a:xfrm>
          <a:prstGeom prst="rightArrow">
            <a:avLst>
              <a:gd name="adj1" fmla="val 50000"/>
              <a:gd name="adj2" fmla="val 27462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3403440" y="41130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7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2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1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4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38200" y="2259000"/>
            <a:ext cx="8210520" cy="38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Un sujeto posea los votos necesarios para formar la volunt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. Dos o más sujetos posean directores, funcionarios o adminis-tradores comu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. Un sujeto goce de exclusividad como agente, distribuidor o concesionario para la compra venta de bienes, servicios o derechos, por parte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. Un sujeto provea a otro la propiedad tecnológica o conocimiento técnico que constituya la base de sus actividades, sobre las cuales este último conduce su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692360" y="69228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" y="1989000"/>
            <a:ext cx="82090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. Un sujeto participe con otro en asociaciones sin existencia legal como personas jurídicas, a través de los cuales ejerce influencia significativa en la determinación de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. Un sujeto acuerde con otro cláusulas contractuales que asumen el carácter de preferenciales en relación con las otorgadas a terceros en similares circunsta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. Un sujeto participe significativamente en la fijación de las políticas empresariales, entre otras, el aprovisionamiento de materias primas, la producción y/o la comercialización,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Un sujeto desarrolle una actividad de importancia sólo con relación a otro, o su existencia se justifique únicamente en relación con otro, verificándose situaciones tales como relaciones de único proveedor o único cliente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4000" y="2565360"/>
            <a:ext cx="8208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34920" y="1355760"/>
            <a:ext cx="9109080" cy="49528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48744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03440" y="170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656160" y="12682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IS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9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03440" y="191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3440" y="2133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00520" y="2565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00520" y="2781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0520" y="2997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800520" y="21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MP                  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00520" y="2349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PROD.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03440" y="227664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70680" y="299736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ODUCTO          250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970320" y="3213000"/>
            <a:ext cx="16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COMERC.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969960" y="342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               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971040" y="3645000"/>
            <a:ext cx="16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72160" y="314172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69240" y="38606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43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4401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372360" y="414972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74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74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74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798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798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1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98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6744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96744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2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96744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744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ULACION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1324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INCREMENTO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8016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REDUCCION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95280" y="1989000"/>
            <a:ext cx="8209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95280" y="2060640"/>
            <a:ext cx="820908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. Un sujeto provea en forma sustancial los fondos requeridos para el desarrollo de las actividades comerciales de otro, entre otras formas, mediante la concesión de préstamos o del otorgamiento de garantías de cualquier tipo en los casos de financiación provista por un ter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. Un sujeto se haga cargo de las pérdidas o gastos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. Los directores, funcionarios, administradores de un sujeto reciban instrucciones o actúen  en interés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. Existan acuerdos, circunstancias o situaciones por las que se otorgue la dirección a un sujeto cuya participación en el capital social sea minori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NCULACI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ÁLISIS DE CASO CONCR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395280" y="1989000"/>
            <a:ext cx="8280360" cy="432000"/>
            <a:chOff x="395280" y="1989000"/>
            <a:chExt cx="8280360" cy="432000"/>
          </a:xfrm>
        </p:grpSpPr>
        <p:sp>
          <p:nvSpPr>
            <p:cNvPr id="1284" name=""/>
            <p:cNvSpPr/>
            <p:nvPr/>
          </p:nvSpPr>
          <p:spPr>
            <a:xfrm>
              <a:off x="395280" y="1989000"/>
              <a:ext cx="8280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imes New Roman"/>
                </a:rPr>
                <a:t>ARGENTINA                                                         BRAS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595040" y="1989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271440" y="3141720"/>
            <a:ext cx="2954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XX ARGENTIN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372360" y="4175280"/>
            <a:ext cx="239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XX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92720" y="3141720"/>
            <a:ext cx="3187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TRADING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843280" y="2997360"/>
            <a:ext cx="3109320" cy="360360"/>
            <a:chOff x="2843280" y="2997360"/>
            <a:chExt cx="3109320" cy="360360"/>
          </a:xfrm>
        </p:grpSpPr>
        <p:sp>
          <p:nvSpPr>
            <p:cNvPr id="1290" name=""/>
            <p:cNvSpPr/>
            <p:nvPr/>
          </p:nvSpPr>
          <p:spPr>
            <a:xfrm>
              <a:off x="2843280" y="2997360"/>
              <a:ext cx="31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Times New Roman"/>
                </a:rPr>
                <a:t>EXPORTACION DE BIENES “N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43280" y="3357720"/>
              <a:ext cx="303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6319800" y="357336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076720" y="5094360"/>
            <a:ext cx="3498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RED DE DISTRIBUCION DE XX 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276720" y="5791320"/>
            <a:ext cx="466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VENTA DE BIENES “N” A LOS DISTRIBUIDORES EXCLUSIVOS DE XX BRASIL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8243640" y="3501720"/>
            <a:ext cx="309600" cy="647640"/>
            <a:chOff x="8243640" y="3501720"/>
            <a:chExt cx="309600" cy="647640"/>
          </a:xfrm>
        </p:grpSpPr>
        <p:sp>
          <p:nvSpPr>
            <p:cNvPr id="1296" name=""/>
            <p:cNvSpPr/>
            <p:nvPr/>
          </p:nvSpPr>
          <p:spPr>
            <a:xfrm flipV="1">
              <a:off x="8553240" y="3501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8243640" y="3502080"/>
              <a:ext cx="30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0" y="2995560"/>
            <a:ext cx="10691640" cy="18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2419200"/>
            <a:ext cx="10691640" cy="18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684360" y="2492280"/>
            <a:ext cx="7920000" cy="431640"/>
            <a:chOff x="684360" y="2492280"/>
            <a:chExt cx="7920000" cy="431640"/>
          </a:xfrm>
        </p:grpSpPr>
        <p:sp>
          <p:nvSpPr>
            <p:cNvPr id="1301" name=""/>
            <p:cNvSpPr/>
            <p:nvPr/>
          </p:nvSpPr>
          <p:spPr>
            <a:xfrm>
              <a:off x="684360" y="2492280"/>
              <a:ext cx="792000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imes New Roman"/>
                </a:rPr>
                <a:t>XX ARGENTINA S.A.                                          XX BRASIL S.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701240" y="2492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087800" y="2476440"/>
            <a:ext cx="2176200" cy="307080"/>
            <a:chOff x="4087800" y="2476440"/>
            <a:chExt cx="2176200" cy="307080"/>
          </a:xfrm>
        </p:grpSpPr>
        <p:sp>
          <p:nvSpPr>
            <p:cNvPr id="1304" name=""/>
            <p:cNvSpPr/>
            <p:nvPr/>
          </p:nvSpPr>
          <p:spPr>
            <a:xfrm>
              <a:off x="4087800" y="2763720"/>
              <a:ext cx="217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64480" y="2476440"/>
              <a:ext cx="85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Times New Roman"/>
                </a:rPr>
                <a:t>EX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 flipH="1" flipV="1" rot="16200000">
            <a:off x="3394080" y="646560"/>
            <a:ext cx="934920" cy="7075440"/>
          </a:xfrm>
          <a:custGeom>
            <a:avLst/>
            <a:gdLst>
              <a:gd name="textAreaLeft" fmla="*/ 143640 w 934920"/>
              <a:gd name="textAreaRight" fmla="*/ 780120 w 934920"/>
              <a:gd name="textAreaTop" fmla="*/ 4623840 h 7075440"/>
              <a:gd name="textAreaBottom" fmla="*/ 5905440 h 7075440"/>
            </a:gdLst>
            <a:ahLst/>
            <a:rect l="textAreaLeft" t="textAreaTop" r="textAreaRight" b="textAreaBottom"/>
            <a:pathLst>
              <a:path w="21600" h="21600">
                <a:moveTo>
                  <a:pt x="0" y="17688"/>
                </a:moveTo>
                <a:lnTo>
                  <a:pt x="14116" y="17688"/>
                </a:lnTo>
                <a:lnTo>
                  <a:pt x="14116" y="3333"/>
                </a:lnTo>
                <a:lnTo>
                  <a:pt x="10544" y="3333"/>
                </a:lnTo>
                <a:lnTo>
                  <a:pt x="16072" y="0"/>
                </a:lnTo>
                <a:lnTo>
                  <a:pt x="21600" y="3333"/>
                </a:lnTo>
                <a:lnTo>
                  <a:pt x="18028" y="3333"/>
                </a:lnTo>
                <a:lnTo>
                  <a:pt x="180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14360" y="5013360"/>
            <a:ext cx="46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UBSIDIARIAS DEL GRUPO XX US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7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250920" y="1506600"/>
            <a:ext cx="5688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ROCESO COMPLETO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050920" y="54936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Rectangle 17"/>
          <p:cNvGrpSpPr/>
          <p:nvPr/>
        </p:nvGrpSpPr>
        <p:grpSpPr>
          <a:xfrm>
            <a:off x="1154160" y="2406600"/>
            <a:ext cx="7272000" cy="577800"/>
            <a:chOff x="1154160" y="2406600"/>
            <a:chExt cx="7272000" cy="577800"/>
          </a:xfrm>
        </p:grpSpPr>
        <p:pic>
          <p:nvPicPr>
            <p:cNvPr id="1311" name="Rectangle 17" descr=""/>
            <p:cNvPicPr/>
            <p:nvPr/>
          </p:nvPicPr>
          <p:blipFill>
            <a:blip r:embed="rId1"/>
            <a:stretch/>
          </p:blipFill>
          <p:spPr>
            <a:xfrm>
              <a:off x="1154160" y="24066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1287000" y="24598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ARA QUÉ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Rectangle 17"/>
          <p:cNvGrpSpPr/>
          <p:nvPr/>
        </p:nvGrpSpPr>
        <p:grpSpPr>
          <a:xfrm>
            <a:off x="1154160" y="4133880"/>
            <a:ext cx="7272000" cy="577800"/>
            <a:chOff x="1154160" y="4133880"/>
            <a:chExt cx="7272000" cy="577800"/>
          </a:xfrm>
        </p:grpSpPr>
        <p:pic>
          <p:nvPicPr>
            <p:cNvPr id="1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154160" y="413388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>
              <a:off x="1287000" y="418716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QUIÉN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Rectangle 17"/>
          <p:cNvGrpSpPr/>
          <p:nvPr/>
        </p:nvGrpSpPr>
        <p:grpSpPr>
          <a:xfrm>
            <a:off x="1154160" y="3341520"/>
            <a:ext cx="7272000" cy="578160"/>
            <a:chOff x="1154160" y="3341520"/>
            <a:chExt cx="7272000" cy="578160"/>
          </a:xfrm>
        </p:grpSpPr>
        <p:pic>
          <p:nvPicPr>
            <p:cNvPr id="1317" name="Rectangle 17" descr=""/>
            <p:cNvPicPr/>
            <p:nvPr/>
          </p:nvPicPr>
          <p:blipFill>
            <a:blip r:embed="rId3"/>
            <a:stretch/>
          </p:blipFill>
          <p:spPr>
            <a:xfrm>
              <a:off x="1154160" y="334152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1287000" y="339480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QUÉ 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Rectangle 17"/>
          <p:cNvGrpSpPr/>
          <p:nvPr/>
        </p:nvGrpSpPr>
        <p:grpSpPr>
          <a:xfrm>
            <a:off x="1154160" y="4997520"/>
            <a:ext cx="7272000" cy="577800"/>
            <a:chOff x="1154160" y="4997520"/>
            <a:chExt cx="7272000" cy="577800"/>
          </a:xfrm>
        </p:grpSpPr>
        <p:pic>
          <p:nvPicPr>
            <p:cNvPr id="1320" name="Rectangle 17" descr=""/>
            <p:cNvPicPr/>
            <p:nvPr/>
          </p:nvPicPr>
          <p:blipFill>
            <a:blip r:embed="rId4"/>
            <a:stretch/>
          </p:blipFill>
          <p:spPr>
            <a:xfrm>
              <a:off x="1154160" y="49975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1287000" y="50508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ÓMO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7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7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Rectangle 17"/>
          <p:cNvGrpSpPr/>
          <p:nvPr/>
        </p:nvGrpSpPr>
        <p:grpSpPr>
          <a:xfrm>
            <a:off x="971640" y="2476440"/>
            <a:ext cx="7272000" cy="433440"/>
            <a:chOff x="971640" y="2476440"/>
            <a:chExt cx="7272000" cy="433440"/>
          </a:xfrm>
        </p:grpSpPr>
        <p:pic>
          <p:nvPicPr>
            <p:cNvPr id="1326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476440"/>
              <a:ext cx="72720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1104480" y="2516400"/>
              <a:ext cx="701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ESGUARDAR LA BASE IMPONIBLE 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Rectangle 17"/>
          <p:cNvGrpSpPr/>
          <p:nvPr/>
        </p:nvGrpSpPr>
        <p:grpSpPr>
          <a:xfrm>
            <a:off x="971640" y="3484440"/>
            <a:ext cx="7272000" cy="577800"/>
            <a:chOff x="971640" y="3484440"/>
            <a:chExt cx="7272000" cy="577800"/>
          </a:xfrm>
        </p:grpSpPr>
        <p:pic>
          <p:nvPicPr>
            <p:cNvPr id="1329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4844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104480" y="35377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IMITAR LA POSIBILIDAD DEL DESARROLLO DE MANIOBRAS ELUSIVAS Y/O EVASIVAS ANTE LA PERCEPCIÓN DE RIESGO OBJETIVO DE SER FISCALIZ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Rectangle 17"/>
          <p:cNvGrpSpPr/>
          <p:nvPr/>
        </p:nvGrpSpPr>
        <p:grpSpPr>
          <a:xfrm>
            <a:off x="971640" y="2908440"/>
            <a:ext cx="7272000" cy="577800"/>
            <a:chOff x="971640" y="2908440"/>
            <a:chExt cx="7272000" cy="577800"/>
          </a:xfrm>
        </p:grpSpPr>
        <p:pic>
          <p:nvPicPr>
            <p:cNvPr id="1332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9084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1104480" y="29617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SALENTAR LA UTILIZACIÓN DE ESTRATEGIAS DE PLANIFICACIÓN FISCAL NOC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Rectangle 17"/>
          <p:cNvGrpSpPr/>
          <p:nvPr/>
        </p:nvGrpSpPr>
        <p:grpSpPr>
          <a:xfrm>
            <a:off x="971640" y="4062240"/>
            <a:ext cx="7272000" cy="719280"/>
            <a:chOff x="971640" y="4062240"/>
            <a:chExt cx="7272000" cy="719280"/>
          </a:xfrm>
        </p:grpSpPr>
        <p:pic>
          <p:nvPicPr>
            <p:cNvPr id="1335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062240"/>
              <a:ext cx="72720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1104480" y="4128480"/>
              <a:ext cx="7018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DQUIRIR EXPERIENCIA QUE PERMITA ANTICIPAR CONTINGENCIAS EN EL CONTROL Y ADOPTAR MEDIDAS OPORTU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Rectangle 17"/>
          <p:cNvGrpSpPr/>
          <p:nvPr/>
        </p:nvGrpSpPr>
        <p:grpSpPr>
          <a:xfrm>
            <a:off x="971640" y="4782960"/>
            <a:ext cx="7272000" cy="865080"/>
            <a:chOff x="971640" y="4782960"/>
            <a:chExt cx="7272000" cy="865080"/>
          </a:xfrm>
        </p:grpSpPr>
        <p:pic>
          <p:nvPicPr>
            <p:cNvPr id="1338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82960"/>
              <a:ext cx="7272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1104480" y="4862880"/>
              <a:ext cx="701820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NO GENERAR DESEQUILIBRIO DE TRATO FISCAL ENTRE LOS CONTRIBUYENTES QUE DESARROLLAN SU ACTIVIDAD SÓLO EN EL PLANO LOCAL Y LOS QUE LA EJERCEN EN EL PLANO TRANSFRONTERI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Rectangle 17"/>
          <p:cNvGrpSpPr/>
          <p:nvPr/>
        </p:nvGrpSpPr>
        <p:grpSpPr>
          <a:xfrm>
            <a:off x="971640" y="5646600"/>
            <a:ext cx="7273440" cy="505080"/>
            <a:chOff x="971640" y="5646600"/>
            <a:chExt cx="7273440" cy="505080"/>
          </a:xfrm>
        </p:grpSpPr>
        <p:pic>
          <p:nvPicPr>
            <p:cNvPr id="1341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46600"/>
              <a:ext cx="72734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1104480" y="5693040"/>
              <a:ext cx="70196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LENTAR EL CUMPLIMIENTO VOLUNT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Rectangle 17"/>
          <p:cNvGrpSpPr/>
          <p:nvPr/>
        </p:nvGrpSpPr>
        <p:grpSpPr>
          <a:xfrm>
            <a:off x="971640" y="2046240"/>
            <a:ext cx="7272000" cy="433440"/>
            <a:chOff x="971640" y="2046240"/>
            <a:chExt cx="7272000" cy="433440"/>
          </a:xfrm>
        </p:grpSpPr>
        <p:pic>
          <p:nvPicPr>
            <p:cNvPr id="1344" name="Rectangle 17" descr=""/>
            <p:cNvPicPr/>
            <p:nvPr/>
          </p:nvPicPr>
          <p:blipFill>
            <a:blip r:embed="rId7"/>
            <a:stretch/>
          </p:blipFill>
          <p:spPr>
            <a:xfrm>
              <a:off x="971640" y="2046240"/>
              <a:ext cx="72720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1104480" y="2086200"/>
              <a:ext cx="701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UMPLIR EL MANDATO LEG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324000" y="1557360"/>
            <a:ext cx="576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ARA QUÉ CONTROLAR?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9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4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4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Rectangle 17"/>
          <p:cNvGrpSpPr/>
          <p:nvPr/>
        </p:nvGrpSpPr>
        <p:grpSpPr>
          <a:xfrm>
            <a:off x="971640" y="3573360"/>
            <a:ext cx="7272000" cy="2375640"/>
            <a:chOff x="971640" y="3573360"/>
            <a:chExt cx="7272000" cy="2375640"/>
          </a:xfrm>
        </p:grpSpPr>
        <p:pic>
          <p:nvPicPr>
            <p:cNvPr id="1349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3573360"/>
              <a:ext cx="7272000" cy="23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1104480" y="3792600"/>
              <a:ext cx="7018200" cy="18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LIGACIONES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JUSTIFICACIÓN DE LOS PRECIOS DE TRANSFER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FUN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OCESO DE COMPAR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 COMPA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TIOS DE RENT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NGO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Rectangle 17"/>
          <p:cNvGrpSpPr/>
          <p:nvPr/>
        </p:nvGrpSpPr>
        <p:grpSpPr>
          <a:xfrm>
            <a:off x="971640" y="2133720"/>
            <a:ext cx="7272000" cy="1368000"/>
            <a:chOff x="971640" y="2133720"/>
            <a:chExt cx="7272000" cy="1368000"/>
          </a:xfrm>
        </p:grpSpPr>
        <p:pic>
          <p:nvPicPr>
            <p:cNvPr id="1352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2133720"/>
              <a:ext cx="7272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3" name=""/>
            <p:cNvSpPr/>
            <p:nvPr/>
          </p:nvSpPr>
          <p:spPr>
            <a:xfrm>
              <a:off x="1104480" y="2260080"/>
              <a:ext cx="701820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LIGACIONES FORMAL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ESENTACIÓN DE DECLARACIONES JURADAS DE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LICACIÓN DE SANCIONES POR INFRACCIONES FORM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395280" y="1506600"/>
            <a:ext cx="583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¿QUÉ CONTR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009800" y="2133720"/>
            <a:ext cx="7200720" cy="3528720"/>
            <a:chOff x="1009800" y="2133720"/>
            <a:chExt cx="7200720" cy="3528720"/>
          </a:xfrm>
        </p:grpSpPr>
        <p:pic>
          <p:nvPicPr>
            <p:cNvPr id="1357" name="Rectangle 17" descr=""/>
            <p:cNvPicPr/>
            <p:nvPr/>
          </p:nvPicPr>
          <p:blipFill>
            <a:blip r:embed="rId1"/>
            <a:stretch/>
          </p:blipFill>
          <p:spPr>
            <a:xfrm>
              <a:off x="1009800" y="2133720"/>
              <a:ext cx="720072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1141560" y="2458800"/>
              <a:ext cx="6948360" cy="27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SELECCIÓN DE CONTRIBUYENTES EN FORMA 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RAZONES PARTICULARES EN FUNCIÓN DE LA MATRIZ DE RIES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TERMINADA PARA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TIPO DE OPERACIONES, INCLUÍDAS LA REALIZADAS CON PARAÍSOS FIS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DESVÍOS EN SUS RESULTADOS Y EN SU SITUACIÓN PATRIMONIAL, EN REL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LOS INDICADORES DEL SECTOR ECONÓMICO AL QUE PERTEN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CIRCUNSTANCIAS Y/O SITUACIONES DEL CONTEXTO ECONÓM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9640" y="1506600"/>
            <a:ext cx="5616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¿A QUIÉN CONTR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Rectangle 17"/>
          <p:cNvGrpSpPr/>
          <p:nvPr/>
        </p:nvGrpSpPr>
        <p:grpSpPr>
          <a:xfrm>
            <a:off x="971640" y="2635200"/>
            <a:ext cx="7272000" cy="577800"/>
            <a:chOff x="971640" y="2635200"/>
            <a:chExt cx="7272000" cy="577800"/>
          </a:xfrm>
        </p:grpSpPr>
        <p:pic>
          <p:nvPicPr>
            <p:cNvPr id="136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6352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3" name=""/>
            <p:cNvSpPr/>
            <p:nvPr/>
          </p:nvSpPr>
          <p:spPr>
            <a:xfrm>
              <a:off x="1104480" y="26884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RCO LEGAL 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Rectangle 17"/>
          <p:cNvGrpSpPr/>
          <p:nvPr/>
        </p:nvGrpSpPr>
        <p:grpSpPr>
          <a:xfrm>
            <a:off x="971640" y="4290840"/>
            <a:ext cx="7272000" cy="578160"/>
            <a:chOff x="971640" y="4290840"/>
            <a:chExt cx="7272000" cy="578160"/>
          </a:xfrm>
        </p:grpSpPr>
        <p:pic>
          <p:nvPicPr>
            <p:cNvPr id="1365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429084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1104480" y="434412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SPONIBILIDAD DE INFORMACIÓN: INTERCAMBIO DE INFORMACIÓN 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Rectangle 17"/>
          <p:cNvGrpSpPr/>
          <p:nvPr/>
        </p:nvGrpSpPr>
        <p:grpSpPr>
          <a:xfrm>
            <a:off x="971640" y="3427560"/>
            <a:ext cx="7272000" cy="577800"/>
            <a:chOff x="971640" y="3427560"/>
            <a:chExt cx="7272000" cy="577800"/>
          </a:xfrm>
        </p:grpSpPr>
        <p:pic>
          <p:nvPicPr>
            <p:cNvPr id="136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34275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"/>
            <p:cNvSpPr/>
            <p:nvPr/>
          </p:nvSpPr>
          <p:spPr>
            <a:xfrm>
              <a:off x="1104480" y="34808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STRUCTURA ORGANIZ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Rectangle 17"/>
          <p:cNvGrpSpPr/>
          <p:nvPr/>
        </p:nvGrpSpPr>
        <p:grpSpPr>
          <a:xfrm>
            <a:off x="971640" y="5156280"/>
            <a:ext cx="7272000" cy="577800"/>
            <a:chOff x="971640" y="5156280"/>
            <a:chExt cx="7272000" cy="577800"/>
          </a:xfrm>
        </p:grpSpPr>
        <p:pic>
          <p:nvPicPr>
            <p:cNvPr id="1371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515628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>
              <a:off x="1104480" y="520956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OPERACIÓN 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-109440" y="1506600"/>
            <a:ext cx="669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ÓMO CONTROLAR?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0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Rectangle 17"/>
          <p:cNvGrpSpPr/>
          <p:nvPr/>
        </p:nvGrpSpPr>
        <p:grpSpPr>
          <a:xfrm>
            <a:off x="971640" y="2133720"/>
            <a:ext cx="7272000" cy="577800"/>
            <a:chOff x="971640" y="2133720"/>
            <a:chExt cx="7272000" cy="577800"/>
          </a:xfrm>
        </p:grpSpPr>
        <p:pic>
          <p:nvPicPr>
            <p:cNvPr id="1378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1337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1104480" y="21870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STUDIOS ECONÓMICOS SECTO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Rectangle 17"/>
          <p:cNvGrpSpPr/>
          <p:nvPr/>
        </p:nvGrpSpPr>
        <p:grpSpPr>
          <a:xfrm>
            <a:off x="971640" y="3500280"/>
            <a:ext cx="7272000" cy="578160"/>
            <a:chOff x="971640" y="3500280"/>
            <a:chExt cx="7272000" cy="578160"/>
          </a:xfrm>
        </p:grpSpPr>
        <p:pic>
          <p:nvPicPr>
            <p:cNvPr id="1381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0028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1104480" y="355356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ASES EXTERNAS DE AF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CRA – INPI – SISTEMAS ADUANEROS INTERNACIONALES -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Rectangle 17"/>
          <p:cNvGrpSpPr/>
          <p:nvPr/>
        </p:nvGrpSpPr>
        <p:grpSpPr>
          <a:xfrm>
            <a:off x="971640" y="2781360"/>
            <a:ext cx="7272000" cy="577800"/>
            <a:chOff x="971640" y="2781360"/>
            <a:chExt cx="7272000" cy="577800"/>
          </a:xfrm>
        </p:grpSpPr>
        <p:pic>
          <p:nvPicPr>
            <p:cNvPr id="1384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781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"/>
            <p:cNvSpPr/>
            <p:nvPr/>
          </p:nvSpPr>
          <p:spPr>
            <a:xfrm>
              <a:off x="1104480" y="2834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ASES PROPIAS DE AF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Rectangle 17"/>
          <p:cNvGrpSpPr/>
          <p:nvPr/>
        </p:nvGrpSpPr>
        <p:grpSpPr>
          <a:xfrm>
            <a:off x="971640" y="4149720"/>
            <a:ext cx="7272000" cy="577800"/>
            <a:chOff x="971640" y="4149720"/>
            <a:chExt cx="7272000" cy="577800"/>
          </a:xfrm>
        </p:grpSpPr>
        <p:pic>
          <p:nvPicPr>
            <p:cNvPr id="1387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1497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1104480" y="42030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DE LOS ESTUDIOS DE PRECIOS DE TRANSFER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Rectangle 17"/>
          <p:cNvGrpSpPr/>
          <p:nvPr/>
        </p:nvGrpSpPr>
        <p:grpSpPr>
          <a:xfrm>
            <a:off x="971640" y="4797360"/>
            <a:ext cx="7272000" cy="577800"/>
            <a:chOff x="971640" y="4797360"/>
            <a:chExt cx="7272000" cy="577800"/>
          </a:xfrm>
        </p:grpSpPr>
        <p:pic>
          <p:nvPicPr>
            <p:cNvPr id="1390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97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1" name=""/>
            <p:cNvSpPr/>
            <p:nvPr/>
          </p:nvSpPr>
          <p:spPr>
            <a:xfrm>
              <a:off x="1104480" y="4850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TRIZ DE RIESGO DE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Rectangle 17"/>
          <p:cNvGrpSpPr/>
          <p:nvPr/>
        </p:nvGrpSpPr>
        <p:grpSpPr>
          <a:xfrm>
            <a:off x="971640" y="5445000"/>
            <a:ext cx="7272000" cy="577800"/>
            <a:chOff x="971640" y="5445000"/>
            <a:chExt cx="7272000" cy="577800"/>
          </a:xfrm>
        </p:grpSpPr>
        <p:pic>
          <p:nvPicPr>
            <p:cNvPr id="1393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44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"/>
            <p:cNvSpPr/>
            <p:nvPr/>
          </p:nvSpPr>
          <p:spPr>
            <a:xfrm>
              <a:off x="1104480" y="549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CTAMEN TÉCNICO TRIBUT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-109440" y="1506600"/>
            <a:ext cx="669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ÓMO CONTROLAR?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7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2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Rectangle 17"/>
          <p:cNvGrpSpPr/>
          <p:nvPr/>
        </p:nvGrpSpPr>
        <p:grpSpPr>
          <a:xfrm>
            <a:off x="971640" y="2205000"/>
            <a:ext cx="7272000" cy="577800"/>
            <a:chOff x="971640" y="2205000"/>
            <a:chExt cx="7272000" cy="577800"/>
          </a:xfrm>
        </p:grpSpPr>
        <p:pic>
          <p:nvPicPr>
            <p:cNvPr id="1400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20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"/>
            <p:cNvSpPr/>
            <p:nvPr/>
          </p:nvSpPr>
          <p:spPr>
            <a:xfrm>
              <a:off x="1104480" y="225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90 CONTRIBUYENTES QUE TRIANGULAN EXPORTACIONES – VERIFICACIÓN DE LA SUSTANCIA ECONÓMICA DEL INTERMEDI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Rectangle 17"/>
          <p:cNvGrpSpPr/>
          <p:nvPr/>
        </p:nvGrpSpPr>
        <p:grpSpPr>
          <a:xfrm>
            <a:off x="971640" y="3573360"/>
            <a:ext cx="7272000" cy="577800"/>
            <a:chOff x="971640" y="3573360"/>
            <a:chExt cx="7272000" cy="577800"/>
          </a:xfrm>
        </p:grpSpPr>
        <p:pic>
          <p:nvPicPr>
            <p:cNvPr id="1403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73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1104480" y="3626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DETECTARON 2882 CONTRATOS NO REGISTRADOS EN EL INPI Y 6205 CONTRATOS CON DIFERENCIAS EN LA RETENCIÓN DEL IMPUESTO A LAS GANANCIAS EN LA FU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Rectangle 17"/>
          <p:cNvGrpSpPr/>
          <p:nvPr/>
        </p:nvGrpSpPr>
        <p:grpSpPr>
          <a:xfrm>
            <a:off x="971640" y="2852640"/>
            <a:ext cx="7272000" cy="577800"/>
            <a:chOff x="971640" y="2852640"/>
            <a:chExt cx="7272000" cy="577800"/>
          </a:xfrm>
        </p:grpSpPr>
        <p:pic>
          <p:nvPicPr>
            <p:cNvPr id="1406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8526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1104480" y="29059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N 4 SECTORES EL 54% DE LOS CONTRIBUYENTES PRESENTAN RATIOS DE RENTABILIDAD Y ENDEUDAMIENTO NO ACORDES CON LOS VALORES DEL S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Rectangle 17"/>
          <p:cNvGrpSpPr/>
          <p:nvPr/>
        </p:nvGrpSpPr>
        <p:grpSpPr>
          <a:xfrm>
            <a:off x="971640" y="4221000"/>
            <a:ext cx="7272000" cy="578160"/>
            <a:chOff x="971640" y="4221000"/>
            <a:chExt cx="7272000" cy="578160"/>
          </a:xfrm>
        </p:grpSpPr>
        <p:pic>
          <p:nvPicPr>
            <p:cNvPr id="1409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22100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0" name=""/>
            <p:cNvSpPr/>
            <p:nvPr/>
          </p:nvSpPr>
          <p:spPr>
            <a:xfrm>
              <a:off x="1104480" y="427428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INTIMARION 1257 CONTRIBUYENTES POR OMISIÓN EN LA PRESENTACIÓN DE 4610 DECLARACIONES JURADAS DE OPERACIONES INTERNACIONALES (200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Rectangle 17"/>
          <p:cNvGrpSpPr/>
          <p:nvPr/>
        </p:nvGrpSpPr>
        <p:grpSpPr>
          <a:xfrm>
            <a:off x="971640" y="4797360"/>
            <a:ext cx="7272000" cy="864720"/>
            <a:chOff x="971640" y="4797360"/>
            <a:chExt cx="7272000" cy="864720"/>
          </a:xfrm>
        </p:grpSpPr>
        <p:pic>
          <p:nvPicPr>
            <p:cNvPr id="1412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97360"/>
              <a:ext cx="72720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1104480" y="4877280"/>
              <a:ext cx="7018200" cy="6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DETECTARON 589 CONTRIBUYENTES POR U$S 110 MILLONES QUE OPERARON CON PARAÍSOS FISCALES Y NO PRESENTARON DECLARACIONES JURADAS DE PRECIOS DE TRANSFERENC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Rectangle 17"/>
          <p:cNvGrpSpPr/>
          <p:nvPr/>
        </p:nvGrpSpPr>
        <p:grpSpPr>
          <a:xfrm>
            <a:off x="971640" y="5661000"/>
            <a:ext cx="7272000" cy="647640"/>
            <a:chOff x="971640" y="5661000"/>
            <a:chExt cx="7272000" cy="647640"/>
          </a:xfrm>
        </p:grpSpPr>
        <p:pic>
          <p:nvPicPr>
            <p:cNvPr id="1415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61000"/>
              <a:ext cx="7272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6" name=""/>
            <p:cNvSpPr/>
            <p:nvPr/>
          </p:nvSpPr>
          <p:spPr>
            <a:xfrm>
              <a:off x="1104480" y="5720760"/>
              <a:ext cx="70182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MPRESAS BAJO FISCALIZACIÓN POR PRECIOS DE TRANSFERENCIA EN TODO EL PAÍ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395280" y="1506600"/>
            <a:ext cx="5761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LGUNAS EXPERI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9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9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4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CC98-4D6A-4862-97DE-A6CED9D66E8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Rectangle 17"/>
          <p:cNvGrpSpPr/>
          <p:nvPr/>
        </p:nvGrpSpPr>
        <p:grpSpPr>
          <a:xfrm>
            <a:off x="971640" y="2205000"/>
            <a:ext cx="7272000" cy="577800"/>
            <a:chOff x="971640" y="2205000"/>
            <a:chExt cx="7272000" cy="577800"/>
          </a:xfrm>
        </p:grpSpPr>
        <p:pic>
          <p:nvPicPr>
            <p:cNvPr id="142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20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3" name=""/>
            <p:cNvSpPr/>
            <p:nvPr/>
          </p:nvSpPr>
          <p:spPr>
            <a:xfrm>
              <a:off x="1104480" y="225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FUN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Rectangle 17"/>
          <p:cNvGrpSpPr/>
          <p:nvPr/>
        </p:nvGrpSpPr>
        <p:grpSpPr>
          <a:xfrm>
            <a:off x="971640" y="3500280"/>
            <a:ext cx="7272000" cy="578160"/>
            <a:chOff x="971640" y="3500280"/>
            <a:chExt cx="7272000" cy="578160"/>
          </a:xfrm>
        </p:grpSpPr>
        <p:pic>
          <p:nvPicPr>
            <p:cNvPr id="1425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0028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"/>
            <p:cNvSpPr/>
            <p:nvPr/>
          </p:nvSpPr>
          <p:spPr>
            <a:xfrm>
              <a:off x="1104480" y="355356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 COMPA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Rectangle 17"/>
          <p:cNvGrpSpPr/>
          <p:nvPr/>
        </p:nvGrpSpPr>
        <p:grpSpPr>
          <a:xfrm>
            <a:off x="971640" y="2852640"/>
            <a:ext cx="7272000" cy="577800"/>
            <a:chOff x="971640" y="2852640"/>
            <a:chExt cx="7272000" cy="577800"/>
          </a:xfrm>
        </p:grpSpPr>
        <p:pic>
          <p:nvPicPr>
            <p:cNvPr id="142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8526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1104480" y="29059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DE COMPR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Rectangle 17"/>
          <p:cNvGrpSpPr/>
          <p:nvPr/>
        </p:nvGrpSpPr>
        <p:grpSpPr>
          <a:xfrm>
            <a:off x="971640" y="4149720"/>
            <a:ext cx="7272000" cy="649440"/>
            <a:chOff x="971640" y="4149720"/>
            <a:chExt cx="7272000" cy="649440"/>
          </a:xfrm>
        </p:grpSpPr>
        <p:pic>
          <p:nvPicPr>
            <p:cNvPr id="1431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149720"/>
              <a:ext cx="727200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1104480" y="4209480"/>
              <a:ext cx="70182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JUSTES A LA COMPARABILIDAD – INSUFICIENCIA DE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Rectangle 17"/>
          <p:cNvGrpSpPr/>
          <p:nvPr/>
        </p:nvGrpSpPr>
        <p:grpSpPr>
          <a:xfrm>
            <a:off x="971640" y="4869000"/>
            <a:ext cx="7272000" cy="720720"/>
            <a:chOff x="971640" y="4869000"/>
            <a:chExt cx="7272000" cy="720720"/>
          </a:xfrm>
        </p:grpSpPr>
        <p:pic>
          <p:nvPicPr>
            <p:cNvPr id="1434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869000"/>
              <a:ext cx="7272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5" name=""/>
            <p:cNvSpPr/>
            <p:nvPr/>
          </p:nvSpPr>
          <p:spPr>
            <a:xfrm>
              <a:off x="1104480" y="4935600"/>
              <a:ext cx="70182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TIOS DE RENTABILIDAD EN EL MÉTODO MARGEN NETO DE LA TRANS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Rectangle 17"/>
          <p:cNvGrpSpPr/>
          <p:nvPr/>
        </p:nvGrpSpPr>
        <p:grpSpPr>
          <a:xfrm>
            <a:off x="971640" y="5661000"/>
            <a:ext cx="7272000" cy="647640"/>
            <a:chOff x="971640" y="5661000"/>
            <a:chExt cx="7272000" cy="647640"/>
          </a:xfrm>
        </p:grpSpPr>
        <p:pic>
          <p:nvPicPr>
            <p:cNvPr id="1437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61000"/>
              <a:ext cx="7272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1104480" y="5720760"/>
              <a:ext cx="70182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L MEJOR MÉT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395280" y="1506600"/>
            <a:ext cx="5689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EMAS DE ESPECIAL INTERÉ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1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6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1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1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2060640"/>
            <a:ext cx="8353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80360" cy="5153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4067280" y="1368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09440" y="1341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88720" y="1965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6360" y="134136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1280" y="1744560"/>
            <a:ext cx="23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20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32840" y="17715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09400" y="17938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2360" y="203364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27440" y="206064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04000" y="2060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51080" y="249084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51080" y="292428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48520" y="35002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649320" y="35020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IS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309440" y="3500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7920" y="3935520"/>
            <a:ext cx="23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3040" y="3933720"/>
            <a:ext cx="22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09400" y="3933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3960" y="42210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800520" y="4221000"/>
            <a:ext cx="22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805440" y="422100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711440" y="5661000"/>
            <a:ext cx="6192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HORRO FISCAL  120  BASE IM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151080" y="465300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51080" y="508464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971640" y="2333520"/>
            <a:ext cx="7200720" cy="3529080"/>
            <a:chOff x="971640" y="2333520"/>
            <a:chExt cx="7200720" cy="3529080"/>
          </a:xfrm>
        </p:grpSpPr>
        <p:pic>
          <p:nvPicPr>
            <p:cNvPr id="1444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333520"/>
              <a:ext cx="720072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1103400" y="2658960"/>
              <a:ext cx="6948360" cy="27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SELECCIÓN DE CONTRIBUYENTES EN FORMA 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RAZONES PARTICULARES EN FUNCIÓN DE LA MATRIZ DE RIES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TERMINADA PARA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TIPO DE OPERACIONES, INCLUÍDAS LA REALIZADAS CON PARAÍSOS FIS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DESVÍOS EN SUS RESULTADOS Y EN SU SITUACIÓN PATRIMONIAL, EN REL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LOS INDICADORES DEL SECTOR ECONÓMICO AL QUE PERTEN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CIRCUNSTANCIAS Y/O SITUACIONES DEL CONTEXTO ECONÓM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466560" y="1506600"/>
            <a:ext cx="5834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EMAS DE ESPECIAL INTERÉ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71640" y="11592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D20D-38F5-47ED-86E3-53D1AC31D11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Rectangle 17"/>
          <p:cNvGrpSpPr/>
          <p:nvPr/>
        </p:nvGrpSpPr>
        <p:grpSpPr>
          <a:xfrm>
            <a:off x="971640" y="1989000"/>
            <a:ext cx="7272000" cy="578160"/>
            <a:chOff x="971640" y="1989000"/>
            <a:chExt cx="7272000" cy="578160"/>
          </a:xfrm>
        </p:grpSpPr>
        <p:pic>
          <p:nvPicPr>
            <p:cNvPr id="145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198900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3" name=""/>
            <p:cNvSpPr/>
            <p:nvPr/>
          </p:nvSpPr>
          <p:spPr>
            <a:xfrm>
              <a:off x="1104480" y="204228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FINALIDAD Y ALC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Rectangle 17"/>
          <p:cNvGrpSpPr/>
          <p:nvPr/>
        </p:nvGrpSpPr>
        <p:grpSpPr>
          <a:xfrm>
            <a:off x="900000" y="3789360"/>
            <a:ext cx="7272000" cy="791640"/>
            <a:chOff x="900000" y="3789360"/>
            <a:chExt cx="7272000" cy="791640"/>
          </a:xfrm>
        </p:grpSpPr>
        <p:pic>
          <p:nvPicPr>
            <p:cNvPr id="1455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3789360"/>
              <a:ext cx="727200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6" name=""/>
            <p:cNvSpPr/>
            <p:nvPr/>
          </p:nvSpPr>
          <p:spPr>
            <a:xfrm>
              <a:off x="1032840" y="3862440"/>
              <a:ext cx="701820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NO SE HA DEFINIDO UN TIPO ESPECÍFICO. ES POSIBLE UTILIZAR CUALQUIER MEDIO DE PRUEBA LEGALMENTE VÁLIDO SIEMPRE QUE RESPALDE ACABADAMENTE LOS ASPECTOS RESPE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Rectangle 17"/>
          <p:cNvGrpSpPr/>
          <p:nvPr/>
        </p:nvGrpSpPr>
        <p:grpSpPr>
          <a:xfrm>
            <a:off x="971640" y="2637000"/>
            <a:ext cx="7272000" cy="577800"/>
            <a:chOff x="971640" y="2637000"/>
            <a:chExt cx="7272000" cy="577800"/>
          </a:xfrm>
        </p:grpSpPr>
        <p:pic>
          <p:nvPicPr>
            <p:cNvPr id="145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637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9" name=""/>
            <p:cNvSpPr/>
            <p:nvPr/>
          </p:nvSpPr>
          <p:spPr>
            <a:xfrm>
              <a:off x="1104480" y="2690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Rectangle 17"/>
          <p:cNvGrpSpPr/>
          <p:nvPr/>
        </p:nvGrpSpPr>
        <p:grpSpPr>
          <a:xfrm>
            <a:off x="900000" y="4653000"/>
            <a:ext cx="7272000" cy="649080"/>
            <a:chOff x="900000" y="4653000"/>
            <a:chExt cx="7272000" cy="649080"/>
          </a:xfrm>
        </p:grpSpPr>
        <p:pic>
          <p:nvPicPr>
            <p:cNvPr id="1461" name="Rectangle 17" descr=""/>
            <p:cNvPicPr/>
            <p:nvPr/>
          </p:nvPicPr>
          <p:blipFill>
            <a:blip r:embed="rId4"/>
            <a:stretch/>
          </p:blipFill>
          <p:spPr>
            <a:xfrm>
              <a:off x="900000" y="4653000"/>
              <a:ext cx="72720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2" name=""/>
            <p:cNvSpPr/>
            <p:nvPr/>
          </p:nvSpPr>
          <p:spPr>
            <a:xfrm>
              <a:off x="1032840" y="4712760"/>
              <a:ext cx="70182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A ENUMERACIÓN DE SITUACIONES A JUSTIFICAR NO ES TAXATIVA. ES UN LISTADO MÍNIMO PARA ELABORAR EL CUERPO DOCU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Rectangle 17"/>
          <p:cNvGrpSpPr/>
          <p:nvPr/>
        </p:nvGrpSpPr>
        <p:grpSpPr>
          <a:xfrm>
            <a:off x="900000" y="5300640"/>
            <a:ext cx="7272000" cy="720720"/>
            <a:chOff x="900000" y="5300640"/>
            <a:chExt cx="7272000" cy="720720"/>
          </a:xfrm>
        </p:grpSpPr>
        <p:pic>
          <p:nvPicPr>
            <p:cNvPr id="1464" name="Rectangle 17" descr=""/>
            <p:cNvPicPr/>
            <p:nvPr/>
          </p:nvPicPr>
          <p:blipFill>
            <a:blip r:embed="rId5"/>
            <a:stretch/>
          </p:blipFill>
          <p:spPr>
            <a:xfrm>
              <a:off x="900000" y="5300640"/>
              <a:ext cx="7272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1032840" y="5367240"/>
              <a:ext cx="70182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A DOCUMENTACIÓN DEBE SER CONTEMPORÁNEA Y EXISTIR AL MOMENTO DEL VENCIMIENTO DE LAS DECLARACIONES JU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Text Box 8"/>
          <p:cNvSpPr/>
          <p:nvPr/>
        </p:nvSpPr>
        <p:spPr>
          <a:xfrm>
            <a:off x="395280" y="3284640"/>
            <a:ext cx="8102520" cy="474480"/>
          </a:xfrm>
          <a:prstGeom prst="rect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OCUMENTACIÓN 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24000" y="1506600"/>
            <a:ext cx="583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STUDIO PR.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4" dur="indefinite" restart="never" nodeType="tmRoot">
          <p:childTnLst>
            <p:seq>
              <p:cTn id="2255" dur="indefinite" nodeType="mainSeq">
                <p:childTnLst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4000" y="1994040"/>
            <a:ext cx="8424720" cy="39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PLANIFICACIÓN FISCAL FUE POSIBLE P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 VINCULACIÓN ECONÓ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 MÁS DE UNA JURISDIC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REALIZARON OPERACIONES INTERNACIO-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EMPRESAS NO OPERARON A PRECIO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OLU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0000" y="1700280"/>
            <a:ext cx="840564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IO DE CONTABILIDAD SEPA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IO DEL OPERADOR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VALUACIÓN DE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IGNACIÓN DE RESULTADOS. ACTIVOS, RIESGOS Y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ÁLISIS DE LAS CONDICIONES PAC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TURALEZA DEL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LEGISLACIÓN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4000" y="2509920"/>
            <a:ext cx="83516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ESTO A LAS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BLE   EXCLUSIVAMENTE   EN   ESTE TRIB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  25.063    PARA  OPERACIONES  CONCER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DE EL 31-12-98, IN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JET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0920" y="1628640"/>
            <a:ext cx="829944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ENES REALICEN OPERACIONES CON PERSONAS O ENTIDADES VINCULADAS D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ENES EFECTÚEN OPERACIONES CON SUJETOS CONSTITUIDOS, DOMICILIADOS, RADICADOS O UBICADOS EN JURISDICCIONES DE BAJA O NULA TRIBUTACIÓN, EXISTA O NO VINCULACIÓN ECONÓMIC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6:32Z</dcterms:modified>
  <cp:revision>141</cp:revision>
  <dc:subject/>
  <dc:title>Diapositiva 1</dc:title>
</cp:coreProperties>
</file>