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2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849D-0AB1-4B7B-B981-48BE6948D9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C4119-CDF8-4D24-BDD1-0AD656279F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1B66B-17A3-42D2-A1DE-5C072A65C0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31A9-702C-43A0-A5E5-C6A5A3EA7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6BD3-37D5-4A97-B9A8-6320BC79BA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87E4-DC45-43D3-9FDD-0E6CD19181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EFC3-6100-4A5A-924B-99941B928C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0E57-FA54-42AB-BA40-DF734B9DDC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4035-1560-43CC-8ABA-7B6F7AE07F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E185-E6E9-46AF-A95D-E2FDEB3622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983D-77EF-4025-A747-9375946F81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4351-686B-434B-934C-AB8C047DF2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5C67-B26B-4081-B315-7DAD78EF70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66C6-9CEC-4CDC-A360-4E15D80E20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070AC-C5AE-4119-B265-52DF5C259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92D9-E244-4FC2-92E8-7C34A023E4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2F94F-156F-47F2-AE06-0FE3A45AAB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F0C9C-376F-4275-90E8-E4B39D56CD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1ABB8-FD47-4E1D-981E-5F95890929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7F0D8-4C5B-4F20-8F9D-B5558F5727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9B499-B819-43D7-B5F4-6225E5F2E8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A840E-E920-4DAA-BD2D-61D46D9E764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FBA62-B6DE-4253-9F06-A129E6A679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C3531-73AD-4B33-B40D-9EAD857849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720A5-B899-4914-A549-61144A594E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3F03E-8687-4B6B-9AD7-BF6E52828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D30A-39B4-47F2-BCD6-342A500073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39466-9A08-435E-9381-5C48D43CF4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9E3A7-2B72-4BE2-9D59-8E3F8F603D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EE7AD-9191-4F2E-8B12-A8DBF2D983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8E1B3-A1A5-44EE-B219-225932C260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39A9F-76A2-42DF-B778-615D950996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18C29-2A13-42B8-A3E7-B4D8551156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992A2-B4A9-412B-8032-2E51F09CB4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5FB04-055B-4696-B7F9-AE599B7AB9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79D2C-6E45-4BE9-B9E6-8F2423061F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9A8E3-7728-4227-9D36-47646A19C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AC81-522D-4755-AE6D-5E5FA9EA239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E7E8D-ED73-4F13-AA1A-39B442ED8C9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61455-A669-4EB8-9FD6-8F501CF20B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BB743-C2AE-41C5-9530-F36CE3BC5B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E114-673C-4A53-9EEB-3E958DE96B8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4BEE-5122-49CC-B072-031D8572BD9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C571-366C-45FC-8821-41BB296D6A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5013-497E-42C3-994A-F829D617747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4D74-1845-4A81-BE18-B72D7D0FD94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D97A-AA31-4707-8FE1-65AE362443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354C-4FFE-4B9F-86FC-E2EF75024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EC0C-2EAA-4D44-A9ED-8122EA13EF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7C04-6259-42FD-874F-A44EC5E6BF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27A7-E3CC-4184-B3C4-A4EE7BF58E7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2CFE-EDE8-431E-9FC7-54EB3A23A6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5FE3-7FCD-43BA-AD51-67E0D7635F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7B6F-87F3-4E25-A3E3-1CADDBC67F8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C6554-B70C-46C8-92EB-6296FF6AF1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475C8-7861-46A8-B807-685AD7FF01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A5CB4-54CA-40C6-ADFF-EC1E364DB3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35611-80D9-480C-A03E-D788C21850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3AF011-E96B-4522-9A3B-FC2D99185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97D9-4112-4004-AE5C-11519A2D5B1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0E337-E47A-4854-9E61-CC28FE840D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7CA18-6D0A-42D5-9E0B-F264E1E487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A2C69D-A652-43F6-8DA3-E0107C0587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7796D-7DF4-43F0-9B9B-7D68D350C7B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BFF35-2A4C-4759-B22F-9B18DCA8352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DC266-2CC6-49DA-A135-96CC02C2872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A6037-FDF8-4AFA-A347-86E34776F9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D4F2A-EB50-4E0F-8CC6-29476011D2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E9945-12AE-4747-BC41-804C3954E7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3DBE8-320A-49A0-BED0-D07E5ADBA2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0B2E-6199-49A9-8F4B-EC784047E6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C5E60-FBBD-4B66-A69F-7E1DA6F88F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843B3-E481-4C38-B789-9E62C64164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3A4A1-156B-4F54-9785-38BBAEFBBA5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20B74-2F5C-4F44-9C18-DF46F9FD057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67794-0518-42C6-B875-F3692856E4A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81DD8-EA3B-4BE9-8B1E-A390EC6984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90BE3-B0E0-416C-A4CF-064FE22D26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E8C25-4B6E-467D-A067-DBF0BF8FCB5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CA9FC-98C2-44F7-9870-8AC96A9F7E3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23CB-30F1-4DE0-8218-4445A955B7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C6EF-8878-49E8-B20D-CD1B7DE732A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73AE-E5C7-4B1B-AB47-6B79345D9A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B552-E8CB-46F0-80D0-5ABD92FC63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CA6D-9A6A-4542-9F3A-B1C9F338BE7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2B4F-DABD-48A1-9E84-A83AE7A838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4D65-018F-42D9-9EB4-63DC05BD41A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D5BD0-AC4C-436B-8E83-76DA417361E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835F-27FD-46A8-ABAE-DC36B4CD71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57B5-9F78-456A-A15A-CA3F70551EA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D647-D253-48B7-AAEF-45F334229EE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98AD-0C54-4B76-8877-E6D0789B24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2D84-64B5-4689-8CAF-BDD7551C617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835BF-9DE2-498D-8B77-D2D3B4E303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F6FD0-7293-4A37-B382-C78AE0876C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A9C2E-ED2F-4FDA-963F-47838B2C3A4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9A2DA-6EC7-4AF9-A5E4-74A13F96C69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CA9CB-E788-40C9-8AB9-98F3F7447BC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133B5-0975-4B7A-8444-875FE295606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0E9F6-E973-4187-B9FC-FED790CDDF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730BB-0EA5-439F-9136-F6193D24E67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9015B-1B36-4BBF-9E93-A6D63EBCE5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D43DC-C75B-40C4-9020-7F8BDADB9F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9D04-BB1D-4AC7-B938-EB0617B4B1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CF12B-764B-4B9C-8F74-AB4173E192B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9DBDD-2558-4929-991E-12496309346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15F60-26A4-41EC-8C64-65615439D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7425-BF22-4FB9-9B19-1A2CE10B7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5EFE-4971-4732-937A-FE32CF84D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7B2D-9AB2-4FD8-BB05-81439D6493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B3C4-5687-47AA-9C9F-21F3BB899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834E-000B-4004-A4EE-71FBBB3BD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15D3-AB95-49E5-A2A1-DACE90ED26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873-8E0B-4F64-82B7-064D4AC92A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A04-6FF0-4DFC-99F4-147B7FE939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246-8567-4CC9-B05A-31487F93D7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E89-0049-4D29-BF6C-98A4C27EC3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B02-98D3-4CD2-B749-FD372E5A8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57A3-5F78-4EA4-9867-36F58F9E9C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BBE-6CE3-4060-A8E3-1F32D2962D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04D-73BA-48CF-9F05-2F4DDC1A12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EB4-181A-4E45-902C-F7EA051024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2F9-7545-4D0A-A574-AD1A2B9688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1A1-C67D-419F-AFFB-AD81E689C3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236-01F2-448D-BADF-1764024701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E32-9CD3-467B-8416-060A1CCA83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BBE77-B12B-419B-956A-A4EAEE17C3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6F1A-5487-4868-BF7B-F94944C4F5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C373A-E64A-44C2-BF9C-83AC85AAD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32B2-815F-4B0A-B81A-07E20D3903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0053-2FE4-470F-8993-EFD3C392BF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8571C-3E54-4C3F-AD5A-01174F0695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A414-F65C-456A-B04A-EE1F31226D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6322-43A2-4E65-8032-EDF925B266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B18E-A437-4793-998B-333987E4D6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639B-F6BE-4D29-9CD6-22AAB6779B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C9828-614D-406C-B69A-B7D8EF5F1E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C01D-AD28-4FE2-BC31-ABEB563145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D9E43-99D6-4800-86FE-E7D20BA1E0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20BBA-B495-4C80-978A-FDDC2635A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3114-CDBA-42AA-8005-0C7112CA14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2A25-38AF-42A2-BDB8-BC0FB3E3BD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ABACF-6117-4332-A00D-2CD0C3243B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22D4-832E-43EA-BE91-2C90AC8315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9A928-C874-4E64-A5B4-F12EF0FA07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A0952-CB79-4D4E-8E28-4B3C5610E6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F9F37-0F0C-4EFE-BFC9-E0929561F4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518C-D0BE-41F3-93E6-5AB9D8C8D4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476E1-54C9-4043-AE15-2C30B283C0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03EB-9AE8-48F9-8890-BEE500D0F8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4F99D-9A66-41DE-A25F-D8358C24B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5AAC-AF63-440B-8732-C1752B6701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6D03C-B639-48FF-89FB-91419AFF9C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BE9E-13AE-412D-906C-AFB6778496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5228-0B27-46B3-A3B5-D41199143E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41EA-B365-4B53-8C59-6AB222FED1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D29-EB76-4DED-93DC-E0D949DCD3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1D4-BDE6-402F-B42C-1C7AE6FBB0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6B11-89D8-4B0B-A782-93C753CB2C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DF01-2803-49BA-B665-1C0B3118A0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F94D-5FA6-4A6C-818E-5EC45B3EFB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3EC6-9D0C-465A-AE86-14399946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3154-F12A-42B1-8521-87459E4330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5C78-86FA-4697-91B9-CD20D0669F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1191-14A0-4DA3-848A-85756A3CAB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84A-0158-462F-B19B-F3059D707D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A1CEC-871E-4E8C-8CD5-42E3DA4258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6F463-8ECB-4087-87F3-108D21EDA5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A1B5C-BB56-4DB1-B3A0-2E7ACA7EC9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EE1A5-99F3-42E1-8FA8-0109E4E45C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EA71B-7189-4FAB-ADD7-33395648FE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89CD3-B392-40A5-BB2C-092836685C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59C26-8B62-4365-8347-4FF7D6C3B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2FF6-9417-4493-A104-B5F80F9684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49B7E-5886-4E64-AECF-EF89FF2458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1A14B-3FC1-4BFA-8363-D61E3F4A37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18C5C-B9D9-4A33-9A3D-24789321829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739F8-12D8-4855-8A01-DFDAEF6657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ED19E-097B-42C7-BEC5-7E0501F8F2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00CC0-6945-48A9-B96B-FC0E628484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5623B-87F9-4575-8537-4AA8E25E17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55463-EDD8-48EB-BF5F-C08372C749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C3380-32CF-4AA4-85E6-D43452BD46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46A3E-570C-44F2-B092-886CA3D19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D673-4003-4B82-8FEF-A31880F5C3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48ED7-401E-4426-AD3A-0FF8CD79D1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982B4-C950-49C2-83DE-2D81364053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F0697-DF0B-4D31-83C6-E24A44A3A7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0536C-4668-47F3-9795-B3F5938BBB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73B97-2E51-4369-ADEB-2AD1275479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2A636-87C4-48B1-8AB9-1AAF1DB9F4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34E94-92A1-495D-AE75-FCA3493CE6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3BEF-23E1-4531-87EA-7F59A7EF4C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CF67-F2CB-4260-90AE-60CB85EED6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30CD-E399-4F9C-B4F5-C34DBE114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BAA0B9-4AEF-42D7-9C7B-C3D0C666826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4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5CD64A-C73F-4C47-9FA6-600495DC657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3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2D9B84-7CE9-4F78-81BA-07CD548A793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9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A72A6A-8E88-4F1A-B1AC-421631A814F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4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4040E3-674D-4723-A09D-2656EE66EC7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9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DB7E1D-E791-49A9-9A83-AB23543DA18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4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96352C-52CD-4C3F-AEEE-C44E039BFD5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C42192-6DDB-4912-94B9-6F03F82E757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4B3E7F-76D9-4E7A-9D68-D21430BC009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4B0C68-964F-482F-9D20-80187F58035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9A20C7-8C24-453D-9F48-81E36863DB4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B78D03-D950-43CE-9530-9F803445ADE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CD2EA4-1B6F-474D-BB54-148EB45081B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25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D41002-DBC3-4441-9249-58CFFDA3091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7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5E5053-D54F-4E25-B7BA-F8F820E46CE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31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8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7C18A3-3BD1-4AA5-B8ED-C89BE86D722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30505-7DA9-402E-BB0C-4A1AFEECE87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Rectángulo"/>
          <p:cNvSpPr/>
          <p:nvPr/>
        </p:nvSpPr>
        <p:spPr>
          <a:xfrm>
            <a:off x="1692360" y="47628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2 Rectángulo"/>
          <p:cNvSpPr/>
          <p:nvPr/>
        </p:nvSpPr>
        <p:spPr>
          <a:xfrm>
            <a:off x="324000" y="1536840"/>
            <a:ext cx="842472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CUERDOS DE DISTRIBUCIÓN, DE VENTAS, CREDITICIOS, GARANTIAS, LICENCIAS, KNOW HOW, USO DE MARCAS, ATRIBUCIÓN DE COSTOS, DESARROLLO DE INVESTIGACIÓN, PUBLICIDAD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ÉTODO UTILIZA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JUSTIFICACIÓN DE LA SELECCIÓN DEL MEJOR MÉTO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ÁLCULOS Y 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1 Rectángulo"/>
          <p:cNvSpPr/>
          <p:nvPr/>
        </p:nvSpPr>
        <p:spPr>
          <a:xfrm>
            <a:off x="1547640" y="476280"/>
            <a:ext cx="727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 A CONSERV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2 Rectángulo"/>
          <p:cNvSpPr/>
          <p:nvPr/>
        </p:nvSpPr>
        <p:spPr>
          <a:xfrm>
            <a:off x="324000" y="1413000"/>
            <a:ext cx="83516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COMPARAB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FORMACIÓN, CONCEPTOS  E IMPORTES AJUS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ETERMINACIÓN DEL RANGO Y VALOR RESULTANTE DE LA METODOLOGÍA DE CÁL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JETOS DEL EXTERIOR ALCANZADOS POR PT Y SI EXISTEN CONTROVERSIAS CON SUS AUTORIDAD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1 Rectángulo"/>
          <p:cNvSpPr/>
          <p:nvPr/>
        </p:nvSpPr>
        <p:spPr>
          <a:xfrm>
            <a:off x="1692360" y="399960"/>
            <a:ext cx="7127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2 Rectángulo"/>
          <p:cNvSpPr/>
          <p:nvPr/>
        </p:nvSpPr>
        <p:spPr>
          <a:xfrm>
            <a:off x="250920" y="2066760"/>
            <a:ext cx="8569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SEMESTRAL CON LA INFORMACIÓN GLOBAL DE LAS OPERACIONES REALIZADAS EN EL SE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COMPLEMENTARIA ANUAL. SE PRESENTA AL 8VO. MES DE CIERRE, CON INFORMACIÓN DETALLADA POR TIPO DE OPERACIÓN, SUJETO DEL EXTERIOR Y MÉTODO UTILIZADO. SI HAY AJUSTE Y SU CUANT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1 Rectángulo"/>
          <p:cNvSpPr/>
          <p:nvPr/>
        </p:nvSpPr>
        <p:spPr>
          <a:xfrm>
            <a:off x="1692360" y="33336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2 Rectángulo"/>
          <p:cNvSpPr/>
          <p:nvPr/>
        </p:nvSpPr>
        <p:spPr>
          <a:xfrm>
            <a:off x="324000" y="1984320"/>
            <a:ext cx="842472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 96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ANUAL. SE PRESENTA JUNTO CON LA DJ DE GANANCIAS CONTIENE EL DETALLE DE LAS OPERACIONES ANU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PIA DE LOS ESTADOS CONTABLES DEL CONTRIBUYENTE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L DEL PERÍODO Y LOS DE LOS 2 AÑOS ANTERIORES, FIRMADO POR C.P. Y CERTICADO POR CONSEJO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2 Rectángulo"/>
          <p:cNvSpPr/>
          <p:nvPr/>
        </p:nvSpPr>
        <p:spPr>
          <a:xfrm>
            <a:off x="468360" y="2413080"/>
            <a:ext cx="8280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E DE PRECIOS DE TRANSFERENC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ON EL DETALLE DE INFORMACIÓN PREVISTA EN EL ANEXOII DE LA RG 1122,  FIRMADO POR CONTADOR PÚBLICO Y CERTIFICADO POR EL CONSEJO PROFE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2 Rectángulo"/>
          <p:cNvSpPr/>
          <p:nvPr/>
        </p:nvSpPr>
        <p:spPr>
          <a:xfrm>
            <a:off x="250920" y="1447920"/>
            <a:ext cx="849780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Y FUNCIONES DESARRO-LLADAS POR EL CONTRIBUY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ESGOS ASUMIDOS Y ACTIVOS UTILIZADOS POR EL SUJETO LO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ELEMENTOS, DOCUMENTOS, HECHOS Y CIRCUNSTANCIAS VALORADOS PARA EL ESTUDIO DE P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Rectángulo"/>
          <p:cNvSpPr/>
          <p:nvPr/>
        </p:nvSpPr>
        <p:spPr>
          <a:xfrm>
            <a:off x="1751040" y="40464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2 Rectángulo"/>
          <p:cNvSpPr/>
          <p:nvPr/>
        </p:nvSpPr>
        <p:spPr>
          <a:xfrm>
            <a:off x="324000" y="1484280"/>
            <a:ext cx="8424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Y CUANTIFICACIÓN DE LAS OPERACIONES REALIZADAS, SUJETAS AL 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SUJETOS DEL EXTERIOR CON LOS QUE SE REALIZARON LAS TRANSAC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NCIONES, RIESGOS ASUMIDIOS Y ACTIVOS UTILIZADOS POR LOS SUEJTOS DEL EXTERI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1 Rectángulo"/>
          <p:cNvSpPr/>
          <p:nvPr/>
        </p:nvSpPr>
        <p:spPr>
          <a:xfrm>
            <a:off x="1763640" y="40464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2 Rectángulo"/>
          <p:cNvSpPr/>
          <p:nvPr/>
        </p:nvSpPr>
        <p:spPr>
          <a:xfrm>
            <a:off x="324000" y="1411200"/>
            <a:ext cx="842472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UTILIZADO Y FUNDAMENTACION DE SU EL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AS FUENTES DE INFORMACIÓN DE LAS QUE SE OBTUVIERON LOS COMPARABLES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1 Rectángulo"/>
          <p:cNvSpPr/>
          <p:nvPr/>
        </p:nvSpPr>
        <p:spPr>
          <a:xfrm>
            <a:off x="1751040" y="45576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2 Rectángulo"/>
          <p:cNvSpPr/>
          <p:nvPr/>
        </p:nvSpPr>
        <p:spPr>
          <a:xfrm>
            <a:off x="25092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LOS COMPARABLES DESECHADOS Y EL MO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CRIPCIÓN DE LOS ESTADOS CONTA-BLES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1 Rectángulo"/>
          <p:cNvSpPr/>
          <p:nvPr/>
        </p:nvSpPr>
        <p:spPr>
          <a:xfrm>
            <a:off x="1763640" y="47628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3 Rectángulo"/>
          <p:cNvSpPr/>
          <p:nvPr/>
        </p:nvSpPr>
        <p:spPr>
          <a:xfrm>
            <a:off x="250920" y="1650960"/>
            <a:ext cx="84978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 LA ACTIVIDAD Y CARAC-TERÍSTICAS DEL NEGOCIO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DETERMINACIÓN DEL RANGO INTER-CUARTIL Y LA MEDI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CONCLUSIONES A QUE SE HUBIERA ARRIB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1 Rectángulo"/>
          <p:cNvSpPr/>
          <p:nvPr/>
        </p:nvSpPr>
        <p:spPr>
          <a:xfrm>
            <a:off x="455760" y="2133720"/>
            <a:ext cx="823248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 Y MATERI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OLUCION GENERAL N° 11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1 Rectángulo"/>
          <p:cNvSpPr/>
          <p:nvPr/>
        </p:nvSpPr>
        <p:spPr>
          <a:xfrm>
            <a:off x="611280" y="22334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MPORTANCIA DEL ESTUDIO DE PRECIOS DE TRANSFERENCIA A FIN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LIDAD DEL CON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5"/>
          <p:cNvSpPr/>
          <p:nvPr/>
        </p:nvSpPr>
        <p:spPr>
          <a:xfrm>
            <a:off x="127080" y="2008080"/>
            <a:ext cx="854856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EFECTUEN OPERACIONES CON SUJETOS CONSTITUIDOS, DOMICILIADOS O RADICADOS EN JBNT, EXISTA O NO VINCUL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2440080" y="455760"/>
            <a:ext cx="5732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304920" y="1917720"/>
            <a:ext cx="829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QUE REALICEN OPERA-CIONES CON ESTABLECIMIENTOS ESTABLES DEL EXTERIOR DE  SU TITULA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TITULARES DE EST. EST. EN EL EXTERIOR, POR LAS OPERACIONES QUE ESTOS ÚLTIMOS EFECTÚEN CON ENTIDADES VINCULADAS DEL EXTERIOR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2401920" y="517680"/>
            <a:ext cx="5770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5"/>
          <p:cNvSpPr/>
          <p:nvPr/>
        </p:nvSpPr>
        <p:spPr>
          <a:xfrm>
            <a:off x="179280" y="1830240"/>
            <a:ext cx="8569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CONSERV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EXO IV DE LA RG 112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PRESENT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742 SEMESTRAL Y FS 743 Y 969 ANU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E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PIA DE LOS ESTADOS CONTABL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1332000" y="4795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1 Rectángulo"/>
          <p:cNvSpPr/>
          <p:nvPr/>
        </p:nvSpPr>
        <p:spPr>
          <a:xfrm>
            <a:off x="1476360" y="476280"/>
            <a:ext cx="755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2 Rectángulo"/>
          <p:cNvSpPr/>
          <p:nvPr/>
        </p:nvSpPr>
        <p:spPr>
          <a:xfrm>
            <a:off x="250920" y="1508040"/>
            <a:ext cx="8569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LOCAL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ATOS IDENTIFICATORIOS, ACTIVIDADES DESARROLLADAS, ACTIVOS, RIESGOS, FUNCIONES  Y ESTRUCTURA ORGANIZATIVA DEL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DEL EXTERIO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NOMBRE O DENOMINACIÓN SOCIAL, IDENTIFICACIÓN TRIBUTARIA, DOMICILIO FISCAL, PAÍS DE RESIDENCIA Y DOCUMENTACIÓN RELATIVA A LA VINCULACIÓN. DEBE CONSERVARSE AÚN CUANDO NO SE REALICEN OPERACION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2 Rectángulo"/>
          <p:cNvSpPr/>
          <p:nvPr/>
        </p:nvSpPr>
        <p:spPr>
          <a:xfrm>
            <a:off x="1692360" y="404640"/>
            <a:ext cx="7127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5 Rectángulo"/>
          <p:cNvSpPr/>
          <p:nvPr/>
        </p:nvSpPr>
        <p:spPr>
          <a:xfrm>
            <a:off x="250920" y="1390680"/>
            <a:ext cx="85690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NSACCIONES REALIZAD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 CUANTÍA Y LA MONEDA UTIL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MULTINACIONA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ORMACIÓN ACTUALIZADA DEL GRUPO Y LUGAR DE RADICACIÓN DE CAD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L OBJETO SOCIAL Y LAS ACTIVIDADES DE CADA EMPRESA, IDENTI-FICACIÓN DE LAS QUE COTIZAN EN BOL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CIOS E INTEGRANTES DE CADA EMPRESA Y LUGAR DE RESIDENCIA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1 Rectángulo"/>
          <p:cNvSpPr/>
          <p:nvPr/>
        </p:nvSpPr>
        <p:spPr>
          <a:xfrm>
            <a:off x="250920" y="1484280"/>
            <a:ext cx="85690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TOS DEL PRESIDENTE ÚLTIMOS 3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TOS DE TRANSFERENCIA DE ACCCIONES, AUMENTO O DISMINUCIÓN DEL CA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EN MATERIA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2 Rectángulo"/>
          <p:cNvSpPr/>
          <p:nvPr/>
        </p:nvSpPr>
        <p:spPr>
          <a:xfrm>
            <a:off x="1763640" y="40464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2 Rectángulo"/>
          <p:cNvSpPr/>
          <p:nvPr/>
        </p:nvSpPr>
        <p:spPr>
          <a:xfrm>
            <a:off x="1692360" y="549360"/>
            <a:ext cx="720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4 Rectángulo"/>
          <p:cNvSpPr/>
          <p:nvPr/>
        </p:nvSpPr>
        <p:spPr>
          <a:xfrm>
            <a:off x="395280" y="1415880"/>
            <a:ext cx="835344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EXO 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ADOS CONTA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DEL CONTRIBUYENTE, DEL SUEJTO DEL EXTERIOR VINCULADO Y CONSOLIDADOS, DE CORRESP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TUACIÓN FINANCIERA DEL CONTRIBUY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ATEGIAS COMERCIALES ADOPT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UCTURA DE CO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cilia</dc:creator>
  <dc:description/>
  <dc:language>en-US</dc:language>
  <cp:lastModifiedBy>Cecilia</cp:lastModifiedBy>
  <dcterms:modified xsi:type="dcterms:W3CDTF">2013-07-18T15:46:43Z</dcterms:modified>
  <cp:revision>195</cp:revision>
  <dc:subject/>
  <dc:title>Diapositiva 1</dc:title>
</cp:coreProperties>
</file>