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notesMasterIdLst>
    <p:notesMasterId r:id="rId18"/>
  </p:notes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notesMaster" Target="notesMasters/notesMaster1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0" y="0"/>
            <a:ext cx="6797520" cy="992520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5200"/>
              <a:gd name="textAreaBottom" fmla="*/ 9924840 h 9925200"/>
            </a:gdLst>
            <a:ahLst/>
            <a:rect l="textAreaLeft" t="textAreaTop" r="textAreaRight" b="textAreaBottom"/>
            <a:pathLst>
              <a:path w="21600" h="31538">
                <a:moveTo>
                  <a:pt x="5" y="0"/>
                </a:moveTo>
                <a:arcTo wR="5" hR="5" stAng="16200000" swAng="-5400000"/>
                <a:lnTo>
                  <a:pt x="0" y="31533"/>
                </a:lnTo>
                <a:arcTo wR="5" hR="5" stAng="10800000" swAng="-5400000"/>
                <a:lnTo>
                  <a:pt x="21595" y="31538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0" y="0"/>
            <a:ext cx="6797520" cy="992520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5200"/>
              <a:gd name="textAreaBottom" fmla="*/ 9924840 h 9925200"/>
            </a:gdLst>
            <a:ahLst/>
            <a:rect l="textAreaLeft" t="textAreaTop" r="textAreaRight" b="textAreaBottom"/>
            <a:pathLst>
              <a:path w="21600" h="31538">
                <a:moveTo>
                  <a:pt x="5" y="0"/>
                </a:moveTo>
                <a:arcTo wR="5" hR="5" stAng="16200000" swAng="-5400000"/>
                <a:lnTo>
                  <a:pt x="0" y="31533"/>
                </a:lnTo>
                <a:arcTo wR="5" hR="5" stAng="10800000" swAng="-5400000"/>
                <a:lnTo>
                  <a:pt x="21595" y="31538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1"/>
          <p:cNvSpPr>
            <a:spLocks noGrp="1"/>
          </p:cNvSpPr>
          <p:nvPr>
            <p:ph type="dt" idx="17"/>
          </p:nvPr>
        </p:nvSpPr>
        <p:spPr>
          <a:xfrm>
            <a:off x="3849480" y="-360"/>
            <a:ext cx="29430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 type="sldImg"/>
          </p:nvPr>
        </p:nvSpPr>
        <p:spPr>
          <a:xfrm>
            <a:off x="917640" y="744120"/>
            <a:ext cx="4959360" cy="3721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 type="body"/>
          </p:nvPr>
        </p:nvSpPr>
        <p:spPr>
          <a:xfrm>
            <a:off x="678960" y="4714920"/>
            <a:ext cx="54356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0" y="942660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 type="sldNum" idx="18"/>
          </p:nvPr>
        </p:nvSpPr>
        <p:spPr>
          <a:xfrm>
            <a:off x="3849480" y="9426600"/>
            <a:ext cx="29430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26522E-CA80-4A6F-BFD7-26DD354E3D0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"/>
          <p:cNvSpPr/>
          <p:nvPr/>
        </p:nvSpPr>
        <p:spPr>
          <a:xfrm>
            <a:off x="917640" y="744480"/>
            <a:ext cx="4962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PlaceHolder 1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7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"/>
          <p:cNvSpPr/>
          <p:nvPr/>
        </p:nvSpPr>
        <p:spPr>
          <a:xfrm>
            <a:off x="917640" y="744480"/>
            <a:ext cx="4962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PlaceHolder 1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7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"/>
          <p:cNvSpPr/>
          <p:nvPr/>
        </p:nvSpPr>
        <p:spPr>
          <a:xfrm>
            <a:off x="917640" y="744480"/>
            <a:ext cx="4962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PlaceHolder 1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7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"/>
          <p:cNvSpPr/>
          <p:nvPr/>
        </p:nvSpPr>
        <p:spPr>
          <a:xfrm>
            <a:off x="917640" y="744480"/>
            <a:ext cx="4962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1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7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"/>
          <p:cNvSpPr/>
          <p:nvPr/>
        </p:nvSpPr>
        <p:spPr>
          <a:xfrm>
            <a:off x="917640" y="744480"/>
            <a:ext cx="4962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PlaceHolder 1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7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"/>
          <p:cNvSpPr/>
          <p:nvPr/>
        </p:nvSpPr>
        <p:spPr>
          <a:xfrm>
            <a:off x="917640" y="744480"/>
            <a:ext cx="4962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PlaceHolder 1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7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"/>
          <p:cNvSpPr/>
          <p:nvPr/>
        </p:nvSpPr>
        <p:spPr>
          <a:xfrm>
            <a:off x="917640" y="744480"/>
            <a:ext cx="4962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PlaceHolder 1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7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"/>
          <p:cNvSpPr/>
          <p:nvPr/>
        </p:nvSpPr>
        <p:spPr>
          <a:xfrm>
            <a:off x="917640" y="744480"/>
            <a:ext cx="4962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PlaceHolder 1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7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"/>
          <p:cNvSpPr/>
          <p:nvPr/>
        </p:nvSpPr>
        <p:spPr>
          <a:xfrm>
            <a:off x="917640" y="744480"/>
            <a:ext cx="4962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PlaceHolder 1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7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"/>
          <p:cNvSpPr/>
          <p:nvPr/>
        </p:nvSpPr>
        <p:spPr>
          <a:xfrm>
            <a:off x="917640" y="744480"/>
            <a:ext cx="4962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PlaceHolder 1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7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6437BE-BB50-4E48-B3DC-14583C30E8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69483B-DF62-4052-89B1-4223F3FE3D91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E13CD3-B97E-49EF-8F16-185FA8A62534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39C740-78CF-4800-ACF2-6DD8B28C9DB8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EE8F6A-4D8C-47A7-9680-3F8E02640591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0CA329-C676-40AE-A1CF-E6C26BAD16A9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A03E33-4F01-4B53-A91B-D5D67AF5AC5C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EE32F2-D823-493C-96D7-1A60E58EB7CB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FA284A-2133-4727-BA7B-ADCCE03AF0AD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660467-FC4A-47DC-8FCF-DE146FD73527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69879D-C173-4AC5-8091-EA28AB815B14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C4A42D2-1839-4C5C-8897-4E230A3BB3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561CC7-C643-43E6-AC5F-D13EB05A456A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39809EA-7700-422A-A6B2-2845E03ADBAD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3290D99-5D65-47A7-BB9C-C67877CBB343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55FD741-FA37-48FE-9073-79B3822244A7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80A8E98-2D8D-45C5-9DBE-D8BE7C8F3B63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8995204-4998-457F-9E48-387CD7E7702F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8154CCF-5E73-4022-9B32-CAC56C7D4DF3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049A149-C679-4D13-919B-A273715382F6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64AEAA8-430A-4344-81E4-8A6E50BAA3B7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964F57C-BB84-4992-B871-27607E49E354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C1869FC-436E-4F7D-8987-F09946793B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CE11E3-84ED-4EA2-9CF9-138A537278CE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3D3EE91-C129-4B3B-9DE5-40A6DC054808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2D72398-7760-4B90-A1E0-5DD920F5E628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E46B816-DE94-470F-A026-46E27FE91500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13D76F2-403A-4828-A0E2-8A8329043B83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17403F3-D200-4059-A98A-244C41A6F51F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AE4F725-D72E-4473-977F-84A9E51EB9F4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294620E-52C6-4036-82C4-37FEFA5FEC1F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55F6C58-E9A1-4C98-A201-B35ACE9DA706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5882484-74F7-4C95-B49A-9816F4CC4A14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477F9B2-8F1D-4615-B67D-FCAF0ADB66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C76703-8B8A-4561-A3C6-DCD69695D235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4745437-859D-4DBA-940F-28AF5636C2CB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8775A24-5537-4F46-9FF5-075BA2A72A27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0B06260-DB32-4EC4-BA80-B5C8DAE2B833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297001-ECFC-4EA1-98DA-5787D21C8475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530E15-2502-419A-9AAE-7FA2FADDFC8A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492D81-9771-410D-954C-7657FBB3F6FF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62C422-32C6-45F0-8440-B6054531AF5F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7B6116-E7B4-49F2-893B-64EC8F74B41D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E14DF6-B33D-4950-ADF6-81B4ED8297A1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05710D-4EFB-4F62-9FAE-246B7DBC1AD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C14828-80BD-4C9D-BC23-698B64E30074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2E3855-7768-48C1-9841-5C68B7B83219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70338E-73B0-4882-822C-37E601F10C38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6B0298-F724-4DAE-91FC-C8A6A2152588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57EF90-2E57-4E76-A821-7AA6FE45AA32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CCB136-8399-4C73-922E-20A67048BC4D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F4C7506-4202-43AD-BBF1-89D72E144D5B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0770259-B35F-4231-BB07-7FE18083981D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A5C4EA7-BDDE-4EA3-84F8-6653EA612082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0B8DE66-BEA0-412F-BE7B-234AD99215C2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497E8ED-7487-4855-B071-EB8FCB44D47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ED8BEE-6A21-48C1-976B-2582CB0E0145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768ECF9-5959-4725-B714-813FB1FC9D8B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02803E0-9E43-45CD-AC10-E32F57314D61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0FFA03F-EC10-47B3-A9B1-DEF8E02BB960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A2BB68F-7311-4A1F-AB92-BF2E8A431635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FB6AE85-3216-4BAD-BB3C-6077E2EADF2F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75D5DE9-F747-4CEF-95A9-D875C29FBFCD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CA3B7C2-3282-4555-ADE9-CDECAF67E54C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4AEBF19-6DA9-4F4C-9433-0ECBE138FE22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12676E5-E478-454E-AC92-0E45440E9E34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3324DB2-3A20-4AD7-ABD0-B9854551F6C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7999C1-19FF-447F-8930-D1B05C04F822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0EFE75F-E156-4A48-BF21-61858A732BDF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5F9D8DC-AE4D-4609-A681-E18A295C2EB1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9DD5303-B28E-4B08-9F5C-9CB8294BCB67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3EBCEF9-BE4F-4799-8000-8BBAD0B99935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5610CB1-9399-46AE-936B-50EB8A0B01F0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C9E28F4-078E-44CA-8A59-3CC9C0ECC998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E3B4222-FBE3-416C-BA8A-BD2F17A75B43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1C2AB53-8338-472B-8A4B-54ACC474A177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1D1A07D-DEC5-4CDD-8A0F-CADE91CDC4DF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301984-64FA-4D48-9BF3-2BCC833DF30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90C215-4BAD-41C7-92F8-5FE39B4897A1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B44BD4-C907-4EEF-B62C-6C1832F7E514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D7F02E-20F0-4244-9FCC-D82A9C85036F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EC0C38-6866-4791-930D-5D638668339E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9D53D9-5EA3-4F44-8F65-233A81E5A4A7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E45510-18A5-42E0-872D-62D8D6365E5D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723D2B-B677-4915-B9A0-AE8E0074AE37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789D34-0A12-45FA-AD43-E16EDB2E1164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C4FB52-971D-4FE5-9FCE-B1A964DF723E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C3AF68-0537-4581-9F71-F54AF3DE3D0F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F046DE-7A50-4426-A194-A73DC8A40C8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0CB0E1-347E-49E4-869C-CF8E25A5990B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9ED47C-F011-408C-ADB1-80EB9FA84881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15482F3-0CD7-483D-B342-98F1BE2B4E73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A4C878A-E56E-4F6D-AE4D-B5059D3A6463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FAB976E-9331-45DB-817B-F95C5E046C0B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5780650-D60B-4021-8C1F-78DC10FEE57E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04EFFB5-29F6-468D-99E4-5D0B0A3B1897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20869A1-0086-4761-BEFC-70F85E292334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6621739-A621-4144-96AF-A1D4B5276BEF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1584ECE-8410-4595-BEF0-7862DD808658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724A0FF-0A6A-4439-A4BA-2FE50ECDC12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3EAB89-A707-46C2-8051-9D2FF23A71F6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8519FAF-8F08-4831-B450-73501B5A6F59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8EA49F9-5FE5-400A-BDF7-40A3A8A0DFB6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256698B-53BB-4972-8A9B-9AC82E24C3D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0F4B34-E1CD-4B63-8890-6DEF30A341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B6BCD3-56EC-485B-B6EE-5C8E6519C49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66270D-5A4A-413B-9C9F-C7748523037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5C3CB5-27CE-4F43-9A4C-9270043CD28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B44630-0DF1-4C5C-94E7-A84AA71C3A6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8C5EFD-DB06-473D-BCE2-E50A2D06BE77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3F4F8-EBA9-46B4-A340-2AC9EDE6CA7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31936-5196-497E-BE7B-37FB73E054A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536B0-36D7-487D-AED0-A4D32991778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09867-A991-425C-9E12-124AA5DA227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F09D8-C5E3-4731-84AD-68229803EF5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27B456-57E5-4D29-A10C-6F3A666B61C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BED4F-E79B-48B6-9A0E-E7CD0DE7F51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FAC8E-39BD-44DE-BF01-00793298FDB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89258-F900-4A02-8E63-7F46E97DB7A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4E7D8-26E4-4A67-925B-8CB23608212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D1579-F3A6-4E0C-807F-67DF29398B0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6BD43-CC46-42E5-9778-D70C6E14C15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EBE7C-0616-4919-B87C-ABA73528D2A7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9A8BD3-D974-4F62-A0D4-A955A10B39EA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3C7251-C2D0-40F2-8220-F6365D9298DD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2E3466-7E30-4A10-A348-3373DEF4BE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7D38B4-9C3D-42E2-935B-1AD2A1C87C81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A48085-8AC1-43A3-8486-392267B8B5F2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10E636-B916-41D9-B08C-9644FB178165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DE39C5-98AA-456F-9819-AE9750EEB1E7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B4F86B-C447-4B07-B842-47E44D96ED17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A4DB0D-5D9A-4EF2-A1D9-6466F1B93359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43E83E-700D-4584-ADDF-E7F4050C5421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1A795C-DECF-412A-A7EA-439A1A6FE2BC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0715D0-C2C8-4CCE-9FEB-6A0E15732B5F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A13E99-ECA0-4BA2-86BC-A64DD3238AE1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52A8BB-5344-455F-B03D-F21411193F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A33B2C-6641-41B1-B95E-426293D995FD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545E1B-C434-4B9D-A68E-E725B3AAA2BC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1FFF8F-EF2F-48A2-9553-5B5F6E1D7348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9837A5-1EA0-4F34-8B5A-1D68FA92654C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D64235-3A0B-4C2B-927E-0DB8AE3F8C7E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252B1F-6C36-4233-8EAC-6218478CD850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33C3E4-BAC6-43C8-A00B-74C0884AFA4B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A555C2-CEA4-4937-96EB-5E5D3AC3B737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0C1896-ECA5-45E9-AA3D-8A4F63C2FE93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7EB82A-3DE5-4BE4-B1D7-97F6C366BD01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3126DA-015C-4A5A-A8DB-D68A951026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A1D4A7-1C0C-4CFA-A563-BE63976ED91A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E45B2F-4943-4B16-8F61-41F1725BF8F4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A8C68-D9B7-4781-8423-9C1AB6DF62A0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1202A-A346-4CFF-8512-EDBEB8AB0EF4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C0DBE-BA71-46AE-B14F-4B60402D408D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81962-6E75-4370-BDC8-168A6256D4CD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9F5F9-E061-4CC0-A8B2-46678B90B51B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043E9-114A-447D-8475-97383197875B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4898A-0BD7-4CB7-B527-8934003BBFC3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3043C-4C29-4E50-BCA5-49058C14FFD1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44A5B-D39D-491A-A306-25D2EF1D0B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C7D23F-2DB5-4F06-BF57-1ED74409F8F6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67CB5-F627-4BD6-AF24-33C630302BBE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7CE31-07DC-41C3-BA7C-4F4699D55C3E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17FCC-B80D-4B09-8105-95E6BBCCA025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FF2A244-F2B4-47B2-AAEF-AC04768E281B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276576E-23CB-4414-B7E1-FEAA7353ABA6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8522200-6D85-4A26-861A-A983D0BA7B80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6C470AD-A74F-4C43-A3CE-3D8009DBC0CF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CB9E942-F9E7-4CBF-B8A8-4DDD5D492759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98ADF1E-224B-43E9-A67B-7683C8C18FAE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25CC007-92D4-4104-97DA-44CD876710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97BDC8-E0AE-4DD9-81CA-B813D4C81B93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5AA6570-82BE-42C8-A5FD-9F83BD083DAE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9C4E2E7-A09C-4A96-9980-E71F685EEAAB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D44F1E5-3FFA-457D-989D-9C3218B479DA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74AF593-7A8A-47F3-ABA0-A7117B4C2FF0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D3C6E74-BCAA-461C-B150-517491325B40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0A828F9-AC1E-4FC0-A023-90645AD83396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9C5381F-CD67-4826-B5A0-D2B677F44C52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BB66960-5B20-4B7E-B952-8124CE9D5F75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213C52B-4554-4FCA-8FF7-5B5BBA25BF8F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DE9E0F5-503F-4BE6-AB23-87500CB388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D06A97-64AA-4F47-AF03-AFC1F3ADFCBB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4AF226C-D92F-4D1A-9A0A-575D92B64718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79E7D37-21F6-4F1F-80F1-5BB50BC8F070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58E8F5-F6A9-4B22-9705-614EA4FA89E7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F62F3C1-412B-403D-AD87-5348A85811A9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254CE48-BD93-4429-B74B-9F0CDBC8BD5C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4CD7E1A-D723-4073-AAFC-5D44EEE9095B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508445B-1AB1-4C99-81A7-E1D1119227F9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E0B9CF-40F6-47AC-94AB-F3BFF664C166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430177-3536-4B96-9994-32286C64226F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FD4DAA-31D7-4E18-BA85-97C4B624F0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09.xml"/><Relationship Id="rId7" Type="http://schemas.openxmlformats.org/officeDocument/2006/relationships/slideLayout" Target="../slideLayouts/slideLayout110.xml"/><Relationship Id="rId8" Type="http://schemas.openxmlformats.org/officeDocument/2006/relationships/slideLayout" Target="../slideLayouts/slideLayout111.xml"/><Relationship Id="rId9" Type="http://schemas.openxmlformats.org/officeDocument/2006/relationships/slideLayout" Target="../slideLayouts/slideLayout112.xml"/><Relationship Id="rId10" Type="http://schemas.openxmlformats.org/officeDocument/2006/relationships/slideLayout" Target="../slideLayouts/slideLayout113.xml"/><Relationship Id="rId11" Type="http://schemas.openxmlformats.org/officeDocument/2006/relationships/slideLayout" Target="../slideLayouts/slideLayout114.xml"/><Relationship Id="rId12" Type="http://schemas.openxmlformats.org/officeDocument/2006/relationships/slideLayout" Target="../slideLayouts/slideLayout115.xml"/><Relationship Id="rId13" Type="http://schemas.openxmlformats.org/officeDocument/2006/relationships/slideLayout" Target="../slideLayouts/slideLayout116.xml"/><Relationship Id="rId14" Type="http://schemas.openxmlformats.org/officeDocument/2006/relationships/slideLayout" Target="../slideLayouts/slideLayout117.xml"/><Relationship Id="rId15" Type="http://schemas.openxmlformats.org/officeDocument/2006/relationships/slideLayout" Target="../slideLayouts/slideLayout118.xml"/><Relationship Id="rId16" Type="http://schemas.openxmlformats.org/officeDocument/2006/relationships/slideLayout" Target="../slideLayouts/slideLayout119.xml"/><Relationship Id="rId17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21.xml"/><Relationship Id="rId7" Type="http://schemas.openxmlformats.org/officeDocument/2006/relationships/slideLayout" Target="../slideLayouts/slideLayout122.xml"/><Relationship Id="rId8" Type="http://schemas.openxmlformats.org/officeDocument/2006/relationships/slideLayout" Target="../slideLayouts/slideLayout123.xml"/><Relationship Id="rId9" Type="http://schemas.openxmlformats.org/officeDocument/2006/relationships/slideLayout" Target="../slideLayouts/slideLayout124.xml"/><Relationship Id="rId10" Type="http://schemas.openxmlformats.org/officeDocument/2006/relationships/slideLayout" Target="../slideLayouts/slideLayout125.xml"/><Relationship Id="rId11" Type="http://schemas.openxmlformats.org/officeDocument/2006/relationships/slideLayout" Target="../slideLayouts/slideLayout126.xml"/><Relationship Id="rId12" Type="http://schemas.openxmlformats.org/officeDocument/2006/relationships/slideLayout" Target="../slideLayouts/slideLayout127.xml"/><Relationship Id="rId13" Type="http://schemas.openxmlformats.org/officeDocument/2006/relationships/slideLayout" Target="../slideLayouts/slideLayout128.xml"/><Relationship Id="rId14" Type="http://schemas.openxmlformats.org/officeDocument/2006/relationships/slideLayout" Target="../slideLayouts/slideLayout129.xml"/><Relationship Id="rId15" Type="http://schemas.openxmlformats.org/officeDocument/2006/relationships/slideLayout" Target="../slideLayouts/slideLayout130.xml"/><Relationship Id="rId16" Type="http://schemas.openxmlformats.org/officeDocument/2006/relationships/slideLayout" Target="../slideLayouts/slideLayout131.xml"/><Relationship Id="rId17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3.xml"/><Relationship Id="rId7" Type="http://schemas.openxmlformats.org/officeDocument/2006/relationships/slideLayout" Target="../slideLayouts/slideLayout134.xml"/><Relationship Id="rId8" Type="http://schemas.openxmlformats.org/officeDocument/2006/relationships/slideLayout" Target="../slideLayouts/slideLayout135.xml"/><Relationship Id="rId9" Type="http://schemas.openxmlformats.org/officeDocument/2006/relationships/slideLayout" Target="../slideLayouts/slideLayout136.xml"/><Relationship Id="rId10" Type="http://schemas.openxmlformats.org/officeDocument/2006/relationships/slideLayout" Target="../slideLayouts/slideLayout137.xml"/><Relationship Id="rId11" Type="http://schemas.openxmlformats.org/officeDocument/2006/relationships/slideLayout" Target="../slideLayouts/slideLayout138.xml"/><Relationship Id="rId12" Type="http://schemas.openxmlformats.org/officeDocument/2006/relationships/slideLayout" Target="../slideLayouts/slideLayout139.xml"/><Relationship Id="rId13" Type="http://schemas.openxmlformats.org/officeDocument/2006/relationships/slideLayout" Target="../slideLayouts/slideLayout140.xml"/><Relationship Id="rId14" Type="http://schemas.openxmlformats.org/officeDocument/2006/relationships/slideLayout" Target="../slideLayouts/slideLayout141.xml"/><Relationship Id="rId15" Type="http://schemas.openxmlformats.org/officeDocument/2006/relationships/slideLayout" Target="../slideLayouts/slideLayout142.xml"/><Relationship Id="rId16" Type="http://schemas.openxmlformats.org/officeDocument/2006/relationships/slideLayout" Target="../slideLayouts/slideLayout143.xml"/><Relationship Id="rId17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45.xml"/><Relationship Id="rId7" Type="http://schemas.openxmlformats.org/officeDocument/2006/relationships/slideLayout" Target="../slideLayouts/slideLayout146.xml"/><Relationship Id="rId8" Type="http://schemas.openxmlformats.org/officeDocument/2006/relationships/slideLayout" Target="../slideLayouts/slideLayout147.xml"/><Relationship Id="rId9" Type="http://schemas.openxmlformats.org/officeDocument/2006/relationships/slideLayout" Target="../slideLayouts/slideLayout148.xml"/><Relationship Id="rId10" Type="http://schemas.openxmlformats.org/officeDocument/2006/relationships/slideLayout" Target="../slideLayouts/slideLayout149.xml"/><Relationship Id="rId11" Type="http://schemas.openxmlformats.org/officeDocument/2006/relationships/slideLayout" Target="../slideLayouts/slideLayout150.xml"/><Relationship Id="rId12" Type="http://schemas.openxmlformats.org/officeDocument/2006/relationships/slideLayout" Target="../slideLayouts/slideLayout151.xml"/><Relationship Id="rId13" Type="http://schemas.openxmlformats.org/officeDocument/2006/relationships/slideLayout" Target="../slideLayouts/slideLayout152.xml"/><Relationship Id="rId14" Type="http://schemas.openxmlformats.org/officeDocument/2006/relationships/slideLayout" Target="../slideLayouts/slideLayout153.xml"/><Relationship Id="rId15" Type="http://schemas.openxmlformats.org/officeDocument/2006/relationships/slideLayout" Target="../slideLayouts/slideLayout154.xml"/><Relationship Id="rId16" Type="http://schemas.openxmlformats.org/officeDocument/2006/relationships/slideLayout" Target="../slideLayouts/slideLayout155.xml"/><Relationship Id="rId17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57.xml"/><Relationship Id="rId7" Type="http://schemas.openxmlformats.org/officeDocument/2006/relationships/slideLayout" Target="../slideLayouts/slideLayout158.xml"/><Relationship Id="rId8" Type="http://schemas.openxmlformats.org/officeDocument/2006/relationships/slideLayout" Target="../slideLayouts/slideLayout159.xml"/><Relationship Id="rId9" Type="http://schemas.openxmlformats.org/officeDocument/2006/relationships/slideLayout" Target="../slideLayouts/slideLayout160.xml"/><Relationship Id="rId10" Type="http://schemas.openxmlformats.org/officeDocument/2006/relationships/slideLayout" Target="../slideLayouts/slideLayout161.xml"/><Relationship Id="rId11" Type="http://schemas.openxmlformats.org/officeDocument/2006/relationships/slideLayout" Target="../slideLayouts/slideLayout162.xml"/><Relationship Id="rId12" Type="http://schemas.openxmlformats.org/officeDocument/2006/relationships/slideLayout" Target="../slideLayouts/slideLayout163.xml"/><Relationship Id="rId13" Type="http://schemas.openxmlformats.org/officeDocument/2006/relationships/slideLayout" Target="../slideLayouts/slideLayout164.xml"/><Relationship Id="rId14" Type="http://schemas.openxmlformats.org/officeDocument/2006/relationships/slideLayout" Target="../slideLayouts/slideLayout165.xml"/><Relationship Id="rId15" Type="http://schemas.openxmlformats.org/officeDocument/2006/relationships/slideLayout" Target="../slideLayouts/slideLayout166.xml"/><Relationship Id="rId16" Type="http://schemas.openxmlformats.org/officeDocument/2006/relationships/slideLayout" Target="../slideLayouts/slideLayout167.xml"/><Relationship Id="rId17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69.xml"/><Relationship Id="rId7" Type="http://schemas.openxmlformats.org/officeDocument/2006/relationships/slideLayout" Target="../slideLayouts/slideLayout170.xml"/><Relationship Id="rId8" Type="http://schemas.openxmlformats.org/officeDocument/2006/relationships/slideLayout" Target="../slideLayouts/slideLayout171.xml"/><Relationship Id="rId9" Type="http://schemas.openxmlformats.org/officeDocument/2006/relationships/slideLayout" Target="../slideLayouts/slideLayout172.xml"/><Relationship Id="rId10" Type="http://schemas.openxmlformats.org/officeDocument/2006/relationships/slideLayout" Target="../slideLayouts/slideLayout173.xml"/><Relationship Id="rId11" Type="http://schemas.openxmlformats.org/officeDocument/2006/relationships/slideLayout" Target="../slideLayouts/slideLayout174.xml"/><Relationship Id="rId12" Type="http://schemas.openxmlformats.org/officeDocument/2006/relationships/slideLayout" Target="../slideLayouts/slideLayout175.xml"/><Relationship Id="rId13" Type="http://schemas.openxmlformats.org/officeDocument/2006/relationships/slideLayout" Target="../slideLayouts/slideLayout176.xml"/><Relationship Id="rId14" Type="http://schemas.openxmlformats.org/officeDocument/2006/relationships/slideLayout" Target="../slideLayouts/slideLayout177.xml"/><Relationship Id="rId15" Type="http://schemas.openxmlformats.org/officeDocument/2006/relationships/slideLayout" Target="../slideLayouts/slideLayout178.xml"/><Relationship Id="rId16" Type="http://schemas.openxmlformats.org/officeDocument/2006/relationships/slideLayout" Target="../slideLayouts/slideLayout179.xml"/><Relationship Id="rId17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81.xml"/><Relationship Id="rId7" Type="http://schemas.openxmlformats.org/officeDocument/2006/relationships/slideLayout" Target="../slideLayouts/slideLayout182.xml"/><Relationship Id="rId8" Type="http://schemas.openxmlformats.org/officeDocument/2006/relationships/slideLayout" Target="../slideLayouts/slideLayout183.xml"/><Relationship Id="rId9" Type="http://schemas.openxmlformats.org/officeDocument/2006/relationships/slideLayout" Target="../slideLayouts/slideLayout184.xml"/><Relationship Id="rId10" Type="http://schemas.openxmlformats.org/officeDocument/2006/relationships/slideLayout" Target="../slideLayouts/slideLayout185.xml"/><Relationship Id="rId11" Type="http://schemas.openxmlformats.org/officeDocument/2006/relationships/slideLayout" Target="../slideLayouts/slideLayout186.xml"/><Relationship Id="rId12" Type="http://schemas.openxmlformats.org/officeDocument/2006/relationships/slideLayout" Target="../slideLayouts/slideLayout187.xml"/><Relationship Id="rId13" Type="http://schemas.openxmlformats.org/officeDocument/2006/relationships/slideLayout" Target="../slideLayouts/slideLayout188.xml"/><Relationship Id="rId14" Type="http://schemas.openxmlformats.org/officeDocument/2006/relationships/slideLayout" Target="../slideLayouts/slideLayout189.xml"/><Relationship Id="rId15" Type="http://schemas.openxmlformats.org/officeDocument/2006/relationships/slideLayout" Target="../slideLayouts/slideLayout190.xml"/><Relationship Id="rId16" Type="http://schemas.openxmlformats.org/officeDocument/2006/relationships/slideLayout" Target="../slideLayouts/slideLayout191.xml"/><Relationship Id="rId17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85.xml"/><Relationship Id="rId7" Type="http://schemas.openxmlformats.org/officeDocument/2006/relationships/slideLayout" Target="../slideLayouts/slideLayout86.xml"/><Relationship Id="rId8" Type="http://schemas.openxmlformats.org/officeDocument/2006/relationships/slideLayout" Target="../slideLayouts/slideLayout87.xml"/><Relationship Id="rId9" Type="http://schemas.openxmlformats.org/officeDocument/2006/relationships/slideLayout" Target="../slideLayouts/slideLayout88.xml"/><Relationship Id="rId10" Type="http://schemas.openxmlformats.org/officeDocument/2006/relationships/slideLayout" Target="../slideLayouts/slideLayout89.xml"/><Relationship Id="rId11" Type="http://schemas.openxmlformats.org/officeDocument/2006/relationships/slideLayout" Target="../slideLayouts/slideLayout90.xml"/><Relationship Id="rId12" Type="http://schemas.openxmlformats.org/officeDocument/2006/relationships/slideLayout" Target="../slideLayouts/slideLayout91.xml"/><Relationship Id="rId13" Type="http://schemas.openxmlformats.org/officeDocument/2006/relationships/slideLayout" Target="../slideLayouts/slideLayout92.xml"/><Relationship Id="rId14" Type="http://schemas.openxmlformats.org/officeDocument/2006/relationships/slideLayout" Target="../slideLayouts/slideLayout93.xml"/><Relationship Id="rId15" Type="http://schemas.openxmlformats.org/officeDocument/2006/relationships/slideLayout" Target="../slideLayouts/slideLayout94.xml"/><Relationship Id="rId16" Type="http://schemas.openxmlformats.org/officeDocument/2006/relationships/slideLayout" Target="../slideLayouts/slideLayout95.xml"/><Relationship Id="rId17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282600" y="1428840"/>
            <a:ext cx="8494560" cy="50004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0">
            <a:noFill/>
          </a:ln>
          <a:effectLst>
            <a:outerShdw dist="109865" dir="634411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293760" y="345960"/>
            <a:ext cx="8496360" cy="9874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7d8496"/>
              </a:gs>
              <a:gs pos="100000">
                <a:srgbClr val="e6e6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7324560" y="5962680"/>
            <a:ext cx="1256040" cy="3697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4" name=""/>
          <p:cNvGrpSpPr/>
          <p:nvPr/>
        </p:nvGrpSpPr>
        <p:grpSpPr>
          <a:xfrm>
            <a:off x="398520" y="442800"/>
            <a:ext cx="1312920" cy="779400"/>
            <a:chOff x="398520" y="442800"/>
            <a:chExt cx="1312920" cy="779400"/>
          </a:xfrm>
        </p:grpSpPr>
        <p:grpSp>
          <p:nvGrpSpPr>
            <p:cNvPr id="5" name=""/>
            <p:cNvGrpSpPr/>
            <p:nvPr/>
          </p:nvGrpSpPr>
          <p:grpSpPr>
            <a:xfrm>
              <a:off x="398520" y="442800"/>
              <a:ext cx="1312920" cy="779400"/>
              <a:chOff x="398520" y="442800"/>
              <a:chExt cx="1312920" cy="779400"/>
            </a:xfrm>
          </p:grpSpPr>
          <p:sp>
            <p:nvSpPr>
              <p:cNvPr id="6" name=""/>
              <p:cNvSpPr/>
              <p:nvPr/>
            </p:nvSpPr>
            <p:spPr>
              <a:xfrm>
                <a:off x="398520" y="442800"/>
                <a:ext cx="1312920" cy="779400"/>
              </a:xfrm>
              <a:prstGeom prst="roundRect">
                <a:avLst>
                  <a:gd name="adj" fmla="val 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bfbfbf"/>
                  </a:gs>
                </a:gsLst>
                <a:lin ang="20400000"/>
              </a:gradFill>
              <a:ln w="0">
                <a:noFill/>
              </a:ln>
              <a:effectLst>
                <a:outerShdw dist="38183" dir="81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420480" y="468000"/>
                <a:ext cx="1258920" cy="7282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" name=""/>
            <p:cNvGrpSpPr/>
            <p:nvPr/>
          </p:nvGrpSpPr>
          <p:grpSpPr>
            <a:xfrm>
              <a:off x="438120" y="453960"/>
              <a:ext cx="1238400" cy="731520"/>
              <a:chOff x="438120" y="453960"/>
              <a:chExt cx="1238400" cy="731520"/>
            </a:xfrm>
          </p:grpSpPr>
          <p:sp>
            <p:nvSpPr>
              <p:cNvPr id="9" name=""/>
              <p:cNvSpPr/>
              <p:nvPr/>
            </p:nvSpPr>
            <p:spPr>
              <a:xfrm>
                <a:off x="438120" y="453960"/>
                <a:ext cx="1238400" cy="250200"/>
              </a:xfrm>
              <a:prstGeom prst="rect">
                <a:avLst/>
              </a:prstGeom>
              <a:solidFill>
                <a:srgbClr val="66cc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438120" y="694440"/>
                <a:ext cx="1238400" cy="250200"/>
              </a:xfrm>
              <a:prstGeom prst="rect">
                <a:avLst/>
              </a:prstGeom>
              <a:solidFill>
                <a:srgbClr val="ffff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38120" y="935640"/>
                <a:ext cx="1238400" cy="249840"/>
              </a:xfrm>
              <a:prstGeom prst="rect">
                <a:avLst/>
              </a:prstGeom>
              <a:solidFill>
                <a:srgbClr val="66cc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" name=""/>
          <p:cNvGrpSpPr/>
          <p:nvPr/>
        </p:nvGrpSpPr>
        <p:grpSpPr>
          <a:xfrm>
            <a:off x="357120" y="1514520"/>
            <a:ext cx="8283600" cy="465120"/>
            <a:chOff x="357120" y="1514520"/>
            <a:chExt cx="8283600" cy="465120"/>
          </a:xfrm>
        </p:grpSpPr>
        <p:sp>
          <p:nvSpPr>
            <p:cNvPr id="13" name=""/>
            <p:cNvSpPr/>
            <p:nvPr/>
          </p:nvSpPr>
          <p:spPr>
            <a:xfrm>
              <a:off x="357120" y="1530000"/>
              <a:ext cx="8283600" cy="42552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" name="" descr=""/>
            <p:cNvPicPr/>
            <p:nvPr/>
          </p:nvPicPr>
          <p:blipFill>
            <a:blip r:embed="rId5"/>
            <a:stretch/>
          </p:blipFill>
          <p:spPr>
            <a:xfrm>
              <a:off x="6326280" y="1604520"/>
              <a:ext cx="2142360" cy="28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" name=""/>
            <p:cNvSpPr/>
            <p:nvPr/>
          </p:nvSpPr>
          <p:spPr>
            <a:xfrm>
              <a:off x="6145200" y="1514520"/>
              <a:ext cx="1440" cy="4651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sldNum" idx="1"/>
          </p:nvPr>
        </p:nvSpPr>
        <p:spPr>
          <a:xfrm>
            <a:off x="368280" y="605772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1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ACD0A879-F5EE-4C19-ADE7-180E7CEF1201}" type="slidenum"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8" name=""/>
          <p:cNvSpPr/>
          <p:nvPr/>
        </p:nvSpPr>
        <p:spPr>
          <a:xfrm>
            <a:off x="282600" y="1428840"/>
            <a:ext cx="8494560" cy="50004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0">
            <a:noFill/>
          </a:ln>
          <a:effectLst>
            <a:outerShdw dist="109865" dir="634411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93760" y="345960"/>
            <a:ext cx="8496360" cy="9874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7d8496"/>
              </a:gs>
              <a:gs pos="100000">
                <a:srgbClr val="e6e6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0" name="" descr=""/>
          <p:cNvPicPr/>
          <p:nvPr/>
        </p:nvPicPr>
        <p:blipFill>
          <a:blip r:embed="rId3"/>
          <a:stretch/>
        </p:blipFill>
        <p:spPr>
          <a:xfrm>
            <a:off x="7324560" y="5962680"/>
            <a:ext cx="1256040" cy="3697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481" name=""/>
          <p:cNvGrpSpPr/>
          <p:nvPr/>
        </p:nvGrpSpPr>
        <p:grpSpPr>
          <a:xfrm>
            <a:off x="398520" y="442800"/>
            <a:ext cx="1312920" cy="779400"/>
            <a:chOff x="398520" y="442800"/>
            <a:chExt cx="1312920" cy="779400"/>
          </a:xfrm>
        </p:grpSpPr>
        <p:grpSp>
          <p:nvGrpSpPr>
            <p:cNvPr id="482" name=""/>
            <p:cNvGrpSpPr/>
            <p:nvPr/>
          </p:nvGrpSpPr>
          <p:grpSpPr>
            <a:xfrm>
              <a:off x="398520" y="442800"/>
              <a:ext cx="1312920" cy="779400"/>
              <a:chOff x="398520" y="442800"/>
              <a:chExt cx="1312920" cy="779400"/>
            </a:xfrm>
          </p:grpSpPr>
          <p:sp>
            <p:nvSpPr>
              <p:cNvPr id="483" name=""/>
              <p:cNvSpPr/>
              <p:nvPr/>
            </p:nvSpPr>
            <p:spPr>
              <a:xfrm>
                <a:off x="398520" y="442800"/>
                <a:ext cx="1312920" cy="779400"/>
              </a:xfrm>
              <a:prstGeom prst="roundRect">
                <a:avLst>
                  <a:gd name="adj" fmla="val 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bfbfbf"/>
                  </a:gs>
                </a:gsLst>
                <a:lin ang="20400000"/>
              </a:gradFill>
              <a:ln w="0">
                <a:noFill/>
              </a:ln>
              <a:effectLst>
                <a:outerShdw dist="38183" dir="81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48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420480" y="468000"/>
                <a:ext cx="1258920" cy="7282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85" name=""/>
            <p:cNvGrpSpPr/>
            <p:nvPr/>
          </p:nvGrpSpPr>
          <p:grpSpPr>
            <a:xfrm>
              <a:off x="438120" y="453960"/>
              <a:ext cx="1238400" cy="731520"/>
              <a:chOff x="438120" y="453960"/>
              <a:chExt cx="1238400" cy="731520"/>
            </a:xfrm>
          </p:grpSpPr>
          <p:sp>
            <p:nvSpPr>
              <p:cNvPr id="486" name=""/>
              <p:cNvSpPr/>
              <p:nvPr/>
            </p:nvSpPr>
            <p:spPr>
              <a:xfrm>
                <a:off x="438120" y="453960"/>
                <a:ext cx="1238400" cy="250200"/>
              </a:xfrm>
              <a:prstGeom prst="rect">
                <a:avLst/>
              </a:prstGeom>
              <a:solidFill>
                <a:srgbClr val="66cc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438120" y="694440"/>
                <a:ext cx="1238400" cy="250200"/>
              </a:xfrm>
              <a:prstGeom prst="rect">
                <a:avLst/>
              </a:prstGeom>
              <a:solidFill>
                <a:srgbClr val="ffff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438120" y="935640"/>
                <a:ext cx="1238400" cy="249840"/>
              </a:xfrm>
              <a:prstGeom prst="rect">
                <a:avLst/>
              </a:prstGeom>
              <a:solidFill>
                <a:srgbClr val="66cc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89" name=""/>
          <p:cNvGrpSpPr/>
          <p:nvPr/>
        </p:nvGrpSpPr>
        <p:grpSpPr>
          <a:xfrm>
            <a:off x="357120" y="1514520"/>
            <a:ext cx="8283600" cy="465120"/>
            <a:chOff x="357120" y="1514520"/>
            <a:chExt cx="8283600" cy="465120"/>
          </a:xfrm>
        </p:grpSpPr>
        <p:sp>
          <p:nvSpPr>
            <p:cNvPr id="490" name=""/>
            <p:cNvSpPr/>
            <p:nvPr/>
          </p:nvSpPr>
          <p:spPr>
            <a:xfrm>
              <a:off x="357120" y="1530000"/>
              <a:ext cx="8283600" cy="42552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91" name="" descr=""/>
            <p:cNvPicPr/>
            <p:nvPr/>
          </p:nvPicPr>
          <p:blipFill>
            <a:blip r:embed="rId5"/>
            <a:stretch/>
          </p:blipFill>
          <p:spPr>
            <a:xfrm>
              <a:off x="6326280" y="1604520"/>
              <a:ext cx="2142360" cy="28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2" name=""/>
            <p:cNvSpPr/>
            <p:nvPr/>
          </p:nvSpPr>
          <p:spPr>
            <a:xfrm>
              <a:off x="6145200" y="1514520"/>
              <a:ext cx="1440" cy="4651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3" name="PlaceHolder 1"/>
          <p:cNvSpPr>
            <a:spLocks noGrp="1"/>
          </p:cNvSpPr>
          <p:nvPr>
            <p:ph type="sldNum" idx="10"/>
          </p:nvPr>
        </p:nvSpPr>
        <p:spPr>
          <a:xfrm>
            <a:off x="368280" y="605772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1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E7AD0538-47D5-405C-8141-8A7EAC5C16C3}" type="slidenum"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6"/>
    <p:sldLayoutId id="2147483767" r:id="rId7"/>
    <p:sldLayoutId id="2147483768" r:id="rId8"/>
    <p:sldLayoutId id="2147483769" r:id="rId9"/>
    <p:sldLayoutId id="2147483770" r:id="rId10"/>
    <p:sldLayoutId id="2147483771" r:id="rId11"/>
    <p:sldLayoutId id="2147483772" r:id="rId12"/>
    <p:sldLayoutId id="2147483773" r:id="rId13"/>
    <p:sldLayoutId id="2147483774" r:id="rId14"/>
    <p:sldLayoutId id="2147483775" r:id="rId15"/>
    <p:sldLayoutId id="2147483776" r:id="rId16"/>
    <p:sldLayoutId id="2147483777" r:id="rId17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1" name=""/>
          <p:cNvSpPr/>
          <p:nvPr/>
        </p:nvSpPr>
        <p:spPr>
          <a:xfrm>
            <a:off x="282600" y="1428840"/>
            <a:ext cx="8494560" cy="50004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0">
            <a:noFill/>
          </a:ln>
          <a:effectLst>
            <a:outerShdw dist="109865" dir="634411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293760" y="345960"/>
            <a:ext cx="8496360" cy="9874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7d8496"/>
              </a:gs>
              <a:gs pos="100000">
                <a:srgbClr val="e6e6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" descr=""/>
          <p:cNvPicPr/>
          <p:nvPr/>
        </p:nvPicPr>
        <p:blipFill>
          <a:blip r:embed="rId3"/>
          <a:stretch/>
        </p:blipFill>
        <p:spPr>
          <a:xfrm>
            <a:off x="7324560" y="5962680"/>
            <a:ext cx="1256040" cy="3697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534" name=""/>
          <p:cNvGrpSpPr/>
          <p:nvPr/>
        </p:nvGrpSpPr>
        <p:grpSpPr>
          <a:xfrm>
            <a:off x="398520" y="442800"/>
            <a:ext cx="1312920" cy="779400"/>
            <a:chOff x="398520" y="442800"/>
            <a:chExt cx="1312920" cy="779400"/>
          </a:xfrm>
        </p:grpSpPr>
        <p:grpSp>
          <p:nvGrpSpPr>
            <p:cNvPr id="535" name=""/>
            <p:cNvGrpSpPr/>
            <p:nvPr/>
          </p:nvGrpSpPr>
          <p:grpSpPr>
            <a:xfrm>
              <a:off x="398520" y="442800"/>
              <a:ext cx="1312920" cy="779400"/>
              <a:chOff x="398520" y="442800"/>
              <a:chExt cx="1312920" cy="779400"/>
            </a:xfrm>
          </p:grpSpPr>
          <p:sp>
            <p:nvSpPr>
              <p:cNvPr id="536" name=""/>
              <p:cNvSpPr/>
              <p:nvPr/>
            </p:nvSpPr>
            <p:spPr>
              <a:xfrm>
                <a:off x="398520" y="442800"/>
                <a:ext cx="1312920" cy="779400"/>
              </a:xfrm>
              <a:prstGeom prst="roundRect">
                <a:avLst>
                  <a:gd name="adj" fmla="val 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bfbfbf"/>
                  </a:gs>
                </a:gsLst>
                <a:lin ang="20400000"/>
              </a:gradFill>
              <a:ln w="0">
                <a:noFill/>
              </a:ln>
              <a:effectLst>
                <a:outerShdw dist="38183" dir="81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3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420480" y="468000"/>
                <a:ext cx="1258920" cy="7282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8" name=""/>
            <p:cNvGrpSpPr/>
            <p:nvPr/>
          </p:nvGrpSpPr>
          <p:grpSpPr>
            <a:xfrm>
              <a:off x="438120" y="453960"/>
              <a:ext cx="1238400" cy="731520"/>
              <a:chOff x="438120" y="453960"/>
              <a:chExt cx="1238400" cy="731520"/>
            </a:xfrm>
          </p:grpSpPr>
          <p:sp>
            <p:nvSpPr>
              <p:cNvPr id="539" name=""/>
              <p:cNvSpPr/>
              <p:nvPr/>
            </p:nvSpPr>
            <p:spPr>
              <a:xfrm>
                <a:off x="438120" y="453960"/>
                <a:ext cx="1238400" cy="250200"/>
              </a:xfrm>
              <a:prstGeom prst="rect">
                <a:avLst/>
              </a:prstGeom>
              <a:solidFill>
                <a:srgbClr val="66cc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438120" y="694440"/>
                <a:ext cx="1238400" cy="250200"/>
              </a:xfrm>
              <a:prstGeom prst="rect">
                <a:avLst/>
              </a:prstGeom>
              <a:solidFill>
                <a:srgbClr val="ffff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438120" y="935640"/>
                <a:ext cx="1238400" cy="249840"/>
              </a:xfrm>
              <a:prstGeom prst="rect">
                <a:avLst/>
              </a:prstGeom>
              <a:solidFill>
                <a:srgbClr val="66cc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42" name=""/>
          <p:cNvGrpSpPr/>
          <p:nvPr/>
        </p:nvGrpSpPr>
        <p:grpSpPr>
          <a:xfrm>
            <a:off x="357120" y="1514520"/>
            <a:ext cx="8283600" cy="465120"/>
            <a:chOff x="357120" y="1514520"/>
            <a:chExt cx="8283600" cy="465120"/>
          </a:xfrm>
        </p:grpSpPr>
        <p:sp>
          <p:nvSpPr>
            <p:cNvPr id="543" name=""/>
            <p:cNvSpPr/>
            <p:nvPr/>
          </p:nvSpPr>
          <p:spPr>
            <a:xfrm>
              <a:off x="357120" y="1530000"/>
              <a:ext cx="8283600" cy="42552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44" name="" descr=""/>
            <p:cNvPicPr/>
            <p:nvPr/>
          </p:nvPicPr>
          <p:blipFill>
            <a:blip r:embed="rId5"/>
            <a:stretch/>
          </p:blipFill>
          <p:spPr>
            <a:xfrm>
              <a:off x="6326280" y="1604520"/>
              <a:ext cx="2142360" cy="28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5" name=""/>
            <p:cNvSpPr/>
            <p:nvPr/>
          </p:nvSpPr>
          <p:spPr>
            <a:xfrm>
              <a:off x="6145200" y="1514520"/>
              <a:ext cx="1440" cy="4651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6" name="PlaceHolder 1"/>
          <p:cNvSpPr>
            <a:spLocks noGrp="1"/>
          </p:cNvSpPr>
          <p:nvPr>
            <p:ph type="sldNum" idx="11"/>
          </p:nvPr>
        </p:nvSpPr>
        <p:spPr>
          <a:xfrm>
            <a:off x="368280" y="605772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1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14B85223-2F98-4F02-B8B7-C7DD706C7754}" type="slidenum"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6"/>
    <p:sldLayoutId id="2147483780" r:id="rId7"/>
    <p:sldLayoutId id="2147483781" r:id="rId8"/>
    <p:sldLayoutId id="2147483782" r:id="rId9"/>
    <p:sldLayoutId id="2147483783" r:id="rId10"/>
    <p:sldLayoutId id="2147483784" r:id="rId11"/>
    <p:sldLayoutId id="2147483785" r:id="rId12"/>
    <p:sldLayoutId id="2147483786" r:id="rId13"/>
    <p:sldLayoutId id="2147483787" r:id="rId14"/>
    <p:sldLayoutId id="2147483788" r:id="rId15"/>
    <p:sldLayoutId id="2147483789" r:id="rId16"/>
    <p:sldLayoutId id="2147483790" r:id="rId17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4" name=""/>
          <p:cNvSpPr/>
          <p:nvPr/>
        </p:nvSpPr>
        <p:spPr>
          <a:xfrm>
            <a:off x="282600" y="1428840"/>
            <a:ext cx="8494560" cy="50004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0">
            <a:noFill/>
          </a:ln>
          <a:effectLst>
            <a:outerShdw dist="109865" dir="634411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293760" y="345960"/>
            <a:ext cx="8496360" cy="9874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7d8496"/>
              </a:gs>
              <a:gs pos="100000">
                <a:srgbClr val="e6e6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6" name="" descr=""/>
          <p:cNvPicPr/>
          <p:nvPr/>
        </p:nvPicPr>
        <p:blipFill>
          <a:blip r:embed="rId3"/>
          <a:stretch/>
        </p:blipFill>
        <p:spPr>
          <a:xfrm>
            <a:off x="7324560" y="5962680"/>
            <a:ext cx="1256040" cy="3697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587" name=""/>
          <p:cNvGrpSpPr/>
          <p:nvPr/>
        </p:nvGrpSpPr>
        <p:grpSpPr>
          <a:xfrm>
            <a:off x="398520" y="442800"/>
            <a:ext cx="1312920" cy="779400"/>
            <a:chOff x="398520" y="442800"/>
            <a:chExt cx="1312920" cy="779400"/>
          </a:xfrm>
        </p:grpSpPr>
        <p:grpSp>
          <p:nvGrpSpPr>
            <p:cNvPr id="588" name=""/>
            <p:cNvGrpSpPr/>
            <p:nvPr/>
          </p:nvGrpSpPr>
          <p:grpSpPr>
            <a:xfrm>
              <a:off x="398520" y="442800"/>
              <a:ext cx="1312920" cy="779400"/>
              <a:chOff x="398520" y="442800"/>
              <a:chExt cx="1312920" cy="779400"/>
            </a:xfrm>
          </p:grpSpPr>
          <p:sp>
            <p:nvSpPr>
              <p:cNvPr id="589" name=""/>
              <p:cNvSpPr/>
              <p:nvPr/>
            </p:nvSpPr>
            <p:spPr>
              <a:xfrm>
                <a:off x="398520" y="442800"/>
                <a:ext cx="1312920" cy="779400"/>
              </a:xfrm>
              <a:prstGeom prst="roundRect">
                <a:avLst>
                  <a:gd name="adj" fmla="val 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bfbfbf"/>
                  </a:gs>
                </a:gsLst>
                <a:lin ang="20400000"/>
              </a:gradFill>
              <a:ln w="0">
                <a:noFill/>
              </a:ln>
              <a:effectLst>
                <a:outerShdw dist="38183" dir="81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90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420480" y="468000"/>
                <a:ext cx="1258920" cy="7282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91" name=""/>
            <p:cNvGrpSpPr/>
            <p:nvPr/>
          </p:nvGrpSpPr>
          <p:grpSpPr>
            <a:xfrm>
              <a:off x="438120" y="453960"/>
              <a:ext cx="1238400" cy="731520"/>
              <a:chOff x="438120" y="453960"/>
              <a:chExt cx="1238400" cy="731520"/>
            </a:xfrm>
          </p:grpSpPr>
          <p:sp>
            <p:nvSpPr>
              <p:cNvPr id="592" name=""/>
              <p:cNvSpPr/>
              <p:nvPr/>
            </p:nvSpPr>
            <p:spPr>
              <a:xfrm>
                <a:off x="438120" y="453960"/>
                <a:ext cx="1238400" cy="250200"/>
              </a:xfrm>
              <a:prstGeom prst="rect">
                <a:avLst/>
              </a:prstGeom>
              <a:solidFill>
                <a:srgbClr val="66cc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438120" y="694440"/>
                <a:ext cx="1238400" cy="250200"/>
              </a:xfrm>
              <a:prstGeom prst="rect">
                <a:avLst/>
              </a:prstGeom>
              <a:solidFill>
                <a:srgbClr val="ffff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438120" y="935640"/>
                <a:ext cx="1238400" cy="249840"/>
              </a:xfrm>
              <a:prstGeom prst="rect">
                <a:avLst/>
              </a:prstGeom>
              <a:solidFill>
                <a:srgbClr val="66cc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95" name=""/>
          <p:cNvGrpSpPr/>
          <p:nvPr/>
        </p:nvGrpSpPr>
        <p:grpSpPr>
          <a:xfrm>
            <a:off x="357120" y="1514520"/>
            <a:ext cx="8283600" cy="465120"/>
            <a:chOff x="357120" y="1514520"/>
            <a:chExt cx="8283600" cy="465120"/>
          </a:xfrm>
        </p:grpSpPr>
        <p:sp>
          <p:nvSpPr>
            <p:cNvPr id="596" name=""/>
            <p:cNvSpPr/>
            <p:nvPr/>
          </p:nvSpPr>
          <p:spPr>
            <a:xfrm>
              <a:off x="357120" y="1530000"/>
              <a:ext cx="8283600" cy="42552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97" name="" descr=""/>
            <p:cNvPicPr/>
            <p:nvPr/>
          </p:nvPicPr>
          <p:blipFill>
            <a:blip r:embed="rId5"/>
            <a:stretch/>
          </p:blipFill>
          <p:spPr>
            <a:xfrm>
              <a:off x="6326280" y="1604520"/>
              <a:ext cx="2142360" cy="28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8" name=""/>
            <p:cNvSpPr/>
            <p:nvPr/>
          </p:nvSpPr>
          <p:spPr>
            <a:xfrm>
              <a:off x="6145200" y="1514520"/>
              <a:ext cx="1440" cy="4651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9" name="PlaceHolder 1"/>
          <p:cNvSpPr>
            <a:spLocks noGrp="1"/>
          </p:cNvSpPr>
          <p:nvPr>
            <p:ph type="sldNum" idx="12"/>
          </p:nvPr>
        </p:nvSpPr>
        <p:spPr>
          <a:xfrm>
            <a:off x="368280" y="605772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1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89609612-5886-4603-B3DF-F4F77963A090}" type="slidenum"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6"/>
    <p:sldLayoutId id="2147483793" r:id="rId7"/>
    <p:sldLayoutId id="2147483794" r:id="rId8"/>
    <p:sldLayoutId id="2147483795" r:id="rId9"/>
    <p:sldLayoutId id="2147483796" r:id="rId10"/>
    <p:sldLayoutId id="2147483797" r:id="rId11"/>
    <p:sldLayoutId id="2147483798" r:id="rId12"/>
    <p:sldLayoutId id="2147483799" r:id="rId13"/>
    <p:sldLayoutId id="2147483800" r:id="rId14"/>
    <p:sldLayoutId id="2147483801" r:id="rId15"/>
    <p:sldLayoutId id="2147483802" r:id="rId16"/>
    <p:sldLayoutId id="2147483803" r:id="rId17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7" name=""/>
          <p:cNvSpPr/>
          <p:nvPr/>
        </p:nvSpPr>
        <p:spPr>
          <a:xfrm>
            <a:off x="282600" y="1428840"/>
            <a:ext cx="8494560" cy="50004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0">
            <a:noFill/>
          </a:ln>
          <a:effectLst>
            <a:outerShdw dist="109865" dir="634411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293760" y="345960"/>
            <a:ext cx="8496360" cy="9874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7d8496"/>
              </a:gs>
              <a:gs pos="100000">
                <a:srgbClr val="e6e6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9" name="" descr=""/>
          <p:cNvPicPr/>
          <p:nvPr/>
        </p:nvPicPr>
        <p:blipFill>
          <a:blip r:embed="rId3"/>
          <a:stretch/>
        </p:blipFill>
        <p:spPr>
          <a:xfrm>
            <a:off x="7324560" y="5962680"/>
            <a:ext cx="1256040" cy="3697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640" name=""/>
          <p:cNvGrpSpPr/>
          <p:nvPr/>
        </p:nvGrpSpPr>
        <p:grpSpPr>
          <a:xfrm>
            <a:off x="398520" y="442800"/>
            <a:ext cx="1312920" cy="779400"/>
            <a:chOff x="398520" y="442800"/>
            <a:chExt cx="1312920" cy="779400"/>
          </a:xfrm>
        </p:grpSpPr>
        <p:grpSp>
          <p:nvGrpSpPr>
            <p:cNvPr id="641" name=""/>
            <p:cNvGrpSpPr/>
            <p:nvPr/>
          </p:nvGrpSpPr>
          <p:grpSpPr>
            <a:xfrm>
              <a:off x="398520" y="442800"/>
              <a:ext cx="1312920" cy="779400"/>
              <a:chOff x="398520" y="442800"/>
              <a:chExt cx="1312920" cy="779400"/>
            </a:xfrm>
          </p:grpSpPr>
          <p:sp>
            <p:nvSpPr>
              <p:cNvPr id="642" name=""/>
              <p:cNvSpPr/>
              <p:nvPr/>
            </p:nvSpPr>
            <p:spPr>
              <a:xfrm>
                <a:off x="398520" y="442800"/>
                <a:ext cx="1312920" cy="779400"/>
              </a:xfrm>
              <a:prstGeom prst="roundRect">
                <a:avLst>
                  <a:gd name="adj" fmla="val 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bfbfbf"/>
                  </a:gs>
                </a:gsLst>
                <a:lin ang="20400000"/>
              </a:gradFill>
              <a:ln w="0">
                <a:noFill/>
              </a:ln>
              <a:effectLst>
                <a:outerShdw dist="38183" dir="81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43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420480" y="468000"/>
                <a:ext cx="1258920" cy="7282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44" name=""/>
            <p:cNvGrpSpPr/>
            <p:nvPr/>
          </p:nvGrpSpPr>
          <p:grpSpPr>
            <a:xfrm>
              <a:off x="438120" y="453960"/>
              <a:ext cx="1238400" cy="731520"/>
              <a:chOff x="438120" y="453960"/>
              <a:chExt cx="1238400" cy="731520"/>
            </a:xfrm>
          </p:grpSpPr>
          <p:sp>
            <p:nvSpPr>
              <p:cNvPr id="645" name=""/>
              <p:cNvSpPr/>
              <p:nvPr/>
            </p:nvSpPr>
            <p:spPr>
              <a:xfrm>
                <a:off x="438120" y="453960"/>
                <a:ext cx="1238400" cy="250200"/>
              </a:xfrm>
              <a:prstGeom prst="rect">
                <a:avLst/>
              </a:prstGeom>
              <a:solidFill>
                <a:srgbClr val="66cc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438120" y="694440"/>
                <a:ext cx="1238400" cy="250200"/>
              </a:xfrm>
              <a:prstGeom prst="rect">
                <a:avLst/>
              </a:prstGeom>
              <a:solidFill>
                <a:srgbClr val="ffff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438120" y="935640"/>
                <a:ext cx="1238400" cy="249840"/>
              </a:xfrm>
              <a:prstGeom prst="rect">
                <a:avLst/>
              </a:prstGeom>
              <a:solidFill>
                <a:srgbClr val="66cc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48" name=""/>
          <p:cNvGrpSpPr/>
          <p:nvPr/>
        </p:nvGrpSpPr>
        <p:grpSpPr>
          <a:xfrm>
            <a:off x="357120" y="1514520"/>
            <a:ext cx="8283600" cy="465120"/>
            <a:chOff x="357120" y="1514520"/>
            <a:chExt cx="8283600" cy="465120"/>
          </a:xfrm>
        </p:grpSpPr>
        <p:sp>
          <p:nvSpPr>
            <p:cNvPr id="649" name=""/>
            <p:cNvSpPr/>
            <p:nvPr/>
          </p:nvSpPr>
          <p:spPr>
            <a:xfrm>
              <a:off x="357120" y="1530000"/>
              <a:ext cx="8283600" cy="42552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50" name="" descr=""/>
            <p:cNvPicPr/>
            <p:nvPr/>
          </p:nvPicPr>
          <p:blipFill>
            <a:blip r:embed="rId5"/>
            <a:stretch/>
          </p:blipFill>
          <p:spPr>
            <a:xfrm>
              <a:off x="6326280" y="1604520"/>
              <a:ext cx="2142360" cy="28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1" name=""/>
            <p:cNvSpPr/>
            <p:nvPr/>
          </p:nvSpPr>
          <p:spPr>
            <a:xfrm>
              <a:off x="6145200" y="1514520"/>
              <a:ext cx="1440" cy="4651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2" name="PlaceHolder 1"/>
          <p:cNvSpPr>
            <a:spLocks noGrp="1"/>
          </p:cNvSpPr>
          <p:nvPr>
            <p:ph type="sldNum" idx="13"/>
          </p:nvPr>
        </p:nvSpPr>
        <p:spPr>
          <a:xfrm>
            <a:off x="368280" y="605772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1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1C83B849-295A-4D7A-9B2D-0A1CDD3ED66A}" type="slidenum"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6"/>
    <p:sldLayoutId id="2147483806" r:id="rId7"/>
    <p:sldLayoutId id="2147483807" r:id="rId8"/>
    <p:sldLayoutId id="2147483808" r:id="rId9"/>
    <p:sldLayoutId id="2147483809" r:id="rId10"/>
    <p:sldLayoutId id="2147483810" r:id="rId11"/>
    <p:sldLayoutId id="2147483811" r:id="rId12"/>
    <p:sldLayoutId id="2147483812" r:id="rId13"/>
    <p:sldLayoutId id="2147483813" r:id="rId14"/>
    <p:sldLayoutId id="2147483814" r:id="rId15"/>
    <p:sldLayoutId id="2147483815" r:id="rId16"/>
    <p:sldLayoutId id="2147483816" r:id="rId17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0" name=""/>
          <p:cNvSpPr/>
          <p:nvPr/>
        </p:nvSpPr>
        <p:spPr>
          <a:xfrm>
            <a:off x="282600" y="1428840"/>
            <a:ext cx="8494560" cy="50004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0">
            <a:noFill/>
          </a:ln>
          <a:effectLst>
            <a:outerShdw dist="109865" dir="634411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293760" y="345960"/>
            <a:ext cx="8496360" cy="9874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7d8496"/>
              </a:gs>
              <a:gs pos="100000">
                <a:srgbClr val="e6e6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2" name="" descr=""/>
          <p:cNvPicPr/>
          <p:nvPr/>
        </p:nvPicPr>
        <p:blipFill>
          <a:blip r:embed="rId3"/>
          <a:stretch/>
        </p:blipFill>
        <p:spPr>
          <a:xfrm>
            <a:off x="7324560" y="5962680"/>
            <a:ext cx="1256040" cy="3697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693" name=""/>
          <p:cNvGrpSpPr/>
          <p:nvPr/>
        </p:nvGrpSpPr>
        <p:grpSpPr>
          <a:xfrm>
            <a:off x="398520" y="442800"/>
            <a:ext cx="1312920" cy="779400"/>
            <a:chOff x="398520" y="442800"/>
            <a:chExt cx="1312920" cy="779400"/>
          </a:xfrm>
        </p:grpSpPr>
        <p:grpSp>
          <p:nvGrpSpPr>
            <p:cNvPr id="694" name=""/>
            <p:cNvGrpSpPr/>
            <p:nvPr/>
          </p:nvGrpSpPr>
          <p:grpSpPr>
            <a:xfrm>
              <a:off x="398520" y="442800"/>
              <a:ext cx="1312920" cy="779400"/>
              <a:chOff x="398520" y="442800"/>
              <a:chExt cx="1312920" cy="779400"/>
            </a:xfrm>
          </p:grpSpPr>
          <p:sp>
            <p:nvSpPr>
              <p:cNvPr id="695" name=""/>
              <p:cNvSpPr/>
              <p:nvPr/>
            </p:nvSpPr>
            <p:spPr>
              <a:xfrm>
                <a:off x="398520" y="442800"/>
                <a:ext cx="1312920" cy="779400"/>
              </a:xfrm>
              <a:prstGeom prst="roundRect">
                <a:avLst>
                  <a:gd name="adj" fmla="val 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bfbfbf"/>
                  </a:gs>
                </a:gsLst>
                <a:lin ang="20400000"/>
              </a:gradFill>
              <a:ln w="0">
                <a:noFill/>
              </a:ln>
              <a:effectLst>
                <a:outerShdw dist="38183" dir="81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96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420480" y="468000"/>
                <a:ext cx="1258920" cy="7282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97" name=""/>
            <p:cNvGrpSpPr/>
            <p:nvPr/>
          </p:nvGrpSpPr>
          <p:grpSpPr>
            <a:xfrm>
              <a:off x="438120" y="453960"/>
              <a:ext cx="1238400" cy="731520"/>
              <a:chOff x="438120" y="453960"/>
              <a:chExt cx="1238400" cy="731520"/>
            </a:xfrm>
          </p:grpSpPr>
          <p:sp>
            <p:nvSpPr>
              <p:cNvPr id="698" name=""/>
              <p:cNvSpPr/>
              <p:nvPr/>
            </p:nvSpPr>
            <p:spPr>
              <a:xfrm>
                <a:off x="438120" y="453960"/>
                <a:ext cx="1238400" cy="250200"/>
              </a:xfrm>
              <a:prstGeom prst="rect">
                <a:avLst/>
              </a:prstGeom>
              <a:solidFill>
                <a:srgbClr val="66cc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438120" y="694440"/>
                <a:ext cx="1238400" cy="250200"/>
              </a:xfrm>
              <a:prstGeom prst="rect">
                <a:avLst/>
              </a:prstGeom>
              <a:solidFill>
                <a:srgbClr val="ffff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438120" y="935640"/>
                <a:ext cx="1238400" cy="249840"/>
              </a:xfrm>
              <a:prstGeom prst="rect">
                <a:avLst/>
              </a:prstGeom>
              <a:solidFill>
                <a:srgbClr val="66cc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01" name=""/>
          <p:cNvGrpSpPr/>
          <p:nvPr/>
        </p:nvGrpSpPr>
        <p:grpSpPr>
          <a:xfrm>
            <a:off x="357120" y="1514520"/>
            <a:ext cx="8283600" cy="465120"/>
            <a:chOff x="357120" y="1514520"/>
            <a:chExt cx="8283600" cy="465120"/>
          </a:xfrm>
        </p:grpSpPr>
        <p:sp>
          <p:nvSpPr>
            <p:cNvPr id="702" name=""/>
            <p:cNvSpPr/>
            <p:nvPr/>
          </p:nvSpPr>
          <p:spPr>
            <a:xfrm>
              <a:off x="357120" y="1530000"/>
              <a:ext cx="8283600" cy="42552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03" name="" descr=""/>
            <p:cNvPicPr/>
            <p:nvPr/>
          </p:nvPicPr>
          <p:blipFill>
            <a:blip r:embed="rId5"/>
            <a:stretch/>
          </p:blipFill>
          <p:spPr>
            <a:xfrm>
              <a:off x="6326280" y="1604520"/>
              <a:ext cx="2142360" cy="28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4" name=""/>
            <p:cNvSpPr/>
            <p:nvPr/>
          </p:nvSpPr>
          <p:spPr>
            <a:xfrm>
              <a:off x="6145200" y="1514520"/>
              <a:ext cx="1440" cy="4651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5" name="PlaceHolder 1"/>
          <p:cNvSpPr>
            <a:spLocks noGrp="1"/>
          </p:cNvSpPr>
          <p:nvPr>
            <p:ph type="sldNum" idx="14"/>
          </p:nvPr>
        </p:nvSpPr>
        <p:spPr>
          <a:xfrm>
            <a:off x="368280" y="605772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1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2CB0278F-B029-40EE-9ABA-E400E2B0FDCC}" type="slidenum"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6"/>
    <p:sldLayoutId id="2147483819" r:id="rId7"/>
    <p:sldLayoutId id="2147483820" r:id="rId8"/>
    <p:sldLayoutId id="2147483821" r:id="rId9"/>
    <p:sldLayoutId id="2147483822" r:id="rId10"/>
    <p:sldLayoutId id="2147483823" r:id="rId11"/>
    <p:sldLayoutId id="2147483824" r:id="rId12"/>
    <p:sldLayoutId id="2147483825" r:id="rId13"/>
    <p:sldLayoutId id="2147483826" r:id="rId14"/>
    <p:sldLayoutId id="2147483827" r:id="rId15"/>
    <p:sldLayoutId id="2147483828" r:id="rId16"/>
    <p:sldLayoutId id="2147483829" r:id="rId17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3" name=""/>
          <p:cNvSpPr/>
          <p:nvPr/>
        </p:nvSpPr>
        <p:spPr>
          <a:xfrm>
            <a:off x="282600" y="1428840"/>
            <a:ext cx="8494560" cy="50004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0">
            <a:noFill/>
          </a:ln>
          <a:effectLst>
            <a:outerShdw dist="109865" dir="634411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293760" y="345960"/>
            <a:ext cx="8496360" cy="9874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7d8496"/>
              </a:gs>
              <a:gs pos="100000">
                <a:srgbClr val="e6e6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5" name="" descr=""/>
          <p:cNvPicPr/>
          <p:nvPr/>
        </p:nvPicPr>
        <p:blipFill>
          <a:blip r:embed="rId3"/>
          <a:stretch/>
        </p:blipFill>
        <p:spPr>
          <a:xfrm>
            <a:off x="7324560" y="5962680"/>
            <a:ext cx="1256040" cy="3697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746" name=""/>
          <p:cNvGrpSpPr/>
          <p:nvPr/>
        </p:nvGrpSpPr>
        <p:grpSpPr>
          <a:xfrm>
            <a:off x="398520" y="442800"/>
            <a:ext cx="1312920" cy="779400"/>
            <a:chOff x="398520" y="442800"/>
            <a:chExt cx="1312920" cy="779400"/>
          </a:xfrm>
        </p:grpSpPr>
        <p:grpSp>
          <p:nvGrpSpPr>
            <p:cNvPr id="747" name=""/>
            <p:cNvGrpSpPr/>
            <p:nvPr/>
          </p:nvGrpSpPr>
          <p:grpSpPr>
            <a:xfrm>
              <a:off x="398520" y="442800"/>
              <a:ext cx="1312920" cy="779400"/>
              <a:chOff x="398520" y="442800"/>
              <a:chExt cx="1312920" cy="779400"/>
            </a:xfrm>
          </p:grpSpPr>
          <p:sp>
            <p:nvSpPr>
              <p:cNvPr id="748" name=""/>
              <p:cNvSpPr/>
              <p:nvPr/>
            </p:nvSpPr>
            <p:spPr>
              <a:xfrm>
                <a:off x="398520" y="442800"/>
                <a:ext cx="1312920" cy="779400"/>
              </a:xfrm>
              <a:prstGeom prst="roundRect">
                <a:avLst>
                  <a:gd name="adj" fmla="val 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bfbfbf"/>
                  </a:gs>
                </a:gsLst>
                <a:lin ang="20400000"/>
              </a:gradFill>
              <a:ln w="0">
                <a:noFill/>
              </a:ln>
              <a:effectLst>
                <a:outerShdw dist="38183" dir="81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74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420480" y="468000"/>
                <a:ext cx="1258920" cy="7282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750" name=""/>
            <p:cNvGrpSpPr/>
            <p:nvPr/>
          </p:nvGrpSpPr>
          <p:grpSpPr>
            <a:xfrm>
              <a:off x="438120" y="453960"/>
              <a:ext cx="1238400" cy="731520"/>
              <a:chOff x="438120" y="453960"/>
              <a:chExt cx="1238400" cy="731520"/>
            </a:xfrm>
          </p:grpSpPr>
          <p:sp>
            <p:nvSpPr>
              <p:cNvPr id="751" name=""/>
              <p:cNvSpPr/>
              <p:nvPr/>
            </p:nvSpPr>
            <p:spPr>
              <a:xfrm>
                <a:off x="438120" y="453960"/>
                <a:ext cx="1238400" cy="250200"/>
              </a:xfrm>
              <a:prstGeom prst="rect">
                <a:avLst/>
              </a:prstGeom>
              <a:solidFill>
                <a:srgbClr val="66cc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438120" y="694440"/>
                <a:ext cx="1238400" cy="250200"/>
              </a:xfrm>
              <a:prstGeom prst="rect">
                <a:avLst/>
              </a:prstGeom>
              <a:solidFill>
                <a:srgbClr val="ffff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438120" y="935640"/>
                <a:ext cx="1238400" cy="249840"/>
              </a:xfrm>
              <a:prstGeom prst="rect">
                <a:avLst/>
              </a:prstGeom>
              <a:solidFill>
                <a:srgbClr val="66cc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54" name=""/>
          <p:cNvGrpSpPr/>
          <p:nvPr/>
        </p:nvGrpSpPr>
        <p:grpSpPr>
          <a:xfrm>
            <a:off x="357120" y="1514520"/>
            <a:ext cx="8283600" cy="465120"/>
            <a:chOff x="357120" y="1514520"/>
            <a:chExt cx="8283600" cy="465120"/>
          </a:xfrm>
        </p:grpSpPr>
        <p:sp>
          <p:nvSpPr>
            <p:cNvPr id="755" name=""/>
            <p:cNvSpPr/>
            <p:nvPr/>
          </p:nvSpPr>
          <p:spPr>
            <a:xfrm>
              <a:off x="357120" y="1530000"/>
              <a:ext cx="8283600" cy="42552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56" name="" descr=""/>
            <p:cNvPicPr/>
            <p:nvPr/>
          </p:nvPicPr>
          <p:blipFill>
            <a:blip r:embed="rId5"/>
            <a:stretch/>
          </p:blipFill>
          <p:spPr>
            <a:xfrm>
              <a:off x="6326280" y="1604520"/>
              <a:ext cx="2142360" cy="28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7" name=""/>
            <p:cNvSpPr/>
            <p:nvPr/>
          </p:nvSpPr>
          <p:spPr>
            <a:xfrm>
              <a:off x="6145200" y="1514520"/>
              <a:ext cx="1440" cy="4651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8" name="PlaceHolder 1"/>
          <p:cNvSpPr>
            <a:spLocks noGrp="1"/>
          </p:cNvSpPr>
          <p:nvPr>
            <p:ph type="sldNum" idx="15"/>
          </p:nvPr>
        </p:nvSpPr>
        <p:spPr>
          <a:xfrm>
            <a:off x="368280" y="605772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1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735655B8-92B7-4B7E-9B98-CD6C41FF952C}" type="slidenum"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6"/>
    <p:sldLayoutId id="2147483832" r:id="rId7"/>
    <p:sldLayoutId id="2147483833" r:id="rId8"/>
    <p:sldLayoutId id="2147483834" r:id="rId9"/>
    <p:sldLayoutId id="2147483835" r:id="rId10"/>
    <p:sldLayoutId id="2147483836" r:id="rId11"/>
    <p:sldLayoutId id="2147483837" r:id="rId12"/>
    <p:sldLayoutId id="2147483838" r:id="rId13"/>
    <p:sldLayoutId id="2147483839" r:id="rId14"/>
    <p:sldLayoutId id="2147483840" r:id="rId15"/>
    <p:sldLayoutId id="2147483841" r:id="rId16"/>
    <p:sldLayoutId id="2147483842" r:id="rId17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6" name=""/>
          <p:cNvSpPr/>
          <p:nvPr/>
        </p:nvSpPr>
        <p:spPr>
          <a:xfrm>
            <a:off x="282600" y="1428840"/>
            <a:ext cx="8494560" cy="50004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0">
            <a:noFill/>
          </a:ln>
          <a:effectLst>
            <a:outerShdw dist="109865" dir="634411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293760" y="345960"/>
            <a:ext cx="8496360" cy="9874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7d8496"/>
              </a:gs>
              <a:gs pos="100000">
                <a:srgbClr val="e6e6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8" name="" descr=""/>
          <p:cNvPicPr/>
          <p:nvPr/>
        </p:nvPicPr>
        <p:blipFill>
          <a:blip r:embed="rId3"/>
          <a:stretch/>
        </p:blipFill>
        <p:spPr>
          <a:xfrm>
            <a:off x="7324560" y="5962680"/>
            <a:ext cx="1256040" cy="3697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799" name=""/>
          <p:cNvGrpSpPr/>
          <p:nvPr/>
        </p:nvGrpSpPr>
        <p:grpSpPr>
          <a:xfrm>
            <a:off x="398520" y="442800"/>
            <a:ext cx="1312920" cy="779400"/>
            <a:chOff x="398520" y="442800"/>
            <a:chExt cx="1312920" cy="779400"/>
          </a:xfrm>
        </p:grpSpPr>
        <p:grpSp>
          <p:nvGrpSpPr>
            <p:cNvPr id="800" name=""/>
            <p:cNvGrpSpPr/>
            <p:nvPr/>
          </p:nvGrpSpPr>
          <p:grpSpPr>
            <a:xfrm>
              <a:off x="398520" y="442800"/>
              <a:ext cx="1312920" cy="779400"/>
              <a:chOff x="398520" y="442800"/>
              <a:chExt cx="1312920" cy="779400"/>
            </a:xfrm>
          </p:grpSpPr>
          <p:sp>
            <p:nvSpPr>
              <p:cNvPr id="801" name=""/>
              <p:cNvSpPr/>
              <p:nvPr/>
            </p:nvSpPr>
            <p:spPr>
              <a:xfrm>
                <a:off x="398520" y="442800"/>
                <a:ext cx="1312920" cy="779400"/>
              </a:xfrm>
              <a:prstGeom prst="roundRect">
                <a:avLst>
                  <a:gd name="adj" fmla="val 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bfbfbf"/>
                  </a:gs>
                </a:gsLst>
                <a:lin ang="20400000"/>
              </a:gradFill>
              <a:ln w="0">
                <a:noFill/>
              </a:ln>
              <a:effectLst>
                <a:outerShdw dist="38183" dir="81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80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420480" y="468000"/>
                <a:ext cx="1258920" cy="7282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03" name=""/>
            <p:cNvGrpSpPr/>
            <p:nvPr/>
          </p:nvGrpSpPr>
          <p:grpSpPr>
            <a:xfrm>
              <a:off x="438120" y="453960"/>
              <a:ext cx="1238400" cy="731520"/>
              <a:chOff x="438120" y="453960"/>
              <a:chExt cx="1238400" cy="731520"/>
            </a:xfrm>
          </p:grpSpPr>
          <p:sp>
            <p:nvSpPr>
              <p:cNvPr id="804" name=""/>
              <p:cNvSpPr/>
              <p:nvPr/>
            </p:nvSpPr>
            <p:spPr>
              <a:xfrm>
                <a:off x="438120" y="453960"/>
                <a:ext cx="1238400" cy="250200"/>
              </a:xfrm>
              <a:prstGeom prst="rect">
                <a:avLst/>
              </a:prstGeom>
              <a:solidFill>
                <a:srgbClr val="66cc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438120" y="694440"/>
                <a:ext cx="1238400" cy="250200"/>
              </a:xfrm>
              <a:prstGeom prst="rect">
                <a:avLst/>
              </a:prstGeom>
              <a:solidFill>
                <a:srgbClr val="ffff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438120" y="935640"/>
                <a:ext cx="1238400" cy="249840"/>
              </a:xfrm>
              <a:prstGeom prst="rect">
                <a:avLst/>
              </a:prstGeom>
              <a:solidFill>
                <a:srgbClr val="66cc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07" name=""/>
          <p:cNvGrpSpPr/>
          <p:nvPr/>
        </p:nvGrpSpPr>
        <p:grpSpPr>
          <a:xfrm>
            <a:off x="357120" y="1514520"/>
            <a:ext cx="8283600" cy="465120"/>
            <a:chOff x="357120" y="1514520"/>
            <a:chExt cx="8283600" cy="465120"/>
          </a:xfrm>
        </p:grpSpPr>
        <p:sp>
          <p:nvSpPr>
            <p:cNvPr id="808" name=""/>
            <p:cNvSpPr/>
            <p:nvPr/>
          </p:nvSpPr>
          <p:spPr>
            <a:xfrm>
              <a:off x="357120" y="1530000"/>
              <a:ext cx="8283600" cy="42552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09" name="" descr=""/>
            <p:cNvPicPr/>
            <p:nvPr/>
          </p:nvPicPr>
          <p:blipFill>
            <a:blip r:embed="rId5"/>
            <a:stretch/>
          </p:blipFill>
          <p:spPr>
            <a:xfrm>
              <a:off x="6326280" y="1604520"/>
              <a:ext cx="2142360" cy="28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0" name=""/>
            <p:cNvSpPr/>
            <p:nvPr/>
          </p:nvSpPr>
          <p:spPr>
            <a:xfrm>
              <a:off x="6145200" y="1514520"/>
              <a:ext cx="1440" cy="4651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1" name="PlaceHolder 1"/>
          <p:cNvSpPr>
            <a:spLocks noGrp="1"/>
          </p:cNvSpPr>
          <p:nvPr>
            <p:ph type="sldNum" idx="16"/>
          </p:nvPr>
        </p:nvSpPr>
        <p:spPr>
          <a:xfrm>
            <a:off x="368280" y="605772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1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0556A835-435C-4D90-831B-54EA5400BEA0}" type="slidenum"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6"/>
    <p:sldLayoutId id="2147483845" r:id="rId7"/>
    <p:sldLayoutId id="2147483846" r:id="rId8"/>
    <p:sldLayoutId id="2147483847" r:id="rId9"/>
    <p:sldLayoutId id="2147483848" r:id="rId10"/>
    <p:sldLayoutId id="2147483849" r:id="rId11"/>
    <p:sldLayoutId id="2147483850" r:id="rId12"/>
    <p:sldLayoutId id="2147483851" r:id="rId13"/>
    <p:sldLayoutId id="2147483852" r:id="rId14"/>
    <p:sldLayoutId id="2147483853" r:id="rId15"/>
    <p:sldLayoutId id="2147483854" r:id="rId16"/>
    <p:sldLayoutId id="2147483855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82600" y="1428840"/>
            <a:ext cx="8494560" cy="50004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0">
            <a:noFill/>
          </a:ln>
          <a:effectLst>
            <a:outerShdw dist="109865" dir="634411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93760" y="345960"/>
            <a:ext cx="8496360" cy="9874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7d8496"/>
              </a:gs>
              <a:gs pos="100000">
                <a:srgbClr val="e6e6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7324560" y="5962680"/>
            <a:ext cx="1256040" cy="3697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57" name=""/>
          <p:cNvGrpSpPr/>
          <p:nvPr/>
        </p:nvGrpSpPr>
        <p:grpSpPr>
          <a:xfrm>
            <a:off x="398520" y="442800"/>
            <a:ext cx="1312920" cy="779400"/>
            <a:chOff x="398520" y="442800"/>
            <a:chExt cx="1312920" cy="779400"/>
          </a:xfrm>
        </p:grpSpPr>
        <p:grpSp>
          <p:nvGrpSpPr>
            <p:cNvPr id="58" name=""/>
            <p:cNvGrpSpPr/>
            <p:nvPr/>
          </p:nvGrpSpPr>
          <p:grpSpPr>
            <a:xfrm>
              <a:off x="398520" y="442800"/>
              <a:ext cx="1312920" cy="779400"/>
              <a:chOff x="398520" y="442800"/>
              <a:chExt cx="1312920" cy="779400"/>
            </a:xfrm>
          </p:grpSpPr>
          <p:sp>
            <p:nvSpPr>
              <p:cNvPr id="59" name=""/>
              <p:cNvSpPr/>
              <p:nvPr/>
            </p:nvSpPr>
            <p:spPr>
              <a:xfrm>
                <a:off x="398520" y="442800"/>
                <a:ext cx="1312920" cy="779400"/>
              </a:xfrm>
              <a:prstGeom prst="roundRect">
                <a:avLst>
                  <a:gd name="adj" fmla="val 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bfbfbf"/>
                  </a:gs>
                </a:gsLst>
                <a:lin ang="20400000"/>
              </a:gradFill>
              <a:ln w="0">
                <a:noFill/>
              </a:ln>
              <a:effectLst>
                <a:outerShdw dist="38183" dir="81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0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420480" y="468000"/>
                <a:ext cx="1258920" cy="7282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1" name=""/>
            <p:cNvGrpSpPr/>
            <p:nvPr/>
          </p:nvGrpSpPr>
          <p:grpSpPr>
            <a:xfrm>
              <a:off x="438120" y="453960"/>
              <a:ext cx="1238400" cy="731520"/>
              <a:chOff x="438120" y="453960"/>
              <a:chExt cx="1238400" cy="731520"/>
            </a:xfrm>
          </p:grpSpPr>
          <p:sp>
            <p:nvSpPr>
              <p:cNvPr id="62" name=""/>
              <p:cNvSpPr/>
              <p:nvPr/>
            </p:nvSpPr>
            <p:spPr>
              <a:xfrm>
                <a:off x="438120" y="453960"/>
                <a:ext cx="1238400" cy="250200"/>
              </a:xfrm>
              <a:prstGeom prst="rect">
                <a:avLst/>
              </a:prstGeom>
              <a:solidFill>
                <a:srgbClr val="66cc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438120" y="694440"/>
                <a:ext cx="1238400" cy="250200"/>
              </a:xfrm>
              <a:prstGeom prst="rect">
                <a:avLst/>
              </a:prstGeom>
              <a:solidFill>
                <a:srgbClr val="ffff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438120" y="935640"/>
                <a:ext cx="1238400" cy="249840"/>
              </a:xfrm>
              <a:prstGeom prst="rect">
                <a:avLst/>
              </a:prstGeom>
              <a:solidFill>
                <a:srgbClr val="66cc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5" name=""/>
          <p:cNvGrpSpPr/>
          <p:nvPr/>
        </p:nvGrpSpPr>
        <p:grpSpPr>
          <a:xfrm>
            <a:off x="357120" y="1514520"/>
            <a:ext cx="8283600" cy="465120"/>
            <a:chOff x="357120" y="1514520"/>
            <a:chExt cx="8283600" cy="465120"/>
          </a:xfrm>
        </p:grpSpPr>
        <p:sp>
          <p:nvSpPr>
            <p:cNvPr id="66" name=""/>
            <p:cNvSpPr/>
            <p:nvPr/>
          </p:nvSpPr>
          <p:spPr>
            <a:xfrm>
              <a:off x="357120" y="1530000"/>
              <a:ext cx="8283600" cy="42552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7" name="" descr=""/>
            <p:cNvPicPr/>
            <p:nvPr/>
          </p:nvPicPr>
          <p:blipFill>
            <a:blip r:embed="rId5"/>
            <a:stretch/>
          </p:blipFill>
          <p:spPr>
            <a:xfrm>
              <a:off x="6326280" y="1604520"/>
              <a:ext cx="2142360" cy="28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6145200" y="1514520"/>
              <a:ext cx="1440" cy="4651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PlaceHolder 1"/>
          <p:cNvSpPr>
            <a:spLocks noGrp="1"/>
          </p:cNvSpPr>
          <p:nvPr>
            <p:ph type="sldNum" idx="2"/>
          </p:nvPr>
        </p:nvSpPr>
        <p:spPr>
          <a:xfrm>
            <a:off x="368280" y="605772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1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0D2DA54C-5C52-46DC-8B8F-AE0CEE4351AA}" type="slidenum"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282600" y="1428840"/>
            <a:ext cx="8494560" cy="50004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0">
            <a:noFill/>
          </a:ln>
          <a:effectLst>
            <a:outerShdw dist="109865" dir="634411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93760" y="345960"/>
            <a:ext cx="8496360" cy="9874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7d8496"/>
              </a:gs>
              <a:gs pos="100000">
                <a:srgbClr val="e6e6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7324560" y="5962680"/>
            <a:ext cx="1256040" cy="3697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110" name=""/>
          <p:cNvGrpSpPr/>
          <p:nvPr/>
        </p:nvGrpSpPr>
        <p:grpSpPr>
          <a:xfrm>
            <a:off x="398520" y="442800"/>
            <a:ext cx="1312920" cy="779400"/>
            <a:chOff x="398520" y="442800"/>
            <a:chExt cx="1312920" cy="779400"/>
          </a:xfrm>
        </p:grpSpPr>
        <p:grpSp>
          <p:nvGrpSpPr>
            <p:cNvPr id="111" name=""/>
            <p:cNvGrpSpPr/>
            <p:nvPr/>
          </p:nvGrpSpPr>
          <p:grpSpPr>
            <a:xfrm>
              <a:off x="398520" y="442800"/>
              <a:ext cx="1312920" cy="779400"/>
              <a:chOff x="398520" y="442800"/>
              <a:chExt cx="1312920" cy="779400"/>
            </a:xfrm>
          </p:grpSpPr>
          <p:sp>
            <p:nvSpPr>
              <p:cNvPr id="112" name=""/>
              <p:cNvSpPr/>
              <p:nvPr/>
            </p:nvSpPr>
            <p:spPr>
              <a:xfrm>
                <a:off x="398520" y="442800"/>
                <a:ext cx="1312920" cy="779400"/>
              </a:xfrm>
              <a:prstGeom prst="roundRect">
                <a:avLst>
                  <a:gd name="adj" fmla="val 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bfbfbf"/>
                  </a:gs>
                </a:gsLst>
                <a:lin ang="20400000"/>
              </a:gradFill>
              <a:ln w="0">
                <a:noFill/>
              </a:ln>
              <a:effectLst>
                <a:outerShdw dist="38183" dir="81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420480" y="468000"/>
                <a:ext cx="1258920" cy="7282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4" name=""/>
            <p:cNvGrpSpPr/>
            <p:nvPr/>
          </p:nvGrpSpPr>
          <p:grpSpPr>
            <a:xfrm>
              <a:off x="438120" y="453960"/>
              <a:ext cx="1238400" cy="731520"/>
              <a:chOff x="438120" y="453960"/>
              <a:chExt cx="1238400" cy="731520"/>
            </a:xfrm>
          </p:grpSpPr>
          <p:sp>
            <p:nvSpPr>
              <p:cNvPr id="115" name=""/>
              <p:cNvSpPr/>
              <p:nvPr/>
            </p:nvSpPr>
            <p:spPr>
              <a:xfrm>
                <a:off x="438120" y="453960"/>
                <a:ext cx="1238400" cy="250200"/>
              </a:xfrm>
              <a:prstGeom prst="rect">
                <a:avLst/>
              </a:prstGeom>
              <a:solidFill>
                <a:srgbClr val="66cc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438120" y="694440"/>
                <a:ext cx="1238400" cy="250200"/>
              </a:xfrm>
              <a:prstGeom prst="rect">
                <a:avLst/>
              </a:prstGeom>
              <a:solidFill>
                <a:srgbClr val="ffff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438120" y="935640"/>
                <a:ext cx="1238400" cy="249840"/>
              </a:xfrm>
              <a:prstGeom prst="rect">
                <a:avLst/>
              </a:prstGeom>
              <a:solidFill>
                <a:srgbClr val="66cc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8" name=""/>
          <p:cNvGrpSpPr/>
          <p:nvPr/>
        </p:nvGrpSpPr>
        <p:grpSpPr>
          <a:xfrm>
            <a:off x="357120" y="1514520"/>
            <a:ext cx="8283600" cy="465120"/>
            <a:chOff x="357120" y="1514520"/>
            <a:chExt cx="8283600" cy="465120"/>
          </a:xfrm>
        </p:grpSpPr>
        <p:sp>
          <p:nvSpPr>
            <p:cNvPr id="119" name=""/>
            <p:cNvSpPr/>
            <p:nvPr/>
          </p:nvSpPr>
          <p:spPr>
            <a:xfrm>
              <a:off x="357120" y="1530000"/>
              <a:ext cx="8283600" cy="42552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0" name="" descr=""/>
            <p:cNvPicPr/>
            <p:nvPr/>
          </p:nvPicPr>
          <p:blipFill>
            <a:blip r:embed="rId5"/>
            <a:stretch/>
          </p:blipFill>
          <p:spPr>
            <a:xfrm>
              <a:off x="6326280" y="1604520"/>
              <a:ext cx="2142360" cy="28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6145200" y="1514520"/>
              <a:ext cx="1440" cy="4651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sldNum" idx="3"/>
          </p:nvPr>
        </p:nvSpPr>
        <p:spPr>
          <a:xfrm>
            <a:off x="368280" y="605772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1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AE343E58-87DD-482D-9791-688FD7A56DAF}" type="slidenum"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282600" y="1428840"/>
            <a:ext cx="8494560" cy="50004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0">
            <a:noFill/>
          </a:ln>
          <a:effectLst>
            <a:outerShdw dist="109865" dir="634411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93760" y="345960"/>
            <a:ext cx="8496360" cy="9874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7d8496"/>
              </a:gs>
              <a:gs pos="100000">
                <a:srgbClr val="e6e6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3"/>
          <a:stretch/>
        </p:blipFill>
        <p:spPr>
          <a:xfrm>
            <a:off x="7324560" y="5962680"/>
            <a:ext cx="1256040" cy="3697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163" name=""/>
          <p:cNvGrpSpPr/>
          <p:nvPr/>
        </p:nvGrpSpPr>
        <p:grpSpPr>
          <a:xfrm>
            <a:off x="398520" y="442800"/>
            <a:ext cx="1312920" cy="779400"/>
            <a:chOff x="398520" y="442800"/>
            <a:chExt cx="1312920" cy="779400"/>
          </a:xfrm>
        </p:grpSpPr>
        <p:grpSp>
          <p:nvGrpSpPr>
            <p:cNvPr id="164" name=""/>
            <p:cNvGrpSpPr/>
            <p:nvPr/>
          </p:nvGrpSpPr>
          <p:grpSpPr>
            <a:xfrm>
              <a:off x="398520" y="442800"/>
              <a:ext cx="1312920" cy="779400"/>
              <a:chOff x="398520" y="442800"/>
              <a:chExt cx="1312920" cy="779400"/>
            </a:xfrm>
          </p:grpSpPr>
          <p:sp>
            <p:nvSpPr>
              <p:cNvPr id="165" name=""/>
              <p:cNvSpPr/>
              <p:nvPr/>
            </p:nvSpPr>
            <p:spPr>
              <a:xfrm>
                <a:off x="398520" y="442800"/>
                <a:ext cx="1312920" cy="779400"/>
              </a:xfrm>
              <a:prstGeom prst="roundRect">
                <a:avLst>
                  <a:gd name="adj" fmla="val 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bfbfbf"/>
                  </a:gs>
                </a:gsLst>
                <a:lin ang="20400000"/>
              </a:gradFill>
              <a:ln w="0">
                <a:noFill/>
              </a:ln>
              <a:effectLst>
                <a:outerShdw dist="38183" dir="81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66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420480" y="468000"/>
                <a:ext cx="1258920" cy="7282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67" name=""/>
            <p:cNvGrpSpPr/>
            <p:nvPr/>
          </p:nvGrpSpPr>
          <p:grpSpPr>
            <a:xfrm>
              <a:off x="438120" y="453960"/>
              <a:ext cx="1238400" cy="731520"/>
              <a:chOff x="438120" y="453960"/>
              <a:chExt cx="1238400" cy="731520"/>
            </a:xfrm>
          </p:grpSpPr>
          <p:sp>
            <p:nvSpPr>
              <p:cNvPr id="168" name=""/>
              <p:cNvSpPr/>
              <p:nvPr/>
            </p:nvSpPr>
            <p:spPr>
              <a:xfrm>
                <a:off x="438120" y="453960"/>
                <a:ext cx="1238400" cy="250200"/>
              </a:xfrm>
              <a:prstGeom prst="rect">
                <a:avLst/>
              </a:prstGeom>
              <a:solidFill>
                <a:srgbClr val="66cc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438120" y="694440"/>
                <a:ext cx="1238400" cy="250200"/>
              </a:xfrm>
              <a:prstGeom prst="rect">
                <a:avLst/>
              </a:prstGeom>
              <a:solidFill>
                <a:srgbClr val="ffff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438120" y="935640"/>
                <a:ext cx="1238400" cy="249840"/>
              </a:xfrm>
              <a:prstGeom prst="rect">
                <a:avLst/>
              </a:prstGeom>
              <a:solidFill>
                <a:srgbClr val="66cc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71" name=""/>
          <p:cNvGrpSpPr/>
          <p:nvPr/>
        </p:nvGrpSpPr>
        <p:grpSpPr>
          <a:xfrm>
            <a:off x="357120" y="1514520"/>
            <a:ext cx="8283600" cy="465120"/>
            <a:chOff x="357120" y="1514520"/>
            <a:chExt cx="8283600" cy="465120"/>
          </a:xfrm>
        </p:grpSpPr>
        <p:sp>
          <p:nvSpPr>
            <p:cNvPr id="172" name=""/>
            <p:cNvSpPr/>
            <p:nvPr/>
          </p:nvSpPr>
          <p:spPr>
            <a:xfrm>
              <a:off x="357120" y="1530000"/>
              <a:ext cx="8283600" cy="42552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3" name="" descr=""/>
            <p:cNvPicPr/>
            <p:nvPr/>
          </p:nvPicPr>
          <p:blipFill>
            <a:blip r:embed="rId5"/>
            <a:stretch/>
          </p:blipFill>
          <p:spPr>
            <a:xfrm>
              <a:off x="6326280" y="1604520"/>
              <a:ext cx="2142360" cy="28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"/>
            <p:cNvSpPr/>
            <p:nvPr/>
          </p:nvSpPr>
          <p:spPr>
            <a:xfrm>
              <a:off x="6145200" y="1514520"/>
              <a:ext cx="1440" cy="4651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PlaceHolder 1"/>
          <p:cNvSpPr>
            <a:spLocks noGrp="1"/>
          </p:cNvSpPr>
          <p:nvPr>
            <p:ph type="sldNum" idx="4"/>
          </p:nvPr>
        </p:nvSpPr>
        <p:spPr>
          <a:xfrm>
            <a:off x="368280" y="605772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1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8B6F9263-B6DD-4060-AEA7-6EB8D0CFEF55}" type="slidenum"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282600" y="1428840"/>
            <a:ext cx="8494560" cy="50004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0">
            <a:noFill/>
          </a:ln>
          <a:effectLst>
            <a:outerShdw dist="109865" dir="634411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93760" y="345960"/>
            <a:ext cx="8496360" cy="9874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7d8496"/>
              </a:gs>
              <a:gs pos="100000">
                <a:srgbClr val="e6e6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7324560" y="5962680"/>
            <a:ext cx="1256040" cy="3697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216" name=""/>
          <p:cNvGrpSpPr/>
          <p:nvPr/>
        </p:nvGrpSpPr>
        <p:grpSpPr>
          <a:xfrm>
            <a:off x="398520" y="442800"/>
            <a:ext cx="1312920" cy="779400"/>
            <a:chOff x="398520" y="442800"/>
            <a:chExt cx="1312920" cy="779400"/>
          </a:xfrm>
        </p:grpSpPr>
        <p:grpSp>
          <p:nvGrpSpPr>
            <p:cNvPr id="217" name=""/>
            <p:cNvGrpSpPr/>
            <p:nvPr/>
          </p:nvGrpSpPr>
          <p:grpSpPr>
            <a:xfrm>
              <a:off x="398520" y="442800"/>
              <a:ext cx="1312920" cy="779400"/>
              <a:chOff x="398520" y="442800"/>
              <a:chExt cx="1312920" cy="779400"/>
            </a:xfrm>
          </p:grpSpPr>
          <p:sp>
            <p:nvSpPr>
              <p:cNvPr id="218" name=""/>
              <p:cNvSpPr/>
              <p:nvPr/>
            </p:nvSpPr>
            <p:spPr>
              <a:xfrm>
                <a:off x="398520" y="442800"/>
                <a:ext cx="1312920" cy="779400"/>
              </a:xfrm>
              <a:prstGeom prst="roundRect">
                <a:avLst>
                  <a:gd name="adj" fmla="val 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bfbfbf"/>
                  </a:gs>
                </a:gsLst>
                <a:lin ang="20400000"/>
              </a:gradFill>
              <a:ln w="0">
                <a:noFill/>
              </a:ln>
              <a:effectLst>
                <a:outerShdw dist="38183" dir="81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1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420480" y="468000"/>
                <a:ext cx="1258920" cy="7282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20" name=""/>
            <p:cNvGrpSpPr/>
            <p:nvPr/>
          </p:nvGrpSpPr>
          <p:grpSpPr>
            <a:xfrm>
              <a:off x="438120" y="453960"/>
              <a:ext cx="1238400" cy="731520"/>
              <a:chOff x="438120" y="453960"/>
              <a:chExt cx="1238400" cy="731520"/>
            </a:xfrm>
          </p:grpSpPr>
          <p:sp>
            <p:nvSpPr>
              <p:cNvPr id="221" name=""/>
              <p:cNvSpPr/>
              <p:nvPr/>
            </p:nvSpPr>
            <p:spPr>
              <a:xfrm>
                <a:off x="438120" y="453960"/>
                <a:ext cx="1238400" cy="250200"/>
              </a:xfrm>
              <a:prstGeom prst="rect">
                <a:avLst/>
              </a:prstGeom>
              <a:solidFill>
                <a:srgbClr val="66cc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438120" y="694440"/>
                <a:ext cx="1238400" cy="250200"/>
              </a:xfrm>
              <a:prstGeom prst="rect">
                <a:avLst/>
              </a:prstGeom>
              <a:solidFill>
                <a:srgbClr val="ffff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438120" y="935640"/>
                <a:ext cx="1238400" cy="249840"/>
              </a:xfrm>
              <a:prstGeom prst="rect">
                <a:avLst/>
              </a:prstGeom>
              <a:solidFill>
                <a:srgbClr val="66cc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24" name=""/>
          <p:cNvGrpSpPr/>
          <p:nvPr/>
        </p:nvGrpSpPr>
        <p:grpSpPr>
          <a:xfrm>
            <a:off x="357120" y="1514520"/>
            <a:ext cx="8283600" cy="465120"/>
            <a:chOff x="357120" y="1514520"/>
            <a:chExt cx="8283600" cy="465120"/>
          </a:xfrm>
        </p:grpSpPr>
        <p:sp>
          <p:nvSpPr>
            <p:cNvPr id="225" name=""/>
            <p:cNvSpPr/>
            <p:nvPr/>
          </p:nvSpPr>
          <p:spPr>
            <a:xfrm>
              <a:off x="357120" y="1530000"/>
              <a:ext cx="8283600" cy="42552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6" name="" descr=""/>
            <p:cNvPicPr/>
            <p:nvPr/>
          </p:nvPicPr>
          <p:blipFill>
            <a:blip r:embed="rId5"/>
            <a:stretch/>
          </p:blipFill>
          <p:spPr>
            <a:xfrm>
              <a:off x="6326280" y="1604520"/>
              <a:ext cx="2142360" cy="28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"/>
            <p:cNvSpPr/>
            <p:nvPr/>
          </p:nvSpPr>
          <p:spPr>
            <a:xfrm>
              <a:off x="6145200" y="1514520"/>
              <a:ext cx="1440" cy="4651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PlaceHolder 1"/>
          <p:cNvSpPr>
            <a:spLocks noGrp="1"/>
          </p:cNvSpPr>
          <p:nvPr>
            <p:ph type="sldNum" idx="5"/>
          </p:nvPr>
        </p:nvSpPr>
        <p:spPr>
          <a:xfrm>
            <a:off x="368280" y="605772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1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B1FF2868-D6B3-453B-97AF-F4215BC7B169}" type="slidenum"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282600" y="1428840"/>
            <a:ext cx="8494560" cy="50004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0">
            <a:noFill/>
          </a:ln>
          <a:effectLst>
            <a:outerShdw dist="109865" dir="634411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93760" y="345960"/>
            <a:ext cx="8496360" cy="9874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7d8496"/>
              </a:gs>
              <a:gs pos="100000">
                <a:srgbClr val="e6e6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3"/>
          <a:stretch/>
        </p:blipFill>
        <p:spPr>
          <a:xfrm>
            <a:off x="7324560" y="5962680"/>
            <a:ext cx="1256040" cy="3697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269" name=""/>
          <p:cNvGrpSpPr/>
          <p:nvPr/>
        </p:nvGrpSpPr>
        <p:grpSpPr>
          <a:xfrm>
            <a:off x="398520" y="442800"/>
            <a:ext cx="1312920" cy="779400"/>
            <a:chOff x="398520" y="442800"/>
            <a:chExt cx="1312920" cy="779400"/>
          </a:xfrm>
        </p:grpSpPr>
        <p:grpSp>
          <p:nvGrpSpPr>
            <p:cNvPr id="270" name=""/>
            <p:cNvGrpSpPr/>
            <p:nvPr/>
          </p:nvGrpSpPr>
          <p:grpSpPr>
            <a:xfrm>
              <a:off x="398520" y="442800"/>
              <a:ext cx="1312920" cy="779400"/>
              <a:chOff x="398520" y="442800"/>
              <a:chExt cx="1312920" cy="779400"/>
            </a:xfrm>
          </p:grpSpPr>
          <p:sp>
            <p:nvSpPr>
              <p:cNvPr id="271" name=""/>
              <p:cNvSpPr/>
              <p:nvPr/>
            </p:nvSpPr>
            <p:spPr>
              <a:xfrm>
                <a:off x="398520" y="442800"/>
                <a:ext cx="1312920" cy="779400"/>
              </a:xfrm>
              <a:prstGeom prst="roundRect">
                <a:avLst>
                  <a:gd name="adj" fmla="val 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bfbfbf"/>
                  </a:gs>
                </a:gsLst>
                <a:lin ang="20400000"/>
              </a:gradFill>
              <a:ln w="0">
                <a:noFill/>
              </a:ln>
              <a:effectLst>
                <a:outerShdw dist="38183" dir="81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7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420480" y="468000"/>
                <a:ext cx="1258920" cy="7282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73" name=""/>
            <p:cNvGrpSpPr/>
            <p:nvPr/>
          </p:nvGrpSpPr>
          <p:grpSpPr>
            <a:xfrm>
              <a:off x="438120" y="453960"/>
              <a:ext cx="1238400" cy="731520"/>
              <a:chOff x="438120" y="453960"/>
              <a:chExt cx="1238400" cy="731520"/>
            </a:xfrm>
          </p:grpSpPr>
          <p:sp>
            <p:nvSpPr>
              <p:cNvPr id="274" name=""/>
              <p:cNvSpPr/>
              <p:nvPr/>
            </p:nvSpPr>
            <p:spPr>
              <a:xfrm>
                <a:off x="438120" y="453960"/>
                <a:ext cx="1238400" cy="250200"/>
              </a:xfrm>
              <a:prstGeom prst="rect">
                <a:avLst/>
              </a:prstGeom>
              <a:solidFill>
                <a:srgbClr val="66cc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438120" y="694440"/>
                <a:ext cx="1238400" cy="250200"/>
              </a:xfrm>
              <a:prstGeom prst="rect">
                <a:avLst/>
              </a:prstGeom>
              <a:solidFill>
                <a:srgbClr val="ffff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438120" y="935640"/>
                <a:ext cx="1238400" cy="249840"/>
              </a:xfrm>
              <a:prstGeom prst="rect">
                <a:avLst/>
              </a:prstGeom>
              <a:solidFill>
                <a:srgbClr val="66cc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77" name=""/>
          <p:cNvGrpSpPr/>
          <p:nvPr/>
        </p:nvGrpSpPr>
        <p:grpSpPr>
          <a:xfrm>
            <a:off x="357120" y="1514520"/>
            <a:ext cx="8283600" cy="465120"/>
            <a:chOff x="357120" y="1514520"/>
            <a:chExt cx="8283600" cy="465120"/>
          </a:xfrm>
        </p:grpSpPr>
        <p:sp>
          <p:nvSpPr>
            <p:cNvPr id="278" name=""/>
            <p:cNvSpPr/>
            <p:nvPr/>
          </p:nvSpPr>
          <p:spPr>
            <a:xfrm>
              <a:off x="357120" y="1530000"/>
              <a:ext cx="8283600" cy="42552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79" name="" descr=""/>
            <p:cNvPicPr/>
            <p:nvPr/>
          </p:nvPicPr>
          <p:blipFill>
            <a:blip r:embed="rId5"/>
            <a:stretch/>
          </p:blipFill>
          <p:spPr>
            <a:xfrm>
              <a:off x="6326280" y="1604520"/>
              <a:ext cx="2142360" cy="28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0" name=""/>
            <p:cNvSpPr/>
            <p:nvPr/>
          </p:nvSpPr>
          <p:spPr>
            <a:xfrm>
              <a:off x="6145200" y="1514520"/>
              <a:ext cx="1440" cy="4651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1" name="PlaceHolder 1"/>
          <p:cNvSpPr>
            <a:spLocks noGrp="1"/>
          </p:cNvSpPr>
          <p:nvPr>
            <p:ph type="sldNum" idx="6"/>
          </p:nvPr>
        </p:nvSpPr>
        <p:spPr>
          <a:xfrm>
            <a:off x="368280" y="605772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1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DCD0366C-74B0-4193-93D7-86E21F9B9BBB}" type="slidenum"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19" name=""/>
          <p:cNvSpPr/>
          <p:nvPr/>
        </p:nvSpPr>
        <p:spPr>
          <a:xfrm>
            <a:off x="282600" y="1428840"/>
            <a:ext cx="8494560" cy="50004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0">
            <a:noFill/>
          </a:ln>
          <a:effectLst>
            <a:outerShdw dist="109865" dir="634411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293760" y="345960"/>
            <a:ext cx="8496360" cy="9874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7d8496"/>
              </a:gs>
              <a:gs pos="100000">
                <a:srgbClr val="e6e6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7324560" y="5962680"/>
            <a:ext cx="1256040" cy="3697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322" name=""/>
          <p:cNvGrpSpPr/>
          <p:nvPr/>
        </p:nvGrpSpPr>
        <p:grpSpPr>
          <a:xfrm>
            <a:off x="398520" y="442800"/>
            <a:ext cx="1312920" cy="779400"/>
            <a:chOff x="398520" y="442800"/>
            <a:chExt cx="1312920" cy="779400"/>
          </a:xfrm>
        </p:grpSpPr>
        <p:grpSp>
          <p:nvGrpSpPr>
            <p:cNvPr id="323" name=""/>
            <p:cNvGrpSpPr/>
            <p:nvPr/>
          </p:nvGrpSpPr>
          <p:grpSpPr>
            <a:xfrm>
              <a:off x="398520" y="442800"/>
              <a:ext cx="1312920" cy="779400"/>
              <a:chOff x="398520" y="442800"/>
              <a:chExt cx="1312920" cy="779400"/>
            </a:xfrm>
          </p:grpSpPr>
          <p:sp>
            <p:nvSpPr>
              <p:cNvPr id="324" name=""/>
              <p:cNvSpPr/>
              <p:nvPr/>
            </p:nvSpPr>
            <p:spPr>
              <a:xfrm>
                <a:off x="398520" y="442800"/>
                <a:ext cx="1312920" cy="779400"/>
              </a:xfrm>
              <a:prstGeom prst="roundRect">
                <a:avLst>
                  <a:gd name="adj" fmla="val 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bfbfbf"/>
                  </a:gs>
                </a:gsLst>
                <a:lin ang="20400000"/>
              </a:gradFill>
              <a:ln w="0">
                <a:noFill/>
              </a:ln>
              <a:effectLst>
                <a:outerShdw dist="38183" dir="81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2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420480" y="468000"/>
                <a:ext cx="1258920" cy="7282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26" name=""/>
            <p:cNvGrpSpPr/>
            <p:nvPr/>
          </p:nvGrpSpPr>
          <p:grpSpPr>
            <a:xfrm>
              <a:off x="438120" y="453960"/>
              <a:ext cx="1238400" cy="731520"/>
              <a:chOff x="438120" y="453960"/>
              <a:chExt cx="1238400" cy="731520"/>
            </a:xfrm>
          </p:grpSpPr>
          <p:sp>
            <p:nvSpPr>
              <p:cNvPr id="327" name=""/>
              <p:cNvSpPr/>
              <p:nvPr/>
            </p:nvSpPr>
            <p:spPr>
              <a:xfrm>
                <a:off x="438120" y="453960"/>
                <a:ext cx="1238400" cy="250200"/>
              </a:xfrm>
              <a:prstGeom prst="rect">
                <a:avLst/>
              </a:prstGeom>
              <a:solidFill>
                <a:srgbClr val="66cc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438120" y="694440"/>
                <a:ext cx="1238400" cy="250200"/>
              </a:xfrm>
              <a:prstGeom prst="rect">
                <a:avLst/>
              </a:prstGeom>
              <a:solidFill>
                <a:srgbClr val="ffff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438120" y="935640"/>
                <a:ext cx="1238400" cy="249840"/>
              </a:xfrm>
              <a:prstGeom prst="rect">
                <a:avLst/>
              </a:prstGeom>
              <a:solidFill>
                <a:srgbClr val="66cc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30" name=""/>
          <p:cNvGrpSpPr/>
          <p:nvPr/>
        </p:nvGrpSpPr>
        <p:grpSpPr>
          <a:xfrm>
            <a:off x="357120" y="1514520"/>
            <a:ext cx="8283600" cy="465120"/>
            <a:chOff x="357120" y="1514520"/>
            <a:chExt cx="8283600" cy="465120"/>
          </a:xfrm>
        </p:grpSpPr>
        <p:sp>
          <p:nvSpPr>
            <p:cNvPr id="331" name=""/>
            <p:cNvSpPr/>
            <p:nvPr/>
          </p:nvSpPr>
          <p:spPr>
            <a:xfrm>
              <a:off x="357120" y="1530000"/>
              <a:ext cx="8283600" cy="42552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2" name="" descr=""/>
            <p:cNvPicPr/>
            <p:nvPr/>
          </p:nvPicPr>
          <p:blipFill>
            <a:blip r:embed="rId5"/>
            <a:stretch/>
          </p:blipFill>
          <p:spPr>
            <a:xfrm>
              <a:off x="6326280" y="1604520"/>
              <a:ext cx="2142360" cy="28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3" name=""/>
            <p:cNvSpPr/>
            <p:nvPr/>
          </p:nvSpPr>
          <p:spPr>
            <a:xfrm>
              <a:off x="6145200" y="1514520"/>
              <a:ext cx="1440" cy="4651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4" name="PlaceHolder 1"/>
          <p:cNvSpPr>
            <a:spLocks noGrp="1"/>
          </p:cNvSpPr>
          <p:nvPr>
            <p:ph type="sldNum" idx="7"/>
          </p:nvPr>
        </p:nvSpPr>
        <p:spPr>
          <a:xfrm>
            <a:off x="368280" y="605772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1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8C0F5640-BACC-4E7A-9E73-4537C0922553}" type="slidenum"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2" name=""/>
          <p:cNvSpPr/>
          <p:nvPr/>
        </p:nvSpPr>
        <p:spPr>
          <a:xfrm>
            <a:off x="282600" y="1428840"/>
            <a:ext cx="8494560" cy="50004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0">
            <a:noFill/>
          </a:ln>
          <a:effectLst>
            <a:outerShdw dist="109865" dir="634411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293760" y="345960"/>
            <a:ext cx="8496360" cy="9874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7d8496"/>
              </a:gs>
              <a:gs pos="100000">
                <a:srgbClr val="e6e6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4" name="" descr=""/>
          <p:cNvPicPr/>
          <p:nvPr/>
        </p:nvPicPr>
        <p:blipFill>
          <a:blip r:embed="rId3"/>
          <a:stretch/>
        </p:blipFill>
        <p:spPr>
          <a:xfrm>
            <a:off x="7324560" y="5962680"/>
            <a:ext cx="1256040" cy="3697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375" name=""/>
          <p:cNvGrpSpPr/>
          <p:nvPr/>
        </p:nvGrpSpPr>
        <p:grpSpPr>
          <a:xfrm>
            <a:off x="398520" y="442800"/>
            <a:ext cx="1312920" cy="779400"/>
            <a:chOff x="398520" y="442800"/>
            <a:chExt cx="1312920" cy="779400"/>
          </a:xfrm>
        </p:grpSpPr>
        <p:grpSp>
          <p:nvGrpSpPr>
            <p:cNvPr id="376" name=""/>
            <p:cNvGrpSpPr/>
            <p:nvPr/>
          </p:nvGrpSpPr>
          <p:grpSpPr>
            <a:xfrm>
              <a:off x="398520" y="442800"/>
              <a:ext cx="1312920" cy="779400"/>
              <a:chOff x="398520" y="442800"/>
              <a:chExt cx="1312920" cy="779400"/>
            </a:xfrm>
          </p:grpSpPr>
          <p:sp>
            <p:nvSpPr>
              <p:cNvPr id="377" name=""/>
              <p:cNvSpPr/>
              <p:nvPr/>
            </p:nvSpPr>
            <p:spPr>
              <a:xfrm>
                <a:off x="398520" y="442800"/>
                <a:ext cx="1312920" cy="779400"/>
              </a:xfrm>
              <a:prstGeom prst="roundRect">
                <a:avLst>
                  <a:gd name="adj" fmla="val 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bfbfbf"/>
                  </a:gs>
                </a:gsLst>
                <a:lin ang="20400000"/>
              </a:gradFill>
              <a:ln w="0">
                <a:noFill/>
              </a:ln>
              <a:effectLst>
                <a:outerShdw dist="38183" dir="81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78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420480" y="468000"/>
                <a:ext cx="1258920" cy="7282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79" name=""/>
            <p:cNvGrpSpPr/>
            <p:nvPr/>
          </p:nvGrpSpPr>
          <p:grpSpPr>
            <a:xfrm>
              <a:off x="438120" y="453960"/>
              <a:ext cx="1238400" cy="731520"/>
              <a:chOff x="438120" y="453960"/>
              <a:chExt cx="1238400" cy="731520"/>
            </a:xfrm>
          </p:grpSpPr>
          <p:sp>
            <p:nvSpPr>
              <p:cNvPr id="380" name=""/>
              <p:cNvSpPr/>
              <p:nvPr/>
            </p:nvSpPr>
            <p:spPr>
              <a:xfrm>
                <a:off x="438120" y="453960"/>
                <a:ext cx="1238400" cy="250200"/>
              </a:xfrm>
              <a:prstGeom prst="rect">
                <a:avLst/>
              </a:prstGeom>
              <a:solidFill>
                <a:srgbClr val="66cc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438120" y="694440"/>
                <a:ext cx="1238400" cy="250200"/>
              </a:xfrm>
              <a:prstGeom prst="rect">
                <a:avLst/>
              </a:prstGeom>
              <a:solidFill>
                <a:srgbClr val="ffff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438120" y="935640"/>
                <a:ext cx="1238400" cy="249840"/>
              </a:xfrm>
              <a:prstGeom prst="rect">
                <a:avLst/>
              </a:prstGeom>
              <a:solidFill>
                <a:srgbClr val="66cc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83" name=""/>
          <p:cNvGrpSpPr/>
          <p:nvPr/>
        </p:nvGrpSpPr>
        <p:grpSpPr>
          <a:xfrm>
            <a:off x="357120" y="1514520"/>
            <a:ext cx="8283600" cy="465120"/>
            <a:chOff x="357120" y="1514520"/>
            <a:chExt cx="8283600" cy="465120"/>
          </a:xfrm>
        </p:grpSpPr>
        <p:sp>
          <p:nvSpPr>
            <p:cNvPr id="384" name=""/>
            <p:cNvSpPr/>
            <p:nvPr/>
          </p:nvSpPr>
          <p:spPr>
            <a:xfrm>
              <a:off x="357120" y="1530000"/>
              <a:ext cx="8283600" cy="42552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85" name="" descr=""/>
            <p:cNvPicPr/>
            <p:nvPr/>
          </p:nvPicPr>
          <p:blipFill>
            <a:blip r:embed="rId5"/>
            <a:stretch/>
          </p:blipFill>
          <p:spPr>
            <a:xfrm>
              <a:off x="6326280" y="1604520"/>
              <a:ext cx="2142360" cy="28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6" name=""/>
            <p:cNvSpPr/>
            <p:nvPr/>
          </p:nvSpPr>
          <p:spPr>
            <a:xfrm>
              <a:off x="6145200" y="1514520"/>
              <a:ext cx="1440" cy="4651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7" name="PlaceHolder 1"/>
          <p:cNvSpPr>
            <a:spLocks noGrp="1"/>
          </p:cNvSpPr>
          <p:nvPr>
            <p:ph type="sldNum" idx="8"/>
          </p:nvPr>
        </p:nvSpPr>
        <p:spPr>
          <a:xfrm>
            <a:off x="368280" y="605772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1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D049446A-EDFC-4B07-8488-B0A0E84DD630}" type="slidenum"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6"/>
    <p:sldLayoutId id="2147483741" r:id="rId7"/>
    <p:sldLayoutId id="2147483742" r:id="rId8"/>
    <p:sldLayoutId id="2147483743" r:id="rId9"/>
    <p:sldLayoutId id="2147483744" r:id="rId10"/>
    <p:sldLayoutId id="2147483745" r:id="rId11"/>
    <p:sldLayoutId id="2147483746" r:id="rId12"/>
    <p:sldLayoutId id="2147483747" r:id="rId13"/>
    <p:sldLayoutId id="2147483748" r:id="rId14"/>
    <p:sldLayoutId id="2147483749" r:id="rId15"/>
    <p:sldLayoutId id="2147483750" r:id="rId16"/>
    <p:sldLayoutId id="2147483751" r:id="rId17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5" name=""/>
          <p:cNvSpPr/>
          <p:nvPr/>
        </p:nvSpPr>
        <p:spPr>
          <a:xfrm>
            <a:off x="282600" y="1428840"/>
            <a:ext cx="8494560" cy="50004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0">
            <a:noFill/>
          </a:ln>
          <a:effectLst>
            <a:outerShdw dist="109865" dir="634411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293760" y="345960"/>
            <a:ext cx="8496360" cy="9874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7d8496"/>
              </a:gs>
              <a:gs pos="100000">
                <a:srgbClr val="e6e6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" descr=""/>
          <p:cNvPicPr/>
          <p:nvPr/>
        </p:nvPicPr>
        <p:blipFill>
          <a:blip r:embed="rId3"/>
          <a:stretch/>
        </p:blipFill>
        <p:spPr>
          <a:xfrm>
            <a:off x="7324560" y="5962680"/>
            <a:ext cx="1256040" cy="3697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428" name=""/>
          <p:cNvGrpSpPr/>
          <p:nvPr/>
        </p:nvGrpSpPr>
        <p:grpSpPr>
          <a:xfrm>
            <a:off x="398520" y="442800"/>
            <a:ext cx="1312920" cy="779400"/>
            <a:chOff x="398520" y="442800"/>
            <a:chExt cx="1312920" cy="779400"/>
          </a:xfrm>
        </p:grpSpPr>
        <p:grpSp>
          <p:nvGrpSpPr>
            <p:cNvPr id="429" name=""/>
            <p:cNvGrpSpPr/>
            <p:nvPr/>
          </p:nvGrpSpPr>
          <p:grpSpPr>
            <a:xfrm>
              <a:off x="398520" y="442800"/>
              <a:ext cx="1312920" cy="779400"/>
              <a:chOff x="398520" y="442800"/>
              <a:chExt cx="1312920" cy="779400"/>
            </a:xfrm>
          </p:grpSpPr>
          <p:sp>
            <p:nvSpPr>
              <p:cNvPr id="430" name=""/>
              <p:cNvSpPr/>
              <p:nvPr/>
            </p:nvSpPr>
            <p:spPr>
              <a:xfrm>
                <a:off x="398520" y="442800"/>
                <a:ext cx="1312920" cy="779400"/>
              </a:xfrm>
              <a:prstGeom prst="roundRect">
                <a:avLst>
                  <a:gd name="adj" fmla="val 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bfbfbf"/>
                  </a:gs>
                </a:gsLst>
                <a:lin ang="20400000"/>
              </a:gradFill>
              <a:ln w="0">
                <a:noFill/>
              </a:ln>
              <a:effectLst>
                <a:outerShdw dist="38183" dir="81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431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420480" y="468000"/>
                <a:ext cx="1258920" cy="7282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32" name=""/>
            <p:cNvGrpSpPr/>
            <p:nvPr/>
          </p:nvGrpSpPr>
          <p:grpSpPr>
            <a:xfrm>
              <a:off x="438120" y="453960"/>
              <a:ext cx="1238400" cy="731520"/>
              <a:chOff x="438120" y="453960"/>
              <a:chExt cx="1238400" cy="731520"/>
            </a:xfrm>
          </p:grpSpPr>
          <p:sp>
            <p:nvSpPr>
              <p:cNvPr id="433" name=""/>
              <p:cNvSpPr/>
              <p:nvPr/>
            </p:nvSpPr>
            <p:spPr>
              <a:xfrm>
                <a:off x="438120" y="453960"/>
                <a:ext cx="1238400" cy="250200"/>
              </a:xfrm>
              <a:prstGeom prst="rect">
                <a:avLst/>
              </a:prstGeom>
              <a:solidFill>
                <a:srgbClr val="66cc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438120" y="694440"/>
                <a:ext cx="1238400" cy="250200"/>
              </a:xfrm>
              <a:prstGeom prst="rect">
                <a:avLst/>
              </a:prstGeom>
              <a:solidFill>
                <a:srgbClr val="ffff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438120" y="935640"/>
                <a:ext cx="1238400" cy="249840"/>
              </a:xfrm>
              <a:prstGeom prst="rect">
                <a:avLst/>
              </a:prstGeom>
              <a:solidFill>
                <a:srgbClr val="66cc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36" name=""/>
          <p:cNvGrpSpPr/>
          <p:nvPr/>
        </p:nvGrpSpPr>
        <p:grpSpPr>
          <a:xfrm>
            <a:off x="357120" y="1514520"/>
            <a:ext cx="8283600" cy="465120"/>
            <a:chOff x="357120" y="1514520"/>
            <a:chExt cx="8283600" cy="465120"/>
          </a:xfrm>
        </p:grpSpPr>
        <p:sp>
          <p:nvSpPr>
            <p:cNvPr id="437" name=""/>
            <p:cNvSpPr/>
            <p:nvPr/>
          </p:nvSpPr>
          <p:spPr>
            <a:xfrm>
              <a:off x="357120" y="1530000"/>
              <a:ext cx="8283600" cy="42552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38" name="" descr=""/>
            <p:cNvPicPr/>
            <p:nvPr/>
          </p:nvPicPr>
          <p:blipFill>
            <a:blip r:embed="rId5"/>
            <a:stretch/>
          </p:blipFill>
          <p:spPr>
            <a:xfrm>
              <a:off x="6326280" y="1604520"/>
              <a:ext cx="2142360" cy="28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9" name=""/>
            <p:cNvSpPr/>
            <p:nvPr/>
          </p:nvSpPr>
          <p:spPr>
            <a:xfrm>
              <a:off x="6145200" y="1514520"/>
              <a:ext cx="1440" cy="4651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0" name="PlaceHolder 1"/>
          <p:cNvSpPr>
            <a:spLocks noGrp="1"/>
          </p:cNvSpPr>
          <p:nvPr>
            <p:ph type="sldNum" idx="9"/>
          </p:nvPr>
        </p:nvSpPr>
        <p:spPr>
          <a:xfrm>
            <a:off x="368280" y="605772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1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6899CC52-D118-46AA-AFB0-5CEB5FCADC17}" type="slidenum"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"/>
          <p:cNvSpPr/>
          <p:nvPr/>
        </p:nvSpPr>
        <p:spPr>
          <a:xfrm>
            <a:off x="368280" y="605808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6F4E75-8A5A-486C-A8CD-15D20E37B8B2}" type="slidenum">
              <a:rPr b="1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"/>
          <p:cNvSpPr/>
          <p:nvPr/>
        </p:nvSpPr>
        <p:spPr>
          <a:xfrm>
            <a:off x="2386080" y="595440"/>
            <a:ext cx="6289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3. ESTUDIOS SECTORI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3" name=""/>
          <p:cNvGrpSpPr/>
          <p:nvPr/>
        </p:nvGrpSpPr>
        <p:grpSpPr>
          <a:xfrm>
            <a:off x="611280" y="1197000"/>
            <a:ext cx="7218000" cy="1723680"/>
            <a:chOff x="611280" y="1197000"/>
            <a:chExt cx="7218000" cy="1723680"/>
          </a:xfrm>
        </p:grpSpPr>
        <p:grpSp>
          <p:nvGrpSpPr>
            <p:cNvPr id="1054" name=""/>
            <p:cNvGrpSpPr/>
            <p:nvPr/>
          </p:nvGrpSpPr>
          <p:grpSpPr>
            <a:xfrm>
              <a:off x="1548000" y="2058840"/>
              <a:ext cx="6281280" cy="861840"/>
              <a:chOff x="1548000" y="2058840"/>
              <a:chExt cx="6281280" cy="861840"/>
            </a:xfrm>
          </p:grpSpPr>
          <p:sp>
            <p:nvSpPr>
              <p:cNvPr id="1055" name=""/>
              <p:cNvSpPr/>
              <p:nvPr/>
            </p:nvSpPr>
            <p:spPr>
              <a:xfrm>
                <a:off x="1548000" y="2058840"/>
                <a:ext cx="6281280" cy="861840"/>
              </a:xfrm>
              <a:prstGeom prst="roundRect">
                <a:avLst>
                  <a:gd name="adj" fmla="val 16810"/>
                </a:avLst>
              </a:prstGeom>
              <a:solidFill>
                <a:srgbClr val="000000"/>
              </a:solidFill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1594440" y="2149560"/>
                <a:ext cx="6188400" cy="67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>
                  <a:lnSpc>
                    <a:spcPct val="83000"/>
                  </a:lnSpc>
                  <a:spcBef>
                    <a:spcPts val="561"/>
                  </a:spcBef>
                  <a:spcAft>
                    <a:spcPts val="451"/>
                  </a:spcAft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ffffff"/>
                    </a:solidFill>
                    <a:latin typeface="Arial"/>
                  </a:rPr>
                  <a:t>3.1.1. IMPORTANCIA DE CONSIDERAR AL SECTO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83000"/>
                  </a:lnSpc>
                  <a:spcBef>
                    <a:spcPts val="561"/>
                  </a:spcBef>
                  <a:spcAft>
                    <a:spcPts val="451"/>
                  </a:spcAft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ffffff"/>
                    </a:solidFill>
                    <a:latin typeface="Arial"/>
                  </a:rPr>
                  <a:t>             </a:t>
                </a:r>
                <a:r>
                  <a:rPr b="1" lang="en-GB" sz="1800" spc="-1" strike="noStrike">
                    <a:solidFill>
                      <a:srgbClr val="ffffff"/>
                    </a:solidFill>
                    <a:latin typeface="Arial"/>
                  </a:rPr>
                  <a:t>ECONÓMICO EN SU CONJUNT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7" name=""/>
            <p:cNvGrpSpPr/>
            <p:nvPr/>
          </p:nvGrpSpPr>
          <p:grpSpPr>
            <a:xfrm>
              <a:off x="611280" y="1197000"/>
              <a:ext cx="936720" cy="1584360"/>
              <a:chOff x="611280" y="1197000"/>
              <a:chExt cx="936720" cy="1584360"/>
            </a:xfrm>
          </p:grpSpPr>
          <p:sp>
            <p:nvSpPr>
              <p:cNvPr id="1058" name=""/>
              <p:cNvSpPr/>
              <p:nvPr/>
            </p:nvSpPr>
            <p:spPr>
              <a:xfrm flipV="1">
                <a:off x="611280" y="1844640"/>
                <a:ext cx="936720" cy="936720"/>
              </a:xfrm>
              <a:custGeom>
                <a:avLst/>
                <a:gdLst>
                  <a:gd name="textAreaLeft" fmla="*/ 0 w 936720"/>
                  <a:gd name="textAreaRight" fmla="*/ 937080 w 936720"/>
                  <a:gd name="textAreaTop" fmla="*/ 360 h 936720"/>
                  <a:gd name="textAreaBottom" fmla="*/ 937440 h 936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lnTo>
                      <a:pt x="0" y="12160"/>
                    </a:lnTo>
                    <a:arcTo wR="12427" hR="9260" stAng="10800000" swAng="5400000"/>
                    <a:lnTo>
                      <a:pt x="15100" y="2900"/>
                    </a:lnTo>
                    <a:lnTo>
                      <a:pt x="15100" y="0"/>
                    </a:lnTo>
                    <a:lnTo>
                      <a:pt x="21600" y="6079"/>
                    </a:lnTo>
                    <a:lnTo>
                      <a:pt x="15100" y="12158"/>
                    </a:lnTo>
                    <a:lnTo>
                      <a:pt x="15100" y="9258"/>
                    </a:lnTo>
                    <a:lnTo>
                      <a:pt x="12427" y="9258"/>
                    </a:lnTo>
                    <a:arcTo wR="6069" hR="2902" stAng="16200000" swAng="-5400000"/>
                    <a:lnTo>
                      <a:pt x="6358" y="216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611280" y="1197000"/>
                <a:ext cx="287280" cy="936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60" name=""/>
          <p:cNvGrpSpPr/>
          <p:nvPr/>
        </p:nvGrpSpPr>
        <p:grpSpPr>
          <a:xfrm>
            <a:off x="611280" y="1989000"/>
            <a:ext cx="7200360" cy="1799640"/>
            <a:chOff x="611280" y="1989000"/>
            <a:chExt cx="7200360" cy="1799640"/>
          </a:xfrm>
        </p:grpSpPr>
        <p:grpSp>
          <p:nvGrpSpPr>
            <p:cNvPr id="1061" name=""/>
            <p:cNvGrpSpPr/>
            <p:nvPr/>
          </p:nvGrpSpPr>
          <p:grpSpPr>
            <a:xfrm>
              <a:off x="1548000" y="2997000"/>
              <a:ext cx="6263640" cy="791640"/>
              <a:chOff x="1548000" y="2997000"/>
              <a:chExt cx="6263640" cy="791640"/>
            </a:xfrm>
          </p:grpSpPr>
          <p:sp>
            <p:nvSpPr>
              <p:cNvPr id="1062" name=""/>
              <p:cNvSpPr/>
              <p:nvPr/>
            </p:nvSpPr>
            <p:spPr>
              <a:xfrm>
                <a:off x="1548000" y="2997000"/>
                <a:ext cx="6263640" cy="791640"/>
              </a:xfrm>
              <a:prstGeom prst="roundRect">
                <a:avLst>
                  <a:gd name="adj" fmla="val 16593"/>
                </a:avLst>
              </a:prstGeom>
              <a:solidFill>
                <a:srgbClr val="000000"/>
              </a:solidFill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1594080" y="3054600"/>
                <a:ext cx="6171120" cy="67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>
                  <a:lnSpc>
                    <a:spcPct val="83000"/>
                  </a:lnSpc>
                  <a:spcBef>
                    <a:spcPts val="561"/>
                  </a:spcBef>
                  <a:spcAft>
                    <a:spcPts val="451"/>
                  </a:spcAft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ffffff"/>
                    </a:solidFill>
                    <a:latin typeface="Arial"/>
                  </a:rPr>
                  <a:t>3.1.2. VENTAJAS DE LA INVESTIGACIÓN PO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83000"/>
                  </a:lnSpc>
                  <a:spcBef>
                    <a:spcPts val="561"/>
                  </a:spcBef>
                  <a:spcAft>
                    <a:spcPts val="451"/>
                  </a:spcAft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ffffff"/>
                    </a:solidFill>
                    <a:latin typeface="Arial"/>
                  </a:rPr>
                  <a:t>            </a:t>
                </a:r>
                <a:r>
                  <a:rPr b="1" lang="en-GB" sz="1800" spc="-1" strike="noStrike">
                    <a:solidFill>
                      <a:srgbClr val="ffffff"/>
                    </a:solidFill>
                    <a:latin typeface="Arial"/>
                  </a:rPr>
                  <a:t>SECTORES ECONÓMICO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4" name=""/>
            <p:cNvGrpSpPr/>
            <p:nvPr/>
          </p:nvGrpSpPr>
          <p:grpSpPr>
            <a:xfrm>
              <a:off x="611280" y="1989000"/>
              <a:ext cx="936720" cy="1583280"/>
              <a:chOff x="611280" y="1989000"/>
              <a:chExt cx="936720" cy="1583280"/>
            </a:xfrm>
          </p:grpSpPr>
          <p:sp>
            <p:nvSpPr>
              <p:cNvPr id="1065" name=""/>
              <p:cNvSpPr/>
              <p:nvPr/>
            </p:nvSpPr>
            <p:spPr>
              <a:xfrm flipV="1">
                <a:off x="611280" y="2635560"/>
                <a:ext cx="936720" cy="936360"/>
              </a:xfrm>
              <a:custGeom>
                <a:avLst/>
                <a:gdLst>
                  <a:gd name="textAreaLeft" fmla="*/ 0 w 936720"/>
                  <a:gd name="textAreaRight" fmla="*/ 937080 w 936720"/>
                  <a:gd name="textAreaTop" fmla="*/ -360 h 936360"/>
                  <a:gd name="textAreaBottom" fmla="*/ 936360 h 936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lnTo>
                      <a:pt x="0" y="12160"/>
                    </a:lnTo>
                    <a:arcTo wR="12427" hR="9260" stAng="10800000" swAng="5400000"/>
                    <a:lnTo>
                      <a:pt x="15100" y="2900"/>
                    </a:lnTo>
                    <a:lnTo>
                      <a:pt x="15100" y="0"/>
                    </a:lnTo>
                    <a:lnTo>
                      <a:pt x="21600" y="6079"/>
                    </a:lnTo>
                    <a:lnTo>
                      <a:pt x="15100" y="12158"/>
                    </a:lnTo>
                    <a:lnTo>
                      <a:pt x="15100" y="9258"/>
                    </a:lnTo>
                    <a:lnTo>
                      <a:pt x="12427" y="9258"/>
                    </a:lnTo>
                    <a:arcTo wR="6069" hR="2902" stAng="16200000" swAng="-5400000"/>
                    <a:lnTo>
                      <a:pt x="6358" y="216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611280" y="1989000"/>
                <a:ext cx="287280" cy="936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67" name=""/>
          <p:cNvGrpSpPr/>
          <p:nvPr/>
        </p:nvGrpSpPr>
        <p:grpSpPr>
          <a:xfrm>
            <a:off x="611280" y="2781360"/>
            <a:ext cx="7200360" cy="1799640"/>
            <a:chOff x="611280" y="2781360"/>
            <a:chExt cx="7200360" cy="1799640"/>
          </a:xfrm>
        </p:grpSpPr>
        <p:grpSp>
          <p:nvGrpSpPr>
            <p:cNvPr id="1068" name=""/>
            <p:cNvGrpSpPr/>
            <p:nvPr/>
          </p:nvGrpSpPr>
          <p:grpSpPr>
            <a:xfrm>
              <a:off x="1548000" y="3789360"/>
              <a:ext cx="6263640" cy="791640"/>
              <a:chOff x="1548000" y="3789360"/>
              <a:chExt cx="6263640" cy="791640"/>
            </a:xfrm>
          </p:grpSpPr>
          <p:sp>
            <p:nvSpPr>
              <p:cNvPr id="1069" name=""/>
              <p:cNvSpPr/>
              <p:nvPr/>
            </p:nvSpPr>
            <p:spPr>
              <a:xfrm>
                <a:off x="1548000" y="3789360"/>
                <a:ext cx="6263640" cy="791640"/>
              </a:xfrm>
              <a:prstGeom prst="roundRect">
                <a:avLst>
                  <a:gd name="adj" fmla="val 16593"/>
                </a:avLst>
              </a:prstGeom>
              <a:solidFill>
                <a:srgbClr val="000000"/>
              </a:solidFill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1594080" y="3846960"/>
                <a:ext cx="6171120" cy="67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>
                  <a:lnSpc>
                    <a:spcPct val="83000"/>
                  </a:lnSpc>
                  <a:spcBef>
                    <a:spcPts val="561"/>
                  </a:spcBef>
                  <a:spcAft>
                    <a:spcPts val="451"/>
                  </a:spcAft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ffffff"/>
                    </a:solidFill>
                    <a:latin typeface="Arial"/>
                  </a:rPr>
                  <a:t>.3.1.3. EVALUACIÓN DEL COMPORTAMIENT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83000"/>
                  </a:lnSpc>
                  <a:spcBef>
                    <a:spcPts val="561"/>
                  </a:spcBef>
                  <a:spcAft>
                    <a:spcPts val="451"/>
                  </a:spcAft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ffffff"/>
                    </a:solidFill>
                    <a:latin typeface="Arial"/>
                  </a:rPr>
                  <a:t>             </a:t>
                </a:r>
                <a:r>
                  <a:rPr b="1" lang="en-GB" sz="1800" spc="-1" strike="noStrike">
                    <a:solidFill>
                      <a:srgbClr val="ffffff"/>
                    </a:solidFill>
                    <a:latin typeface="Arial"/>
                  </a:rPr>
                  <a:t>FISCAL DEL SECTO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1" name=""/>
            <p:cNvGrpSpPr/>
            <p:nvPr/>
          </p:nvGrpSpPr>
          <p:grpSpPr>
            <a:xfrm>
              <a:off x="611280" y="2781360"/>
              <a:ext cx="936720" cy="1583280"/>
              <a:chOff x="611280" y="2781360"/>
              <a:chExt cx="936720" cy="1583280"/>
            </a:xfrm>
          </p:grpSpPr>
          <p:sp>
            <p:nvSpPr>
              <p:cNvPr id="1072" name=""/>
              <p:cNvSpPr/>
              <p:nvPr/>
            </p:nvSpPr>
            <p:spPr>
              <a:xfrm flipV="1">
                <a:off x="611280" y="3427920"/>
                <a:ext cx="936720" cy="936360"/>
              </a:xfrm>
              <a:custGeom>
                <a:avLst/>
                <a:gdLst>
                  <a:gd name="textAreaLeft" fmla="*/ 0 w 936720"/>
                  <a:gd name="textAreaRight" fmla="*/ 937080 w 936720"/>
                  <a:gd name="textAreaTop" fmla="*/ -360 h 936360"/>
                  <a:gd name="textAreaBottom" fmla="*/ 936360 h 936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lnTo>
                      <a:pt x="0" y="12160"/>
                    </a:lnTo>
                    <a:arcTo wR="12427" hR="9260" stAng="10800000" swAng="5400000"/>
                    <a:lnTo>
                      <a:pt x="15100" y="2900"/>
                    </a:lnTo>
                    <a:lnTo>
                      <a:pt x="15100" y="0"/>
                    </a:lnTo>
                    <a:lnTo>
                      <a:pt x="21600" y="6079"/>
                    </a:lnTo>
                    <a:lnTo>
                      <a:pt x="15100" y="12158"/>
                    </a:lnTo>
                    <a:lnTo>
                      <a:pt x="15100" y="9258"/>
                    </a:lnTo>
                    <a:lnTo>
                      <a:pt x="12427" y="9258"/>
                    </a:lnTo>
                    <a:arcTo wR="6069" hR="2902" stAng="16200000" swAng="-5400000"/>
                    <a:lnTo>
                      <a:pt x="6358" y="216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611280" y="2781360"/>
                <a:ext cx="287280" cy="936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74" name=""/>
          <p:cNvGrpSpPr/>
          <p:nvPr/>
        </p:nvGrpSpPr>
        <p:grpSpPr>
          <a:xfrm>
            <a:off x="250920" y="1413000"/>
            <a:ext cx="5833440" cy="531720"/>
            <a:chOff x="250920" y="1413000"/>
            <a:chExt cx="5833440" cy="531720"/>
          </a:xfrm>
        </p:grpSpPr>
        <p:sp>
          <p:nvSpPr>
            <p:cNvPr id="1075" name=""/>
            <p:cNvSpPr/>
            <p:nvPr/>
          </p:nvSpPr>
          <p:spPr>
            <a:xfrm>
              <a:off x="250920" y="1413000"/>
              <a:ext cx="5833440" cy="531720"/>
            </a:xfrm>
            <a:prstGeom prst="roundRect">
              <a:avLst>
                <a:gd name="adj" fmla="val 16764"/>
              </a:avLst>
            </a:prstGeom>
            <a:solidFill>
              <a:srgbClr val="000000"/>
            </a:solidFill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306720" y="1450800"/>
              <a:ext cx="57268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ff"/>
                  </a:solidFill>
                  <a:latin typeface="Arial"/>
                </a:rPr>
                <a:t>3.1. FINALIDA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7" name=""/>
          <p:cNvGrpSpPr/>
          <p:nvPr/>
        </p:nvGrpSpPr>
        <p:grpSpPr>
          <a:xfrm>
            <a:off x="611280" y="3573360"/>
            <a:ext cx="7200360" cy="1799640"/>
            <a:chOff x="611280" y="3573360"/>
            <a:chExt cx="7200360" cy="1799640"/>
          </a:xfrm>
        </p:grpSpPr>
        <p:grpSp>
          <p:nvGrpSpPr>
            <p:cNvPr id="1078" name=""/>
            <p:cNvGrpSpPr/>
            <p:nvPr/>
          </p:nvGrpSpPr>
          <p:grpSpPr>
            <a:xfrm>
              <a:off x="1548000" y="4581360"/>
              <a:ext cx="6263640" cy="791640"/>
              <a:chOff x="1548000" y="4581360"/>
              <a:chExt cx="6263640" cy="791640"/>
            </a:xfrm>
          </p:grpSpPr>
          <p:sp>
            <p:nvSpPr>
              <p:cNvPr id="1079" name=""/>
              <p:cNvSpPr/>
              <p:nvPr/>
            </p:nvSpPr>
            <p:spPr>
              <a:xfrm>
                <a:off x="1548000" y="4581360"/>
                <a:ext cx="6263640" cy="791640"/>
              </a:xfrm>
              <a:prstGeom prst="roundRect">
                <a:avLst>
                  <a:gd name="adj" fmla="val 16593"/>
                </a:avLst>
              </a:prstGeom>
              <a:solidFill>
                <a:srgbClr val="000000"/>
              </a:solidFill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1594080" y="4815720"/>
                <a:ext cx="6171120" cy="320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>
                  <a:lnSpc>
                    <a:spcPct val="83000"/>
                  </a:lnSpc>
                  <a:spcBef>
                    <a:spcPts val="561"/>
                  </a:spcBef>
                  <a:spcAft>
                    <a:spcPts val="451"/>
                  </a:spcAft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ffffff"/>
                    </a:solidFill>
                    <a:latin typeface="Arial"/>
                  </a:rPr>
                  <a:t>3.1.4. LOCALIZACIÓN DE COMPARABLE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1" name=""/>
            <p:cNvGrpSpPr/>
            <p:nvPr/>
          </p:nvGrpSpPr>
          <p:grpSpPr>
            <a:xfrm>
              <a:off x="611280" y="3573360"/>
              <a:ext cx="936720" cy="1583280"/>
              <a:chOff x="611280" y="3573360"/>
              <a:chExt cx="936720" cy="1583280"/>
            </a:xfrm>
          </p:grpSpPr>
          <p:sp>
            <p:nvSpPr>
              <p:cNvPr id="1082" name=""/>
              <p:cNvSpPr/>
              <p:nvPr/>
            </p:nvSpPr>
            <p:spPr>
              <a:xfrm flipV="1">
                <a:off x="611280" y="4219920"/>
                <a:ext cx="936720" cy="936360"/>
              </a:xfrm>
              <a:custGeom>
                <a:avLst/>
                <a:gdLst>
                  <a:gd name="textAreaLeft" fmla="*/ 0 w 936720"/>
                  <a:gd name="textAreaRight" fmla="*/ 937080 w 936720"/>
                  <a:gd name="textAreaTop" fmla="*/ -360 h 936360"/>
                  <a:gd name="textAreaBottom" fmla="*/ 936360 h 936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lnTo>
                      <a:pt x="0" y="12160"/>
                    </a:lnTo>
                    <a:arcTo wR="12427" hR="9260" stAng="10800000" swAng="5400000"/>
                    <a:lnTo>
                      <a:pt x="15100" y="2900"/>
                    </a:lnTo>
                    <a:lnTo>
                      <a:pt x="15100" y="0"/>
                    </a:lnTo>
                    <a:lnTo>
                      <a:pt x="21600" y="6079"/>
                    </a:lnTo>
                    <a:lnTo>
                      <a:pt x="15100" y="12158"/>
                    </a:lnTo>
                    <a:lnTo>
                      <a:pt x="15100" y="9258"/>
                    </a:lnTo>
                    <a:lnTo>
                      <a:pt x="12427" y="9258"/>
                    </a:lnTo>
                    <a:arcTo wR="6069" hR="2902" stAng="16200000" swAng="-5400000"/>
                    <a:lnTo>
                      <a:pt x="6358" y="216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611280" y="3573360"/>
                <a:ext cx="287280" cy="936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84" name=""/>
          <p:cNvGrpSpPr/>
          <p:nvPr/>
        </p:nvGrpSpPr>
        <p:grpSpPr>
          <a:xfrm>
            <a:off x="611280" y="4221000"/>
            <a:ext cx="7200360" cy="2138400"/>
            <a:chOff x="611280" y="4221000"/>
            <a:chExt cx="7200360" cy="2138400"/>
          </a:xfrm>
        </p:grpSpPr>
        <p:grpSp>
          <p:nvGrpSpPr>
            <p:cNvPr id="1085" name=""/>
            <p:cNvGrpSpPr/>
            <p:nvPr/>
          </p:nvGrpSpPr>
          <p:grpSpPr>
            <a:xfrm>
              <a:off x="1548000" y="5409360"/>
              <a:ext cx="6263640" cy="950040"/>
              <a:chOff x="1548000" y="5409360"/>
              <a:chExt cx="6263640" cy="950040"/>
            </a:xfrm>
          </p:grpSpPr>
          <p:sp>
            <p:nvSpPr>
              <p:cNvPr id="1086" name=""/>
              <p:cNvSpPr/>
              <p:nvPr/>
            </p:nvSpPr>
            <p:spPr>
              <a:xfrm>
                <a:off x="1548000" y="5416920"/>
                <a:ext cx="6263640" cy="937080"/>
              </a:xfrm>
              <a:prstGeom prst="roundRect">
                <a:avLst>
                  <a:gd name="adj" fmla="val 16593"/>
                </a:avLst>
              </a:prstGeom>
              <a:solidFill>
                <a:srgbClr val="000000"/>
              </a:solidFill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1594080" y="5409360"/>
                <a:ext cx="6171120" cy="950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>
                  <a:lnSpc>
                    <a:spcPct val="73000"/>
                  </a:lnSpc>
                  <a:spcBef>
                    <a:spcPts val="561"/>
                  </a:spcBef>
                  <a:spcAft>
                    <a:spcPts val="451"/>
                  </a:spcAft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ffffff"/>
                    </a:solidFill>
                    <a:latin typeface="Arial"/>
                  </a:rPr>
                  <a:t>3.1.5. IMPORTANCIA DE SU UTILIZACIÓN COM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73000"/>
                  </a:lnSpc>
                  <a:spcBef>
                    <a:spcPts val="561"/>
                  </a:spcBef>
                  <a:spcAft>
                    <a:spcPts val="451"/>
                  </a:spcAft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ffffff"/>
                    </a:solidFill>
                    <a:latin typeface="Arial"/>
                  </a:rPr>
                  <a:t>            </a:t>
                </a:r>
                <a:r>
                  <a:rPr b="1" lang="en-GB" sz="1800" spc="-1" strike="noStrike">
                    <a:solidFill>
                      <a:srgbClr val="ffffff"/>
                    </a:solidFill>
                    <a:latin typeface="Arial"/>
                  </a:rPr>
                  <a:t>HERRAMIENTA DE CONTROL Y SELECCIÓ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73000"/>
                  </a:lnSpc>
                  <a:spcBef>
                    <a:spcPts val="561"/>
                  </a:spcBef>
                  <a:spcAft>
                    <a:spcPts val="451"/>
                  </a:spcAft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ffffff"/>
                    </a:solidFill>
                    <a:latin typeface="Arial"/>
                  </a:rPr>
                  <a:t>            </a:t>
                </a:r>
                <a:r>
                  <a:rPr b="1" lang="en-GB" sz="1800" spc="-1" strike="noStrike">
                    <a:solidFill>
                      <a:srgbClr val="ffffff"/>
                    </a:solidFill>
                    <a:latin typeface="Arial"/>
                  </a:rPr>
                  <a:t>DE CASOS A FISCALIZA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8" name=""/>
            <p:cNvGrpSpPr/>
            <p:nvPr/>
          </p:nvGrpSpPr>
          <p:grpSpPr>
            <a:xfrm>
              <a:off x="611280" y="4221000"/>
              <a:ext cx="936720" cy="1877760"/>
              <a:chOff x="611280" y="4221000"/>
              <a:chExt cx="936720" cy="1877760"/>
            </a:xfrm>
          </p:grpSpPr>
          <p:sp>
            <p:nvSpPr>
              <p:cNvPr id="1089" name=""/>
              <p:cNvSpPr/>
              <p:nvPr/>
            </p:nvSpPr>
            <p:spPr>
              <a:xfrm flipV="1">
                <a:off x="611280" y="4988520"/>
                <a:ext cx="936720" cy="1110240"/>
              </a:xfrm>
              <a:custGeom>
                <a:avLst/>
                <a:gdLst>
                  <a:gd name="textAreaLeft" fmla="*/ 0 w 936720"/>
                  <a:gd name="textAreaRight" fmla="*/ 937080 w 936720"/>
                  <a:gd name="textAreaTop" fmla="*/ 360 h 1110240"/>
                  <a:gd name="textAreaBottom" fmla="*/ 1110960 h 1110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lnTo>
                      <a:pt x="0" y="12160"/>
                    </a:lnTo>
                    <a:arcTo wR="12427" hR="9260" stAng="10800000" swAng="5400000"/>
                    <a:lnTo>
                      <a:pt x="15100" y="2900"/>
                    </a:lnTo>
                    <a:lnTo>
                      <a:pt x="15100" y="0"/>
                    </a:lnTo>
                    <a:lnTo>
                      <a:pt x="21600" y="6079"/>
                    </a:lnTo>
                    <a:lnTo>
                      <a:pt x="15100" y="12158"/>
                    </a:lnTo>
                    <a:lnTo>
                      <a:pt x="15100" y="9258"/>
                    </a:lnTo>
                    <a:lnTo>
                      <a:pt x="12427" y="9258"/>
                    </a:lnTo>
                    <a:arcTo wR="6069" hR="2902" stAng="16200000" swAng="-5400000"/>
                    <a:lnTo>
                      <a:pt x="6358" y="216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611280" y="4221000"/>
                <a:ext cx="287280" cy="111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0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0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0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0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0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0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0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0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0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0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0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0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0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0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0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0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0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0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0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0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0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0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0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0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"/>
          <p:cNvSpPr/>
          <p:nvPr/>
        </p:nvSpPr>
        <p:spPr>
          <a:xfrm>
            <a:off x="1025640" y="162000"/>
            <a:ext cx="760392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324000" y="2235240"/>
            <a:ext cx="8351640" cy="378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800" spc="-1" strike="noStrike" u="sng">
                <a:solidFill>
                  <a:srgbClr val="000000"/>
                </a:solidFill>
                <a:uFillTx/>
                <a:latin typeface="Arial"/>
              </a:rPr>
              <a:t>IMPLEMENTACIÓN DE PRECIOS DE TRANSFERENCIA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800" spc="-1" strike="noStrike" u="sng">
                <a:solidFill>
                  <a:srgbClr val="000000"/>
                </a:solidFill>
                <a:uFillTx/>
                <a:latin typeface="Arial"/>
              </a:rPr>
              <a:t>EN LAADMINISTRACIÓN TRIBUTARI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1" name=""/>
          <p:cNvGrpSpPr/>
          <p:nvPr/>
        </p:nvGrpSpPr>
        <p:grpSpPr>
          <a:xfrm>
            <a:off x="324000" y="1305000"/>
            <a:ext cx="6192360" cy="683640"/>
            <a:chOff x="324000" y="1305000"/>
            <a:chExt cx="6192360" cy="683640"/>
          </a:xfrm>
        </p:grpSpPr>
        <p:sp>
          <p:nvSpPr>
            <p:cNvPr id="862" name=""/>
            <p:cNvSpPr/>
            <p:nvPr/>
          </p:nvSpPr>
          <p:spPr>
            <a:xfrm>
              <a:off x="324000" y="1305000"/>
              <a:ext cx="6192360" cy="683640"/>
            </a:xfrm>
            <a:prstGeom prst="roundRect">
              <a:avLst>
                <a:gd name="adj" fmla="val 16764"/>
              </a:avLst>
            </a:prstGeom>
            <a:solidFill>
              <a:srgbClr val="000000"/>
            </a:solidFill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3040" y="1416600"/>
              <a:ext cx="6079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GB" sz="2400" spc="-1" strike="noStrike" u="sng">
                  <a:solidFill>
                    <a:srgbClr val="ffffff"/>
                  </a:solidFill>
                  <a:uFillTx/>
                  <a:latin typeface="Arial"/>
                </a:rPr>
                <a:t>I. IMPLEMENTACIÓN ADMINISTRATIV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4" name=""/>
          <p:cNvSpPr/>
          <p:nvPr/>
        </p:nvSpPr>
        <p:spPr>
          <a:xfrm>
            <a:off x="703440" y="2565360"/>
            <a:ext cx="934920" cy="1008000"/>
          </a:xfrm>
          <a:custGeom>
            <a:avLst/>
            <a:gdLst>
              <a:gd name="textAreaLeft" fmla="*/ 0 w 934920"/>
              <a:gd name="textAreaRight" fmla="*/ 935280 w 934920"/>
              <a:gd name="textAreaTop" fmla="*/ 0 h 1008000"/>
              <a:gd name="textAreaBottom" fmla="*/ 100836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"/>
          <p:cNvGrpSpPr/>
          <p:nvPr/>
        </p:nvGrpSpPr>
        <p:grpSpPr>
          <a:xfrm>
            <a:off x="826920" y="1915920"/>
            <a:ext cx="7218000" cy="1148760"/>
            <a:chOff x="826920" y="1915920"/>
            <a:chExt cx="7218000" cy="1148760"/>
          </a:xfrm>
        </p:grpSpPr>
        <p:grpSp>
          <p:nvGrpSpPr>
            <p:cNvPr id="866" name=""/>
            <p:cNvGrpSpPr/>
            <p:nvPr/>
          </p:nvGrpSpPr>
          <p:grpSpPr>
            <a:xfrm>
              <a:off x="1763640" y="2203200"/>
              <a:ext cx="6281280" cy="861480"/>
              <a:chOff x="1763640" y="2203200"/>
              <a:chExt cx="6281280" cy="861480"/>
            </a:xfrm>
          </p:grpSpPr>
          <p:sp>
            <p:nvSpPr>
              <p:cNvPr id="867" name=""/>
              <p:cNvSpPr/>
              <p:nvPr/>
            </p:nvSpPr>
            <p:spPr>
              <a:xfrm>
                <a:off x="1763640" y="2203200"/>
                <a:ext cx="6281280" cy="861480"/>
              </a:xfrm>
              <a:prstGeom prst="roundRect">
                <a:avLst>
                  <a:gd name="adj" fmla="val 16810"/>
                </a:avLst>
              </a:prstGeom>
              <a:solidFill>
                <a:srgbClr val="000000"/>
              </a:solidFill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1810080" y="2332080"/>
                <a:ext cx="6188400" cy="60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>
                  <a:lnSpc>
                    <a:spcPct val="93000"/>
                  </a:lnSpc>
                  <a:spcBef>
                    <a:spcPts val="561"/>
                  </a:spcBef>
                  <a:spcAft>
                    <a:spcPts val="451"/>
                  </a:spcAft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ffffff"/>
                    </a:solidFill>
                    <a:latin typeface="Arial"/>
                  </a:rPr>
                  <a:t>1. DIAGNÓSTICO DE DEBILIDADES Y FORTALEZAS DE LA ADMINISTRACION TRIBUTARI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9" name=""/>
            <p:cNvSpPr/>
            <p:nvPr/>
          </p:nvSpPr>
          <p:spPr>
            <a:xfrm flipV="1">
              <a:off x="826920" y="1915560"/>
              <a:ext cx="936720" cy="936360"/>
            </a:xfrm>
            <a:custGeom>
              <a:avLst/>
              <a:gdLst>
                <a:gd name="textAreaLeft" fmla="*/ 0 w 936720"/>
                <a:gd name="textAreaRight" fmla="*/ 937080 w 936720"/>
                <a:gd name="textAreaTop" fmla="*/ -360 h 936360"/>
                <a:gd name="textAreaBottom" fmla="*/ 936360 h 93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260" stAng="10800000" swAng="5400000"/>
                  <a:lnTo>
                    <a:pt x="15100" y="2900"/>
                  </a:lnTo>
                  <a:lnTo>
                    <a:pt x="15100" y="0"/>
                  </a:lnTo>
                  <a:lnTo>
                    <a:pt x="21600" y="6079"/>
                  </a:lnTo>
                  <a:lnTo>
                    <a:pt x="15100" y="12158"/>
                  </a:lnTo>
                  <a:lnTo>
                    <a:pt x="15100" y="9258"/>
                  </a:lnTo>
                  <a:lnTo>
                    <a:pt x="12427" y="9258"/>
                  </a:lnTo>
                  <a:arcTo wR="6069" hR="2902" stAng="16200000" swAng="-5400000"/>
                  <a:lnTo>
                    <a:pt x="6358" y="216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0" name=""/>
          <p:cNvGrpSpPr/>
          <p:nvPr/>
        </p:nvGrpSpPr>
        <p:grpSpPr>
          <a:xfrm>
            <a:off x="826920" y="2133720"/>
            <a:ext cx="7200720" cy="1871280"/>
            <a:chOff x="826920" y="2133720"/>
            <a:chExt cx="7200720" cy="1871280"/>
          </a:xfrm>
        </p:grpSpPr>
        <p:grpSp>
          <p:nvGrpSpPr>
            <p:cNvPr id="871" name=""/>
            <p:cNvGrpSpPr/>
            <p:nvPr/>
          </p:nvGrpSpPr>
          <p:grpSpPr>
            <a:xfrm>
              <a:off x="1763640" y="3213000"/>
              <a:ext cx="6264000" cy="792000"/>
              <a:chOff x="1763640" y="3213000"/>
              <a:chExt cx="6264000" cy="792000"/>
            </a:xfrm>
          </p:grpSpPr>
          <p:sp>
            <p:nvSpPr>
              <p:cNvPr id="872" name=""/>
              <p:cNvSpPr/>
              <p:nvPr/>
            </p:nvSpPr>
            <p:spPr>
              <a:xfrm>
                <a:off x="1763640" y="3213000"/>
                <a:ext cx="6264000" cy="792000"/>
              </a:xfrm>
              <a:prstGeom prst="roundRect">
                <a:avLst>
                  <a:gd name="adj" fmla="val 16593"/>
                </a:avLst>
              </a:prstGeom>
              <a:solidFill>
                <a:srgbClr val="000000"/>
              </a:solidFill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1809720" y="3306600"/>
                <a:ext cx="6171480" cy="60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>
                  <a:lnSpc>
                    <a:spcPct val="93000"/>
                  </a:lnSpc>
                  <a:spcBef>
                    <a:spcPts val="561"/>
                  </a:spcBef>
                  <a:spcAft>
                    <a:spcPts val="451"/>
                  </a:spcAft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ffffff"/>
                    </a:solidFill>
                    <a:latin typeface="Arial"/>
                  </a:rPr>
                  <a:t>2. OPERATIVOS DE DIFUSIÓN Y RECOLECCIÓN DE INFORMACIÓN INTERNA Y EXTERN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4" name=""/>
            <p:cNvGrpSpPr/>
            <p:nvPr/>
          </p:nvGrpSpPr>
          <p:grpSpPr>
            <a:xfrm>
              <a:off x="826920" y="2133720"/>
              <a:ext cx="936720" cy="1728720"/>
              <a:chOff x="826920" y="2133720"/>
              <a:chExt cx="936720" cy="1728720"/>
            </a:xfrm>
          </p:grpSpPr>
          <p:sp>
            <p:nvSpPr>
              <p:cNvPr id="875" name=""/>
              <p:cNvSpPr/>
              <p:nvPr/>
            </p:nvSpPr>
            <p:spPr>
              <a:xfrm flipV="1">
                <a:off x="826920" y="2925720"/>
                <a:ext cx="936720" cy="936720"/>
              </a:xfrm>
              <a:custGeom>
                <a:avLst/>
                <a:gdLst>
                  <a:gd name="textAreaLeft" fmla="*/ 0 w 936720"/>
                  <a:gd name="textAreaRight" fmla="*/ 937080 w 936720"/>
                  <a:gd name="textAreaTop" fmla="*/ 360 h 936720"/>
                  <a:gd name="textAreaBottom" fmla="*/ 937440 h 936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lnTo>
                      <a:pt x="0" y="12160"/>
                    </a:lnTo>
                    <a:arcTo wR="12427" hR="9260" stAng="10800000" swAng="5400000"/>
                    <a:lnTo>
                      <a:pt x="15100" y="2900"/>
                    </a:lnTo>
                    <a:lnTo>
                      <a:pt x="15100" y="0"/>
                    </a:lnTo>
                    <a:lnTo>
                      <a:pt x="21600" y="6079"/>
                    </a:lnTo>
                    <a:lnTo>
                      <a:pt x="15100" y="12158"/>
                    </a:lnTo>
                    <a:lnTo>
                      <a:pt x="15100" y="9258"/>
                    </a:lnTo>
                    <a:lnTo>
                      <a:pt x="12427" y="9258"/>
                    </a:lnTo>
                    <a:arcTo wR="6069" hR="2902" stAng="16200000" swAng="-5400000"/>
                    <a:lnTo>
                      <a:pt x="6358" y="216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826920" y="2133720"/>
                <a:ext cx="287280" cy="936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77" name=""/>
          <p:cNvGrpSpPr/>
          <p:nvPr/>
        </p:nvGrpSpPr>
        <p:grpSpPr>
          <a:xfrm>
            <a:off x="826920" y="3214800"/>
            <a:ext cx="7200720" cy="1799640"/>
            <a:chOff x="826920" y="3214800"/>
            <a:chExt cx="7200720" cy="1799640"/>
          </a:xfrm>
        </p:grpSpPr>
        <p:grpSp>
          <p:nvGrpSpPr>
            <p:cNvPr id="878" name=""/>
            <p:cNvGrpSpPr/>
            <p:nvPr/>
          </p:nvGrpSpPr>
          <p:grpSpPr>
            <a:xfrm>
              <a:off x="1763640" y="4149720"/>
              <a:ext cx="6264000" cy="864720"/>
              <a:chOff x="1763640" y="4149720"/>
              <a:chExt cx="6264000" cy="864720"/>
            </a:xfrm>
          </p:grpSpPr>
          <p:sp>
            <p:nvSpPr>
              <p:cNvPr id="879" name=""/>
              <p:cNvSpPr/>
              <p:nvPr/>
            </p:nvSpPr>
            <p:spPr>
              <a:xfrm>
                <a:off x="1763640" y="4149720"/>
                <a:ext cx="6264000" cy="864720"/>
              </a:xfrm>
              <a:prstGeom prst="roundRect">
                <a:avLst>
                  <a:gd name="adj" fmla="val 16593"/>
                </a:avLst>
              </a:prstGeom>
              <a:solidFill>
                <a:srgbClr val="000000"/>
              </a:solidFill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1809720" y="4283640"/>
                <a:ext cx="6171480" cy="60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>
                  <a:lnSpc>
                    <a:spcPct val="93000"/>
                  </a:lnSpc>
                  <a:spcBef>
                    <a:spcPts val="561"/>
                  </a:spcBef>
                  <a:spcAft>
                    <a:spcPts val="451"/>
                  </a:spcAft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ffffff"/>
                    </a:solidFill>
                    <a:latin typeface="Arial"/>
                  </a:rPr>
                  <a:t>3. ESTRUCUTRA ADMINISTRATIVA. CREACIÓN DEL DEPARTAMENTO OPERACIONES INTERNACIONALE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1" name=""/>
            <p:cNvGrpSpPr/>
            <p:nvPr/>
          </p:nvGrpSpPr>
          <p:grpSpPr>
            <a:xfrm>
              <a:off x="826920" y="3214800"/>
              <a:ext cx="936720" cy="1584360"/>
              <a:chOff x="826920" y="3214800"/>
              <a:chExt cx="936720" cy="1584360"/>
            </a:xfrm>
          </p:grpSpPr>
          <p:sp>
            <p:nvSpPr>
              <p:cNvPr id="882" name=""/>
              <p:cNvSpPr/>
              <p:nvPr/>
            </p:nvSpPr>
            <p:spPr>
              <a:xfrm flipV="1">
                <a:off x="826920" y="3862440"/>
                <a:ext cx="936720" cy="936720"/>
              </a:xfrm>
              <a:custGeom>
                <a:avLst/>
                <a:gdLst>
                  <a:gd name="textAreaLeft" fmla="*/ 0 w 936720"/>
                  <a:gd name="textAreaRight" fmla="*/ 937080 w 936720"/>
                  <a:gd name="textAreaTop" fmla="*/ 360 h 936720"/>
                  <a:gd name="textAreaBottom" fmla="*/ 937440 h 936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lnTo>
                      <a:pt x="0" y="12160"/>
                    </a:lnTo>
                    <a:arcTo wR="12427" hR="9260" stAng="10800000" swAng="5400000"/>
                    <a:lnTo>
                      <a:pt x="15100" y="2900"/>
                    </a:lnTo>
                    <a:lnTo>
                      <a:pt x="15100" y="0"/>
                    </a:lnTo>
                    <a:lnTo>
                      <a:pt x="21600" y="6079"/>
                    </a:lnTo>
                    <a:lnTo>
                      <a:pt x="15100" y="12158"/>
                    </a:lnTo>
                    <a:lnTo>
                      <a:pt x="15100" y="9258"/>
                    </a:lnTo>
                    <a:lnTo>
                      <a:pt x="12427" y="9258"/>
                    </a:lnTo>
                    <a:arcTo wR="6069" hR="2902" stAng="16200000" swAng="-5400000"/>
                    <a:lnTo>
                      <a:pt x="6358" y="216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826920" y="3214800"/>
                <a:ext cx="287280" cy="936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84" name=""/>
          <p:cNvGrpSpPr/>
          <p:nvPr/>
        </p:nvGrpSpPr>
        <p:grpSpPr>
          <a:xfrm>
            <a:off x="826920" y="4221000"/>
            <a:ext cx="7200720" cy="1801440"/>
            <a:chOff x="826920" y="4221000"/>
            <a:chExt cx="7200720" cy="1801440"/>
          </a:xfrm>
        </p:grpSpPr>
        <p:grpSp>
          <p:nvGrpSpPr>
            <p:cNvPr id="885" name=""/>
            <p:cNvGrpSpPr/>
            <p:nvPr/>
          </p:nvGrpSpPr>
          <p:grpSpPr>
            <a:xfrm>
              <a:off x="1763640" y="5157720"/>
              <a:ext cx="6264000" cy="864720"/>
              <a:chOff x="1763640" y="5157720"/>
              <a:chExt cx="6264000" cy="864720"/>
            </a:xfrm>
          </p:grpSpPr>
          <p:sp>
            <p:nvSpPr>
              <p:cNvPr id="886" name=""/>
              <p:cNvSpPr/>
              <p:nvPr/>
            </p:nvSpPr>
            <p:spPr>
              <a:xfrm>
                <a:off x="1763640" y="5157720"/>
                <a:ext cx="6264000" cy="864720"/>
              </a:xfrm>
              <a:prstGeom prst="roundRect">
                <a:avLst>
                  <a:gd name="adj" fmla="val 16593"/>
                </a:avLst>
              </a:prstGeom>
              <a:solidFill>
                <a:srgbClr val="000000"/>
              </a:solidFill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1809720" y="5418000"/>
                <a:ext cx="617148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>
                  <a:lnSpc>
                    <a:spcPct val="93000"/>
                  </a:lnSpc>
                  <a:spcBef>
                    <a:spcPts val="561"/>
                  </a:spcBef>
                  <a:spcAft>
                    <a:spcPts val="451"/>
                  </a:spcAft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ffffff"/>
                    </a:solidFill>
                    <a:latin typeface="Arial"/>
                  </a:rPr>
                  <a:t>4. DICTADO DE NORMAS ADMINISTRATIVA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8" name=""/>
            <p:cNvGrpSpPr/>
            <p:nvPr/>
          </p:nvGrpSpPr>
          <p:grpSpPr>
            <a:xfrm>
              <a:off x="826920" y="4221000"/>
              <a:ext cx="934920" cy="1576080"/>
              <a:chOff x="826920" y="4221000"/>
              <a:chExt cx="934920" cy="1576080"/>
            </a:xfrm>
          </p:grpSpPr>
          <p:sp>
            <p:nvSpPr>
              <p:cNvPr id="889" name=""/>
              <p:cNvSpPr/>
              <p:nvPr/>
            </p:nvSpPr>
            <p:spPr>
              <a:xfrm flipV="1">
                <a:off x="826920" y="4887000"/>
                <a:ext cx="934920" cy="909720"/>
              </a:xfrm>
              <a:custGeom>
                <a:avLst/>
                <a:gdLst>
                  <a:gd name="textAreaLeft" fmla="*/ 0 w 934920"/>
                  <a:gd name="textAreaRight" fmla="*/ 935280 w 934920"/>
                  <a:gd name="textAreaTop" fmla="*/ -360 h 909720"/>
                  <a:gd name="textAreaBottom" fmla="*/ 909720 h 909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lnTo>
                      <a:pt x="0" y="12160"/>
                    </a:lnTo>
                    <a:arcTo wR="12427" hR="9260" stAng="10800000" swAng="5400000"/>
                    <a:lnTo>
                      <a:pt x="15100" y="2900"/>
                    </a:lnTo>
                    <a:lnTo>
                      <a:pt x="15100" y="0"/>
                    </a:lnTo>
                    <a:lnTo>
                      <a:pt x="21600" y="6079"/>
                    </a:lnTo>
                    <a:lnTo>
                      <a:pt x="15100" y="12158"/>
                    </a:lnTo>
                    <a:lnTo>
                      <a:pt x="15100" y="9258"/>
                    </a:lnTo>
                    <a:lnTo>
                      <a:pt x="12427" y="9258"/>
                    </a:lnTo>
                    <a:arcTo wR="6069" hR="2902" stAng="16200000" swAng="-5400000"/>
                    <a:lnTo>
                      <a:pt x="6358" y="216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rot="10800000">
                <a:spAutoFit/>
              </a:bodyPr>
              <a:p>
                <a:pPr algn="ctr"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826920" y="4221000"/>
                <a:ext cx="287280" cy="936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8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8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8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8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8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8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1" name=""/>
          <p:cNvGrpSpPr/>
          <p:nvPr/>
        </p:nvGrpSpPr>
        <p:grpSpPr>
          <a:xfrm>
            <a:off x="324000" y="1413000"/>
            <a:ext cx="7075080" cy="864720"/>
            <a:chOff x="324000" y="1413000"/>
            <a:chExt cx="7075080" cy="864720"/>
          </a:xfrm>
        </p:grpSpPr>
        <p:sp>
          <p:nvSpPr>
            <p:cNvPr id="892" name=""/>
            <p:cNvSpPr/>
            <p:nvPr/>
          </p:nvSpPr>
          <p:spPr>
            <a:xfrm>
              <a:off x="324000" y="1413000"/>
              <a:ext cx="7075080" cy="864720"/>
            </a:xfrm>
            <a:prstGeom prst="roundRect">
              <a:avLst>
                <a:gd name="adj" fmla="val 16593"/>
              </a:avLst>
            </a:prstGeom>
            <a:solidFill>
              <a:srgbClr val="000000"/>
            </a:solidFill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376200" y="1631160"/>
              <a:ext cx="6970320" cy="43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>
                <a:lnSpc>
                  <a:spcPct val="93000"/>
                </a:lnSpc>
                <a:spcBef>
                  <a:spcPts val="561"/>
                </a:spcBef>
                <a:spcAft>
                  <a:spcPts val="451"/>
                </a:spcAft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ff"/>
                  </a:solidFill>
                  <a:latin typeface="Arial"/>
                </a:rPr>
                <a:t>DICTADO DE NORMAS ADMINISTRATIV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4" name=""/>
          <p:cNvGrpSpPr/>
          <p:nvPr/>
        </p:nvGrpSpPr>
        <p:grpSpPr>
          <a:xfrm>
            <a:off x="971640" y="3068640"/>
            <a:ext cx="6313320" cy="1852560"/>
            <a:chOff x="971640" y="3068640"/>
            <a:chExt cx="6313320" cy="1852560"/>
          </a:xfrm>
        </p:grpSpPr>
        <p:grpSp>
          <p:nvGrpSpPr>
            <p:cNvPr id="895" name=""/>
            <p:cNvGrpSpPr/>
            <p:nvPr/>
          </p:nvGrpSpPr>
          <p:grpSpPr>
            <a:xfrm>
              <a:off x="1405080" y="3933720"/>
              <a:ext cx="5879880" cy="987480"/>
              <a:chOff x="1405080" y="3933720"/>
              <a:chExt cx="5879880" cy="987480"/>
            </a:xfrm>
          </p:grpSpPr>
          <p:pic>
            <p:nvPicPr>
              <p:cNvPr id="896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405080" y="3933720"/>
                <a:ext cx="5879880" cy="987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97" name=""/>
              <p:cNvSpPr/>
              <p:nvPr/>
            </p:nvSpPr>
            <p:spPr>
              <a:xfrm>
                <a:off x="1776240" y="4106520"/>
                <a:ext cx="4943160" cy="635040"/>
              </a:xfrm>
              <a:prstGeom prst="roundRect">
                <a:avLst>
                  <a:gd name="adj" fmla="val 11250"/>
                </a:avLst>
              </a:prstGeom>
              <a:gradFill rotWithShape="0">
                <a:gsLst>
                  <a:gs pos="0">
                    <a:srgbClr val="fefefe"/>
                  </a:gs>
                  <a:gs pos="100000">
                    <a:srgbClr val="5b9d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1836360" y="4149720"/>
                <a:ext cx="4697280" cy="60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3000"/>
                  </a:lnSpc>
                  <a:spcBef>
                    <a:spcPts val="1125"/>
                  </a:spcBef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33"/>
                    </a:solidFill>
                    <a:latin typeface="Arial"/>
                  </a:rPr>
                  <a:t>DISEÑO DE LOS APLICATIVOS INFORMÁTICO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99" name=""/>
            <p:cNvGrpSpPr/>
            <p:nvPr/>
          </p:nvGrpSpPr>
          <p:grpSpPr>
            <a:xfrm>
              <a:off x="971640" y="3068640"/>
              <a:ext cx="742680" cy="1440000"/>
              <a:chOff x="971640" y="3068640"/>
              <a:chExt cx="742680" cy="1440000"/>
            </a:xfrm>
          </p:grpSpPr>
          <p:sp>
            <p:nvSpPr>
              <p:cNvPr id="900" name=""/>
              <p:cNvSpPr/>
              <p:nvPr/>
            </p:nvSpPr>
            <p:spPr>
              <a:xfrm flipV="1">
                <a:off x="971640" y="3860640"/>
                <a:ext cx="742680" cy="648000"/>
              </a:xfrm>
              <a:custGeom>
                <a:avLst/>
                <a:gdLst>
                  <a:gd name="textAreaLeft" fmla="*/ 0 w 742680"/>
                  <a:gd name="textAreaRight" fmla="*/ 743040 w 742680"/>
                  <a:gd name="textAreaTop" fmla="*/ 0 h 648000"/>
                  <a:gd name="textAreaBottom" fmla="*/ 648000 h 648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lnTo>
                      <a:pt x="0" y="12160"/>
                    </a:lnTo>
                    <a:arcTo wR="12427" hR="9260" stAng="10800000" swAng="5400000"/>
                    <a:lnTo>
                      <a:pt x="15100" y="2900"/>
                    </a:lnTo>
                    <a:lnTo>
                      <a:pt x="15100" y="0"/>
                    </a:lnTo>
                    <a:lnTo>
                      <a:pt x="21600" y="6079"/>
                    </a:lnTo>
                    <a:lnTo>
                      <a:pt x="15100" y="12158"/>
                    </a:lnTo>
                    <a:lnTo>
                      <a:pt x="15100" y="9258"/>
                    </a:lnTo>
                    <a:lnTo>
                      <a:pt x="12427" y="9258"/>
                    </a:lnTo>
                    <a:arcTo wR="6069" hR="2902" stAng="16200000" swAng="-5400000"/>
                    <a:lnTo>
                      <a:pt x="6358" y="216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971640" y="3068640"/>
                <a:ext cx="217440" cy="865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02" name=""/>
          <p:cNvGrpSpPr/>
          <p:nvPr/>
        </p:nvGrpSpPr>
        <p:grpSpPr>
          <a:xfrm>
            <a:off x="995400" y="4149720"/>
            <a:ext cx="6313320" cy="2138400"/>
            <a:chOff x="995400" y="4149720"/>
            <a:chExt cx="6313320" cy="2138400"/>
          </a:xfrm>
        </p:grpSpPr>
        <p:grpSp>
          <p:nvGrpSpPr>
            <p:cNvPr id="903" name=""/>
            <p:cNvGrpSpPr/>
            <p:nvPr/>
          </p:nvGrpSpPr>
          <p:grpSpPr>
            <a:xfrm>
              <a:off x="995400" y="4149720"/>
              <a:ext cx="742680" cy="1798920"/>
              <a:chOff x="995400" y="4149720"/>
              <a:chExt cx="742680" cy="1798920"/>
            </a:xfrm>
          </p:grpSpPr>
          <p:sp>
            <p:nvSpPr>
              <p:cNvPr id="904" name=""/>
              <p:cNvSpPr/>
              <p:nvPr/>
            </p:nvSpPr>
            <p:spPr>
              <a:xfrm flipV="1">
                <a:off x="995400" y="5300640"/>
                <a:ext cx="742680" cy="648000"/>
              </a:xfrm>
              <a:custGeom>
                <a:avLst/>
                <a:gdLst>
                  <a:gd name="textAreaLeft" fmla="*/ 0 w 742680"/>
                  <a:gd name="textAreaRight" fmla="*/ 743040 w 742680"/>
                  <a:gd name="textAreaTop" fmla="*/ 0 h 648000"/>
                  <a:gd name="textAreaBottom" fmla="*/ 648000 h 648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lnTo>
                      <a:pt x="0" y="12160"/>
                    </a:lnTo>
                    <a:arcTo wR="12427" hR="9260" stAng="10800000" swAng="5400000"/>
                    <a:lnTo>
                      <a:pt x="15100" y="2900"/>
                    </a:lnTo>
                    <a:lnTo>
                      <a:pt x="15100" y="0"/>
                    </a:lnTo>
                    <a:lnTo>
                      <a:pt x="21600" y="6079"/>
                    </a:lnTo>
                    <a:lnTo>
                      <a:pt x="15100" y="12158"/>
                    </a:lnTo>
                    <a:lnTo>
                      <a:pt x="15100" y="9258"/>
                    </a:lnTo>
                    <a:lnTo>
                      <a:pt x="12427" y="9258"/>
                    </a:lnTo>
                    <a:arcTo wR="6069" hR="2902" stAng="16200000" swAng="-5400000"/>
                    <a:lnTo>
                      <a:pt x="6358" y="216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995400" y="4149720"/>
                <a:ext cx="217440" cy="1295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6" name=""/>
            <p:cNvGrpSpPr/>
            <p:nvPr/>
          </p:nvGrpSpPr>
          <p:grpSpPr>
            <a:xfrm>
              <a:off x="1428840" y="5300640"/>
              <a:ext cx="5879880" cy="987480"/>
              <a:chOff x="1428840" y="5300640"/>
              <a:chExt cx="5879880" cy="987480"/>
            </a:xfrm>
          </p:grpSpPr>
          <p:pic>
            <p:nvPicPr>
              <p:cNvPr id="907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428840" y="5300640"/>
                <a:ext cx="5879880" cy="987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08" name=""/>
              <p:cNvSpPr/>
              <p:nvPr/>
            </p:nvSpPr>
            <p:spPr>
              <a:xfrm>
                <a:off x="1800000" y="5473440"/>
                <a:ext cx="4943160" cy="635040"/>
              </a:xfrm>
              <a:prstGeom prst="roundRect">
                <a:avLst>
                  <a:gd name="adj" fmla="val 11250"/>
                </a:avLst>
              </a:prstGeom>
              <a:gradFill rotWithShape="0">
                <a:gsLst>
                  <a:gs pos="0">
                    <a:srgbClr val="fefefe"/>
                  </a:gs>
                  <a:gs pos="100000">
                    <a:srgbClr val="5b9d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1860120" y="5516640"/>
                <a:ext cx="4697280" cy="60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3000"/>
                  </a:lnSpc>
                  <a:spcBef>
                    <a:spcPts val="1125"/>
                  </a:spcBef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333333"/>
                    </a:solidFill>
                    <a:latin typeface="Arial"/>
                  </a:rPr>
                  <a:t>BASES DE DATOS RÉGIMEN DE OPERACIONES INTERNACIONALE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10" name=""/>
          <p:cNvGrpSpPr/>
          <p:nvPr/>
        </p:nvGrpSpPr>
        <p:grpSpPr>
          <a:xfrm>
            <a:off x="982800" y="2320920"/>
            <a:ext cx="6325560" cy="1395000"/>
            <a:chOff x="982800" y="2320920"/>
            <a:chExt cx="6325560" cy="1395000"/>
          </a:xfrm>
        </p:grpSpPr>
        <p:grpSp>
          <p:nvGrpSpPr>
            <p:cNvPr id="911" name=""/>
            <p:cNvGrpSpPr/>
            <p:nvPr/>
          </p:nvGrpSpPr>
          <p:grpSpPr>
            <a:xfrm>
              <a:off x="1416240" y="2752560"/>
              <a:ext cx="5892120" cy="963360"/>
              <a:chOff x="1416240" y="2752560"/>
              <a:chExt cx="5892120" cy="963360"/>
            </a:xfrm>
          </p:grpSpPr>
          <p:pic>
            <p:nvPicPr>
              <p:cNvPr id="912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1416240" y="2752560"/>
                <a:ext cx="5892120" cy="9633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913" name=""/>
              <p:cNvGrpSpPr/>
              <p:nvPr/>
            </p:nvGrpSpPr>
            <p:grpSpPr>
              <a:xfrm>
                <a:off x="1788120" y="2921040"/>
                <a:ext cx="4953600" cy="620280"/>
                <a:chOff x="1788120" y="2921040"/>
                <a:chExt cx="4953600" cy="620280"/>
              </a:xfrm>
            </p:grpSpPr>
            <p:sp>
              <p:nvSpPr>
                <p:cNvPr id="914" name=""/>
                <p:cNvSpPr/>
                <p:nvPr/>
              </p:nvSpPr>
              <p:spPr>
                <a:xfrm>
                  <a:off x="1788120" y="2921040"/>
                  <a:ext cx="4953600" cy="619920"/>
                </a:xfrm>
                <a:prstGeom prst="roundRect">
                  <a:avLst>
                    <a:gd name="adj" fmla="val 11250"/>
                  </a:avLst>
                </a:prstGeom>
                <a:gradFill rotWithShape="0">
                  <a:gsLst>
                    <a:gs pos="0">
                      <a:srgbClr val="fefefe"/>
                    </a:gs>
                    <a:gs pos="100000">
                      <a:srgbClr val="5b9d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87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5" name=""/>
                <p:cNvSpPr/>
                <p:nvPr/>
              </p:nvSpPr>
              <p:spPr>
                <a:xfrm>
                  <a:off x="1806120" y="2937600"/>
                  <a:ext cx="4707360" cy="60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93000"/>
                    </a:lnSpc>
                    <a:spcBef>
                      <a:spcPts val="1125"/>
                    </a:spcBef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333333"/>
                      </a:solidFill>
                      <a:latin typeface="Arial"/>
                    </a:rPr>
                    <a:t>OBLIGACIONES FORMALES: DDJJ COMPLEMENTARIAS Y ESTUDIO DE P.T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16" name=""/>
            <p:cNvGrpSpPr/>
            <p:nvPr/>
          </p:nvGrpSpPr>
          <p:grpSpPr>
            <a:xfrm>
              <a:off x="982800" y="2320920"/>
              <a:ext cx="739800" cy="1078920"/>
              <a:chOff x="982800" y="2320920"/>
              <a:chExt cx="739800" cy="1078920"/>
            </a:xfrm>
          </p:grpSpPr>
          <p:sp>
            <p:nvSpPr>
              <p:cNvPr id="917" name=""/>
              <p:cNvSpPr/>
              <p:nvPr/>
            </p:nvSpPr>
            <p:spPr>
              <a:xfrm flipV="1">
                <a:off x="982800" y="2752560"/>
                <a:ext cx="739800" cy="647280"/>
              </a:xfrm>
              <a:custGeom>
                <a:avLst/>
                <a:gdLst>
                  <a:gd name="textAreaLeft" fmla="*/ 0 w 739800"/>
                  <a:gd name="textAreaRight" fmla="*/ 740160 w 739800"/>
                  <a:gd name="textAreaTop" fmla="*/ 360 h 647280"/>
                  <a:gd name="textAreaBottom" fmla="*/ 648000 h 647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lnTo>
                      <a:pt x="0" y="12160"/>
                    </a:lnTo>
                    <a:arcTo wR="12427" hR="9260" stAng="10800000" swAng="5400000"/>
                    <a:lnTo>
                      <a:pt x="15100" y="2900"/>
                    </a:lnTo>
                    <a:lnTo>
                      <a:pt x="15100" y="0"/>
                    </a:lnTo>
                    <a:lnTo>
                      <a:pt x="21600" y="6079"/>
                    </a:lnTo>
                    <a:lnTo>
                      <a:pt x="15100" y="12158"/>
                    </a:lnTo>
                    <a:lnTo>
                      <a:pt x="15100" y="9258"/>
                    </a:lnTo>
                    <a:lnTo>
                      <a:pt x="12427" y="9258"/>
                    </a:lnTo>
                    <a:arcTo wR="6069" hR="2902" stAng="16200000" swAng="-5400000"/>
                    <a:lnTo>
                      <a:pt x="6358" y="216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982800" y="2320920"/>
                <a:ext cx="217440" cy="574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19" name=""/>
          <p:cNvGrpSpPr/>
          <p:nvPr/>
        </p:nvGrpSpPr>
        <p:grpSpPr>
          <a:xfrm>
            <a:off x="1908000" y="476280"/>
            <a:ext cx="6192720" cy="684000"/>
            <a:chOff x="1908000" y="476280"/>
            <a:chExt cx="6192720" cy="684000"/>
          </a:xfrm>
        </p:grpSpPr>
        <p:sp>
          <p:nvSpPr>
            <p:cNvPr id="920" name=""/>
            <p:cNvSpPr/>
            <p:nvPr/>
          </p:nvSpPr>
          <p:spPr>
            <a:xfrm>
              <a:off x="1908000" y="476280"/>
              <a:ext cx="6192720" cy="684000"/>
            </a:xfrm>
            <a:prstGeom prst="roundRect">
              <a:avLst>
                <a:gd name="adj" fmla="val 16764"/>
              </a:avLst>
            </a:prstGeom>
            <a:solidFill>
              <a:srgbClr val="000000"/>
            </a:solidFill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1967040" y="588240"/>
              <a:ext cx="60796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GB" sz="2400" spc="-1" strike="noStrike" u="sng">
                  <a:solidFill>
                    <a:srgbClr val="ffffff"/>
                  </a:solidFill>
                  <a:uFillTx/>
                  <a:latin typeface="Arial"/>
                </a:rPr>
                <a:t>I. IMPLEMENTACIÓN ADMINISTRATIV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8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8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8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8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9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9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9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9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9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9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9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9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"/>
          <p:cNvSpPr/>
          <p:nvPr/>
        </p:nvSpPr>
        <p:spPr>
          <a:xfrm>
            <a:off x="1025640" y="162000"/>
            <a:ext cx="760392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3" name=""/>
          <p:cNvGrpSpPr/>
          <p:nvPr/>
        </p:nvGrpSpPr>
        <p:grpSpPr>
          <a:xfrm>
            <a:off x="324000" y="1413000"/>
            <a:ext cx="6263640" cy="864720"/>
            <a:chOff x="324000" y="1413000"/>
            <a:chExt cx="6263640" cy="864720"/>
          </a:xfrm>
        </p:grpSpPr>
        <p:sp>
          <p:nvSpPr>
            <p:cNvPr id="924" name=""/>
            <p:cNvSpPr/>
            <p:nvPr/>
          </p:nvSpPr>
          <p:spPr>
            <a:xfrm>
              <a:off x="324000" y="1413000"/>
              <a:ext cx="6263640" cy="864720"/>
            </a:xfrm>
            <a:prstGeom prst="roundRect">
              <a:avLst>
                <a:gd name="adj" fmla="val 16593"/>
              </a:avLst>
            </a:prstGeom>
            <a:solidFill>
              <a:srgbClr val="000000"/>
            </a:solidFill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370080" y="1546920"/>
              <a:ext cx="6171120" cy="60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>
                <a:lnSpc>
                  <a:spcPct val="93000"/>
                </a:lnSpc>
                <a:spcBef>
                  <a:spcPts val="561"/>
                </a:spcBef>
                <a:spcAft>
                  <a:spcPts val="451"/>
                </a:spcAft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333333"/>
                  </a:solidFill>
                  <a:latin typeface="Frutiger-Bold"/>
                </a:rPr>
                <a:t>      </a:t>
              </a:r>
              <a:r>
                <a:rPr b="1" lang="en-GB" sz="1800" spc="-1" strike="noStrike">
                  <a:solidFill>
                    <a:srgbClr val="ffffff"/>
                  </a:solidFill>
                  <a:latin typeface="Frutiger-Bold"/>
                </a:rPr>
                <a:t>RÉGIMEN INFORMATIVO DE OPERACIONES   </a:t>
              </a:r>
              <a:r>
                <a:rPr b="1" lang="en-GB" sz="1800" spc="-1" strike="noStrike">
                  <a:solidFill>
                    <a:srgbClr val="ffffff"/>
                  </a:solidFill>
                  <a:latin typeface="Frutiger-Bold"/>
                </a:rPr>
                <a:t>	</a:t>
              </a:r>
              <a:r>
                <a:rPr b="1" lang="en-GB" sz="1800" spc="-1" strike="noStrike">
                  <a:solidFill>
                    <a:srgbClr val="ffffff"/>
                  </a:solidFill>
                  <a:latin typeface="Frutiger-Bold"/>
                </a:rPr>
                <a:t>INTERNACIONAL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6" name=""/>
          <p:cNvGrpSpPr/>
          <p:nvPr/>
        </p:nvGrpSpPr>
        <p:grpSpPr>
          <a:xfrm>
            <a:off x="1042920" y="2997360"/>
            <a:ext cx="7058160" cy="3745440"/>
            <a:chOff x="1042920" y="2997360"/>
            <a:chExt cx="7058160" cy="3745440"/>
          </a:xfrm>
        </p:grpSpPr>
        <p:grpSp>
          <p:nvGrpSpPr>
            <p:cNvPr id="927" name=""/>
            <p:cNvGrpSpPr/>
            <p:nvPr/>
          </p:nvGrpSpPr>
          <p:grpSpPr>
            <a:xfrm>
              <a:off x="1474920" y="3513600"/>
              <a:ext cx="6626160" cy="3229200"/>
              <a:chOff x="1474920" y="3513600"/>
              <a:chExt cx="6626160" cy="3229200"/>
            </a:xfrm>
          </p:grpSpPr>
          <p:pic>
            <p:nvPicPr>
              <p:cNvPr id="928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474920" y="3513600"/>
                <a:ext cx="6626160" cy="3229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29" name=""/>
              <p:cNvSpPr/>
              <p:nvPr/>
            </p:nvSpPr>
            <p:spPr>
              <a:xfrm>
                <a:off x="1846440" y="3879000"/>
                <a:ext cx="5605200" cy="2350440"/>
              </a:xfrm>
              <a:prstGeom prst="roundRect">
                <a:avLst>
                  <a:gd name="adj" fmla="val 11250"/>
                </a:avLst>
              </a:prstGeom>
              <a:gradFill rotWithShape="0">
                <a:gsLst>
                  <a:gs pos="0">
                    <a:srgbClr val="fefefe"/>
                  </a:gs>
                  <a:gs pos="100000">
                    <a:srgbClr val="5b9d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1908360" y="3879000"/>
                <a:ext cx="5400720" cy="237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93000"/>
                  </a:lnSpc>
                  <a:spcBef>
                    <a:spcPts val="1125"/>
                  </a:spcBef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333333"/>
                    </a:solidFill>
                    <a:latin typeface="Frutiger-Bold"/>
                  </a:rPr>
                  <a:t>OPERACIONES ALCANZADAS POR PRECIOS DE TRANSFERENCI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3000"/>
                  </a:lnSpc>
                  <a:spcBef>
                    <a:spcPts val="1125"/>
                  </a:spcBef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Frutiger-Bold"/>
                  </a:rPr>
                  <a:t>      </a:t>
                </a:r>
                <a:r>
                  <a:rPr b="1" lang="en-GB" sz="1800" spc="-1" strike="noStrike">
                    <a:solidFill>
                      <a:srgbClr val="000000"/>
                    </a:solidFill>
                    <a:latin typeface="Frutiger-Bold"/>
                  </a:rPr>
                  <a:t>- Empresas / Sujeto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Frutiger-Bold"/>
                  </a:rPr>
                  <a:t>      </a:t>
                </a:r>
                <a:r>
                  <a:rPr b="1" lang="en-GB" sz="1800" spc="-1" strike="noStrike">
                    <a:solidFill>
                      <a:srgbClr val="000000"/>
                    </a:solidFill>
                    <a:latin typeface="Frutiger-Bold"/>
                  </a:rPr>
                  <a:t>- Operaciones pactada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Frutiger-Bold"/>
                  </a:rPr>
                  <a:t>      </a:t>
                </a:r>
                <a:r>
                  <a:rPr b="1" lang="en-GB" sz="1800" spc="-1" strike="noStrike">
                    <a:solidFill>
                      <a:srgbClr val="000000"/>
                    </a:solidFill>
                    <a:latin typeface="Frutiger-Bold"/>
                  </a:rPr>
                  <a:t>- Valores / Importe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Frutiger-Bold"/>
                  </a:rPr>
                  <a:t>      </a:t>
                </a:r>
                <a:r>
                  <a:rPr b="1" lang="en-GB" sz="1800" spc="-1" strike="noStrike">
                    <a:solidFill>
                      <a:srgbClr val="000000"/>
                    </a:solidFill>
                    <a:latin typeface="Frutiger-Bold"/>
                  </a:rPr>
                  <a:t>- Métodos de justificación de P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Frutiger-Bold"/>
                  </a:rPr>
                  <a:t>      </a:t>
                </a:r>
                <a:r>
                  <a:rPr b="1" lang="en-GB" sz="1800" spc="-1" strike="noStrike">
                    <a:solidFill>
                      <a:srgbClr val="000000"/>
                    </a:solidFill>
                    <a:latin typeface="Frutiger-Bold"/>
                  </a:rPr>
                  <a:t>- Países, incluídos Paraísos Fiscale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Frutiger-Bold"/>
                  </a:rPr>
                  <a:t>      </a:t>
                </a:r>
                <a:r>
                  <a:rPr b="1" lang="en-GB" sz="1800" spc="-1" strike="noStrike">
                    <a:solidFill>
                      <a:srgbClr val="000000"/>
                    </a:solidFill>
                    <a:latin typeface="Frutiger-Bold"/>
                  </a:rPr>
                  <a:t>- Datos particulares de cada operació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1" name=""/>
            <p:cNvGrpSpPr/>
            <p:nvPr/>
          </p:nvGrpSpPr>
          <p:grpSpPr>
            <a:xfrm>
              <a:off x="1042920" y="2997360"/>
              <a:ext cx="742680" cy="1467720"/>
              <a:chOff x="1042920" y="2997360"/>
              <a:chExt cx="742680" cy="1467720"/>
            </a:xfrm>
          </p:grpSpPr>
          <p:sp>
            <p:nvSpPr>
              <p:cNvPr id="932" name=""/>
              <p:cNvSpPr/>
              <p:nvPr/>
            </p:nvSpPr>
            <p:spPr>
              <a:xfrm flipV="1">
                <a:off x="1042920" y="3804120"/>
                <a:ext cx="742680" cy="660600"/>
              </a:xfrm>
              <a:custGeom>
                <a:avLst/>
                <a:gdLst>
                  <a:gd name="textAreaLeft" fmla="*/ 0 w 742680"/>
                  <a:gd name="textAreaRight" fmla="*/ 743040 w 742680"/>
                  <a:gd name="textAreaTop" fmla="*/ -360 h 660600"/>
                  <a:gd name="textAreaBottom" fmla="*/ 660600 h 660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lnTo>
                      <a:pt x="0" y="12160"/>
                    </a:lnTo>
                    <a:arcTo wR="12427" hR="9260" stAng="10800000" swAng="5400000"/>
                    <a:lnTo>
                      <a:pt x="15100" y="2900"/>
                    </a:lnTo>
                    <a:lnTo>
                      <a:pt x="15100" y="0"/>
                    </a:lnTo>
                    <a:lnTo>
                      <a:pt x="21600" y="6079"/>
                    </a:lnTo>
                    <a:lnTo>
                      <a:pt x="15100" y="12158"/>
                    </a:lnTo>
                    <a:lnTo>
                      <a:pt x="15100" y="9258"/>
                    </a:lnTo>
                    <a:lnTo>
                      <a:pt x="12427" y="9258"/>
                    </a:lnTo>
                    <a:arcTo wR="6069" hR="2902" stAng="16200000" swAng="-5400000"/>
                    <a:lnTo>
                      <a:pt x="6358" y="216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1042920" y="2997360"/>
                <a:ext cx="217440" cy="8820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34" name=""/>
          <p:cNvGrpSpPr/>
          <p:nvPr/>
        </p:nvGrpSpPr>
        <p:grpSpPr>
          <a:xfrm>
            <a:off x="1042920" y="2278080"/>
            <a:ext cx="7055640" cy="1466640"/>
            <a:chOff x="1042920" y="2278080"/>
            <a:chExt cx="7055640" cy="1466640"/>
          </a:xfrm>
        </p:grpSpPr>
        <p:grpSp>
          <p:nvGrpSpPr>
            <p:cNvPr id="935" name=""/>
            <p:cNvGrpSpPr/>
            <p:nvPr/>
          </p:nvGrpSpPr>
          <p:grpSpPr>
            <a:xfrm>
              <a:off x="1474560" y="2638440"/>
              <a:ext cx="6624000" cy="1106280"/>
              <a:chOff x="1474560" y="2638440"/>
              <a:chExt cx="6624000" cy="1106280"/>
            </a:xfrm>
          </p:grpSpPr>
          <p:pic>
            <p:nvPicPr>
              <p:cNvPr id="936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474560" y="2638440"/>
                <a:ext cx="6624000" cy="11062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937" name=""/>
              <p:cNvGrpSpPr/>
              <p:nvPr/>
            </p:nvGrpSpPr>
            <p:grpSpPr>
              <a:xfrm>
                <a:off x="1892520" y="2831760"/>
                <a:ext cx="5568840" cy="711720"/>
                <a:chOff x="1892520" y="2831760"/>
                <a:chExt cx="5568840" cy="711720"/>
              </a:xfrm>
            </p:grpSpPr>
            <p:sp>
              <p:nvSpPr>
                <p:cNvPr id="938" name=""/>
                <p:cNvSpPr/>
                <p:nvPr/>
              </p:nvSpPr>
              <p:spPr>
                <a:xfrm>
                  <a:off x="1892520" y="2831760"/>
                  <a:ext cx="5568840" cy="711720"/>
                </a:xfrm>
                <a:prstGeom prst="roundRect">
                  <a:avLst>
                    <a:gd name="adj" fmla="val 11250"/>
                  </a:avLst>
                </a:prstGeom>
                <a:gradFill rotWithShape="0">
                  <a:gsLst>
                    <a:gs pos="0">
                      <a:srgbClr val="fefefe"/>
                    </a:gs>
                    <a:gs pos="100000">
                      <a:srgbClr val="5b9d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87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9" name=""/>
                <p:cNvSpPr/>
                <p:nvPr/>
              </p:nvSpPr>
              <p:spPr>
                <a:xfrm>
                  <a:off x="1912680" y="2850840"/>
                  <a:ext cx="5292000" cy="60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93000"/>
                    </a:lnSpc>
                    <a:spcBef>
                      <a:spcPts val="1125"/>
                    </a:spcBef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333333"/>
                      </a:solidFill>
                      <a:latin typeface="Frutiger-Bold"/>
                    </a:rPr>
                    <a:t>IMPORTACIONES Y EXPORTACIONES ENTRE SUJETOS INDEPENDIENTES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40" name=""/>
            <p:cNvGrpSpPr/>
            <p:nvPr/>
          </p:nvGrpSpPr>
          <p:grpSpPr>
            <a:xfrm>
              <a:off x="1042920" y="2278080"/>
              <a:ext cx="739440" cy="1078920"/>
              <a:chOff x="1042920" y="2278080"/>
              <a:chExt cx="739440" cy="1078920"/>
            </a:xfrm>
          </p:grpSpPr>
          <p:sp>
            <p:nvSpPr>
              <p:cNvPr id="941" name=""/>
              <p:cNvSpPr/>
              <p:nvPr/>
            </p:nvSpPr>
            <p:spPr>
              <a:xfrm flipV="1">
                <a:off x="1042920" y="2709720"/>
                <a:ext cx="739440" cy="647280"/>
              </a:xfrm>
              <a:custGeom>
                <a:avLst/>
                <a:gdLst>
                  <a:gd name="textAreaLeft" fmla="*/ 0 w 739440"/>
                  <a:gd name="textAreaRight" fmla="*/ 739800 w 739440"/>
                  <a:gd name="textAreaTop" fmla="*/ 360 h 647280"/>
                  <a:gd name="textAreaBottom" fmla="*/ 648000 h 647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lnTo>
                      <a:pt x="0" y="12160"/>
                    </a:lnTo>
                    <a:arcTo wR="12427" hR="9260" stAng="10800000" swAng="5400000"/>
                    <a:lnTo>
                      <a:pt x="15100" y="2900"/>
                    </a:lnTo>
                    <a:lnTo>
                      <a:pt x="15100" y="0"/>
                    </a:lnTo>
                    <a:lnTo>
                      <a:pt x="21600" y="6079"/>
                    </a:lnTo>
                    <a:lnTo>
                      <a:pt x="15100" y="12158"/>
                    </a:lnTo>
                    <a:lnTo>
                      <a:pt x="15100" y="9258"/>
                    </a:lnTo>
                    <a:lnTo>
                      <a:pt x="12427" y="9258"/>
                    </a:lnTo>
                    <a:arcTo wR="6069" hR="2902" stAng="16200000" swAng="-5400000"/>
                    <a:lnTo>
                      <a:pt x="6358" y="216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1042920" y="2278080"/>
                <a:ext cx="217080" cy="574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43" name=""/>
          <p:cNvGrpSpPr/>
          <p:nvPr/>
        </p:nvGrpSpPr>
        <p:grpSpPr>
          <a:xfrm>
            <a:off x="1979640" y="476280"/>
            <a:ext cx="6192360" cy="684000"/>
            <a:chOff x="1979640" y="476280"/>
            <a:chExt cx="6192360" cy="684000"/>
          </a:xfrm>
        </p:grpSpPr>
        <p:sp>
          <p:nvSpPr>
            <p:cNvPr id="944" name=""/>
            <p:cNvSpPr/>
            <p:nvPr/>
          </p:nvSpPr>
          <p:spPr>
            <a:xfrm>
              <a:off x="1979640" y="476280"/>
              <a:ext cx="6192360" cy="684000"/>
            </a:xfrm>
            <a:prstGeom prst="roundRect">
              <a:avLst>
                <a:gd name="adj" fmla="val 16764"/>
              </a:avLst>
            </a:prstGeom>
            <a:solidFill>
              <a:srgbClr val="000000"/>
            </a:solidFill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2038680" y="588240"/>
              <a:ext cx="6079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GB" sz="2400" spc="-1" strike="noStrike" u="sng">
                  <a:solidFill>
                    <a:srgbClr val="ffffff"/>
                  </a:solidFill>
                  <a:uFillTx/>
                  <a:latin typeface="Arial"/>
                </a:rPr>
                <a:t>I. IMPLEMENTACIÓN ADMINISTRATIV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9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9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9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9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9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9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9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"/>
          <p:cNvSpPr/>
          <p:nvPr/>
        </p:nvSpPr>
        <p:spPr>
          <a:xfrm>
            <a:off x="1025640" y="162000"/>
            <a:ext cx="760392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7" name=""/>
          <p:cNvGrpSpPr/>
          <p:nvPr/>
        </p:nvGrpSpPr>
        <p:grpSpPr>
          <a:xfrm>
            <a:off x="971640" y="1557360"/>
            <a:ext cx="7218000" cy="1723680"/>
            <a:chOff x="971640" y="1557360"/>
            <a:chExt cx="7218000" cy="1723680"/>
          </a:xfrm>
        </p:grpSpPr>
        <p:grpSp>
          <p:nvGrpSpPr>
            <p:cNvPr id="948" name=""/>
            <p:cNvGrpSpPr/>
            <p:nvPr/>
          </p:nvGrpSpPr>
          <p:grpSpPr>
            <a:xfrm>
              <a:off x="1908360" y="2419200"/>
              <a:ext cx="6281280" cy="861840"/>
              <a:chOff x="1908360" y="2419200"/>
              <a:chExt cx="6281280" cy="861840"/>
            </a:xfrm>
          </p:grpSpPr>
          <p:sp>
            <p:nvSpPr>
              <p:cNvPr id="949" name=""/>
              <p:cNvSpPr/>
              <p:nvPr/>
            </p:nvSpPr>
            <p:spPr>
              <a:xfrm>
                <a:off x="1908360" y="2419200"/>
                <a:ext cx="6281280" cy="861840"/>
              </a:xfrm>
              <a:prstGeom prst="roundRect">
                <a:avLst>
                  <a:gd name="adj" fmla="val 16810"/>
                </a:avLst>
              </a:prstGeom>
              <a:solidFill>
                <a:srgbClr val="000000"/>
              </a:solidFill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1954800" y="2672640"/>
                <a:ext cx="618840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>
                  <a:lnSpc>
                    <a:spcPct val="93000"/>
                  </a:lnSpc>
                  <a:spcBef>
                    <a:spcPts val="561"/>
                  </a:spcBef>
                  <a:spcAft>
                    <a:spcPts val="451"/>
                  </a:spcAft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ffffff"/>
                    </a:solidFill>
                    <a:latin typeface="Arial"/>
                  </a:rPr>
                  <a:t>1. ANÁLISIS PREVIO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51" name=""/>
            <p:cNvGrpSpPr/>
            <p:nvPr/>
          </p:nvGrpSpPr>
          <p:grpSpPr>
            <a:xfrm>
              <a:off x="971640" y="1557360"/>
              <a:ext cx="936720" cy="1584360"/>
              <a:chOff x="971640" y="1557360"/>
              <a:chExt cx="936720" cy="1584360"/>
            </a:xfrm>
          </p:grpSpPr>
          <p:sp>
            <p:nvSpPr>
              <p:cNvPr id="952" name=""/>
              <p:cNvSpPr/>
              <p:nvPr/>
            </p:nvSpPr>
            <p:spPr>
              <a:xfrm flipV="1">
                <a:off x="971640" y="2205000"/>
                <a:ext cx="936720" cy="936720"/>
              </a:xfrm>
              <a:custGeom>
                <a:avLst/>
                <a:gdLst>
                  <a:gd name="textAreaLeft" fmla="*/ 0 w 936720"/>
                  <a:gd name="textAreaRight" fmla="*/ 937080 w 936720"/>
                  <a:gd name="textAreaTop" fmla="*/ 360 h 936720"/>
                  <a:gd name="textAreaBottom" fmla="*/ 937440 h 936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lnTo>
                      <a:pt x="0" y="12160"/>
                    </a:lnTo>
                    <a:arcTo wR="12427" hR="9260" stAng="10800000" swAng="5400000"/>
                    <a:lnTo>
                      <a:pt x="15100" y="2900"/>
                    </a:lnTo>
                    <a:lnTo>
                      <a:pt x="15100" y="0"/>
                    </a:lnTo>
                    <a:lnTo>
                      <a:pt x="21600" y="6079"/>
                    </a:lnTo>
                    <a:lnTo>
                      <a:pt x="15100" y="12158"/>
                    </a:lnTo>
                    <a:lnTo>
                      <a:pt x="15100" y="9258"/>
                    </a:lnTo>
                    <a:lnTo>
                      <a:pt x="12427" y="9258"/>
                    </a:lnTo>
                    <a:arcTo wR="6069" hR="2902" stAng="16200000" swAng="-5400000"/>
                    <a:lnTo>
                      <a:pt x="6358" y="216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971640" y="1557360"/>
                <a:ext cx="287280" cy="936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54" name=""/>
          <p:cNvGrpSpPr/>
          <p:nvPr/>
        </p:nvGrpSpPr>
        <p:grpSpPr>
          <a:xfrm>
            <a:off x="971640" y="2565360"/>
            <a:ext cx="7200360" cy="1799640"/>
            <a:chOff x="971640" y="2565360"/>
            <a:chExt cx="7200360" cy="1799640"/>
          </a:xfrm>
        </p:grpSpPr>
        <p:grpSp>
          <p:nvGrpSpPr>
            <p:cNvPr id="955" name=""/>
            <p:cNvGrpSpPr/>
            <p:nvPr/>
          </p:nvGrpSpPr>
          <p:grpSpPr>
            <a:xfrm>
              <a:off x="1908360" y="3573360"/>
              <a:ext cx="6263640" cy="791640"/>
              <a:chOff x="1908360" y="3573360"/>
              <a:chExt cx="6263640" cy="791640"/>
            </a:xfrm>
          </p:grpSpPr>
          <p:sp>
            <p:nvSpPr>
              <p:cNvPr id="956" name=""/>
              <p:cNvSpPr/>
              <p:nvPr/>
            </p:nvSpPr>
            <p:spPr>
              <a:xfrm>
                <a:off x="1908360" y="3573360"/>
                <a:ext cx="6263640" cy="791640"/>
              </a:xfrm>
              <a:prstGeom prst="roundRect">
                <a:avLst>
                  <a:gd name="adj" fmla="val 16593"/>
                </a:avLst>
              </a:prstGeom>
              <a:solidFill>
                <a:srgbClr val="000000"/>
              </a:solidFill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1954440" y="3793320"/>
                <a:ext cx="617112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>
                  <a:lnSpc>
                    <a:spcPct val="93000"/>
                  </a:lnSpc>
                  <a:spcBef>
                    <a:spcPts val="561"/>
                  </a:spcBef>
                  <a:spcAft>
                    <a:spcPts val="451"/>
                  </a:spcAft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ffffff"/>
                    </a:solidFill>
                    <a:latin typeface="Arial"/>
                  </a:rPr>
                  <a:t>2. FISCALIZACIÓ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58" name=""/>
            <p:cNvGrpSpPr/>
            <p:nvPr/>
          </p:nvGrpSpPr>
          <p:grpSpPr>
            <a:xfrm>
              <a:off x="971640" y="2565360"/>
              <a:ext cx="936720" cy="1583280"/>
              <a:chOff x="971640" y="2565360"/>
              <a:chExt cx="936720" cy="1583280"/>
            </a:xfrm>
          </p:grpSpPr>
          <p:sp>
            <p:nvSpPr>
              <p:cNvPr id="959" name=""/>
              <p:cNvSpPr/>
              <p:nvPr/>
            </p:nvSpPr>
            <p:spPr>
              <a:xfrm flipV="1">
                <a:off x="971640" y="3211920"/>
                <a:ext cx="936720" cy="936360"/>
              </a:xfrm>
              <a:custGeom>
                <a:avLst/>
                <a:gdLst>
                  <a:gd name="textAreaLeft" fmla="*/ 0 w 936720"/>
                  <a:gd name="textAreaRight" fmla="*/ 937080 w 936720"/>
                  <a:gd name="textAreaTop" fmla="*/ -360 h 936360"/>
                  <a:gd name="textAreaBottom" fmla="*/ 936360 h 936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lnTo>
                      <a:pt x="0" y="12160"/>
                    </a:lnTo>
                    <a:arcTo wR="12427" hR="9260" stAng="10800000" swAng="5400000"/>
                    <a:lnTo>
                      <a:pt x="15100" y="2900"/>
                    </a:lnTo>
                    <a:lnTo>
                      <a:pt x="15100" y="0"/>
                    </a:lnTo>
                    <a:lnTo>
                      <a:pt x="21600" y="6079"/>
                    </a:lnTo>
                    <a:lnTo>
                      <a:pt x="15100" y="12158"/>
                    </a:lnTo>
                    <a:lnTo>
                      <a:pt x="15100" y="9258"/>
                    </a:lnTo>
                    <a:lnTo>
                      <a:pt x="12427" y="9258"/>
                    </a:lnTo>
                    <a:arcTo wR="6069" hR="2902" stAng="16200000" swAng="-5400000"/>
                    <a:lnTo>
                      <a:pt x="6358" y="216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971640" y="2565360"/>
                <a:ext cx="287280" cy="936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61" name=""/>
          <p:cNvGrpSpPr/>
          <p:nvPr/>
        </p:nvGrpSpPr>
        <p:grpSpPr>
          <a:xfrm>
            <a:off x="971640" y="3500280"/>
            <a:ext cx="7200360" cy="1799640"/>
            <a:chOff x="971640" y="3500280"/>
            <a:chExt cx="7200360" cy="1799640"/>
          </a:xfrm>
        </p:grpSpPr>
        <p:grpSp>
          <p:nvGrpSpPr>
            <p:cNvPr id="962" name=""/>
            <p:cNvGrpSpPr/>
            <p:nvPr/>
          </p:nvGrpSpPr>
          <p:grpSpPr>
            <a:xfrm>
              <a:off x="1908360" y="4508280"/>
              <a:ext cx="6263640" cy="791640"/>
              <a:chOff x="1908360" y="4508280"/>
              <a:chExt cx="6263640" cy="791640"/>
            </a:xfrm>
          </p:grpSpPr>
          <p:sp>
            <p:nvSpPr>
              <p:cNvPr id="963" name=""/>
              <p:cNvSpPr/>
              <p:nvPr/>
            </p:nvSpPr>
            <p:spPr>
              <a:xfrm>
                <a:off x="1908360" y="4508280"/>
                <a:ext cx="6263640" cy="791640"/>
              </a:xfrm>
              <a:prstGeom prst="roundRect">
                <a:avLst>
                  <a:gd name="adj" fmla="val 16593"/>
                </a:avLst>
              </a:prstGeom>
              <a:solidFill>
                <a:srgbClr val="000000"/>
              </a:solidFill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1954440" y="4728240"/>
                <a:ext cx="617112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>
                  <a:lnSpc>
                    <a:spcPct val="93000"/>
                  </a:lnSpc>
                  <a:spcBef>
                    <a:spcPts val="561"/>
                  </a:spcBef>
                  <a:spcAft>
                    <a:spcPts val="451"/>
                  </a:spcAft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ffffff"/>
                    </a:solidFill>
                    <a:latin typeface="Arial"/>
                  </a:rPr>
                  <a:t>3. ESTUDIOS SECTORIALE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65" name=""/>
            <p:cNvGrpSpPr/>
            <p:nvPr/>
          </p:nvGrpSpPr>
          <p:grpSpPr>
            <a:xfrm>
              <a:off x="971640" y="3500280"/>
              <a:ext cx="936720" cy="1583280"/>
              <a:chOff x="971640" y="3500280"/>
              <a:chExt cx="936720" cy="1583280"/>
            </a:xfrm>
          </p:grpSpPr>
          <p:sp>
            <p:nvSpPr>
              <p:cNvPr id="966" name=""/>
              <p:cNvSpPr/>
              <p:nvPr/>
            </p:nvSpPr>
            <p:spPr>
              <a:xfrm flipV="1">
                <a:off x="971640" y="4146840"/>
                <a:ext cx="936720" cy="936360"/>
              </a:xfrm>
              <a:custGeom>
                <a:avLst/>
                <a:gdLst>
                  <a:gd name="textAreaLeft" fmla="*/ 0 w 936720"/>
                  <a:gd name="textAreaRight" fmla="*/ 937080 w 936720"/>
                  <a:gd name="textAreaTop" fmla="*/ -360 h 936360"/>
                  <a:gd name="textAreaBottom" fmla="*/ 936360 h 936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lnTo>
                      <a:pt x="0" y="12160"/>
                    </a:lnTo>
                    <a:arcTo wR="12427" hR="9260" stAng="10800000" swAng="5400000"/>
                    <a:lnTo>
                      <a:pt x="15100" y="2900"/>
                    </a:lnTo>
                    <a:lnTo>
                      <a:pt x="15100" y="0"/>
                    </a:lnTo>
                    <a:lnTo>
                      <a:pt x="21600" y="6079"/>
                    </a:lnTo>
                    <a:lnTo>
                      <a:pt x="15100" y="12158"/>
                    </a:lnTo>
                    <a:lnTo>
                      <a:pt x="15100" y="9258"/>
                    </a:lnTo>
                    <a:lnTo>
                      <a:pt x="12427" y="9258"/>
                    </a:lnTo>
                    <a:arcTo wR="6069" hR="2902" stAng="16200000" swAng="-5400000"/>
                    <a:lnTo>
                      <a:pt x="6358" y="216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971640" y="3500280"/>
                <a:ext cx="287280" cy="936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68" name=""/>
          <p:cNvGrpSpPr/>
          <p:nvPr/>
        </p:nvGrpSpPr>
        <p:grpSpPr>
          <a:xfrm>
            <a:off x="971640" y="4437000"/>
            <a:ext cx="7200360" cy="1799640"/>
            <a:chOff x="971640" y="4437000"/>
            <a:chExt cx="7200360" cy="1799640"/>
          </a:xfrm>
        </p:grpSpPr>
        <p:grpSp>
          <p:nvGrpSpPr>
            <p:cNvPr id="969" name=""/>
            <p:cNvGrpSpPr/>
            <p:nvPr/>
          </p:nvGrpSpPr>
          <p:grpSpPr>
            <a:xfrm>
              <a:off x="1908360" y="5445000"/>
              <a:ext cx="6263640" cy="791640"/>
              <a:chOff x="1908360" y="5445000"/>
              <a:chExt cx="6263640" cy="791640"/>
            </a:xfrm>
          </p:grpSpPr>
          <p:sp>
            <p:nvSpPr>
              <p:cNvPr id="970" name=""/>
              <p:cNvSpPr/>
              <p:nvPr/>
            </p:nvSpPr>
            <p:spPr>
              <a:xfrm>
                <a:off x="1908360" y="5445000"/>
                <a:ext cx="6263640" cy="791640"/>
              </a:xfrm>
              <a:prstGeom prst="roundRect">
                <a:avLst>
                  <a:gd name="adj" fmla="val 16593"/>
                </a:avLst>
              </a:prstGeom>
              <a:solidFill>
                <a:srgbClr val="000000"/>
              </a:solidFill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1954440" y="5664960"/>
                <a:ext cx="617112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>
                  <a:lnSpc>
                    <a:spcPct val="93000"/>
                  </a:lnSpc>
                  <a:spcBef>
                    <a:spcPts val="561"/>
                  </a:spcBef>
                  <a:spcAft>
                    <a:spcPts val="451"/>
                  </a:spcAft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ffffff"/>
                    </a:solidFill>
                    <a:latin typeface="Arial"/>
                  </a:rPr>
                  <a:t>4. BASE INFORMÁTIC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2" name=""/>
            <p:cNvGrpSpPr/>
            <p:nvPr/>
          </p:nvGrpSpPr>
          <p:grpSpPr>
            <a:xfrm>
              <a:off x="971640" y="4437000"/>
              <a:ext cx="936720" cy="1583280"/>
              <a:chOff x="971640" y="4437000"/>
              <a:chExt cx="936720" cy="1583280"/>
            </a:xfrm>
          </p:grpSpPr>
          <p:sp>
            <p:nvSpPr>
              <p:cNvPr id="973" name=""/>
              <p:cNvSpPr/>
              <p:nvPr/>
            </p:nvSpPr>
            <p:spPr>
              <a:xfrm flipV="1">
                <a:off x="971640" y="5083560"/>
                <a:ext cx="936720" cy="936360"/>
              </a:xfrm>
              <a:custGeom>
                <a:avLst/>
                <a:gdLst>
                  <a:gd name="textAreaLeft" fmla="*/ 0 w 936720"/>
                  <a:gd name="textAreaRight" fmla="*/ 937080 w 936720"/>
                  <a:gd name="textAreaTop" fmla="*/ -360 h 936360"/>
                  <a:gd name="textAreaBottom" fmla="*/ 936360 h 936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lnTo>
                      <a:pt x="0" y="12160"/>
                    </a:lnTo>
                    <a:arcTo wR="12427" hR="9260" stAng="10800000" swAng="5400000"/>
                    <a:lnTo>
                      <a:pt x="15100" y="2900"/>
                    </a:lnTo>
                    <a:lnTo>
                      <a:pt x="15100" y="0"/>
                    </a:lnTo>
                    <a:lnTo>
                      <a:pt x="21600" y="6079"/>
                    </a:lnTo>
                    <a:lnTo>
                      <a:pt x="15100" y="12158"/>
                    </a:lnTo>
                    <a:lnTo>
                      <a:pt x="15100" y="9258"/>
                    </a:lnTo>
                    <a:lnTo>
                      <a:pt x="12427" y="9258"/>
                    </a:lnTo>
                    <a:arcTo wR="6069" hR="2902" stAng="16200000" swAng="-5400000"/>
                    <a:lnTo>
                      <a:pt x="6358" y="216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971640" y="4437000"/>
                <a:ext cx="287280" cy="936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5" name=""/>
          <p:cNvGrpSpPr/>
          <p:nvPr/>
        </p:nvGrpSpPr>
        <p:grpSpPr>
          <a:xfrm>
            <a:off x="324000" y="1341360"/>
            <a:ext cx="5760360" cy="674280"/>
            <a:chOff x="324000" y="1341360"/>
            <a:chExt cx="5760360" cy="674280"/>
          </a:xfrm>
        </p:grpSpPr>
        <p:sp>
          <p:nvSpPr>
            <p:cNvPr id="976" name=""/>
            <p:cNvSpPr/>
            <p:nvPr/>
          </p:nvSpPr>
          <p:spPr>
            <a:xfrm>
              <a:off x="324000" y="1341360"/>
              <a:ext cx="5760360" cy="674280"/>
            </a:xfrm>
            <a:prstGeom prst="roundRect">
              <a:avLst>
                <a:gd name="adj" fmla="val 16764"/>
              </a:avLst>
            </a:prstGeom>
            <a:solidFill>
              <a:srgbClr val="000000"/>
            </a:solidFill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379080" y="1449000"/>
              <a:ext cx="56552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ff"/>
                  </a:solidFill>
                  <a:latin typeface="Arial"/>
                </a:rPr>
                <a:t>II. PROCESO DE CONTRO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9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9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9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9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9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9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9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9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9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9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9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9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9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9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9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9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9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8" name=""/>
          <p:cNvGrpSpPr/>
          <p:nvPr/>
        </p:nvGrpSpPr>
        <p:grpSpPr>
          <a:xfrm>
            <a:off x="324000" y="1484280"/>
            <a:ext cx="6119280" cy="864720"/>
            <a:chOff x="324000" y="1484280"/>
            <a:chExt cx="6119280" cy="864720"/>
          </a:xfrm>
        </p:grpSpPr>
        <p:sp>
          <p:nvSpPr>
            <p:cNvPr id="979" name=""/>
            <p:cNvSpPr/>
            <p:nvPr/>
          </p:nvSpPr>
          <p:spPr>
            <a:xfrm>
              <a:off x="324000" y="1484280"/>
              <a:ext cx="6119280" cy="864720"/>
            </a:xfrm>
            <a:prstGeom prst="roundRect">
              <a:avLst>
                <a:gd name="adj" fmla="val 16593"/>
              </a:avLst>
            </a:prstGeom>
            <a:solidFill>
              <a:srgbClr val="000000"/>
            </a:solidFill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369000" y="1702440"/>
              <a:ext cx="6028920" cy="43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>
                <a:lnSpc>
                  <a:spcPct val="93000"/>
                </a:lnSpc>
                <a:spcBef>
                  <a:spcPts val="561"/>
                </a:spcBef>
                <a:spcAft>
                  <a:spcPts val="451"/>
                </a:spcAft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ff"/>
                  </a:solidFill>
                  <a:latin typeface="Arial"/>
                </a:rPr>
                <a:t>1.  ANÁLISIS PREVI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1" name=""/>
          <p:cNvGrpSpPr/>
          <p:nvPr/>
        </p:nvGrpSpPr>
        <p:grpSpPr>
          <a:xfrm>
            <a:off x="1332000" y="3141720"/>
            <a:ext cx="6624000" cy="2014560"/>
            <a:chOff x="1332000" y="3141720"/>
            <a:chExt cx="6624000" cy="2014560"/>
          </a:xfrm>
        </p:grpSpPr>
        <p:grpSp>
          <p:nvGrpSpPr>
            <p:cNvPr id="982" name=""/>
            <p:cNvGrpSpPr/>
            <p:nvPr/>
          </p:nvGrpSpPr>
          <p:grpSpPr>
            <a:xfrm>
              <a:off x="1785240" y="3789360"/>
              <a:ext cx="6170760" cy="1366920"/>
              <a:chOff x="1785240" y="3789360"/>
              <a:chExt cx="6170760" cy="1366920"/>
            </a:xfrm>
          </p:grpSpPr>
          <p:pic>
            <p:nvPicPr>
              <p:cNvPr id="983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785240" y="3789360"/>
                <a:ext cx="6170760" cy="1366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84" name=""/>
              <p:cNvSpPr/>
              <p:nvPr/>
            </p:nvSpPr>
            <p:spPr>
              <a:xfrm>
                <a:off x="2175120" y="3962520"/>
                <a:ext cx="5187960" cy="977760"/>
              </a:xfrm>
              <a:prstGeom prst="roundRect">
                <a:avLst>
                  <a:gd name="adj" fmla="val 11250"/>
                </a:avLst>
              </a:prstGeom>
              <a:gradFill rotWithShape="0">
                <a:gsLst>
                  <a:gs pos="0">
                    <a:srgbClr val="fefefe"/>
                  </a:gs>
                  <a:gs pos="100000">
                    <a:srgbClr val="5b9d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>
                <a:off x="2238480" y="4005360"/>
                <a:ext cx="4929480" cy="85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93000"/>
                  </a:lnSpc>
                  <a:spcBef>
                    <a:spcPts val="1125"/>
                  </a:spcBef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ESTUDIOS ECONÓMICOS-TRIBUTARIOS SECTORIALES PARA OPERACIONES INTERNACIONALE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86" name=""/>
            <p:cNvGrpSpPr/>
            <p:nvPr/>
          </p:nvGrpSpPr>
          <p:grpSpPr>
            <a:xfrm>
              <a:off x="1332000" y="3141720"/>
              <a:ext cx="779400" cy="1440000"/>
              <a:chOff x="1332000" y="3141720"/>
              <a:chExt cx="779400" cy="1440000"/>
            </a:xfrm>
          </p:grpSpPr>
          <p:sp>
            <p:nvSpPr>
              <p:cNvPr id="987" name=""/>
              <p:cNvSpPr/>
              <p:nvPr/>
            </p:nvSpPr>
            <p:spPr>
              <a:xfrm flipV="1">
                <a:off x="1332000" y="3933720"/>
                <a:ext cx="779400" cy="648000"/>
              </a:xfrm>
              <a:custGeom>
                <a:avLst/>
                <a:gdLst>
                  <a:gd name="textAreaLeft" fmla="*/ 0 w 779400"/>
                  <a:gd name="textAreaRight" fmla="*/ 779760 w 779400"/>
                  <a:gd name="textAreaTop" fmla="*/ 0 h 648000"/>
                  <a:gd name="textAreaBottom" fmla="*/ 648000 h 648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lnTo>
                      <a:pt x="0" y="12160"/>
                    </a:lnTo>
                    <a:arcTo wR="12427" hR="9260" stAng="10800000" swAng="5400000"/>
                    <a:lnTo>
                      <a:pt x="15100" y="2900"/>
                    </a:lnTo>
                    <a:lnTo>
                      <a:pt x="15100" y="0"/>
                    </a:lnTo>
                    <a:lnTo>
                      <a:pt x="21600" y="6079"/>
                    </a:lnTo>
                    <a:lnTo>
                      <a:pt x="15100" y="12158"/>
                    </a:lnTo>
                    <a:lnTo>
                      <a:pt x="15100" y="9258"/>
                    </a:lnTo>
                    <a:lnTo>
                      <a:pt x="12427" y="9258"/>
                    </a:lnTo>
                    <a:arcTo wR="6069" hR="2902" stAng="16200000" swAng="-5400000"/>
                    <a:lnTo>
                      <a:pt x="6358" y="216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1332000" y="3141720"/>
                <a:ext cx="228240" cy="865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89" name=""/>
          <p:cNvGrpSpPr/>
          <p:nvPr/>
        </p:nvGrpSpPr>
        <p:grpSpPr>
          <a:xfrm>
            <a:off x="1332000" y="2349360"/>
            <a:ext cx="6624000" cy="1395720"/>
            <a:chOff x="1332000" y="2349360"/>
            <a:chExt cx="6624000" cy="1395720"/>
          </a:xfrm>
        </p:grpSpPr>
        <p:grpSp>
          <p:nvGrpSpPr>
            <p:cNvPr id="990" name=""/>
            <p:cNvGrpSpPr/>
            <p:nvPr/>
          </p:nvGrpSpPr>
          <p:grpSpPr>
            <a:xfrm>
              <a:off x="1785600" y="2781360"/>
              <a:ext cx="6170400" cy="963720"/>
              <a:chOff x="1785600" y="2781360"/>
              <a:chExt cx="6170400" cy="963720"/>
            </a:xfrm>
          </p:grpSpPr>
          <p:pic>
            <p:nvPicPr>
              <p:cNvPr id="991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785600" y="2781360"/>
                <a:ext cx="6170400" cy="9637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992" name=""/>
              <p:cNvGrpSpPr/>
              <p:nvPr/>
            </p:nvGrpSpPr>
            <p:grpSpPr>
              <a:xfrm>
                <a:off x="2175120" y="2949840"/>
                <a:ext cx="5187600" cy="620280"/>
                <a:chOff x="2175120" y="2949840"/>
                <a:chExt cx="5187600" cy="620280"/>
              </a:xfrm>
            </p:grpSpPr>
            <p:sp>
              <p:nvSpPr>
                <p:cNvPr id="993" name=""/>
                <p:cNvSpPr/>
                <p:nvPr/>
              </p:nvSpPr>
              <p:spPr>
                <a:xfrm>
                  <a:off x="2175120" y="2949840"/>
                  <a:ext cx="5187600" cy="619920"/>
                </a:xfrm>
                <a:prstGeom prst="roundRect">
                  <a:avLst>
                    <a:gd name="adj" fmla="val 11250"/>
                  </a:avLst>
                </a:prstGeom>
                <a:gradFill rotWithShape="0">
                  <a:gsLst>
                    <a:gs pos="0">
                      <a:srgbClr val="fefefe"/>
                    </a:gs>
                    <a:gs pos="100000">
                      <a:srgbClr val="5b9d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87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4" name=""/>
                <p:cNvSpPr/>
                <p:nvPr/>
              </p:nvSpPr>
              <p:spPr>
                <a:xfrm>
                  <a:off x="2193840" y="2966400"/>
                  <a:ext cx="4929480" cy="60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93000"/>
                    </a:lnSpc>
                    <a:spcBef>
                      <a:spcPts val="1125"/>
                    </a:spcBef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INDIVIDUALIZACIÓN DE LOS SECTORES Y OPERACIONES DE ALTO RIESGO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95" name=""/>
            <p:cNvGrpSpPr/>
            <p:nvPr/>
          </p:nvGrpSpPr>
          <p:grpSpPr>
            <a:xfrm>
              <a:off x="1332000" y="2349360"/>
              <a:ext cx="774360" cy="1079280"/>
              <a:chOff x="1332000" y="2349360"/>
              <a:chExt cx="774360" cy="1079280"/>
            </a:xfrm>
          </p:grpSpPr>
          <p:sp>
            <p:nvSpPr>
              <p:cNvPr id="996" name=""/>
              <p:cNvSpPr/>
              <p:nvPr/>
            </p:nvSpPr>
            <p:spPr>
              <a:xfrm flipV="1">
                <a:off x="1332000" y="2780640"/>
                <a:ext cx="774360" cy="647640"/>
              </a:xfrm>
              <a:custGeom>
                <a:avLst/>
                <a:gdLst>
                  <a:gd name="textAreaLeft" fmla="*/ 0 w 774360"/>
                  <a:gd name="textAreaRight" fmla="*/ 774720 w 774360"/>
                  <a:gd name="textAreaTop" fmla="*/ -360 h 647640"/>
                  <a:gd name="textAreaBottom" fmla="*/ 647640 h 647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lnTo>
                      <a:pt x="0" y="12160"/>
                    </a:lnTo>
                    <a:arcTo wR="12427" hR="9260" stAng="10800000" swAng="5400000"/>
                    <a:lnTo>
                      <a:pt x="15100" y="2900"/>
                    </a:lnTo>
                    <a:lnTo>
                      <a:pt x="15100" y="0"/>
                    </a:lnTo>
                    <a:lnTo>
                      <a:pt x="21600" y="6079"/>
                    </a:lnTo>
                    <a:lnTo>
                      <a:pt x="15100" y="12158"/>
                    </a:lnTo>
                    <a:lnTo>
                      <a:pt x="15100" y="9258"/>
                    </a:lnTo>
                    <a:lnTo>
                      <a:pt x="12427" y="9258"/>
                    </a:lnTo>
                    <a:arcTo wR="6069" hR="2902" stAng="16200000" swAng="-5400000"/>
                    <a:lnTo>
                      <a:pt x="6358" y="216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1332000" y="2349360"/>
                <a:ext cx="227520" cy="574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98" name=""/>
          <p:cNvGrpSpPr/>
          <p:nvPr/>
        </p:nvGrpSpPr>
        <p:grpSpPr>
          <a:xfrm>
            <a:off x="2050920" y="476280"/>
            <a:ext cx="5760720" cy="674280"/>
            <a:chOff x="2050920" y="476280"/>
            <a:chExt cx="5760720" cy="674280"/>
          </a:xfrm>
        </p:grpSpPr>
        <p:sp>
          <p:nvSpPr>
            <p:cNvPr id="999" name=""/>
            <p:cNvSpPr/>
            <p:nvPr/>
          </p:nvSpPr>
          <p:spPr>
            <a:xfrm>
              <a:off x="2050920" y="476280"/>
              <a:ext cx="5760720" cy="674280"/>
            </a:xfrm>
            <a:prstGeom prst="roundRect">
              <a:avLst>
                <a:gd name="adj" fmla="val 16764"/>
              </a:avLst>
            </a:prstGeom>
            <a:solidFill>
              <a:srgbClr val="000000"/>
            </a:solidFill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2106000" y="583920"/>
              <a:ext cx="56556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ff"/>
                  </a:solidFill>
                  <a:latin typeface="Arial"/>
                </a:rPr>
                <a:t>II. PROCESO DE CONTRO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9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9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9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9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9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9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9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9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"/>
          <p:cNvSpPr/>
          <p:nvPr/>
        </p:nvSpPr>
        <p:spPr>
          <a:xfrm>
            <a:off x="1025640" y="162000"/>
            <a:ext cx="760392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2" name=""/>
          <p:cNvGrpSpPr/>
          <p:nvPr/>
        </p:nvGrpSpPr>
        <p:grpSpPr>
          <a:xfrm>
            <a:off x="250920" y="1484280"/>
            <a:ext cx="6121080" cy="864720"/>
            <a:chOff x="250920" y="1484280"/>
            <a:chExt cx="6121080" cy="864720"/>
          </a:xfrm>
        </p:grpSpPr>
        <p:sp>
          <p:nvSpPr>
            <p:cNvPr id="1003" name=""/>
            <p:cNvSpPr/>
            <p:nvPr/>
          </p:nvSpPr>
          <p:spPr>
            <a:xfrm>
              <a:off x="250920" y="1484280"/>
              <a:ext cx="6121080" cy="864720"/>
            </a:xfrm>
            <a:prstGeom prst="roundRect">
              <a:avLst>
                <a:gd name="adj" fmla="val 16593"/>
              </a:avLst>
            </a:prstGeom>
            <a:solidFill>
              <a:srgbClr val="000000"/>
            </a:solidFill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295920" y="1744560"/>
              <a:ext cx="6030720" cy="34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>
                <a:lnSpc>
                  <a:spcPct val="93000"/>
                </a:lnSpc>
                <a:spcBef>
                  <a:spcPts val="561"/>
                </a:spcBef>
                <a:spcAft>
                  <a:spcPts val="451"/>
                </a:spcAft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Arial"/>
                </a:rPr>
                <a:t>2. FISCALIZACI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5" name=""/>
          <p:cNvGrpSpPr/>
          <p:nvPr/>
        </p:nvGrpSpPr>
        <p:grpSpPr>
          <a:xfrm>
            <a:off x="900000" y="2349360"/>
            <a:ext cx="6624000" cy="2087280"/>
            <a:chOff x="900000" y="2349360"/>
            <a:chExt cx="6624000" cy="2087280"/>
          </a:xfrm>
        </p:grpSpPr>
        <p:grpSp>
          <p:nvGrpSpPr>
            <p:cNvPr id="1006" name=""/>
            <p:cNvGrpSpPr/>
            <p:nvPr/>
          </p:nvGrpSpPr>
          <p:grpSpPr>
            <a:xfrm>
              <a:off x="1352160" y="2708280"/>
              <a:ext cx="6171840" cy="1728360"/>
              <a:chOff x="1352160" y="2708280"/>
              <a:chExt cx="6171840" cy="1728360"/>
            </a:xfrm>
          </p:grpSpPr>
          <p:pic>
            <p:nvPicPr>
              <p:cNvPr id="1007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352160" y="2708280"/>
                <a:ext cx="6171840" cy="1728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8" name=""/>
              <p:cNvSpPr/>
              <p:nvPr/>
            </p:nvSpPr>
            <p:spPr>
              <a:xfrm>
                <a:off x="1740960" y="2932560"/>
                <a:ext cx="5189400" cy="1215720"/>
              </a:xfrm>
              <a:prstGeom prst="roundRect">
                <a:avLst>
                  <a:gd name="adj" fmla="val 11250"/>
                </a:avLst>
              </a:prstGeom>
              <a:gradFill rotWithShape="0">
                <a:gsLst>
                  <a:gs pos="0">
                    <a:srgbClr val="fefefe"/>
                  </a:gs>
                  <a:gs pos="100000">
                    <a:srgbClr val="5b9d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1759680" y="2955960"/>
                <a:ext cx="4931280" cy="1144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3000"/>
                  </a:lnSpc>
                  <a:spcBef>
                    <a:spcPts val="1125"/>
                  </a:spcBef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333333"/>
                    </a:solidFill>
                    <a:latin typeface="Arial"/>
                  </a:rPr>
                  <a:t>PUNTUAL: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3000"/>
                  </a:lnSpc>
                  <a:spcBef>
                    <a:spcPts val="1125"/>
                  </a:spcBef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333333"/>
                    </a:solidFill>
                    <a:latin typeface="Arial"/>
                  </a:rPr>
                  <a:t>	</a:t>
                </a:r>
                <a:r>
                  <a:rPr b="1" lang="en-GB" sz="1800" spc="-1" strike="noStrike">
                    <a:solidFill>
                      <a:srgbClr val="333333"/>
                    </a:solidFill>
                    <a:latin typeface="Arial"/>
                  </a:rPr>
                  <a:t>-OPERACIONES DE ALTO RIESG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3000"/>
                  </a:lnSpc>
                  <a:spcBef>
                    <a:spcPts val="1125"/>
                  </a:spcBef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333333"/>
                    </a:solidFill>
                    <a:latin typeface="Arial"/>
                  </a:rPr>
                  <a:t>	</a:t>
                </a:r>
                <a:r>
                  <a:rPr b="1" lang="en-GB" sz="1800" spc="-1" strike="noStrike">
                    <a:solidFill>
                      <a:srgbClr val="333333"/>
                    </a:solidFill>
                    <a:latin typeface="Arial"/>
                  </a:rPr>
                  <a:t>-OPERACIONES CON P. FISCALE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0" name=""/>
            <p:cNvGrpSpPr/>
            <p:nvPr/>
          </p:nvGrpSpPr>
          <p:grpSpPr>
            <a:xfrm>
              <a:off x="900000" y="2349360"/>
              <a:ext cx="774360" cy="1079280"/>
              <a:chOff x="900000" y="2349360"/>
              <a:chExt cx="774360" cy="1079280"/>
            </a:xfrm>
          </p:grpSpPr>
          <p:sp>
            <p:nvSpPr>
              <p:cNvPr id="1011" name=""/>
              <p:cNvSpPr/>
              <p:nvPr/>
            </p:nvSpPr>
            <p:spPr>
              <a:xfrm flipV="1">
                <a:off x="900000" y="2780640"/>
                <a:ext cx="774360" cy="647640"/>
              </a:xfrm>
              <a:custGeom>
                <a:avLst/>
                <a:gdLst>
                  <a:gd name="textAreaLeft" fmla="*/ 0 w 774360"/>
                  <a:gd name="textAreaRight" fmla="*/ 774720 w 774360"/>
                  <a:gd name="textAreaTop" fmla="*/ -360 h 647640"/>
                  <a:gd name="textAreaBottom" fmla="*/ 647640 h 647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lnTo>
                      <a:pt x="0" y="12160"/>
                    </a:lnTo>
                    <a:arcTo wR="12427" hR="9260" stAng="10800000" swAng="5400000"/>
                    <a:lnTo>
                      <a:pt x="15100" y="2900"/>
                    </a:lnTo>
                    <a:lnTo>
                      <a:pt x="15100" y="0"/>
                    </a:lnTo>
                    <a:lnTo>
                      <a:pt x="21600" y="6079"/>
                    </a:lnTo>
                    <a:lnTo>
                      <a:pt x="15100" y="12158"/>
                    </a:lnTo>
                    <a:lnTo>
                      <a:pt x="15100" y="9258"/>
                    </a:lnTo>
                    <a:lnTo>
                      <a:pt x="12427" y="9258"/>
                    </a:lnTo>
                    <a:arcTo wR="6069" hR="2902" stAng="16200000" swAng="-5400000"/>
                    <a:lnTo>
                      <a:pt x="6358" y="216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900000" y="2349360"/>
                <a:ext cx="227520" cy="574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13" name=""/>
          <p:cNvGrpSpPr/>
          <p:nvPr/>
        </p:nvGrpSpPr>
        <p:grpSpPr>
          <a:xfrm>
            <a:off x="900000" y="2852640"/>
            <a:ext cx="6624000" cy="3672000"/>
            <a:chOff x="900000" y="2852640"/>
            <a:chExt cx="6624000" cy="3672000"/>
          </a:xfrm>
        </p:grpSpPr>
        <p:grpSp>
          <p:nvGrpSpPr>
            <p:cNvPr id="1014" name=""/>
            <p:cNvGrpSpPr/>
            <p:nvPr/>
          </p:nvGrpSpPr>
          <p:grpSpPr>
            <a:xfrm>
              <a:off x="1353240" y="4292640"/>
              <a:ext cx="6170760" cy="2232000"/>
              <a:chOff x="1353240" y="4292640"/>
              <a:chExt cx="6170760" cy="2232000"/>
            </a:xfrm>
          </p:grpSpPr>
          <p:pic>
            <p:nvPicPr>
              <p:cNvPr id="1015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353240" y="4292640"/>
                <a:ext cx="6170760" cy="223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16" name=""/>
              <p:cNvSpPr/>
              <p:nvPr/>
            </p:nvSpPr>
            <p:spPr>
              <a:xfrm>
                <a:off x="1743120" y="4465440"/>
                <a:ext cx="5187960" cy="1698840"/>
              </a:xfrm>
              <a:prstGeom prst="roundRect">
                <a:avLst>
                  <a:gd name="adj" fmla="val 11250"/>
                </a:avLst>
              </a:prstGeom>
              <a:gradFill rotWithShape="0">
                <a:gsLst>
                  <a:gs pos="0">
                    <a:srgbClr val="fefefe"/>
                  </a:gs>
                  <a:gs pos="100000">
                    <a:srgbClr val="5b9d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1806480" y="4508280"/>
                <a:ext cx="4929480" cy="154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3000"/>
                  </a:lnSpc>
                  <a:spcBef>
                    <a:spcPts val="1125"/>
                  </a:spcBef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333333"/>
                    </a:solidFill>
                    <a:latin typeface="Arial"/>
                  </a:rPr>
                  <a:t>SECTORIAL: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3000"/>
                  </a:lnSpc>
                  <a:spcBef>
                    <a:spcPts val="1125"/>
                  </a:spcBef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333333"/>
                    </a:solidFill>
                    <a:latin typeface="Arial"/>
                  </a:rPr>
                  <a:t>	</a:t>
                </a:r>
                <a:r>
                  <a:rPr b="1" lang="en-GB" sz="1800" spc="-1" strike="noStrike">
                    <a:solidFill>
                      <a:srgbClr val="333333"/>
                    </a:solidFill>
                    <a:latin typeface="Arial"/>
                  </a:rPr>
                  <a:t>-OPERACIONES CON P. FISCALE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3000"/>
                  </a:lnSpc>
                  <a:spcBef>
                    <a:spcPts val="1125"/>
                  </a:spcBef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333333"/>
                    </a:solidFill>
                    <a:latin typeface="Arial"/>
                  </a:rPr>
                  <a:t>	</a:t>
                </a:r>
                <a:r>
                  <a:rPr b="1" lang="en-GB" sz="1800" spc="-1" strike="noStrike">
                    <a:solidFill>
                      <a:srgbClr val="333333"/>
                    </a:solidFill>
                    <a:latin typeface="Arial"/>
                  </a:rPr>
                  <a:t>-PÉRDIDAS RECURRENTE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3000"/>
                  </a:lnSpc>
                  <a:spcBef>
                    <a:spcPts val="1125"/>
                  </a:spcBef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333333"/>
                    </a:solidFill>
                    <a:latin typeface="Arial"/>
                  </a:rPr>
                  <a:t>	</a:t>
                </a:r>
                <a:r>
                  <a:rPr b="1" lang="en-GB" sz="1800" spc="-1" strike="noStrike">
                    <a:solidFill>
                      <a:srgbClr val="333333"/>
                    </a:solidFill>
                    <a:latin typeface="Arial"/>
                  </a:rPr>
                  <a:t>-TRANSFERENCIA DE TECNOLOGÍ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8" name=""/>
            <p:cNvGrpSpPr/>
            <p:nvPr/>
          </p:nvGrpSpPr>
          <p:grpSpPr>
            <a:xfrm>
              <a:off x="900000" y="2852640"/>
              <a:ext cx="779400" cy="2737080"/>
              <a:chOff x="900000" y="2852640"/>
              <a:chExt cx="779400" cy="2737080"/>
            </a:xfrm>
          </p:grpSpPr>
          <p:sp>
            <p:nvSpPr>
              <p:cNvPr id="1019" name=""/>
              <p:cNvSpPr/>
              <p:nvPr/>
            </p:nvSpPr>
            <p:spPr>
              <a:xfrm flipV="1">
                <a:off x="900000" y="4941720"/>
                <a:ext cx="779400" cy="648000"/>
              </a:xfrm>
              <a:custGeom>
                <a:avLst/>
                <a:gdLst>
                  <a:gd name="textAreaLeft" fmla="*/ 0 w 779400"/>
                  <a:gd name="textAreaRight" fmla="*/ 779760 w 779400"/>
                  <a:gd name="textAreaTop" fmla="*/ 0 h 648000"/>
                  <a:gd name="textAreaBottom" fmla="*/ 648000 h 648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lnTo>
                      <a:pt x="0" y="12160"/>
                    </a:lnTo>
                    <a:arcTo wR="12427" hR="9260" stAng="10800000" swAng="5400000"/>
                    <a:lnTo>
                      <a:pt x="15100" y="2900"/>
                    </a:lnTo>
                    <a:lnTo>
                      <a:pt x="15100" y="0"/>
                    </a:lnTo>
                    <a:lnTo>
                      <a:pt x="21600" y="6079"/>
                    </a:lnTo>
                    <a:lnTo>
                      <a:pt x="15100" y="12158"/>
                    </a:lnTo>
                    <a:lnTo>
                      <a:pt x="15100" y="9258"/>
                    </a:lnTo>
                    <a:lnTo>
                      <a:pt x="12427" y="9258"/>
                    </a:lnTo>
                    <a:arcTo wR="6069" hR="2902" stAng="16200000" swAng="-5400000"/>
                    <a:lnTo>
                      <a:pt x="6358" y="216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900000" y="2852640"/>
                <a:ext cx="226440" cy="2162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1" name=""/>
          <p:cNvGrpSpPr/>
          <p:nvPr/>
        </p:nvGrpSpPr>
        <p:grpSpPr>
          <a:xfrm>
            <a:off x="1979640" y="476280"/>
            <a:ext cx="5760720" cy="674280"/>
            <a:chOff x="1979640" y="476280"/>
            <a:chExt cx="5760720" cy="674280"/>
          </a:xfrm>
        </p:grpSpPr>
        <p:sp>
          <p:nvSpPr>
            <p:cNvPr id="1022" name=""/>
            <p:cNvSpPr/>
            <p:nvPr/>
          </p:nvSpPr>
          <p:spPr>
            <a:xfrm>
              <a:off x="1979640" y="476280"/>
              <a:ext cx="5760720" cy="674280"/>
            </a:xfrm>
            <a:prstGeom prst="roundRect">
              <a:avLst>
                <a:gd name="adj" fmla="val 16764"/>
              </a:avLst>
            </a:prstGeom>
            <a:solidFill>
              <a:srgbClr val="000000"/>
            </a:solidFill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2034720" y="583920"/>
              <a:ext cx="56556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ff"/>
                  </a:solidFill>
                  <a:latin typeface="Arial"/>
                </a:rPr>
                <a:t>II. PROCESO DE CONTRO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0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0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0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0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0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0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0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0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0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0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0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0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0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0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0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0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"/>
          <p:cNvSpPr/>
          <p:nvPr/>
        </p:nvSpPr>
        <p:spPr>
          <a:xfrm>
            <a:off x="1025640" y="162000"/>
            <a:ext cx="760392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5" name=""/>
          <p:cNvGrpSpPr/>
          <p:nvPr/>
        </p:nvGrpSpPr>
        <p:grpSpPr>
          <a:xfrm>
            <a:off x="1979640" y="476280"/>
            <a:ext cx="5760720" cy="674280"/>
            <a:chOff x="1979640" y="476280"/>
            <a:chExt cx="5760720" cy="674280"/>
          </a:xfrm>
        </p:grpSpPr>
        <p:sp>
          <p:nvSpPr>
            <p:cNvPr id="1026" name=""/>
            <p:cNvSpPr/>
            <p:nvPr/>
          </p:nvSpPr>
          <p:spPr>
            <a:xfrm>
              <a:off x="1979640" y="476280"/>
              <a:ext cx="5760720" cy="674280"/>
            </a:xfrm>
            <a:prstGeom prst="roundRect">
              <a:avLst>
                <a:gd name="adj" fmla="val 16764"/>
              </a:avLst>
            </a:prstGeom>
            <a:solidFill>
              <a:srgbClr val="000000"/>
            </a:solidFill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2034720" y="583920"/>
              <a:ext cx="56556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ff"/>
                  </a:solidFill>
                  <a:latin typeface="Arial"/>
                </a:rPr>
                <a:t>II. PROCESO DE CONTRO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8" name=""/>
          <p:cNvGrpSpPr/>
          <p:nvPr/>
        </p:nvGrpSpPr>
        <p:grpSpPr>
          <a:xfrm>
            <a:off x="1187280" y="1844640"/>
            <a:ext cx="7218000" cy="1723680"/>
            <a:chOff x="1187280" y="1844640"/>
            <a:chExt cx="7218000" cy="1723680"/>
          </a:xfrm>
        </p:grpSpPr>
        <p:grpSp>
          <p:nvGrpSpPr>
            <p:cNvPr id="1029" name=""/>
            <p:cNvGrpSpPr/>
            <p:nvPr/>
          </p:nvGrpSpPr>
          <p:grpSpPr>
            <a:xfrm>
              <a:off x="2124000" y="2706480"/>
              <a:ext cx="6281280" cy="861840"/>
              <a:chOff x="2124000" y="2706480"/>
              <a:chExt cx="6281280" cy="861840"/>
            </a:xfrm>
          </p:grpSpPr>
          <p:sp>
            <p:nvSpPr>
              <p:cNvPr id="1030" name=""/>
              <p:cNvSpPr/>
              <p:nvPr/>
            </p:nvSpPr>
            <p:spPr>
              <a:xfrm>
                <a:off x="2124000" y="2706480"/>
                <a:ext cx="6281280" cy="861840"/>
              </a:xfrm>
              <a:prstGeom prst="roundRect">
                <a:avLst>
                  <a:gd name="adj" fmla="val 16810"/>
                </a:avLst>
              </a:prstGeom>
              <a:solidFill>
                <a:srgbClr val="000000"/>
              </a:solidFill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2170440" y="2959920"/>
                <a:ext cx="618840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>
                  <a:lnSpc>
                    <a:spcPct val="93000"/>
                  </a:lnSpc>
                  <a:spcBef>
                    <a:spcPts val="561"/>
                  </a:spcBef>
                  <a:spcAft>
                    <a:spcPts val="451"/>
                  </a:spcAft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ffffff"/>
                    </a:solidFill>
                    <a:latin typeface="Arial"/>
                  </a:rPr>
                  <a:t>3.1. FINALID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2" name=""/>
            <p:cNvGrpSpPr/>
            <p:nvPr/>
          </p:nvGrpSpPr>
          <p:grpSpPr>
            <a:xfrm>
              <a:off x="1187280" y="1844640"/>
              <a:ext cx="936720" cy="1584360"/>
              <a:chOff x="1187280" y="1844640"/>
              <a:chExt cx="936720" cy="1584360"/>
            </a:xfrm>
          </p:grpSpPr>
          <p:sp>
            <p:nvSpPr>
              <p:cNvPr id="1033" name=""/>
              <p:cNvSpPr/>
              <p:nvPr/>
            </p:nvSpPr>
            <p:spPr>
              <a:xfrm flipV="1">
                <a:off x="1187280" y="2492280"/>
                <a:ext cx="936720" cy="936720"/>
              </a:xfrm>
              <a:custGeom>
                <a:avLst/>
                <a:gdLst>
                  <a:gd name="textAreaLeft" fmla="*/ 0 w 936720"/>
                  <a:gd name="textAreaRight" fmla="*/ 937080 w 936720"/>
                  <a:gd name="textAreaTop" fmla="*/ 360 h 936720"/>
                  <a:gd name="textAreaBottom" fmla="*/ 937440 h 936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lnTo>
                      <a:pt x="0" y="12160"/>
                    </a:lnTo>
                    <a:arcTo wR="12427" hR="9260" stAng="10800000" swAng="5400000"/>
                    <a:lnTo>
                      <a:pt x="15100" y="2900"/>
                    </a:lnTo>
                    <a:lnTo>
                      <a:pt x="15100" y="0"/>
                    </a:lnTo>
                    <a:lnTo>
                      <a:pt x="21600" y="6079"/>
                    </a:lnTo>
                    <a:lnTo>
                      <a:pt x="15100" y="12158"/>
                    </a:lnTo>
                    <a:lnTo>
                      <a:pt x="15100" y="9258"/>
                    </a:lnTo>
                    <a:lnTo>
                      <a:pt x="12427" y="9258"/>
                    </a:lnTo>
                    <a:arcTo wR="6069" hR="2902" stAng="16200000" swAng="-5400000"/>
                    <a:lnTo>
                      <a:pt x="6358" y="216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1187280" y="1844640"/>
                <a:ext cx="287280" cy="936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35" name=""/>
          <p:cNvGrpSpPr/>
          <p:nvPr/>
        </p:nvGrpSpPr>
        <p:grpSpPr>
          <a:xfrm>
            <a:off x="1187280" y="2924280"/>
            <a:ext cx="7200360" cy="1799640"/>
            <a:chOff x="1187280" y="2924280"/>
            <a:chExt cx="7200360" cy="1799640"/>
          </a:xfrm>
        </p:grpSpPr>
        <p:grpSp>
          <p:nvGrpSpPr>
            <p:cNvPr id="1036" name=""/>
            <p:cNvGrpSpPr/>
            <p:nvPr/>
          </p:nvGrpSpPr>
          <p:grpSpPr>
            <a:xfrm>
              <a:off x="2124000" y="3932280"/>
              <a:ext cx="6263640" cy="791640"/>
              <a:chOff x="2124000" y="3932280"/>
              <a:chExt cx="6263640" cy="791640"/>
            </a:xfrm>
          </p:grpSpPr>
          <p:sp>
            <p:nvSpPr>
              <p:cNvPr id="1037" name=""/>
              <p:cNvSpPr/>
              <p:nvPr/>
            </p:nvSpPr>
            <p:spPr>
              <a:xfrm>
                <a:off x="2124000" y="3932280"/>
                <a:ext cx="6263640" cy="791640"/>
              </a:xfrm>
              <a:prstGeom prst="roundRect">
                <a:avLst>
                  <a:gd name="adj" fmla="val 16593"/>
                </a:avLst>
              </a:prstGeom>
              <a:solidFill>
                <a:srgbClr val="000000"/>
              </a:solidFill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2170080" y="4152240"/>
                <a:ext cx="617112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>
                  <a:lnSpc>
                    <a:spcPct val="93000"/>
                  </a:lnSpc>
                  <a:spcBef>
                    <a:spcPts val="561"/>
                  </a:spcBef>
                  <a:spcAft>
                    <a:spcPts val="451"/>
                  </a:spcAft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ffffff"/>
                    </a:solidFill>
                    <a:latin typeface="Arial"/>
                  </a:rPr>
                  <a:t>3.2. METODOLOGÍA DE REALIZACIÓ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9" name=""/>
            <p:cNvGrpSpPr/>
            <p:nvPr/>
          </p:nvGrpSpPr>
          <p:grpSpPr>
            <a:xfrm>
              <a:off x="1187280" y="2924280"/>
              <a:ext cx="936720" cy="1583280"/>
              <a:chOff x="1187280" y="2924280"/>
              <a:chExt cx="936720" cy="1583280"/>
            </a:xfrm>
          </p:grpSpPr>
          <p:sp>
            <p:nvSpPr>
              <p:cNvPr id="1040" name=""/>
              <p:cNvSpPr/>
              <p:nvPr/>
            </p:nvSpPr>
            <p:spPr>
              <a:xfrm flipV="1">
                <a:off x="1187280" y="3570840"/>
                <a:ext cx="936720" cy="936360"/>
              </a:xfrm>
              <a:custGeom>
                <a:avLst/>
                <a:gdLst>
                  <a:gd name="textAreaLeft" fmla="*/ 0 w 936720"/>
                  <a:gd name="textAreaRight" fmla="*/ 937080 w 936720"/>
                  <a:gd name="textAreaTop" fmla="*/ -360 h 936360"/>
                  <a:gd name="textAreaBottom" fmla="*/ 936360 h 936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lnTo>
                      <a:pt x="0" y="12160"/>
                    </a:lnTo>
                    <a:arcTo wR="12427" hR="9260" stAng="10800000" swAng="5400000"/>
                    <a:lnTo>
                      <a:pt x="15100" y="2900"/>
                    </a:lnTo>
                    <a:lnTo>
                      <a:pt x="15100" y="0"/>
                    </a:lnTo>
                    <a:lnTo>
                      <a:pt x="21600" y="6079"/>
                    </a:lnTo>
                    <a:lnTo>
                      <a:pt x="15100" y="12158"/>
                    </a:lnTo>
                    <a:lnTo>
                      <a:pt x="15100" y="9258"/>
                    </a:lnTo>
                    <a:lnTo>
                      <a:pt x="12427" y="9258"/>
                    </a:lnTo>
                    <a:arcTo wR="6069" hR="2902" stAng="16200000" swAng="-5400000"/>
                    <a:lnTo>
                      <a:pt x="6358" y="216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1187280" y="2924280"/>
                <a:ext cx="287280" cy="936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42" name=""/>
          <p:cNvGrpSpPr/>
          <p:nvPr/>
        </p:nvGrpSpPr>
        <p:grpSpPr>
          <a:xfrm>
            <a:off x="1187280" y="4005360"/>
            <a:ext cx="7200360" cy="1799640"/>
            <a:chOff x="1187280" y="4005360"/>
            <a:chExt cx="7200360" cy="1799640"/>
          </a:xfrm>
        </p:grpSpPr>
        <p:grpSp>
          <p:nvGrpSpPr>
            <p:cNvPr id="1043" name=""/>
            <p:cNvGrpSpPr/>
            <p:nvPr/>
          </p:nvGrpSpPr>
          <p:grpSpPr>
            <a:xfrm>
              <a:off x="2124000" y="5013360"/>
              <a:ext cx="6263640" cy="791640"/>
              <a:chOff x="2124000" y="5013360"/>
              <a:chExt cx="6263640" cy="791640"/>
            </a:xfrm>
          </p:grpSpPr>
          <p:sp>
            <p:nvSpPr>
              <p:cNvPr id="1044" name=""/>
              <p:cNvSpPr/>
              <p:nvPr/>
            </p:nvSpPr>
            <p:spPr>
              <a:xfrm>
                <a:off x="2124000" y="5013360"/>
                <a:ext cx="6263640" cy="791640"/>
              </a:xfrm>
              <a:prstGeom prst="roundRect">
                <a:avLst>
                  <a:gd name="adj" fmla="val 16593"/>
                </a:avLst>
              </a:prstGeom>
              <a:solidFill>
                <a:srgbClr val="000000"/>
              </a:solidFill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2170080" y="5233320"/>
                <a:ext cx="617112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>
                  <a:lnSpc>
                    <a:spcPct val="93000"/>
                  </a:lnSpc>
                  <a:spcBef>
                    <a:spcPts val="561"/>
                  </a:spcBef>
                  <a:spcAft>
                    <a:spcPts val="451"/>
                  </a:spcAft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ffffff"/>
                    </a:solidFill>
                    <a:latin typeface="Arial"/>
                  </a:rPr>
                  <a:t>3.3. ANÁLISIS DE RATIO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6" name=""/>
            <p:cNvGrpSpPr/>
            <p:nvPr/>
          </p:nvGrpSpPr>
          <p:grpSpPr>
            <a:xfrm>
              <a:off x="1187280" y="4005360"/>
              <a:ext cx="936720" cy="1583280"/>
              <a:chOff x="1187280" y="4005360"/>
              <a:chExt cx="936720" cy="1583280"/>
            </a:xfrm>
          </p:grpSpPr>
          <p:sp>
            <p:nvSpPr>
              <p:cNvPr id="1047" name=""/>
              <p:cNvSpPr/>
              <p:nvPr/>
            </p:nvSpPr>
            <p:spPr>
              <a:xfrm flipV="1">
                <a:off x="1187280" y="4651920"/>
                <a:ext cx="936720" cy="936360"/>
              </a:xfrm>
              <a:custGeom>
                <a:avLst/>
                <a:gdLst>
                  <a:gd name="textAreaLeft" fmla="*/ 0 w 936720"/>
                  <a:gd name="textAreaRight" fmla="*/ 937080 w 936720"/>
                  <a:gd name="textAreaTop" fmla="*/ -360 h 936360"/>
                  <a:gd name="textAreaBottom" fmla="*/ 936360 h 936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lnTo>
                      <a:pt x="0" y="12160"/>
                    </a:lnTo>
                    <a:arcTo wR="12427" hR="9260" stAng="10800000" swAng="5400000"/>
                    <a:lnTo>
                      <a:pt x="15100" y="2900"/>
                    </a:lnTo>
                    <a:lnTo>
                      <a:pt x="15100" y="0"/>
                    </a:lnTo>
                    <a:lnTo>
                      <a:pt x="21600" y="6079"/>
                    </a:lnTo>
                    <a:lnTo>
                      <a:pt x="15100" y="12158"/>
                    </a:lnTo>
                    <a:lnTo>
                      <a:pt x="15100" y="9258"/>
                    </a:lnTo>
                    <a:lnTo>
                      <a:pt x="12427" y="9258"/>
                    </a:lnTo>
                    <a:arcTo wR="6069" hR="2902" stAng="16200000" swAng="-5400000"/>
                    <a:lnTo>
                      <a:pt x="6358" y="216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1187280" y="4005360"/>
                <a:ext cx="287280" cy="936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49" name=""/>
          <p:cNvGrpSpPr/>
          <p:nvPr/>
        </p:nvGrpSpPr>
        <p:grpSpPr>
          <a:xfrm>
            <a:off x="324000" y="1268280"/>
            <a:ext cx="6192360" cy="747360"/>
            <a:chOff x="324000" y="1268280"/>
            <a:chExt cx="6192360" cy="747360"/>
          </a:xfrm>
        </p:grpSpPr>
        <p:sp>
          <p:nvSpPr>
            <p:cNvPr id="1050" name=""/>
            <p:cNvSpPr/>
            <p:nvPr/>
          </p:nvSpPr>
          <p:spPr>
            <a:xfrm>
              <a:off x="324000" y="1268280"/>
              <a:ext cx="6192360" cy="747360"/>
            </a:xfrm>
            <a:prstGeom prst="roundRect">
              <a:avLst>
                <a:gd name="adj" fmla="val 16764"/>
              </a:avLst>
            </a:prstGeom>
            <a:solidFill>
              <a:srgbClr val="000000"/>
            </a:solidFill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383040" y="1413000"/>
              <a:ext cx="6079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ff"/>
                  </a:solidFill>
                  <a:latin typeface="Arial"/>
                </a:rPr>
                <a:t>3. ESTUDIOS SECTORIAL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0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0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0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0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0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0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0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0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0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0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0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0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0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0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0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0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0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0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0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0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ecilia</cp:lastModifiedBy>
  <dcterms:modified xsi:type="dcterms:W3CDTF">2013-07-18T15:52:19Z</dcterms:modified>
  <cp:revision>198</cp:revision>
  <dc:subject/>
  <dc:title>Diapositiva 1</dc:title>
</cp:coreProperties>
</file>